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3BAAC-035E-406E-A41E-9823E07AC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Direc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Provide participants with a “Give One-Get One” chart that is three columns wide and four rows deep and ask them to fill in three boxes with examples of what they will or can do to develop a trusting relationship with their mente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 Ask for an example from the group and fill in the box on the overhead. For example, “I will call my mentee before school starts and set up a time to meet (perhaps over a cup of coffee) just to get to know him/h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Ask candidates to </a:t>
            </a:r>
            <a:r>
              <a:rPr b="0" lang="en-US" sz="1200" spc="-1" strike="noStrike" u="sng">
                <a:solidFill>
                  <a:srgbClr val="000000"/>
                </a:solidFill>
                <a:uFillTx/>
                <a:latin typeface="Arial"/>
                <a:ea typeface="Times New Roman"/>
              </a:rPr>
              <a:t>get up</a:t>
            </a:r>
            <a:r>
              <a:rPr b="0" lang="en-US" sz="1200" spc="-1" strike="noStrike">
                <a:solidFill>
                  <a:srgbClr val="000000"/>
                </a:solidFill>
                <a:latin typeface="Arial"/>
                <a:ea typeface="Times New Roman"/>
              </a:rPr>
              <a:t> and find other ideas from colleagues around the room. They should talk with people they do not know. Give one of their ideas to that person and get one from him/her. If they have the same ideas on their form, they should brainstorm another way to build a trusting relationship. </a:t>
            </a:r>
            <a:r>
              <a:rPr b="0" lang="en-US" sz="1200" spc="-1" strike="noStrike" u="sng">
                <a:solidFill>
                  <a:srgbClr val="000000"/>
                </a:solidFill>
                <a:uFillTx/>
                <a:latin typeface="Arial"/>
                <a:ea typeface="Times New Roman"/>
              </a:rPr>
              <a:t>The trainer should model how this should be done to avoid confusion when people get u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Remind participants that they should move quickly from one person to another. The goal is not to thoroughly discuss each idea, but to generate as many ideas as possi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The trainer may want to give a prize for the first five people to complete all 12 box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Keeping in mind time limitations, ask group to share out the most interesting ideas they received for specific things they can do to develop a trusting relationship.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ice-breaker, have table groups  create an acrostic using the word M-E-N-T-O-R and post on the w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d to any questions from Day 1.</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CIPATION (During the first few days/weeks) - Tremendous commitment; idealistic view; may be elated but at the same time terrifi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IVAL (Usually within the first month) - Overwhelmed; exaggerated “reality”; exhaus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ILLUSIONMENT (After six to eight weeks) - Distressed; disenchantment; full of self-doubt and may be physically ill; question professional commit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JUVENATION (After winter break) – Slow rise in attitude; acceptance of “realities”; renewed sense of accomplish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ON (Near end of year) – Invigorating; emerging vision; new phase of more realistic anticip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CIPATION (End of year) – Looking forward to next school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the roles of a mentor. Be sure to have one role printed for each of the table groups in the room. Give each table group a set of Post-It Notes. Ask that members write one activity on each Post-It Note, making the print large enough to read. Discuss your contributions with the table group.</a:t>
            </a:r>
            <a:endParaRPr b="0" lang="en-US" sz="1200" spc="-1" strike="noStrike">
              <a:solidFill>
                <a:srgbClr val="000000"/>
              </a:solidFill>
              <a:latin typeface="Arial"/>
            </a:endParaRPr>
          </a:p>
        </p:txBody>
      </p:sp>
      <p:graphicFrame>
        <p:nvGraphicFramePr>
          <p:cNvPr id="164" name=""/>
          <p:cNvGraphicFramePr/>
          <p:nvPr/>
        </p:nvGraphicFramePr>
        <p:xfrm>
          <a:off x="1066680" y="5562720"/>
          <a:ext cx="4572000" cy="3047760"/>
        </p:xfrm>
        <a:graphic>
          <a:graphicData uri="http://schemas.openxmlformats.org/drawingml/2006/table">
            <a:tbl>
              <a:tblPr/>
              <a:tblGrid>
                <a:gridCol w="2286000"/>
                <a:gridCol w="2286000"/>
              </a:tblGrid>
              <a:tr h="609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 Solv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oca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ilitato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c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aborato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rn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sso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sted Listen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ch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FD450-D61C-4F54-9A43-AB659B745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1F6BB-E101-4E73-AD12-C044BD7DF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869D7-977B-4903-A559-82112C5CF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3655B-1C5B-4273-9D4F-1324E5359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CE675-4739-4FF5-80D0-A7314798F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7A90E-CF3E-4AFA-BCE9-979EF18B6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1AD34-8513-40DB-945B-9DFBB318D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4057C-D11C-4A19-A385-DED823982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744C7-49D9-4A5B-BC08-4D18B0099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F8041-0F1C-4A23-BADB-2C5C254E1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0E9C1-CC4B-42B7-AE47-172A2066D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ED79B-A7E1-47BA-9755-8593B55D5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718DC-5EBF-4F65-8F8A-80C160C3B7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Rounded MT Bold"/>
              </a:rPr>
              <a:t>TEACH DELTA REGION</a:t>
            </a:r>
            <a:br>
              <a:rPr sz="4000"/>
            </a:br>
            <a:br>
              <a:rPr sz="4000"/>
            </a:br>
            <a:r>
              <a:rPr b="0" i="1" lang="en-US" sz="4000" spc="-1" strike="noStrike">
                <a:solidFill>
                  <a:srgbClr val="000000"/>
                </a:solidFill>
                <a:latin typeface="Arial Rounded MT Bold"/>
              </a:rPr>
              <a:t>INTERNSHIP MENTOR TRAINING</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Rounded MT Bold"/>
              </a:rPr>
              <a:t>2008-2009</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9144000" cy="13716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Give One – Get One</a:t>
            </a:r>
            <a:endParaRPr b="0" lang="en-US" sz="4800" spc="-1" strike="noStrike">
              <a:solidFill>
                <a:srgbClr val="000000"/>
              </a:solidFill>
              <a:latin typeface="Arial"/>
            </a:endParaRPr>
          </a:p>
        </p:txBody>
      </p:sp>
      <p:sp>
        <p:nvSpPr>
          <p:cNvPr id="140" name="PlaceHolder 2"/>
          <p:cNvSpPr>
            <a:spLocks noGrp="1"/>
          </p:cNvSpPr>
          <p:nvPr>
            <p:ph/>
          </p:nvPr>
        </p:nvSpPr>
        <p:spPr>
          <a:xfrm>
            <a:off x="220680" y="1402920"/>
            <a:ext cx="5184720" cy="5095800"/>
          </a:xfrm>
          <a:prstGeom prst="rect">
            <a:avLst/>
          </a:prstGeom>
          <a:noFill/>
          <a:ln w="0">
            <a:noFill/>
          </a:ln>
        </p:spPr>
        <p:txBody>
          <a:bodyPr lIns="90000" rIns="90000" tIns="46800" bIns="46800" anchor="t">
            <a:normAutofit fontScale="99000"/>
          </a:bodyPr>
          <a:p>
            <a:pPr marL="339480" indent="-3394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t down 3 strategies you will/can use to develop a trusting relationship with your mentee.</a:t>
            </a:r>
            <a:endParaRPr b="0" lang="en-US" sz="2400" spc="-1" strike="noStrike">
              <a:solidFill>
                <a:srgbClr val="000000"/>
              </a:solidFill>
              <a:latin typeface="Arial"/>
            </a:endParaRPr>
          </a:p>
          <a:p>
            <a:pPr marL="339480" indent="-3394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et up</a:t>
            </a:r>
            <a:r>
              <a:rPr b="0" lang="en-US" sz="2400" spc="-1" strike="noStrike">
                <a:solidFill>
                  <a:srgbClr val="000000"/>
                </a:solidFill>
                <a:latin typeface="Arial"/>
              </a:rPr>
              <a:t> and find someone at another table.</a:t>
            </a:r>
            <a:endParaRPr b="0" lang="en-US" sz="2400" spc="-1" strike="noStrike">
              <a:solidFill>
                <a:srgbClr val="000000"/>
              </a:solidFill>
              <a:latin typeface="Arial"/>
            </a:endParaRPr>
          </a:p>
          <a:p>
            <a:pPr marL="339480" indent="-3394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ONE idea from your list to your partner. GET ONE IDEA FROM YOUR PARTNER.</a:t>
            </a:r>
            <a:endParaRPr b="0" lang="en-US" sz="2400" spc="-1" strike="noStrike">
              <a:solidFill>
                <a:srgbClr val="000000"/>
              </a:solidFill>
              <a:latin typeface="Arial"/>
            </a:endParaRPr>
          </a:p>
          <a:p>
            <a:pPr marL="339480" indent="-3394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list and your partner’s list are identical, you must brainstorm together an idea that can be added to both of your lists.</a:t>
            </a:r>
            <a:endParaRPr b="0" lang="en-US" sz="2400" spc="-1" strike="noStrike">
              <a:solidFill>
                <a:srgbClr val="000000"/>
              </a:solidFill>
              <a:latin typeface="Arial"/>
            </a:endParaRPr>
          </a:p>
        </p:txBody>
      </p:sp>
      <p:graphicFrame>
        <p:nvGraphicFramePr>
          <p:cNvPr id="141" name=""/>
          <p:cNvGraphicFramePr/>
          <p:nvPr/>
        </p:nvGraphicFramePr>
        <p:xfrm>
          <a:off x="5408640" y="1600200"/>
          <a:ext cx="3277800" cy="3044520"/>
        </p:xfrm>
        <a:graphic>
          <a:graphicData uri="http://schemas.openxmlformats.org/drawingml/2006/table">
            <a:tbl>
              <a:tblPr/>
              <a:tblGrid>
                <a:gridCol w="1167480"/>
                <a:gridCol w="992160"/>
                <a:gridCol w="1118160"/>
              </a:tblGrid>
              <a:tr h="7754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0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5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2" name=""/>
          <p:cNvSpPr/>
          <p:nvPr/>
        </p:nvSpPr>
        <p:spPr>
          <a:xfrm>
            <a:off x="5680080" y="4697280"/>
            <a:ext cx="299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Note: Exchange no more th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one strategy with any given partn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
          <p:cNvSpPr txBox="1"/>
          <p:nvPr/>
        </p:nvSpPr>
        <p:spPr>
          <a:xfrm>
            <a:off x="5514840" y="2357280"/>
            <a:ext cx="3075120" cy="14400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Give one - Get one Chart</a:t>
            </a:r>
            <a:endParaRPr b="0" lang="en-US" sz="2400" spc="1" strike="noStrike">
              <a:ln w="9360">
                <a:solidFill>
                  <a:srgbClr val="000000"/>
                </a:solidFill>
                <a:miter/>
              </a:ln>
              <a:solidFill>
                <a:srgbClr val="000000"/>
              </a:solidFill>
              <a:latin typeface="Arial Black"/>
              <a:ea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Language of Support</a:t>
            </a:r>
            <a:endParaRPr b="0" lang="en-US" sz="4800" spc="-1" strike="noStrike">
              <a:solidFill>
                <a:srgbClr val="000000"/>
              </a:solidFill>
              <a:latin typeface="Arial"/>
            </a:endParaRPr>
          </a:p>
        </p:txBody>
      </p:sp>
      <p:sp>
        <p:nvSpPr>
          <p:cNvPr id="145" name="PlaceHolder 2"/>
          <p:cNvSpPr>
            <a:spLocks noGrp="1"/>
          </p:cNvSpPr>
          <p:nvPr>
            <p:ph/>
          </p:nvPr>
        </p:nvSpPr>
        <p:spPr>
          <a:xfrm>
            <a:off x="442800" y="1352520"/>
            <a:ext cx="4052880" cy="1162080"/>
          </a:xfrm>
          <a:prstGeom prst="rect">
            <a:avLst/>
          </a:prstGeom>
          <a:solidFill>
            <a:srgbClr val="ccffff"/>
          </a:solidFill>
          <a:ln w="25560">
            <a:solidFill>
              <a:srgbClr val="000000"/>
            </a:solidFill>
            <a:prstDash val="sysDot"/>
            <a:miter/>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phrasing</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etting the teacher know that</a:t>
            </a:r>
            <a:endParaRPr b="0" lang="en-US" sz="1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ou hear, understand, and care.</a:t>
            </a:r>
            <a:endParaRPr b="0" lang="en-US" sz="1800" spc="-1" strike="noStrike">
              <a:solidFill>
                <a:srgbClr val="000000"/>
              </a:solidFill>
              <a:latin typeface="Arial"/>
            </a:endParaRPr>
          </a:p>
        </p:txBody>
      </p:sp>
      <p:sp>
        <p:nvSpPr>
          <p:cNvPr id="146" name="PlaceHolder 3"/>
          <p:cNvSpPr>
            <a:spLocks noGrp="1"/>
          </p:cNvSpPr>
          <p:nvPr>
            <p:ph/>
          </p:nvPr>
        </p:nvSpPr>
        <p:spPr>
          <a:xfrm>
            <a:off x="4586400" y="1352520"/>
            <a:ext cx="4100400" cy="1162080"/>
          </a:xfrm>
          <a:prstGeom prst="rect">
            <a:avLst/>
          </a:prstGeom>
          <a:solidFill>
            <a:srgbClr val="ccffff"/>
          </a:solidFill>
          <a:ln w="25560">
            <a:solidFill>
              <a:srgbClr val="000000"/>
            </a:solidFill>
            <a:prstDash val="sysDot"/>
            <a:miter/>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rifying</a:t>
            </a: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tting the teacher know that you</a:t>
            </a:r>
            <a:endParaRPr b="0" lang="en-US" sz="16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r, but you’re not sure of what you</a:t>
            </a:r>
            <a:endParaRPr b="0" lang="en-US" sz="16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rd</a:t>
            </a:r>
            <a:endParaRPr b="0" lang="en-US" sz="1600" spc="-1" strike="noStrike">
              <a:solidFill>
                <a:srgbClr val="000000"/>
              </a:solidFill>
              <a:latin typeface="Arial"/>
            </a:endParaRPr>
          </a:p>
        </p:txBody>
      </p:sp>
      <p:sp>
        <p:nvSpPr>
          <p:cNvPr id="147" name=""/>
          <p:cNvSpPr/>
          <p:nvPr/>
        </p:nvSpPr>
        <p:spPr>
          <a:xfrm>
            <a:off x="685800" y="2666880"/>
            <a:ext cx="3657600" cy="329580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ther words…</a:t>
            </a:r>
            <a:endParaRPr b="0" lang="en-US" sz="2000" spc="-1" strike="noStrike">
              <a:solidFill>
                <a:srgbClr val="000000"/>
              </a:solidFill>
              <a:latin typeface="Arial"/>
            </a:endParaRPr>
          </a:p>
          <a:p>
            <a:pPr marL="171360" indent="-17136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m hearing…</a:t>
            </a:r>
            <a:endParaRPr b="0" lang="en-US" sz="2000" spc="-1" strike="noStrike">
              <a:solidFill>
                <a:srgbClr val="000000"/>
              </a:solidFill>
              <a:latin typeface="Arial"/>
            </a:endParaRPr>
          </a:p>
          <a:p>
            <a:pPr marL="171360" indent="-17136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what I hear you say…</a:t>
            </a:r>
            <a:endParaRPr b="0" lang="en-US" sz="2000" spc="-1" strike="noStrike">
              <a:solidFill>
                <a:srgbClr val="000000"/>
              </a:solidFill>
              <a:latin typeface="Arial"/>
            </a:endParaRPr>
          </a:p>
          <a:p>
            <a:pPr marL="171360" indent="-17136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hearing many things…</a:t>
            </a:r>
            <a:endParaRPr b="0" lang="en-US" sz="2000" spc="-1" strike="noStrike">
              <a:solidFill>
                <a:srgbClr val="000000"/>
              </a:solidFill>
              <a:latin typeface="Arial"/>
            </a:endParaRPr>
          </a:p>
          <a:p>
            <a:pPr marL="171360" indent="-17136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I listen to you, I’m hearing…</a:t>
            </a:r>
            <a:endParaRPr b="0" lang="en-US" sz="2000" spc="-1" strike="noStrike">
              <a:solidFill>
                <a:srgbClr val="000000"/>
              </a:solidFill>
              <a:latin typeface="Arial"/>
            </a:endParaRPr>
          </a:p>
          <a:p>
            <a:pPr marL="171360" indent="-17136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you think…</a:t>
            </a:r>
            <a:endParaRPr b="0" lang="en-US" sz="2000" spc="-1" strike="noStrike">
              <a:solidFill>
                <a:srgbClr val="000000"/>
              </a:solidFill>
              <a:latin typeface="Arial"/>
            </a:endParaRPr>
          </a:p>
          <a:p>
            <a:pPr marL="171360" indent="-17136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ounds like you want…</a:t>
            </a:r>
            <a:endParaRPr b="0" lang="en-US" sz="2000" spc="-1" strike="noStrike">
              <a:solidFill>
                <a:srgbClr val="000000"/>
              </a:solidFill>
              <a:latin typeface="Arial"/>
            </a:endParaRPr>
          </a:p>
        </p:txBody>
      </p:sp>
      <p:sp>
        <p:nvSpPr>
          <p:cNvPr id="148" name=""/>
          <p:cNvSpPr/>
          <p:nvPr/>
        </p:nvSpPr>
        <p:spPr>
          <a:xfrm>
            <a:off x="4800600" y="2666880"/>
            <a:ext cx="3962520" cy="3168720"/>
          </a:xfrm>
          <a:prstGeom prst="rect">
            <a:avLst/>
          </a:prstGeom>
          <a:noFill/>
          <a:ln w="0">
            <a:noFill/>
          </a:ln>
        </p:spPr>
        <p:style>
          <a:lnRef idx="0"/>
          <a:fillRef idx="0"/>
          <a:effectRef idx="0"/>
          <a:fontRef idx="minor"/>
        </p:style>
        <p:txBody>
          <a:bodyPr lIns="90000" rIns="90000" tIns="46800" bIns="46800" anchor="t">
            <a:spAutoFit/>
          </a:bodyPr>
          <a:p>
            <a:pPr marL="230040" indent="-23004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ee if I understand…</a:t>
            </a:r>
            <a:endParaRPr b="0" lang="en-US" sz="2000" spc="-1" strike="noStrike">
              <a:solidFill>
                <a:srgbClr val="000000"/>
              </a:solidFill>
              <a:latin typeface="Arial"/>
            </a:endParaRPr>
          </a:p>
          <a:p>
            <a:pPr marL="230040" indent="-23004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what extent…?</a:t>
            </a:r>
            <a:endParaRPr b="0" lang="en-US" sz="2000" spc="-1" strike="noStrike">
              <a:solidFill>
                <a:srgbClr val="000000"/>
              </a:solidFill>
              <a:latin typeface="Arial"/>
            </a:endParaRPr>
          </a:p>
          <a:p>
            <a:pPr marL="230040" indent="-23004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curious to know more    about …</a:t>
            </a:r>
            <a:endParaRPr b="0" lang="en-US" sz="2000" spc="-1" strike="noStrike">
              <a:solidFill>
                <a:srgbClr val="000000"/>
              </a:solidFill>
              <a:latin typeface="Arial"/>
            </a:endParaRPr>
          </a:p>
          <a:p>
            <a:pPr marL="230040" indent="-23004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interested in…</a:t>
            </a:r>
            <a:endParaRPr b="0" lang="en-US" sz="2000" spc="-1" strike="noStrike">
              <a:solidFill>
                <a:srgbClr val="000000"/>
              </a:solidFill>
              <a:latin typeface="Arial"/>
            </a:endParaRPr>
          </a:p>
          <a:p>
            <a:pPr marL="230040" indent="-23004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l me how that idea is like (or  different from)… </a:t>
            </a:r>
            <a:endParaRPr b="0" lang="en-US" sz="2000" spc="-1" strike="noStrike">
              <a:solidFill>
                <a:srgbClr val="000000"/>
              </a:solidFill>
              <a:latin typeface="Arial"/>
            </a:endParaRPr>
          </a:p>
          <a:p>
            <a:pPr marL="230040" indent="-23004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are you suggesting…?</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114156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Language of Support</a:t>
            </a:r>
            <a:endParaRPr b="0" lang="en-US" sz="4800" spc="-1" strike="noStrike">
              <a:solidFill>
                <a:srgbClr val="000000"/>
              </a:solidFill>
              <a:latin typeface="Arial"/>
            </a:endParaRPr>
          </a:p>
        </p:txBody>
      </p:sp>
      <p:sp>
        <p:nvSpPr>
          <p:cNvPr id="150" name="PlaceHolder 2"/>
          <p:cNvSpPr>
            <a:spLocks noGrp="1"/>
          </p:cNvSpPr>
          <p:nvPr>
            <p:ph/>
          </p:nvPr>
        </p:nvSpPr>
        <p:spPr>
          <a:xfrm>
            <a:off x="441360" y="1289160"/>
            <a:ext cx="4038480" cy="914400"/>
          </a:xfrm>
          <a:prstGeom prst="rect">
            <a:avLst/>
          </a:prstGeom>
          <a:solidFill>
            <a:srgbClr val="ccffff"/>
          </a:solidFill>
          <a:ln w="25560">
            <a:solidFill>
              <a:srgbClr val="000000"/>
            </a:solidFill>
            <a:prstDash val="sysDot"/>
            <a:miter/>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ating</a:t>
            </a:r>
            <a:endParaRPr b="0" lang="en-US" sz="2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lowing the teacher to reflect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r raise awareness</a:t>
            </a:r>
            <a:endParaRPr b="0" lang="en-US" sz="1800" spc="-1" strike="noStrike">
              <a:solidFill>
                <a:srgbClr val="000000"/>
              </a:solidFill>
              <a:latin typeface="Arial"/>
            </a:endParaRPr>
          </a:p>
        </p:txBody>
      </p:sp>
      <p:sp>
        <p:nvSpPr>
          <p:cNvPr id="151" name="PlaceHolder 3"/>
          <p:cNvSpPr>
            <a:spLocks noGrp="1"/>
          </p:cNvSpPr>
          <p:nvPr>
            <p:ph/>
          </p:nvPr>
        </p:nvSpPr>
        <p:spPr>
          <a:xfrm>
            <a:off x="4648320" y="1274760"/>
            <a:ext cx="4038480" cy="914400"/>
          </a:xfrm>
          <a:prstGeom prst="rect">
            <a:avLst/>
          </a:prstGeom>
          <a:solidFill>
            <a:srgbClr val="ccffff"/>
          </a:solidFill>
          <a:ln w="25560">
            <a:solidFill>
              <a:srgbClr val="000000"/>
            </a:solidFill>
            <a:prstDash val="sysDot"/>
            <a:miter/>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agining</a:t>
            </a:r>
            <a:endParaRPr b="0" lang="en-US" sz="2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elping the teacher to think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bout alternatives.</a:t>
            </a:r>
            <a:endParaRPr b="0" lang="en-US" sz="1800" spc="-1" strike="noStrike">
              <a:solidFill>
                <a:srgbClr val="000000"/>
              </a:solidFill>
              <a:latin typeface="Arial"/>
            </a:endParaRPr>
          </a:p>
        </p:txBody>
      </p:sp>
      <p:sp>
        <p:nvSpPr>
          <p:cNvPr id="152" name=""/>
          <p:cNvSpPr/>
          <p:nvPr/>
        </p:nvSpPr>
        <p:spPr>
          <a:xfrm>
            <a:off x="331920" y="2387520"/>
            <a:ext cx="4133880" cy="409572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another way you might ...?</a:t>
            </a:r>
            <a:endParaRPr b="0" lang="en-US" sz="2000" spc="-1" strike="noStrike">
              <a:solidFill>
                <a:srgbClr val="000000"/>
              </a:solidFill>
              <a:latin typeface="Arial"/>
            </a:endParaRPr>
          </a:p>
          <a:p>
            <a:pPr marL="230040" indent="-230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riteria do you use …?</a:t>
            </a:r>
            <a:endParaRPr b="0" lang="en-US" sz="2000" spc="-1" strike="noStrike">
              <a:solidFill>
                <a:srgbClr val="000000"/>
              </a:solidFill>
              <a:latin typeface="Arial"/>
            </a:endParaRPr>
          </a:p>
          <a:p>
            <a:pPr marL="230040" indent="-230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ould it look like if …?</a:t>
            </a:r>
            <a:endParaRPr b="0" lang="en-US" sz="2000" spc="-1" strike="noStrike">
              <a:solidFill>
                <a:srgbClr val="000000"/>
              </a:solidFill>
              <a:latin typeface="Arial"/>
            </a:endParaRPr>
          </a:p>
          <a:p>
            <a:pPr marL="230040" indent="-230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have you done it like this before …?</a:t>
            </a:r>
            <a:endParaRPr b="0" lang="en-US" sz="2000" spc="-1" strike="noStrike">
              <a:solidFill>
                <a:srgbClr val="000000"/>
              </a:solidFill>
              <a:latin typeface="Arial"/>
            </a:endParaRPr>
          </a:p>
          <a:p>
            <a:pPr marL="230040" indent="-230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might you see happening if …?</a:t>
            </a:r>
            <a:endParaRPr b="0" lang="en-US" sz="2000" spc="-1" strike="noStrike">
              <a:solidFill>
                <a:srgbClr val="000000"/>
              </a:solidFill>
              <a:latin typeface="Arial"/>
            </a:endParaRPr>
          </a:p>
          <a:p>
            <a:pPr marL="230040" indent="-230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as …different from …?</a:t>
            </a:r>
            <a:endParaRPr b="0" lang="en-US" sz="2000" spc="-1" strike="noStrike">
              <a:solidFill>
                <a:srgbClr val="000000"/>
              </a:solidFill>
              <a:latin typeface="Arial"/>
            </a:endParaRPr>
          </a:p>
          <a:p>
            <a:pPr marL="230040" indent="-230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determine …?</a:t>
            </a:r>
            <a:endParaRPr b="0" lang="en-US" sz="2000" spc="-1" strike="noStrike">
              <a:solidFill>
                <a:srgbClr val="000000"/>
              </a:solidFill>
              <a:latin typeface="Arial"/>
            </a:endParaRPr>
          </a:p>
        </p:txBody>
      </p:sp>
      <p:sp>
        <p:nvSpPr>
          <p:cNvPr id="153" name=""/>
          <p:cNvSpPr/>
          <p:nvPr/>
        </p:nvSpPr>
        <p:spPr>
          <a:xfrm>
            <a:off x="4583160" y="2325600"/>
            <a:ext cx="4040280" cy="3936960"/>
          </a:xfrm>
          <a:prstGeom prst="rect">
            <a:avLst/>
          </a:prstGeom>
          <a:noFill/>
          <a:ln w="0">
            <a:noFill/>
          </a:ln>
        </p:spPr>
        <p:style>
          <a:lnRef idx="0"/>
          <a:fillRef idx="0"/>
          <a:effectRef idx="0"/>
          <a:fontRef idx="minor"/>
        </p:style>
        <p:txBody>
          <a:bodyPr lIns="90000" rIns="90000" tIns="46800" bIns="46800" anchor="t">
            <a:spAutoFit/>
          </a:bodyPr>
          <a:p>
            <a:pPr marL="171360" indent="-1713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sometimes useful to …</a:t>
            </a:r>
            <a:endParaRPr b="0" lang="en-US" sz="2000" spc="-1" strike="noStrike">
              <a:solidFill>
                <a:srgbClr val="000000"/>
              </a:solidFill>
              <a:latin typeface="Arial"/>
            </a:endParaRPr>
          </a:p>
          <a:p>
            <a:pPr marL="171360" indent="-1713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uple of things you need to keep in mind …</a:t>
            </a:r>
            <a:endParaRPr b="0" lang="en-US" sz="2000" spc="-1" strike="noStrike">
              <a:solidFill>
                <a:srgbClr val="000000"/>
              </a:solidFill>
              <a:latin typeface="Arial"/>
            </a:endParaRPr>
          </a:p>
          <a:p>
            <a:pPr marL="171360" indent="-1713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you might try considering is …</a:t>
            </a:r>
            <a:endParaRPr b="0" lang="en-US" sz="2000" spc="-1" strike="noStrike">
              <a:solidFill>
                <a:srgbClr val="000000"/>
              </a:solidFill>
              <a:latin typeface="Arial"/>
            </a:endParaRPr>
          </a:p>
          <a:p>
            <a:pPr marL="171360" indent="-1713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what extend might … work in your situation?</a:t>
            </a:r>
            <a:endParaRPr b="0" lang="en-US" sz="2000" spc="-1" strike="noStrike">
              <a:solidFill>
                <a:srgbClr val="000000"/>
              </a:solidFill>
              <a:latin typeface="Arial"/>
            </a:endParaRPr>
          </a:p>
          <a:p>
            <a:pPr marL="171360" indent="-1713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 number of approaches …</a:t>
            </a:r>
            <a:endParaRPr b="0" lang="en-US" sz="2000" spc="-1" strike="noStrike">
              <a:solidFill>
                <a:srgbClr val="000000"/>
              </a:solidFill>
              <a:latin typeface="Arial"/>
            </a:endParaRPr>
          </a:p>
          <a:p>
            <a:pPr marL="171360" indent="-1713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you imagine might … ? </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57200" y="457200"/>
            <a:ext cx="8153280" cy="285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Give a man a fish; you have</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ed him for today. Teach 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n to fish; and you have</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ed him for a lifetime.”</a:t>
            </a:r>
            <a:endParaRPr b="0" lang="en-US" sz="40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Arial"/>
              </a:rPr>
              <a:t>Author Unknown</a:t>
            </a:r>
            <a:endParaRPr b="0" lang="en-US" sz="1400" spc="-1" strike="noStrike">
              <a:solidFill>
                <a:srgbClr val="000000"/>
              </a:solidFill>
              <a:latin typeface="Arial"/>
            </a:endParaRPr>
          </a:p>
        </p:txBody>
      </p:sp>
      <p:pic>
        <p:nvPicPr>
          <p:cNvPr id="155" name="" descr=""/>
          <p:cNvPicPr/>
          <p:nvPr/>
        </p:nvPicPr>
        <p:blipFill>
          <a:blip r:embed="rId1"/>
          <a:stretch/>
        </p:blipFill>
        <p:spPr>
          <a:xfrm>
            <a:off x="2486160" y="3063960"/>
            <a:ext cx="4190760" cy="3198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11732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 Mentor Acrostic</a:t>
            </a:r>
            <a:endParaRPr b="0" lang="en-US" sz="4800" spc="-1" strike="noStrike">
              <a:solidFill>
                <a:srgbClr val="000000"/>
              </a:solidFill>
              <a:latin typeface="Arial"/>
            </a:endParaRPr>
          </a:p>
        </p:txBody>
      </p:sp>
      <p:sp>
        <p:nvSpPr>
          <p:cNvPr id="157" name="PlaceHolder 2"/>
          <p:cNvSpPr>
            <a:spLocks noGrp="1"/>
          </p:cNvSpPr>
          <p:nvPr>
            <p:ph/>
          </p:nvPr>
        </p:nvSpPr>
        <p:spPr>
          <a:xfrm>
            <a:off x="456840" y="1600200"/>
            <a:ext cx="4040280" cy="4525920"/>
          </a:xfrm>
          <a:prstGeom prst="rect">
            <a:avLst/>
          </a:prstGeom>
          <a:solidFill>
            <a:srgbClr val="ccccff"/>
          </a:solidFill>
          <a:ln w="31680">
            <a:solidFill>
              <a:srgbClr val="000000"/>
            </a:solidFill>
            <a:miter/>
          </a:ln>
        </p:spPr>
        <p:txBody>
          <a:bodyPr lIns="90000" rIns="90000" tIns="46800" bIns="46800" anchor="t">
            <a:normAutofit/>
          </a:bodyPr>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a:t>
            </a:r>
            <a:endParaRPr b="0" lang="en-US" sz="4200" spc="-1" strike="noStrike">
              <a:solidFill>
                <a:srgbClr val="000000"/>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a:t>
            </a:r>
            <a:endParaRPr b="0" lang="en-US" sz="4200" spc="-1" strike="noStrike">
              <a:solidFill>
                <a:srgbClr val="000000"/>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N……………</a:t>
            </a:r>
            <a:endParaRPr b="0" lang="en-US" sz="4200" spc="-1" strike="noStrike">
              <a:solidFill>
                <a:srgbClr val="000000"/>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a:t>
            </a:r>
            <a:endParaRPr b="0" lang="en-US" sz="4200" spc="-1" strike="noStrike">
              <a:solidFill>
                <a:srgbClr val="000000"/>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a:t>
            </a:r>
            <a:endParaRPr b="0" lang="en-US" sz="4200" spc="-1" strike="noStrike">
              <a:solidFill>
                <a:srgbClr val="000000"/>
              </a:solidFill>
              <a:latin typeface="Arial"/>
            </a:endParaRPr>
          </a:p>
          <a:p>
            <a:pPr marL="3430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a:t>
            </a:r>
            <a:endParaRPr b="0" lang="en-US" sz="4200" spc="-1" strike="noStrike">
              <a:solidFill>
                <a:srgbClr val="000000"/>
              </a:solidFill>
              <a:latin typeface="Arial"/>
            </a:endParaRPr>
          </a:p>
        </p:txBody>
      </p:sp>
      <p:pic>
        <p:nvPicPr>
          <p:cNvPr id="158" name="" descr=""/>
          <p:cNvPicPr/>
          <p:nvPr/>
        </p:nvPicPr>
        <p:blipFill>
          <a:blip r:embed="rId1"/>
          <a:stretch/>
        </p:blipFill>
        <p:spPr>
          <a:xfrm>
            <a:off x="4952880" y="1600200"/>
            <a:ext cx="3521160" cy="3044880"/>
          </a:xfrm>
          <a:prstGeom prst="rect">
            <a:avLst/>
          </a:prstGeom>
          <a:ln w="0">
            <a:noFill/>
          </a:ln>
        </p:spPr>
      </p:pic>
      <p:sp>
        <p:nvSpPr>
          <p:cNvPr id="159" name=""/>
          <p:cNvSpPr/>
          <p:nvPr/>
        </p:nvSpPr>
        <p:spPr>
          <a:xfrm>
            <a:off x="5029200" y="4800600"/>
            <a:ext cx="3429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st your acrosti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n the wall. Be prepared to share with the group.</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Rounded MT Bold"/>
              </a:rPr>
              <a:t>WHY MENTORING?</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Retention Statistic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7% of teachers leave after one year</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 of teachers leave after two year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0% leave after three year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arly half leave after five year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i="1" lang="en-US" sz="4000" spc="-1" strike="noStrike">
                <a:solidFill>
                  <a:srgbClr val="000000"/>
                </a:solidFill>
                <a:latin typeface="Brush Script MT"/>
              </a:rPr>
              <a:t>    </a:t>
            </a:r>
            <a:r>
              <a:rPr b="0" i="1" lang="en-US" sz="4000" spc="-1" strike="noStrike">
                <a:solidFill>
                  <a:srgbClr val="000000"/>
                </a:solidFill>
                <a:latin typeface="Elephant"/>
              </a:rPr>
              <a:t>WHY MENTORING?</a:t>
            </a:r>
            <a:br>
              <a:rPr sz="4000"/>
            </a:b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rush Script MT"/>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Elephant"/>
              </a:rPr>
              <a:t>                           </a:t>
            </a:r>
            <a:r>
              <a:rPr b="0" i="1" lang="en-US" sz="2800" spc="-1" strike="noStrike">
                <a:solidFill>
                  <a:srgbClr val="000000"/>
                </a:solidFill>
                <a:latin typeface="Elephant"/>
              </a:rPr>
              <a:t>COST IMPAC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cript MT Bold"/>
              </a:rPr>
              <a:t>The cost of replacing a teacher is 25-35% of the annual salary and benefits cos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cript MT Bold"/>
              </a:rPr>
              <a:t>It costs $11,000 every time a teacher leaves the profession.</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UNDERSTANDING THE NEEDS OF A BEGINNING TEACHER</a:t>
            </a:r>
            <a:endParaRPr b="0" lang="en-US" sz="2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OST COMMONLY REPORTED PROBLEMS FACING BEGINNING TEACHERS</a:t>
            </a:r>
            <a:endParaRPr b="0" lang="en-US" sz="2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lassroom disciplin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otivating stud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aling with individual differen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rent relation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lanning class work</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valuating student work</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sufficient materials and suppli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udent’s personal problem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lations with colleagues</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
          <p:cNvGrpSpPr/>
          <p:nvPr/>
        </p:nvGrpSpPr>
        <p:grpSpPr>
          <a:xfrm>
            <a:off x="0" y="0"/>
            <a:ext cx="9144000" cy="6858000"/>
            <a:chOff x="0" y="0"/>
            <a:chExt cx="9144000" cy="6858000"/>
          </a:xfrm>
        </p:grpSpPr>
        <p:sp>
          <p:nvSpPr>
            <p:cNvPr id="59" name=""/>
            <p:cNvSpPr/>
            <p:nvPr/>
          </p:nvSpPr>
          <p:spPr>
            <a:xfrm>
              <a:off x="0" y="0"/>
              <a:ext cx="9144000" cy="6858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91440" y="91440"/>
              <a:ext cx="8961120" cy="6675120"/>
            </a:xfrm>
            <a:prstGeom prst="rect">
              <a:avLst/>
            </a:prstGeom>
            <a:solidFill>
              <a:srgbClr val="ffffff"/>
            </a:solidFill>
            <a:ln w="507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1" name=""/>
            <p:cNvGraphicFramePr/>
            <p:nvPr/>
          </p:nvGraphicFramePr>
          <p:xfrm>
            <a:off x="822960" y="2194560"/>
            <a:ext cx="7586280" cy="2897640"/>
          </p:xfrm>
          <a:graphic>
            <a:graphicData uri="http://schemas.openxmlformats.org/presentationml/2006/ole">
              <p:oleObj r:id="rId1" spid="">
                <p:embed/>
                <p:pic>
                  <p:nvPicPr>
                    <p:cNvPr id="62" name="" descr=""/>
                    <p:cNvPicPr/>
                    <p:nvPr/>
                  </p:nvPicPr>
                  <p:blipFill>
                    <a:blip r:embed="rId2"/>
                    <a:stretch/>
                  </p:blipFill>
                  <p:spPr>
                    <a:xfrm>
                      <a:off x="822960" y="2194560"/>
                      <a:ext cx="7586280" cy="2897640"/>
                    </a:xfrm>
                    <a:prstGeom prst="rect">
                      <a:avLst/>
                    </a:prstGeom>
                    <a:ln w="0">
                      <a:noFill/>
                    </a:ln>
                  </p:spPr>
                </p:pic>
              </p:oleObj>
            </a:graphicData>
          </a:graphic>
        </p:graphicFrame>
        <p:sp>
          <p:nvSpPr>
            <p:cNvPr id="63" name=""/>
            <p:cNvSpPr/>
            <p:nvPr/>
          </p:nvSpPr>
          <p:spPr>
            <a:xfrm>
              <a:off x="737280" y="1145520"/>
              <a:ext cx="0" cy="5029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731520" y="6126480"/>
              <a:ext cx="76809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74320"/>
              <a:ext cx="9144000" cy="82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Phases of First Year Teacher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Attitudes Towards Teaching</a:t>
              </a:r>
              <a:endParaRPr b="0" lang="en-US" sz="3200" spc="-1" strike="noStrike">
                <a:solidFill>
                  <a:srgbClr val="000000"/>
                </a:solidFill>
                <a:latin typeface="Arial"/>
              </a:endParaRPr>
            </a:p>
          </p:txBody>
        </p:sp>
        <p:sp>
          <p:nvSpPr>
            <p:cNvPr id="66" name=""/>
            <p:cNvSpPr/>
            <p:nvPr/>
          </p:nvSpPr>
          <p:spPr>
            <a:xfrm>
              <a:off x="457200" y="6126480"/>
              <a:ext cx="8503920" cy="457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005840" y="2011680"/>
              <a:ext cx="1280160" cy="27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Anticipation</a:t>
              </a:r>
              <a:endParaRPr b="0" lang="en-US" sz="1100" spc="-1" strike="noStrike">
                <a:solidFill>
                  <a:srgbClr val="000000"/>
                </a:solidFill>
                <a:latin typeface="Arial"/>
              </a:endParaRPr>
            </a:p>
          </p:txBody>
        </p:sp>
        <p:sp>
          <p:nvSpPr>
            <p:cNvPr id="68" name=""/>
            <p:cNvSpPr/>
            <p:nvPr/>
          </p:nvSpPr>
          <p:spPr>
            <a:xfrm>
              <a:off x="2011680" y="3200400"/>
              <a:ext cx="822960" cy="27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Survival</a:t>
              </a:r>
              <a:endParaRPr b="0" lang="en-US" sz="1100" spc="-1" strike="noStrike">
                <a:solidFill>
                  <a:srgbClr val="000000"/>
                </a:solidFill>
                <a:latin typeface="Arial"/>
              </a:endParaRPr>
            </a:p>
          </p:txBody>
        </p:sp>
        <p:sp>
          <p:nvSpPr>
            <p:cNvPr id="69" name=""/>
            <p:cNvSpPr/>
            <p:nvPr/>
          </p:nvSpPr>
          <p:spPr>
            <a:xfrm>
              <a:off x="2377440" y="5029200"/>
              <a:ext cx="1463040" cy="36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Disillusionment</a:t>
              </a:r>
              <a:endParaRPr b="0" lang="en-US" sz="1100" spc="-1" strike="noStrike">
                <a:solidFill>
                  <a:srgbClr val="000000"/>
                </a:solidFill>
                <a:latin typeface="Arial"/>
              </a:endParaRPr>
            </a:p>
          </p:txBody>
        </p:sp>
        <p:sp>
          <p:nvSpPr>
            <p:cNvPr id="70" name=""/>
            <p:cNvSpPr/>
            <p:nvPr/>
          </p:nvSpPr>
          <p:spPr>
            <a:xfrm>
              <a:off x="4663440" y="4023360"/>
              <a:ext cx="1554480" cy="36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Rejuvenation</a:t>
              </a:r>
              <a:endParaRPr b="0" lang="en-US" sz="1100" spc="-1" strike="noStrike">
                <a:solidFill>
                  <a:srgbClr val="000000"/>
                </a:solidFill>
                <a:latin typeface="Arial"/>
              </a:endParaRPr>
            </a:p>
          </p:txBody>
        </p:sp>
        <p:sp>
          <p:nvSpPr>
            <p:cNvPr id="71" name=""/>
            <p:cNvSpPr/>
            <p:nvPr/>
          </p:nvSpPr>
          <p:spPr>
            <a:xfrm>
              <a:off x="6126480" y="3017520"/>
              <a:ext cx="1097280" cy="36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Reflection</a:t>
              </a:r>
              <a:endParaRPr b="0" lang="en-US" sz="1100" spc="-1" strike="noStrike">
                <a:solidFill>
                  <a:srgbClr val="000000"/>
                </a:solidFill>
                <a:latin typeface="Arial"/>
              </a:endParaRPr>
            </a:p>
          </p:txBody>
        </p:sp>
        <p:sp>
          <p:nvSpPr>
            <p:cNvPr id="72" name=""/>
            <p:cNvSpPr/>
            <p:nvPr/>
          </p:nvSpPr>
          <p:spPr>
            <a:xfrm>
              <a:off x="7132320" y="2011680"/>
              <a:ext cx="1188720" cy="27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Anticipation</a:t>
              </a:r>
              <a:endParaRPr b="0" lang="en-US" sz="1100" spc="-1" strike="noStrike">
                <a:solidFill>
                  <a:srgbClr val="000000"/>
                </a:solidFill>
                <a:latin typeface="Arial"/>
              </a:endParaRPr>
            </a:p>
          </p:txBody>
        </p:sp>
        <p:grpSp>
          <p:nvGrpSpPr>
            <p:cNvPr id="73" name=""/>
            <p:cNvGrpSpPr/>
            <p:nvPr/>
          </p:nvGrpSpPr>
          <p:grpSpPr>
            <a:xfrm>
              <a:off x="822960" y="1274400"/>
              <a:ext cx="822600" cy="764640"/>
              <a:chOff x="822960" y="1274400"/>
              <a:chExt cx="822600" cy="764640"/>
            </a:xfrm>
          </p:grpSpPr>
          <p:grpSp>
            <p:nvGrpSpPr>
              <p:cNvPr id="74" name=""/>
              <p:cNvGrpSpPr/>
              <p:nvPr/>
            </p:nvGrpSpPr>
            <p:grpSpPr>
              <a:xfrm>
                <a:off x="883080" y="1274400"/>
                <a:ext cx="762480" cy="744840"/>
                <a:chOff x="883080" y="1274400"/>
                <a:chExt cx="762480" cy="744840"/>
              </a:xfrm>
            </p:grpSpPr>
            <p:sp>
              <p:nvSpPr>
                <p:cNvPr id="75" name=""/>
                <p:cNvSpPr/>
                <p:nvPr/>
              </p:nvSpPr>
              <p:spPr>
                <a:xfrm flipH="1">
                  <a:off x="1261080" y="1400040"/>
                  <a:ext cx="133200" cy="157320"/>
                </a:xfrm>
                <a:custGeom>
                  <a:avLst/>
                  <a:gdLst/>
                  <a:ahLst/>
                  <a:rect l="l" t="t" r="r" b="b"/>
                  <a:pathLst>
                    <a:path w="518" h="614">
                      <a:moveTo>
                        <a:pt x="157" y="222"/>
                      </a:moveTo>
                      <a:lnTo>
                        <a:pt x="187" y="136"/>
                      </a:lnTo>
                      <a:lnTo>
                        <a:pt x="225" y="50"/>
                      </a:lnTo>
                      <a:lnTo>
                        <a:pt x="282" y="7"/>
                      </a:lnTo>
                      <a:lnTo>
                        <a:pt x="360" y="0"/>
                      </a:lnTo>
                      <a:lnTo>
                        <a:pt x="424" y="29"/>
                      </a:lnTo>
                      <a:lnTo>
                        <a:pt x="469" y="75"/>
                      </a:lnTo>
                      <a:lnTo>
                        <a:pt x="502" y="161"/>
                      </a:lnTo>
                      <a:lnTo>
                        <a:pt x="518" y="265"/>
                      </a:lnTo>
                      <a:lnTo>
                        <a:pt x="518" y="373"/>
                      </a:lnTo>
                      <a:lnTo>
                        <a:pt x="492" y="491"/>
                      </a:lnTo>
                      <a:lnTo>
                        <a:pt x="424" y="566"/>
                      </a:lnTo>
                      <a:lnTo>
                        <a:pt x="357" y="614"/>
                      </a:lnTo>
                      <a:lnTo>
                        <a:pt x="292" y="609"/>
                      </a:lnTo>
                      <a:lnTo>
                        <a:pt x="236" y="559"/>
                      </a:lnTo>
                      <a:lnTo>
                        <a:pt x="187" y="473"/>
                      </a:lnTo>
                      <a:lnTo>
                        <a:pt x="154" y="398"/>
                      </a:lnTo>
                      <a:lnTo>
                        <a:pt x="154" y="301"/>
                      </a:lnTo>
                      <a:lnTo>
                        <a:pt x="0" y="279"/>
                      </a:lnTo>
                      <a:lnTo>
                        <a:pt x="19" y="226"/>
                      </a:lnTo>
                      <a:lnTo>
                        <a:pt x="157" y="2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1133280" y="1274400"/>
                  <a:ext cx="172800" cy="352800"/>
                </a:xfrm>
                <a:custGeom>
                  <a:avLst/>
                  <a:gdLst/>
                  <a:ahLst/>
                  <a:rect l="l" t="t" r="r" b="b"/>
                  <a:pathLst>
                    <a:path w="675" h="1376">
                      <a:moveTo>
                        <a:pt x="16" y="1365"/>
                      </a:moveTo>
                      <a:lnTo>
                        <a:pt x="0" y="1297"/>
                      </a:lnTo>
                      <a:lnTo>
                        <a:pt x="37" y="1242"/>
                      </a:lnTo>
                      <a:lnTo>
                        <a:pt x="160" y="1178"/>
                      </a:lnTo>
                      <a:lnTo>
                        <a:pt x="269" y="1106"/>
                      </a:lnTo>
                      <a:lnTo>
                        <a:pt x="373" y="987"/>
                      </a:lnTo>
                      <a:lnTo>
                        <a:pt x="515" y="822"/>
                      </a:lnTo>
                      <a:lnTo>
                        <a:pt x="552" y="756"/>
                      </a:lnTo>
                      <a:lnTo>
                        <a:pt x="571" y="692"/>
                      </a:lnTo>
                      <a:lnTo>
                        <a:pt x="563" y="627"/>
                      </a:lnTo>
                      <a:lnTo>
                        <a:pt x="529" y="508"/>
                      </a:lnTo>
                      <a:lnTo>
                        <a:pt x="448" y="357"/>
                      </a:lnTo>
                      <a:lnTo>
                        <a:pt x="359" y="274"/>
                      </a:lnTo>
                      <a:lnTo>
                        <a:pt x="280" y="227"/>
                      </a:lnTo>
                      <a:lnTo>
                        <a:pt x="217" y="220"/>
                      </a:lnTo>
                      <a:lnTo>
                        <a:pt x="183" y="227"/>
                      </a:lnTo>
                      <a:lnTo>
                        <a:pt x="180" y="195"/>
                      </a:lnTo>
                      <a:lnTo>
                        <a:pt x="257" y="184"/>
                      </a:lnTo>
                      <a:lnTo>
                        <a:pt x="347" y="184"/>
                      </a:lnTo>
                      <a:lnTo>
                        <a:pt x="283" y="111"/>
                      </a:lnTo>
                      <a:lnTo>
                        <a:pt x="246" y="54"/>
                      </a:lnTo>
                      <a:lnTo>
                        <a:pt x="273" y="32"/>
                      </a:lnTo>
                      <a:lnTo>
                        <a:pt x="373" y="130"/>
                      </a:lnTo>
                      <a:lnTo>
                        <a:pt x="392" y="145"/>
                      </a:lnTo>
                      <a:lnTo>
                        <a:pt x="373" y="68"/>
                      </a:lnTo>
                      <a:lnTo>
                        <a:pt x="359" y="11"/>
                      </a:lnTo>
                      <a:lnTo>
                        <a:pt x="373" y="0"/>
                      </a:lnTo>
                      <a:lnTo>
                        <a:pt x="406" y="11"/>
                      </a:lnTo>
                      <a:lnTo>
                        <a:pt x="436" y="145"/>
                      </a:lnTo>
                      <a:lnTo>
                        <a:pt x="452" y="141"/>
                      </a:lnTo>
                      <a:lnTo>
                        <a:pt x="452" y="36"/>
                      </a:lnTo>
                      <a:lnTo>
                        <a:pt x="482" y="25"/>
                      </a:lnTo>
                      <a:lnTo>
                        <a:pt x="503" y="43"/>
                      </a:lnTo>
                      <a:lnTo>
                        <a:pt x="492" y="184"/>
                      </a:lnTo>
                      <a:lnTo>
                        <a:pt x="485" y="241"/>
                      </a:lnTo>
                      <a:lnTo>
                        <a:pt x="503" y="357"/>
                      </a:lnTo>
                      <a:lnTo>
                        <a:pt x="563" y="479"/>
                      </a:lnTo>
                      <a:lnTo>
                        <a:pt x="626" y="620"/>
                      </a:lnTo>
                      <a:lnTo>
                        <a:pt x="675" y="724"/>
                      </a:lnTo>
                      <a:lnTo>
                        <a:pt x="672" y="778"/>
                      </a:lnTo>
                      <a:lnTo>
                        <a:pt x="582" y="875"/>
                      </a:lnTo>
                      <a:lnTo>
                        <a:pt x="459" y="997"/>
                      </a:lnTo>
                      <a:lnTo>
                        <a:pt x="359" y="1117"/>
                      </a:lnTo>
                      <a:lnTo>
                        <a:pt x="236" y="1276"/>
                      </a:lnTo>
                      <a:lnTo>
                        <a:pt x="134" y="1354"/>
                      </a:lnTo>
                      <a:lnTo>
                        <a:pt x="57" y="1376"/>
                      </a:lnTo>
                      <a:lnTo>
                        <a:pt x="16" y="1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1328760" y="1603080"/>
                  <a:ext cx="316800" cy="177840"/>
                </a:xfrm>
                <a:custGeom>
                  <a:avLst/>
                  <a:gdLst/>
                  <a:ahLst/>
                  <a:rect l="l" t="t" r="r" b="b"/>
                  <a:pathLst>
                    <a:path w="1236" h="692">
                      <a:moveTo>
                        <a:pt x="251" y="559"/>
                      </a:moveTo>
                      <a:lnTo>
                        <a:pt x="430" y="552"/>
                      </a:lnTo>
                      <a:lnTo>
                        <a:pt x="594" y="530"/>
                      </a:lnTo>
                      <a:lnTo>
                        <a:pt x="695" y="505"/>
                      </a:lnTo>
                      <a:lnTo>
                        <a:pt x="841" y="423"/>
                      </a:lnTo>
                      <a:lnTo>
                        <a:pt x="945" y="344"/>
                      </a:lnTo>
                      <a:lnTo>
                        <a:pt x="1080" y="247"/>
                      </a:lnTo>
                      <a:lnTo>
                        <a:pt x="1143" y="186"/>
                      </a:lnTo>
                      <a:lnTo>
                        <a:pt x="1192" y="143"/>
                      </a:lnTo>
                      <a:lnTo>
                        <a:pt x="1236" y="96"/>
                      </a:lnTo>
                      <a:lnTo>
                        <a:pt x="1236" y="46"/>
                      </a:lnTo>
                      <a:lnTo>
                        <a:pt x="1187" y="0"/>
                      </a:lnTo>
                      <a:lnTo>
                        <a:pt x="1157" y="10"/>
                      </a:lnTo>
                      <a:lnTo>
                        <a:pt x="1076" y="107"/>
                      </a:lnTo>
                      <a:lnTo>
                        <a:pt x="987" y="218"/>
                      </a:lnTo>
                      <a:lnTo>
                        <a:pt x="897" y="322"/>
                      </a:lnTo>
                      <a:lnTo>
                        <a:pt x="766" y="408"/>
                      </a:lnTo>
                      <a:lnTo>
                        <a:pt x="653" y="466"/>
                      </a:lnTo>
                      <a:lnTo>
                        <a:pt x="530" y="494"/>
                      </a:lnTo>
                      <a:lnTo>
                        <a:pt x="358" y="498"/>
                      </a:lnTo>
                      <a:lnTo>
                        <a:pt x="258" y="498"/>
                      </a:lnTo>
                      <a:lnTo>
                        <a:pt x="172" y="433"/>
                      </a:lnTo>
                      <a:lnTo>
                        <a:pt x="149" y="390"/>
                      </a:lnTo>
                      <a:lnTo>
                        <a:pt x="112" y="390"/>
                      </a:lnTo>
                      <a:lnTo>
                        <a:pt x="139" y="444"/>
                      </a:lnTo>
                      <a:lnTo>
                        <a:pt x="179" y="494"/>
                      </a:lnTo>
                      <a:lnTo>
                        <a:pt x="79" y="473"/>
                      </a:lnTo>
                      <a:lnTo>
                        <a:pt x="4" y="462"/>
                      </a:lnTo>
                      <a:lnTo>
                        <a:pt x="4" y="483"/>
                      </a:lnTo>
                      <a:lnTo>
                        <a:pt x="71" y="498"/>
                      </a:lnTo>
                      <a:lnTo>
                        <a:pt x="116" y="526"/>
                      </a:lnTo>
                      <a:lnTo>
                        <a:pt x="157" y="530"/>
                      </a:lnTo>
                      <a:lnTo>
                        <a:pt x="93" y="552"/>
                      </a:lnTo>
                      <a:lnTo>
                        <a:pt x="0" y="573"/>
                      </a:lnTo>
                      <a:lnTo>
                        <a:pt x="4" y="595"/>
                      </a:lnTo>
                      <a:lnTo>
                        <a:pt x="34" y="602"/>
                      </a:lnTo>
                      <a:lnTo>
                        <a:pt x="123" y="573"/>
                      </a:lnTo>
                      <a:lnTo>
                        <a:pt x="179" y="569"/>
                      </a:lnTo>
                      <a:lnTo>
                        <a:pt x="146" y="602"/>
                      </a:lnTo>
                      <a:lnTo>
                        <a:pt x="93" y="655"/>
                      </a:lnTo>
                      <a:lnTo>
                        <a:pt x="71" y="670"/>
                      </a:lnTo>
                      <a:lnTo>
                        <a:pt x="90" y="692"/>
                      </a:lnTo>
                      <a:lnTo>
                        <a:pt x="135" y="666"/>
                      </a:lnTo>
                      <a:lnTo>
                        <a:pt x="195" y="612"/>
                      </a:lnTo>
                      <a:lnTo>
                        <a:pt x="251" y="5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1168200" y="1585080"/>
                  <a:ext cx="185400" cy="244800"/>
                </a:xfrm>
                <a:custGeom>
                  <a:avLst/>
                  <a:gdLst/>
                  <a:ahLst/>
                  <a:rect l="l" t="t" r="r" b="b"/>
                  <a:pathLst>
                    <a:path w="725" h="954">
                      <a:moveTo>
                        <a:pt x="46" y="108"/>
                      </a:moveTo>
                      <a:lnTo>
                        <a:pt x="75" y="32"/>
                      </a:lnTo>
                      <a:lnTo>
                        <a:pt x="124" y="0"/>
                      </a:lnTo>
                      <a:lnTo>
                        <a:pt x="169" y="0"/>
                      </a:lnTo>
                      <a:lnTo>
                        <a:pt x="214" y="22"/>
                      </a:lnTo>
                      <a:lnTo>
                        <a:pt x="258" y="65"/>
                      </a:lnTo>
                      <a:lnTo>
                        <a:pt x="281" y="140"/>
                      </a:lnTo>
                      <a:lnTo>
                        <a:pt x="293" y="215"/>
                      </a:lnTo>
                      <a:lnTo>
                        <a:pt x="314" y="290"/>
                      </a:lnTo>
                      <a:lnTo>
                        <a:pt x="356" y="373"/>
                      </a:lnTo>
                      <a:lnTo>
                        <a:pt x="426" y="459"/>
                      </a:lnTo>
                      <a:lnTo>
                        <a:pt x="495" y="516"/>
                      </a:lnTo>
                      <a:lnTo>
                        <a:pt x="595" y="559"/>
                      </a:lnTo>
                      <a:lnTo>
                        <a:pt x="681" y="624"/>
                      </a:lnTo>
                      <a:lnTo>
                        <a:pt x="725" y="688"/>
                      </a:lnTo>
                      <a:lnTo>
                        <a:pt x="718" y="742"/>
                      </a:lnTo>
                      <a:lnTo>
                        <a:pt x="707" y="806"/>
                      </a:lnTo>
                      <a:lnTo>
                        <a:pt x="674" y="849"/>
                      </a:lnTo>
                      <a:lnTo>
                        <a:pt x="618" y="903"/>
                      </a:lnTo>
                      <a:lnTo>
                        <a:pt x="535" y="942"/>
                      </a:lnTo>
                      <a:lnTo>
                        <a:pt x="472" y="954"/>
                      </a:lnTo>
                      <a:lnTo>
                        <a:pt x="382" y="935"/>
                      </a:lnTo>
                      <a:lnTo>
                        <a:pt x="300" y="892"/>
                      </a:lnTo>
                      <a:lnTo>
                        <a:pt x="214" y="828"/>
                      </a:lnTo>
                      <a:lnTo>
                        <a:pt x="154" y="753"/>
                      </a:lnTo>
                      <a:lnTo>
                        <a:pt x="98" y="656"/>
                      </a:lnTo>
                      <a:lnTo>
                        <a:pt x="53" y="545"/>
                      </a:lnTo>
                      <a:lnTo>
                        <a:pt x="23" y="448"/>
                      </a:lnTo>
                      <a:lnTo>
                        <a:pt x="9" y="355"/>
                      </a:lnTo>
                      <a:lnTo>
                        <a:pt x="0" y="226"/>
                      </a:lnTo>
                      <a:lnTo>
                        <a:pt x="23" y="140"/>
                      </a:lnTo>
                      <a:lnTo>
                        <a:pt x="46"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883080" y="1689840"/>
                  <a:ext cx="318960" cy="222120"/>
                </a:xfrm>
                <a:custGeom>
                  <a:avLst/>
                  <a:gdLst/>
                  <a:ahLst/>
                  <a:rect l="l" t="t" r="r" b="b"/>
                  <a:pathLst>
                    <a:path w="1243" h="865">
                      <a:moveTo>
                        <a:pt x="138" y="273"/>
                      </a:moveTo>
                      <a:lnTo>
                        <a:pt x="258" y="175"/>
                      </a:lnTo>
                      <a:lnTo>
                        <a:pt x="403" y="86"/>
                      </a:lnTo>
                      <a:lnTo>
                        <a:pt x="496" y="32"/>
                      </a:lnTo>
                      <a:lnTo>
                        <a:pt x="570" y="14"/>
                      </a:lnTo>
                      <a:lnTo>
                        <a:pt x="630" y="0"/>
                      </a:lnTo>
                      <a:lnTo>
                        <a:pt x="683" y="21"/>
                      </a:lnTo>
                      <a:lnTo>
                        <a:pt x="716" y="89"/>
                      </a:lnTo>
                      <a:lnTo>
                        <a:pt x="739" y="273"/>
                      </a:lnTo>
                      <a:lnTo>
                        <a:pt x="739" y="495"/>
                      </a:lnTo>
                      <a:lnTo>
                        <a:pt x="739" y="639"/>
                      </a:lnTo>
                      <a:lnTo>
                        <a:pt x="765" y="726"/>
                      </a:lnTo>
                      <a:lnTo>
                        <a:pt x="818" y="711"/>
                      </a:lnTo>
                      <a:lnTo>
                        <a:pt x="855" y="658"/>
                      </a:lnTo>
                      <a:lnTo>
                        <a:pt x="929" y="596"/>
                      </a:lnTo>
                      <a:lnTo>
                        <a:pt x="1045" y="560"/>
                      </a:lnTo>
                      <a:lnTo>
                        <a:pt x="1123" y="560"/>
                      </a:lnTo>
                      <a:lnTo>
                        <a:pt x="1243" y="581"/>
                      </a:lnTo>
                      <a:lnTo>
                        <a:pt x="1236" y="624"/>
                      </a:lnTo>
                      <a:lnTo>
                        <a:pt x="1209" y="661"/>
                      </a:lnTo>
                      <a:lnTo>
                        <a:pt x="1169" y="668"/>
                      </a:lnTo>
                      <a:lnTo>
                        <a:pt x="1123" y="646"/>
                      </a:lnTo>
                      <a:lnTo>
                        <a:pt x="1056" y="617"/>
                      </a:lnTo>
                      <a:lnTo>
                        <a:pt x="988" y="617"/>
                      </a:lnTo>
                      <a:lnTo>
                        <a:pt x="899" y="672"/>
                      </a:lnTo>
                      <a:lnTo>
                        <a:pt x="844" y="754"/>
                      </a:lnTo>
                      <a:lnTo>
                        <a:pt x="832" y="822"/>
                      </a:lnTo>
                      <a:lnTo>
                        <a:pt x="809" y="865"/>
                      </a:lnTo>
                      <a:lnTo>
                        <a:pt x="720" y="862"/>
                      </a:lnTo>
                      <a:lnTo>
                        <a:pt x="716" y="797"/>
                      </a:lnTo>
                      <a:lnTo>
                        <a:pt x="686" y="704"/>
                      </a:lnTo>
                      <a:lnTo>
                        <a:pt x="676" y="606"/>
                      </a:lnTo>
                      <a:lnTo>
                        <a:pt x="683" y="477"/>
                      </a:lnTo>
                      <a:lnTo>
                        <a:pt x="672" y="295"/>
                      </a:lnTo>
                      <a:lnTo>
                        <a:pt x="665" y="175"/>
                      </a:lnTo>
                      <a:lnTo>
                        <a:pt x="642" y="132"/>
                      </a:lnTo>
                      <a:lnTo>
                        <a:pt x="597" y="89"/>
                      </a:lnTo>
                      <a:lnTo>
                        <a:pt x="549" y="89"/>
                      </a:lnTo>
                      <a:lnTo>
                        <a:pt x="481" y="132"/>
                      </a:lnTo>
                      <a:lnTo>
                        <a:pt x="391" y="216"/>
                      </a:lnTo>
                      <a:lnTo>
                        <a:pt x="280" y="323"/>
                      </a:lnTo>
                      <a:lnTo>
                        <a:pt x="168" y="424"/>
                      </a:lnTo>
                      <a:lnTo>
                        <a:pt x="112" y="456"/>
                      </a:lnTo>
                      <a:lnTo>
                        <a:pt x="45" y="456"/>
                      </a:lnTo>
                      <a:lnTo>
                        <a:pt x="0" y="409"/>
                      </a:lnTo>
                      <a:lnTo>
                        <a:pt x="3" y="334"/>
                      </a:lnTo>
                      <a:lnTo>
                        <a:pt x="49" y="295"/>
                      </a:lnTo>
                      <a:lnTo>
                        <a:pt x="100" y="284"/>
                      </a:lnTo>
                      <a:lnTo>
                        <a:pt x="13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1000800" y="1786320"/>
                  <a:ext cx="217800" cy="232920"/>
                </a:xfrm>
                <a:custGeom>
                  <a:avLst/>
                  <a:gdLst/>
                  <a:ahLst/>
                  <a:rect l="l" t="t" r="r" b="b"/>
                  <a:pathLst>
                    <a:path w="850" h="909">
                      <a:moveTo>
                        <a:pt x="0" y="76"/>
                      </a:moveTo>
                      <a:lnTo>
                        <a:pt x="26" y="19"/>
                      </a:lnTo>
                      <a:lnTo>
                        <a:pt x="82" y="0"/>
                      </a:lnTo>
                      <a:lnTo>
                        <a:pt x="160" y="8"/>
                      </a:lnTo>
                      <a:lnTo>
                        <a:pt x="179" y="62"/>
                      </a:lnTo>
                      <a:lnTo>
                        <a:pt x="149" y="271"/>
                      </a:lnTo>
                      <a:lnTo>
                        <a:pt x="145" y="430"/>
                      </a:lnTo>
                      <a:lnTo>
                        <a:pt x="138" y="519"/>
                      </a:lnTo>
                      <a:lnTo>
                        <a:pt x="138" y="537"/>
                      </a:lnTo>
                      <a:lnTo>
                        <a:pt x="156" y="624"/>
                      </a:lnTo>
                      <a:lnTo>
                        <a:pt x="205" y="639"/>
                      </a:lnTo>
                      <a:lnTo>
                        <a:pt x="268" y="624"/>
                      </a:lnTo>
                      <a:lnTo>
                        <a:pt x="362" y="574"/>
                      </a:lnTo>
                      <a:lnTo>
                        <a:pt x="462" y="549"/>
                      </a:lnTo>
                      <a:lnTo>
                        <a:pt x="574" y="530"/>
                      </a:lnTo>
                      <a:lnTo>
                        <a:pt x="697" y="516"/>
                      </a:lnTo>
                      <a:lnTo>
                        <a:pt x="787" y="516"/>
                      </a:lnTo>
                      <a:lnTo>
                        <a:pt x="827" y="527"/>
                      </a:lnTo>
                      <a:lnTo>
                        <a:pt x="850" y="553"/>
                      </a:lnTo>
                      <a:lnTo>
                        <a:pt x="839" y="592"/>
                      </a:lnTo>
                      <a:lnTo>
                        <a:pt x="783" y="624"/>
                      </a:lnTo>
                      <a:lnTo>
                        <a:pt x="731" y="671"/>
                      </a:lnTo>
                      <a:lnTo>
                        <a:pt x="682" y="737"/>
                      </a:lnTo>
                      <a:lnTo>
                        <a:pt x="652" y="790"/>
                      </a:lnTo>
                      <a:lnTo>
                        <a:pt x="627" y="844"/>
                      </a:lnTo>
                      <a:lnTo>
                        <a:pt x="608" y="909"/>
                      </a:lnTo>
                      <a:lnTo>
                        <a:pt x="581" y="909"/>
                      </a:lnTo>
                      <a:lnTo>
                        <a:pt x="559" y="884"/>
                      </a:lnTo>
                      <a:lnTo>
                        <a:pt x="551" y="812"/>
                      </a:lnTo>
                      <a:lnTo>
                        <a:pt x="604" y="747"/>
                      </a:lnTo>
                      <a:lnTo>
                        <a:pt x="674" y="671"/>
                      </a:lnTo>
                      <a:lnTo>
                        <a:pt x="741" y="614"/>
                      </a:lnTo>
                      <a:lnTo>
                        <a:pt x="771" y="596"/>
                      </a:lnTo>
                      <a:lnTo>
                        <a:pt x="783" y="571"/>
                      </a:lnTo>
                      <a:lnTo>
                        <a:pt x="753" y="553"/>
                      </a:lnTo>
                      <a:lnTo>
                        <a:pt x="652" y="553"/>
                      </a:lnTo>
                      <a:lnTo>
                        <a:pt x="525" y="574"/>
                      </a:lnTo>
                      <a:lnTo>
                        <a:pt x="425" y="607"/>
                      </a:lnTo>
                      <a:lnTo>
                        <a:pt x="316" y="667"/>
                      </a:lnTo>
                      <a:lnTo>
                        <a:pt x="223" y="710"/>
                      </a:lnTo>
                      <a:lnTo>
                        <a:pt x="123" y="714"/>
                      </a:lnTo>
                      <a:lnTo>
                        <a:pt x="82" y="700"/>
                      </a:lnTo>
                      <a:lnTo>
                        <a:pt x="60" y="646"/>
                      </a:lnTo>
                      <a:lnTo>
                        <a:pt x="44" y="571"/>
                      </a:lnTo>
                      <a:lnTo>
                        <a:pt x="37" y="430"/>
                      </a:lnTo>
                      <a:lnTo>
                        <a:pt x="22" y="180"/>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 name=""/>
              <p:cNvGrpSpPr/>
              <p:nvPr/>
            </p:nvGrpSpPr>
            <p:grpSpPr>
              <a:xfrm>
                <a:off x="822960" y="1706760"/>
                <a:ext cx="163440" cy="332280"/>
                <a:chOff x="822960" y="1706760"/>
                <a:chExt cx="163440" cy="332280"/>
              </a:xfrm>
            </p:grpSpPr>
            <p:sp>
              <p:nvSpPr>
                <p:cNvPr id="82" name=""/>
                <p:cNvSpPr/>
                <p:nvPr/>
              </p:nvSpPr>
              <p:spPr>
                <a:xfrm flipH="1">
                  <a:off x="822960" y="1892160"/>
                  <a:ext cx="128880" cy="41040"/>
                </a:xfrm>
                <a:custGeom>
                  <a:avLst/>
                  <a:gdLst/>
                  <a:ahLst/>
                  <a:rect l="l" t="t" r="r" b="b"/>
                  <a:pathLst>
                    <a:path w="405" h="129">
                      <a:moveTo>
                        <a:pt x="405" y="129"/>
                      </a:moveTo>
                      <a:lnTo>
                        <a:pt x="196" y="35"/>
                      </a:lnTo>
                      <a:lnTo>
                        <a:pt x="57" y="0"/>
                      </a:lnTo>
                      <a:lnTo>
                        <a:pt x="12" y="0"/>
                      </a:lnTo>
                      <a:lnTo>
                        <a:pt x="0" y="32"/>
                      </a:lnTo>
                      <a:lnTo>
                        <a:pt x="26" y="57"/>
                      </a:lnTo>
                      <a:lnTo>
                        <a:pt x="83" y="64"/>
                      </a:lnTo>
                      <a:lnTo>
                        <a:pt x="218" y="89"/>
                      </a:lnTo>
                      <a:lnTo>
                        <a:pt x="405" y="12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3" name=""/>
                <p:cNvSpPr/>
                <p:nvPr/>
              </p:nvSpPr>
              <p:spPr>
                <a:xfrm flipH="1">
                  <a:off x="949680" y="1929240"/>
                  <a:ext cx="36720" cy="109800"/>
                </a:xfrm>
                <a:custGeom>
                  <a:avLst/>
                  <a:gdLst/>
                  <a:ahLst/>
                  <a:rect l="l" t="t" r="r" b="b"/>
                  <a:pathLst>
                    <a:path w="116" h="348">
                      <a:moveTo>
                        <a:pt x="116" y="348"/>
                      </a:moveTo>
                      <a:lnTo>
                        <a:pt x="112" y="177"/>
                      </a:lnTo>
                      <a:lnTo>
                        <a:pt x="82" y="47"/>
                      </a:lnTo>
                      <a:lnTo>
                        <a:pt x="49" y="0"/>
                      </a:lnTo>
                      <a:lnTo>
                        <a:pt x="23" y="0"/>
                      </a:lnTo>
                      <a:lnTo>
                        <a:pt x="0" y="15"/>
                      </a:lnTo>
                      <a:lnTo>
                        <a:pt x="0" y="65"/>
                      </a:lnTo>
                      <a:lnTo>
                        <a:pt x="56" y="220"/>
                      </a:lnTo>
                      <a:lnTo>
                        <a:pt x="116" y="3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852480" y="1706760"/>
                  <a:ext cx="80640" cy="42480"/>
                </a:xfrm>
                <a:custGeom>
                  <a:avLst/>
                  <a:gdLst/>
                  <a:ahLst/>
                  <a:rect l="l" t="t" r="r" b="b"/>
                  <a:pathLst>
                    <a:path w="254" h="132">
                      <a:moveTo>
                        <a:pt x="0" y="86"/>
                      </a:moveTo>
                      <a:lnTo>
                        <a:pt x="49" y="35"/>
                      </a:lnTo>
                      <a:lnTo>
                        <a:pt x="118" y="3"/>
                      </a:lnTo>
                      <a:lnTo>
                        <a:pt x="197" y="0"/>
                      </a:lnTo>
                      <a:lnTo>
                        <a:pt x="254" y="10"/>
                      </a:lnTo>
                      <a:lnTo>
                        <a:pt x="164" y="21"/>
                      </a:lnTo>
                      <a:lnTo>
                        <a:pt x="129" y="43"/>
                      </a:lnTo>
                      <a:lnTo>
                        <a:pt x="96" y="75"/>
                      </a:lnTo>
                      <a:lnTo>
                        <a:pt x="80" y="111"/>
                      </a:lnTo>
                      <a:lnTo>
                        <a:pt x="49" y="132"/>
                      </a:lnTo>
                      <a:lnTo>
                        <a:pt x="12" y="129"/>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grpSp>
        <p:graphicFrame>
          <p:nvGraphicFramePr>
            <p:cNvPr id="85" name=""/>
            <p:cNvGraphicFramePr/>
            <p:nvPr/>
          </p:nvGraphicFramePr>
          <p:xfrm>
            <a:off x="822960" y="3200400"/>
            <a:ext cx="1105200" cy="1097280"/>
          </p:xfrm>
          <a:graphic>
            <a:graphicData uri="http://schemas.openxmlformats.org/presentationml/2006/ole">
              <p:oleObj r:id="rId3" spid="">
                <p:embed/>
                <p:pic>
                  <p:nvPicPr>
                    <p:cNvPr id="86" name="" descr=""/>
                    <p:cNvPicPr/>
                    <p:nvPr/>
                  </p:nvPicPr>
                  <p:blipFill>
                    <a:blip r:embed="rId4"/>
                    <a:stretch/>
                  </p:blipFill>
                  <p:spPr>
                    <a:xfrm>
                      <a:off x="822960" y="3200400"/>
                      <a:ext cx="1105200" cy="1097280"/>
                    </a:xfrm>
                    <a:prstGeom prst="rect">
                      <a:avLst/>
                    </a:prstGeom>
                    <a:ln w="0">
                      <a:noFill/>
                    </a:ln>
                  </p:spPr>
                </p:pic>
              </p:oleObj>
            </a:graphicData>
          </a:graphic>
        </p:graphicFrame>
        <p:grpSp>
          <p:nvGrpSpPr>
            <p:cNvPr id="87" name=""/>
            <p:cNvGrpSpPr/>
            <p:nvPr/>
          </p:nvGrpSpPr>
          <p:grpSpPr>
            <a:xfrm>
              <a:off x="7863840" y="1305360"/>
              <a:ext cx="731520" cy="713160"/>
              <a:chOff x="7863840" y="1305360"/>
              <a:chExt cx="731520" cy="713160"/>
            </a:xfrm>
          </p:grpSpPr>
          <p:sp>
            <p:nvSpPr>
              <p:cNvPr id="88" name=""/>
              <p:cNvSpPr/>
              <p:nvPr/>
            </p:nvSpPr>
            <p:spPr>
              <a:xfrm flipH="1">
                <a:off x="8226360" y="1425600"/>
                <a:ext cx="127800" cy="150840"/>
              </a:xfrm>
              <a:custGeom>
                <a:avLst/>
                <a:gdLst/>
                <a:ahLst/>
                <a:rect l="l" t="t" r="r" b="b"/>
                <a:pathLst>
                  <a:path w="518" h="614">
                    <a:moveTo>
                      <a:pt x="157" y="222"/>
                    </a:moveTo>
                    <a:lnTo>
                      <a:pt x="187" y="136"/>
                    </a:lnTo>
                    <a:lnTo>
                      <a:pt x="225" y="50"/>
                    </a:lnTo>
                    <a:lnTo>
                      <a:pt x="282" y="7"/>
                    </a:lnTo>
                    <a:lnTo>
                      <a:pt x="360" y="0"/>
                    </a:lnTo>
                    <a:lnTo>
                      <a:pt x="424" y="29"/>
                    </a:lnTo>
                    <a:lnTo>
                      <a:pt x="469" y="75"/>
                    </a:lnTo>
                    <a:lnTo>
                      <a:pt x="502" y="161"/>
                    </a:lnTo>
                    <a:lnTo>
                      <a:pt x="518" y="265"/>
                    </a:lnTo>
                    <a:lnTo>
                      <a:pt x="518" y="373"/>
                    </a:lnTo>
                    <a:lnTo>
                      <a:pt x="492" y="491"/>
                    </a:lnTo>
                    <a:lnTo>
                      <a:pt x="424" y="566"/>
                    </a:lnTo>
                    <a:lnTo>
                      <a:pt x="357" y="614"/>
                    </a:lnTo>
                    <a:lnTo>
                      <a:pt x="292" y="609"/>
                    </a:lnTo>
                    <a:lnTo>
                      <a:pt x="236" y="559"/>
                    </a:lnTo>
                    <a:lnTo>
                      <a:pt x="187" y="473"/>
                    </a:lnTo>
                    <a:lnTo>
                      <a:pt x="154" y="398"/>
                    </a:lnTo>
                    <a:lnTo>
                      <a:pt x="154" y="301"/>
                    </a:lnTo>
                    <a:lnTo>
                      <a:pt x="0" y="279"/>
                    </a:lnTo>
                    <a:lnTo>
                      <a:pt x="19" y="226"/>
                    </a:lnTo>
                    <a:lnTo>
                      <a:pt x="157" y="2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8103960" y="1305360"/>
                <a:ext cx="165600" cy="338040"/>
              </a:xfrm>
              <a:custGeom>
                <a:avLst/>
                <a:gdLst/>
                <a:ahLst/>
                <a:rect l="l" t="t" r="r" b="b"/>
                <a:pathLst>
                  <a:path w="675" h="1376">
                    <a:moveTo>
                      <a:pt x="16" y="1365"/>
                    </a:moveTo>
                    <a:lnTo>
                      <a:pt x="0" y="1297"/>
                    </a:lnTo>
                    <a:lnTo>
                      <a:pt x="37" y="1242"/>
                    </a:lnTo>
                    <a:lnTo>
                      <a:pt x="160" y="1178"/>
                    </a:lnTo>
                    <a:lnTo>
                      <a:pt x="269" y="1106"/>
                    </a:lnTo>
                    <a:lnTo>
                      <a:pt x="373" y="987"/>
                    </a:lnTo>
                    <a:lnTo>
                      <a:pt x="515" y="822"/>
                    </a:lnTo>
                    <a:lnTo>
                      <a:pt x="552" y="756"/>
                    </a:lnTo>
                    <a:lnTo>
                      <a:pt x="571" y="692"/>
                    </a:lnTo>
                    <a:lnTo>
                      <a:pt x="563" y="627"/>
                    </a:lnTo>
                    <a:lnTo>
                      <a:pt x="529" y="508"/>
                    </a:lnTo>
                    <a:lnTo>
                      <a:pt x="448" y="357"/>
                    </a:lnTo>
                    <a:lnTo>
                      <a:pt x="359" y="274"/>
                    </a:lnTo>
                    <a:lnTo>
                      <a:pt x="280" y="227"/>
                    </a:lnTo>
                    <a:lnTo>
                      <a:pt x="217" y="220"/>
                    </a:lnTo>
                    <a:lnTo>
                      <a:pt x="183" y="227"/>
                    </a:lnTo>
                    <a:lnTo>
                      <a:pt x="180" y="195"/>
                    </a:lnTo>
                    <a:lnTo>
                      <a:pt x="257" y="184"/>
                    </a:lnTo>
                    <a:lnTo>
                      <a:pt x="347" y="184"/>
                    </a:lnTo>
                    <a:lnTo>
                      <a:pt x="283" y="111"/>
                    </a:lnTo>
                    <a:lnTo>
                      <a:pt x="246" y="54"/>
                    </a:lnTo>
                    <a:lnTo>
                      <a:pt x="273" y="32"/>
                    </a:lnTo>
                    <a:lnTo>
                      <a:pt x="373" y="130"/>
                    </a:lnTo>
                    <a:lnTo>
                      <a:pt x="392" y="145"/>
                    </a:lnTo>
                    <a:lnTo>
                      <a:pt x="373" y="68"/>
                    </a:lnTo>
                    <a:lnTo>
                      <a:pt x="359" y="11"/>
                    </a:lnTo>
                    <a:lnTo>
                      <a:pt x="373" y="0"/>
                    </a:lnTo>
                    <a:lnTo>
                      <a:pt x="406" y="11"/>
                    </a:lnTo>
                    <a:lnTo>
                      <a:pt x="436" y="145"/>
                    </a:lnTo>
                    <a:lnTo>
                      <a:pt x="452" y="141"/>
                    </a:lnTo>
                    <a:lnTo>
                      <a:pt x="452" y="36"/>
                    </a:lnTo>
                    <a:lnTo>
                      <a:pt x="482" y="25"/>
                    </a:lnTo>
                    <a:lnTo>
                      <a:pt x="503" y="43"/>
                    </a:lnTo>
                    <a:lnTo>
                      <a:pt x="492" y="184"/>
                    </a:lnTo>
                    <a:lnTo>
                      <a:pt x="485" y="241"/>
                    </a:lnTo>
                    <a:lnTo>
                      <a:pt x="503" y="357"/>
                    </a:lnTo>
                    <a:lnTo>
                      <a:pt x="563" y="479"/>
                    </a:lnTo>
                    <a:lnTo>
                      <a:pt x="626" y="620"/>
                    </a:lnTo>
                    <a:lnTo>
                      <a:pt x="675" y="724"/>
                    </a:lnTo>
                    <a:lnTo>
                      <a:pt x="672" y="778"/>
                    </a:lnTo>
                    <a:lnTo>
                      <a:pt x="582" y="875"/>
                    </a:lnTo>
                    <a:lnTo>
                      <a:pt x="459" y="997"/>
                    </a:lnTo>
                    <a:lnTo>
                      <a:pt x="359" y="1117"/>
                    </a:lnTo>
                    <a:lnTo>
                      <a:pt x="236" y="1276"/>
                    </a:lnTo>
                    <a:lnTo>
                      <a:pt x="134" y="1354"/>
                    </a:lnTo>
                    <a:lnTo>
                      <a:pt x="57" y="1376"/>
                    </a:lnTo>
                    <a:lnTo>
                      <a:pt x="16" y="1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8291520" y="1620360"/>
                <a:ext cx="303840" cy="170280"/>
              </a:xfrm>
              <a:custGeom>
                <a:avLst/>
                <a:gdLst/>
                <a:ahLst/>
                <a:rect l="l" t="t" r="r" b="b"/>
                <a:pathLst>
                  <a:path w="1236" h="692">
                    <a:moveTo>
                      <a:pt x="251" y="559"/>
                    </a:moveTo>
                    <a:lnTo>
                      <a:pt x="430" y="552"/>
                    </a:lnTo>
                    <a:lnTo>
                      <a:pt x="594" y="530"/>
                    </a:lnTo>
                    <a:lnTo>
                      <a:pt x="695" y="505"/>
                    </a:lnTo>
                    <a:lnTo>
                      <a:pt x="841" y="423"/>
                    </a:lnTo>
                    <a:lnTo>
                      <a:pt x="945" y="344"/>
                    </a:lnTo>
                    <a:lnTo>
                      <a:pt x="1080" y="247"/>
                    </a:lnTo>
                    <a:lnTo>
                      <a:pt x="1143" y="186"/>
                    </a:lnTo>
                    <a:lnTo>
                      <a:pt x="1192" y="143"/>
                    </a:lnTo>
                    <a:lnTo>
                      <a:pt x="1236" y="96"/>
                    </a:lnTo>
                    <a:lnTo>
                      <a:pt x="1236" y="46"/>
                    </a:lnTo>
                    <a:lnTo>
                      <a:pt x="1187" y="0"/>
                    </a:lnTo>
                    <a:lnTo>
                      <a:pt x="1157" y="10"/>
                    </a:lnTo>
                    <a:lnTo>
                      <a:pt x="1076" y="107"/>
                    </a:lnTo>
                    <a:lnTo>
                      <a:pt x="987" y="218"/>
                    </a:lnTo>
                    <a:lnTo>
                      <a:pt x="897" y="322"/>
                    </a:lnTo>
                    <a:lnTo>
                      <a:pt x="766" y="408"/>
                    </a:lnTo>
                    <a:lnTo>
                      <a:pt x="653" y="466"/>
                    </a:lnTo>
                    <a:lnTo>
                      <a:pt x="530" y="494"/>
                    </a:lnTo>
                    <a:lnTo>
                      <a:pt x="358" y="498"/>
                    </a:lnTo>
                    <a:lnTo>
                      <a:pt x="258" y="498"/>
                    </a:lnTo>
                    <a:lnTo>
                      <a:pt x="172" y="433"/>
                    </a:lnTo>
                    <a:lnTo>
                      <a:pt x="149" y="390"/>
                    </a:lnTo>
                    <a:lnTo>
                      <a:pt x="112" y="390"/>
                    </a:lnTo>
                    <a:lnTo>
                      <a:pt x="139" y="444"/>
                    </a:lnTo>
                    <a:lnTo>
                      <a:pt x="179" y="494"/>
                    </a:lnTo>
                    <a:lnTo>
                      <a:pt x="79" y="473"/>
                    </a:lnTo>
                    <a:lnTo>
                      <a:pt x="4" y="462"/>
                    </a:lnTo>
                    <a:lnTo>
                      <a:pt x="4" y="483"/>
                    </a:lnTo>
                    <a:lnTo>
                      <a:pt x="71" y="498"/>
                    </a:lnTo>
                    <a:lnTo>
                      <a:pt x="116" y="526"/>
                    </a:lnTo>
                    <a:lnTo>
                      <a:pt x="157" y="530"/>
                    </a:lnTo>
                    <a:lnTo>
                      <a:pt x="93" y="552"/>
                    </a:lnTo>
                    <a:lnTo>
                      <a:pt x="0" y="573"/>
                    </a:lnTo>
                    <a:lnTo>
                      <a:pt x="4" y="595"/>
                    </a:lnTo>
                    <a:lnTo>
                      <a:pt x="34" y="602"/>
                    </a:lnTo>
                    <a:lnTo>
                      <a:pt x="123" y="573"/>
                    </a:lnTo>
                    <a:lnTo>
                      <a:pt x="179" y="569"/>
                    </a:lnTo>
                    <a:lnTo>
                      <a:pt x="146" y="602"/>
                    </a:lnTo>
                    <a:lnTo>
                      <a:pt x="93" y="655"/>
                    </a:lnTo>
                    <a:lnTo>
                      <a:pt x="71" y="670"/>
                    </a:lnTo>
                    <a:lnTo>
                      <a:pt x="90" y="692"/>
                    </a:lnTo>
                    <a:lnTo>
                      <a:pt x="135" y="666"/>
                    </a:lnTo>
                    <a:lnTo>
                      <a:pt x="195" y="612"/>
                    </a:lnTo>
                    <a:lnTo>
                      <a:pt x="251" y="5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8137800" y="1603080"/>
                <a:ext cx="177840" cy="234360"/>
              </a:xfrm>
              <a:custGeom>
                <a:avLst/>
                <a:gdLst/>
                <a:ahLst/>
                <a:rect l="l" t="t" r="r" b="b"/>
                <a:pathLst>
                  <a:path w="725" h="954">
                    <a:moveTo>
                      <a:pt x="46" y="108"/>
                    </a:moveTo>
                    <a:lnTo>
                      <a:pt x="75" y="32"/>
                    </a:lnTo>
                    <a:lnTo>
                      <a:pt x="124" y="0"/>
                    </a:lnTo>
                    <a:lnTo>
                      <a:pt x="169" y="0"/>
                    </a:lnTo>
                    <a:lnTo>
                      <a:pt x="214" y="22"/>
                    </a:lnTo>
                    <a:lnTo>
                      <a:pt x="258" y="65"/>
                    </a:lnTo>
                    <a:lnTo>
                      <a:pt x="281" y="140"/>
                    </a:lnTo>
                    <a:lnTo>
                      <a:pt x="293" y="215"/>
                    </a:lnTo>
                    <a:lnTo>
                      <a:pt x="314" y="290"/>
                    </a:lnTo>
                    <a:lnTo>
                      <a:pt x="356" y="373"/>
                    </a:lnTo>
                    <a:lnTo>
                      <a:pt x="426" y="459"/>
                    </a:lnTo>
                    <a:lnTo>
                      <a:pt x="495" y="516"/>
                    </a:lnTo>
                    <a:lnTo>
                      <a:pt x="595" y="559"/>
                    </a:lnTo>
                    <a:lnTo>
                      <a:pt x="681" y="624"/>
                    </a:lnTo>
                    <a:lnTo>
                      <a:pt x="725" y="688"/>
                    </a:lnTo>
                    <a:lnTo>
                      <a:pt x="718" y="742"/>
                    </a:lnTo>
                    <a:lnTo>
                      <a:pt x="707" y="806"/>
                    </a:lnTo>
                    <a:lnTo>
                      <a:pt x="674" y="849"/>
                    </a:lnTo>
                    <a:lnTo>
                      <a:pt x="618" y="903"/>
                    </a:lnTo>
                    <a:lnTo>
                      <a:pt x="535" y="942"/>
                    </a:lnTo>
                    <a:lnTo>
                      <a:pt x="472" y="954"/>
                    </a:lnTo>
                    <a:lnTo>
                      <a:pt x="382" y="935"/>
                    </a:lnTo>
                    <a:lnTo>
                      <a:pt x="300" y="892"/>
                    </a:lnTo>
                    <a:lnTo>
                      <a:pt x="214" y="828"/>
                    </a:lnTo>
                    <a:lnTo>
                      <a:pt x="154" y="753"/>
                    </a:lnTo>
                    <a:lnTo>
                      <a:pt x="98" y="656"/>
                    </a:lnTo>
                    <a:lnTo>
                      <a:pt x="53" y="545"/>
                    </a:lnTo>
                    <a:lnTo>
                      <a:pt x="23" y="448"/>
                    </a:lnTo>
                    <a:lnTo>
                      <a:pt x="9" y="355"/>
                    </a:lnTo>
                    <a:lnTo>
                      <a:pt x="0" y="226"/>
                    </a:lnTo>
                    <a:lnTo>
                      <a:pt x="23" y="140"/>
                    </a:lnTo>
                    <a:lnTo>
                      <a:pt x="46"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7863840" y="1703520"/>
                <a:ext cx="306000" cy="212760"/>
              </a:xfrm>
              <a:custGeom>
                <a:avLst/>
                <a:gdLst/>
                <a:ahLst/>
                <a:rect l="l" t="t" r="r" b="b"/>
                <a:pathLst>
                  <a:path w="1243" h="865">
                    <a:moveTo>
                      <a:pt x="138" y="273"/>
                    </a:moveTo>
                    <a:lnTo>
                      <a:pt x="258" y="175"/>
                    </a:lnTo>
                    <a:lnTo>
                      <a:pt x="403" y="86"/>
                    </a:lnTo>
                    <a:lnTo>
                      <a:pt x="496" y="32"/>
                    </a:lnTo>
                    <a:lnTo>
                      <a:pt x="570" y="14"/>
                    </a:lnTo>
                    <a:lnTo>
                      <a:pt x="630" y="0"/>
                    </a:lnTo>
                    <a:lnTo>
                      <a:pt x="683" y="21"/>
                    </a:lnTo>
                    <a:lnTo>
                      <a:pt x="716" y="89"/>
                    </a:lnTo>
                    <a:lnTo>
                      <a:pt x="739" y="273"/>
                    </a:lnTo>
                    <a:lnTo>
                      <a:pt x="739" y="495"/>
                    </a:lnTo>
                    <a:lnTo>
                      <a:pt x="739" y="639"/>
                    </a:lnTo>
                    <a:lnTo>
                      <a:pt x="765" y="726"/>
                    </a:lnTo>
                    <a:lnTo>
                      <a:pt x="818" y="711"/>
                    </a:lnTo>
                    <a:lnTo>
                      <a:pt x="855" y="658"/>
                    </a:lnTo>
                    <a:lnTo>
                      <a:pt x="929" y="596"/>
                    </a:lnTo>
                    <a:lnTo>
                      <a:pt x="1045" y="560"/>
                    </a:lnTo>
                    <a:lnTo>
                      <a:pt x="1123" y="560"/>
                    </a:lnTo>
                    <a:lnTo>
                      <a:pt x="1243" y="581"/>
                    </a:lnTo>
                    <a:lnTo>
                      <a:pt x="1236" y="624"/>
                    </a:lnTo>
                    <a:lnTo>
                      <a:pt x="1209" y="661"/>
                    </a:lnTo>
                    <a:lnTo>
                      <a:pt x="1169" y="668"/>
                    </a:lnTo>
                    <a:lnTo>
                      <a:pt x="1123" y="646"/>
                    </a:lnTo>
                    <a:lnTo>
                      <a:pt x="1056" y="617"/>
                    </a:lnTo>
                    <a:lnTo>
                      <a:pt x="988" y="617"/>
                    </a:lnTo>
                    <a:lnTo>
                      <a:pt x="899" y="672"/>
                    </a:lnTo>
                    <a:lnTo>
                      <a:pt x="844" y="754"/>
                    </a:lnTo>
                    <a:lnTo>
                      <a:pt x="832" y="822"/>
                    </a:lnTo>
                    <a:lnTo>
                      <a:pt x="809" y="865"/>
                    </a:lnTo>
                    <a:lnTo>
                      <a:pt x="720" y="862"/>
                    </a:lnTo>
                    <a:lnTo>
                      <a:pt x="716" y="797"/>
                    </a:lnTo>
                    <a:lnTo>
                      <a:pt x="686" y="704"/>
                    </a:lnTo>
                    <a:lnTo>
                      <a:pt x="676" y="606"/>
                    </a:lnTo>
                    <a:lnTo>
                      <a:pt x="683" y="477"/>
                    </a:lnTo>
                    <a:lnTo>
                      <a:pt x="672" y="295"/>
                    </a:lnTo>
                    <a:lnTo>
                      <a:pt x="665" y="175"/>
                    </a:lnTo>
                    <a:lnTo>
                      <a:pt x="642" y="132"/>
                    </a:lnTo>
                    <a:lnTo>
                      <a:pt x="597" y="89"/>
                    </a:lnTo>
                    <a:lnTo>
                      <a:pt x="549" y="89"/>
                    </a:lnTo>
                    <a:lnTo>
                      <a:pt x="481" y="132"/>
                    </a:lnTo>
                    <a:lnTo>
                      <a:pt x="391" y="216"/>
                    </a:lnTo>
                    <a:lnTo>
                      <a:pt x="280" y="323"/>
                    </a:lnTo>
                    <a:lnTo>
                      <a:pt x="168" y="424"/>
                    </a:lnTo>
                    <a:lnTo>
                      <a:pt x="112" y="456"/>
                    </a:lnTo>
                    <a:lnTo>
                      <a:pt x="45" y="456"/>
                    </a:lnTo>
                    <a:lnTo>
                      <a:pt x="0" y="409"/>
                    </a:lnTo>
                    <a:lnTo>
                      <a:pt x="3" y="334"/>
                    </a:lnTo>
                    <a:lnTo>
                      <a:pt x="49" y="295"/>
                    </a:lnTo>
                    <a:lnTo>
                      <a:pt x="100" y="284"/>
                    </a:lnTo>
                    <a:lnTo>
                      <a:pt x="13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a:off x="7977240" y="1795680"/>
                <a:ext cx="208800" cy="222840"/>
              </a:xfrm>
              <a:custGeom>
                <a:avLst/>
                <a:gdLst/>
                <a:ahLst/>
                <a:rect l="l" t="t" r="r" b="b"/>
                <a:pathLst>
                  <a:path w="850" h="909">
                    <a:moveTo>
                      <a:pt x="0" y="76"/>
                    </a:moveTo>
                    <a:lnTo>
                      <a:pt x="26" y="19"/>
                    </a:lnTo>
                    <a:lnTo>
                      <a:pt x="82" y="0"/>
                    </a:lnTo>
                    <a:lnTo>
                      <a:pt x="160" y="8"/>
                    </a:lnTo>
                    <a:lnTo>
                      <a:pt x="179" y="62"/>
                    </a:lnTo>
                    <a:lnTo>
                      <a:pt x="149" y="271"/>
                    </a:lnTo>
                    <a:lnTo>
                      <a:pt x="145" y="430"/>
                    </a:lnTo>
                    <a:lnTo>
                      <a:pt x="138" y="519"/>
                    </a:lnTo>
                    <a:lnTo>
                      <a:pt x="138" y="537"/>
                    </a:lnTo>
                    <a:lnTo>
                      <a:pt x="156" y="624"/>
                    </a:lnTo>
                    <a:lnTo>
                      <a:pt x="205" y="639"/>
                    </a:lnTo>
                    <a:lnTo>
                      <a:pt x="268" y="624"/>
                    </a:lnTo>
                    <a:lnTo>
                      <a:pt x="362" y="574"/>
                    </a:lnTo>
                    <a:lnTo>
                      <a:pt x="462" y="549"/>
                    </a:lnTo>
                    <a:lnTo>
                      <a:pt x="574" y="530"/>
                    </a:lnTo>
                    <a:lnTo>
                      <a:pt x="697" y="516"/>
                    </a:lnTo>
                    <a:lnTo>
                      <a:pt x="787" y="516"/>
                    </a:lnTo>
                    <a:lnTo>
                      <a:pt x="827" y="527"/>
                    </a:lnTo>
                    <a:lnTo>
                      <a:pt x="850" y="553"/>
                    </a:lnTo>
                    <a:lnTo>
                      <a:pt x="839" y="592"/>
                    </a:lnTo>
                    <a:lnTo>
                      <a:pt x="783" y="624"/>
                    </a:lnTo>
                    <a:lnTo>
                      <a:pt x="731" y="671"/>
                    </a:lnTo>
                    <a:lnTo>
                      <a:pt x="682" y="737"/>
                    </a:lnTo>
                    <a:lnTo>
                      <a:pt x="652" y="790"/>
                    </a:lnTo>
                    <a:lnTo>
                      <a:pt x="627" y="844"/>
                    </a:lnTo>
                    <a:lnTo>
                      <a:pt x="608" y="909"/>
                    </a:lnTo>
                    <a:lnTo>
                      <a:pt x="581" y="909"/>
                    </a:lnTo>
                    <a:lnTo>
                      <a:pt x="559" y="884"/>
                    </a:lnTo>
                    <a:lnTo>
                      <a:pt x="551" y="812"/>
                    </a:lnTo>
                    <a:lnTo>
                      <a:pt x="604" y="747"/>
                    </a:lnTo>
                    <a:lnTo>
                      <a:pt x="674" y="671"/>
                    </a:lnTo>
                    <a:lnTo>
                      <a:pt x="741" y="614"/>
                    </a:lnTo>
                    <a:lnTo>
                      <a:pt x="771" y="596"/>
                    </a:lnTo>
                    <a:lnTo>
                      <a:pt x="783" y="571"/>
                    </a:lnTo>
                    <a:lnTo>
                      <a:pt x="753" y="553"/>
                    </a:lnTo>
                    <a:lnTo>
                      <a:pt x="652" y="553"/>
                    </a:lnTo>
                    <a:lnTo>
                      <a:pt x="525" y="574"/>
                    </a:lnTo>
                    <a:lnTo>
                      <a:pt x="425" y="607"/>
                    </a:lnTo>
                    <a:lnTo>
                      <a:pt x="316" y="667"/>
                    </a:lnTo>
                    <a:lnTo>
                      <a:pt x="223" y="710"/>
                    </a:lnTo>
                    <a:lnTo>
                      <a:pt x="123" y="714"/>
                    </a:lnTo>
                    <a:lnTo>
                      <a:pt x="82" y="700"/>
                    </a:lnTo>
                    <a:lnTo>
                      <a:pt x="60" y="646"/>
                    </a:lnTo>
                    <a:lnTo>
                      <a:pt x="44" y="571"/>
                    </a:lnTo>
                    <a:lnTo>
                      <a:pt x="37" y="430"/>
                    </a:lnTo>
                    <a:lnTo>
                      <a:pt x="22" y="180"/>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
            <p:cNvGrpSpPr/>
            <p:nvPr/>
          </p:nvGrpSpPr>
          <p:grpSpPr>
            <a:xfrm>
              <a:off x="7863840" y="1737360"/>
              <a:ext cx="163440" cy="331920"/>
              <a:chOff x="7863840" y="1737360"/>
              <a:chExt cx="163440" cy="331920"/>
            </a:xfrm>
          </p:grpSpPr>
          <p:sp>
            <p:nvSpPr>
              <p:cNvPr id="95" name=""/>
              <p:cNvSpPr/>
              <p:nvPr/>
            </p:nvSpPr>
            <p:spPr>
              <a:xfrm flipH="1">
                <a:off x="7863840" y="1922760"/>
                <a:ext cx="128880" cy="41040"/>
              </a:xfrm>
              <a:custGeom>
                <a:avLst/>
                <a:gdLst/>
                <a:ahLst/>
                <a:rect l="l" t="t" r="r" b="b"/>
                <a:pathLst>
                  <a:path w="405" h="129">
                    <a:moveTo>
                      <a:pt x="405" y="129"/>
                    </a:moveTo>
                    <a:lnTo>
                      <a:pt x="196" y="35"/>
                    </a:lnTo>
                    <a:lnTo>
                      <a:pt x="57" y="0"/>
                    </a:lnTo>
                    <a:lnTo>
                      <a:pt x="12" y="0"/>
                    </a:lnTo>
                    <a:lnTo>
                      <a:pt x="0" y="32"/>
                    </a:lnTo>
                    <a:lnTo>
                      <a:pt x="26" y="57"/>
                    </a:lnTo>
                    <a:lnTo>
                      <a:pt x="83" y="64"/>
                    </a:lnTo>
                    <a:lnTo>
                      <a:pt x="218" y="89"/>
                    </a:lnTo>
                    <a:lnTo>
                      <a:pt x="405" y="12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6" name=""/>
              <p:cNvSpPr/>
              <p:nvPr/>
            </p:nvSpPr>
            <p:spPr>
              <a:xfrm flipH="1">
                <a:off x="7990560" y="1959480"/>
                <a:ext cx="36720" cy="109800"/>
              </a:xfrm>
              <a:custGeom>
                <a:avLst/>
                <a:gdLst/>
                <a:ahLst/>
                <a:rect l="l" t="t" r="r" b="b"/>
                <a:pathLst>
                  <a:path w="116" h="348">
                    <a:moveTo>
                      <a:pt x="116" y="348"/>
                    </a:moveTo>
                    <a:lnTo>
                      <a:pt x="112" y="177"/>
                    </a:lnTo>
                    <a:lnTo>
                      <a:pt x="82" y="47"/>
                    </a:lnTo>
                    <a:lnTo>
                      <a:pt x="49" y="0"/>
                    </a:lnTo>
                    <a:lnTo>
                      <a:pt x="23" y="0"/>
                    </a:lnTo>
                    <a:lnTo>
                      <a:pt x="0" y="15"/>
                    </a:lnTo>
                    <a:lnTo>
                      <a:pt x="0" y="65"/>
                    </a:lnTo>
                    <a:lnTo>
                      <a:pt x="56" y="220"/>
                    </a:lnTo>
                    <a:lnTo>
                      <a:pt x="116" y="3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7893360" y="1737360"/>
                <a:ext cx="80640" cy="42480"/>
              </a:xfrm>
              <a:custGeom>
                <a:avLst/>
                <a:gdLst/>
                <a:ahLst/>
                <a:rect l="l" t="t" r="r" b="b"/>
                <a:pathLst>
                  <a:path w="254" h="132">
                    <a:moveTo>
                      <a:pt x="0" y="86"/>
                    </a:moveTo>
                    <a:lnTo>
                      <a:pt x="49" y="35"/>
                    </a:lnTo>
                    <a:lnTo>
                      <a:pt x="118" y="3"/>
                    </a:lnTo>
                    <a:lnTo>
                      <a:pt x="197" y="0"/>
                    </a:lnTo>
                    <a:lnTo>
                      <a:pt x="254" y="10"/>
                    </a:lnTo>
                    <a:lnTo>
                      <a:pt x="164" y="21"/>
                    </a:lnTo>
                    <a:lnTo>
                      <a:pt x="129" y="43"/>
                    </a:lnTo>
                    <a:lnTo>
                      <a:pt x="96" y="75"/>
                    </a:lnTo>
                    <a:lnTo>
                      <a:pt x="80" y="111"/>
                    </a:lnTo>
                    <a:lnTo>
                      <a:pt x="49" y="132"/>
                    </a:lnTo>
                    <a:lnTo>
                      <a:pt x="12" y="129"/>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graphicFrame>
          <p:nvGraphicFramePr>
            <p:cNvPr id="98" name=""/>
            <p:cNvGraphicFramePr/>
            <p:nvPr/>
          </p:nvGraphicFramePr>
          <p:xfrm>
            <a:off x="2743200" y="5303520"/>
            <a:ext cx="319320" cy="667440"/>
          </p:xfrm>
          <a:graphic>
            <a:graphicData uri="http://schemas.openxmlformats.org/presentationml/2006/ole">
              <p:oleObj r:id="rId5" spid="">
                <p:embed/>
                <p:pic>
                  <p:nvPicPr>
                    <p:cNvPr id="99" name="" descr=""/>
                    <p:cNvPicPr/>
                    <p:nvPr/>
                  </p:nvPicPr>
                  <p:blipFill>
                    <a:blip r:embed="rId6"/>
                    <a:stretch/>
                  </p:blipFill>
                  <p:spPr>
                    <a:xfrm>
                      <a:off x="2743200" y="5303520"/>
                      <a:ext cx="319320" cy="667440"/>
                    </a:xfrm>
                    <a:prstGeom prst="rect">
                      <a:avLst/>
                    </a:prstGeom>
                    <a:ln w="0">
                      <a:noFill/>
                    </a:ln>
                  </p:spPr>
                </p:pic>
              </p:oleObj>
            </a:graphicData>
          </a:graphic>
        </p:graphicFrame>
        <p:grpSp>
          <p:nvGrpSpPr>
            <p:cNvPr id="100" name=""/>
            <p:cNvGrpSpPr/>
            <p:nvPr/>
          </p:nvGrpSpPr>
          <p:grpSpPr>
            <a:xfrm>
              <a:off x="4394520" y="3468960"/>
              <a:ext cx="513000" cy="651240"/>
              <a:chOff x="4394520" y="3468960"/>
              <a:chExt cx="513000" cy="651240"/>
            </a:xfrm>
          </p:grpSpPr>
          <p:sp>
            <p:nvSpPr>
              <p:cNvPr id="101" name=""/>
              <p:cNvSpPr/>
              <p:nvPr/>
            </p:nvSpPr>
            <p:spPr>
              <a:xfrm rot="18580200">
                <a:off x="4420800" y="3497760"/>
                <a:ext cx="137880" cy="133560"/>
              </a:xfrm>
              <a:custGeom>
                <a:avLst/>
                <a:gdLst/>
                <a:ahLst/>
                <a:rect l="l" t="t" r="r" b="b"/>
                <a:pathLst>
                  <a:path w="841" h="813">
                    <a:moveTo>
                      <a:pt x="559" y="554"/>
                    </a:moveTo>
                    <a:lnTo>
                      <a:pt x="626" y="401"/>
                    </a:lnTo>
                    <a:lnTo>
                      <a:pt x="660" y="254"/>
                    </a:lnTo>
                    <a:lnTo>
                      <a:pt x="626" y="136"/>
                    </a:lnTo>
                    <a:lnTo>
                      <a:pt x="519" y="34"/>
                    </a:lnTo>
                    <a:lnTo>
                      <a:pt x="389" y="0"/>
                    </a:lnTo>
                    <a:lnTo>
                      <a:pt x="214" y="68"/>
                    </a:lnTo>
                    <a:lnTo>
                      <a:pt x="102" y="204"/>
                    </a:lnTo>
                    <a:lnTo>
                      <a:pt x="34" y="374"/>
                    </a:lnTo>
                    <a:lnTo>
                      <a:pt x="11" y="492"/>
                    </a:lnTo>
                    <a:lnTo>
                      <a:pt x="0" y="627"/>
                    </a:lnTo>
                    <a:lnTo>
                      <a:pt x="11" y="723"/>
                    </a:lnTo>
                    <a:lnTo>
                      <a:pt x="50" y="796"/>
                    </a:lnTo>
                    <a:lnTo>
                      <a:pt x="152" y="813"/>
                    </a:lnTo>
                    <a:lnTo>
                      <a:pt x="270" y="796"/>
                    </a:lnTo>
                    <a:lnTo>
                      <a:pt x="384" y="730"/>
                    </a:lnTo>
                    <a:lnTo>
                      <a:pt x="485" y="678"/>
                    </a:lnTo>
                    <a:lnTo>
                      <a:pt x="524" y="639"/>
                    </a:lnTo>
                    <a:lnTo>
                      <a:pt x="779" y="695"/>
                    </a:lnTo>
                    <a:lnTo>
                      <a:pt x="841" y="689"/>
                    </a:lnTo>
                    <a:lnTo>
                      <a:pt x="841" y="627"/>
                    </a:lnTo>
                    <a:lnTo>
                      <a:pt x="559" y="5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rot="18580200">
                <a:off x="4518360" y="3660840"/>
                <a:ext cx="149400" cy="261360"/>
              </a:xfrm>
              <a:custGeom>
                <a:avLst/>
                <a:gdLst/>
                <a:ahLst/>
                <a:rect l="l" t="t" r="r" b="b"/>
                <a:pathLst>
                  <a:path w="909" h="1592">
                    <a:moveTo>
                      <a:pt x="305" y="237"/>
                    </a:moveTo>
                    <a:lnTo>
                      <a:pt x="419" y="119"/>
                    </a:lnTo>
                    <a:lnTo>
                      <a:pt x="605" y="6"/>
                    </a:lnTo>
                    <a:lnTo>
                      <a:pt x="690" y="0"/>
                    </a:lnTo>
                    <a:lnTo>
                      <a:pt x="841" y="50"/>
                    </a:lnTo>
                    <a:lnTo>
                      <a:pt x="909" y="124"/>
                    </a:lnTo>
                    <a:lnTo>
                      <a:pt x="909" y="237"/>
                    </a:lnTo>
                    <a:lnTo>
                      <a:pt x="797" y="445"/>
                    </a:lnTo>
                    <a:lnTo>
                      <a:pt x="672" y="609"/>
                    </a:lnTo>
                    <a:lnTo>
                      <a:pt x="621" y="744"/>
                    </a:lnTo>
                    <a:lnTo>
                      <a:pt x="587" y="903"/>
                    </a:lnTo>
                    <a:lnTo>
                      <a:pt x="621" y="1056"/>
                    </a:lnTo>
                    <a:lnTo>
                      <a:pt x="655" y="1202"/>
                    </a:lnTo>
                    <a:lnTo>
                      <a:pt x="655" y="1371"/>
                    </a:lnTo>
                    <a:lnTo>
                      <a:pt x="605" y="1473"/>
                    </a:lnTo>
                    <a:lnTo>
                      <a:pt x="491" y="1530"/>
                    </a:lnTo>
                    <a:lnTo>
                      <a:pt x="356" y="1592"/>
                    </a:lnTo>
                    <a:lnTo>
                      <a:pt x="232" y="1592"/>
                    </a:lnTo>
                    <a:lnTo>
                      <a:pt x="147" y="1546"/>
                    </a:lnTo>
                    <a:lnTo>
                      <a:pt x="33" y="1360"/>
                    </a:lnTo>
                    <a:lnTo>
                      <a:pt x="0" y="1168"/>
                    </a:lnTo>
                    <a:lnTo>
                      <a:pt x="11" y="919"/>
                    </a:lnTo>
                    <a:lnTo>
                      <a:pt x="96" y="609"/>
                    </a:lnTo>
                    <a:lnTo>
                      <a:pt x="181" y="406"/>
                    </a:lnTo>
                    <a:lnTo>
                      <a:pt x="305" y="2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rot="18580200">
                <a:off x="4436280" y="3689280"/>
                <a:ext cx="141840" cy="164880"/>
              </a:xfrm>
              <a:custGeom>
                <a:avLst/>
                <a:gdLst/>
                <a:ahLst/>
                <a:rect l="l" t="t" r="r" b="b"/>
                <a:pathLst>
                  <a:path w="864" h="1005">
                    <a:moveTo>
                      <a:pt x="451" y="89"/>
                    </a:moveTo>
                    <a:lnTo>
                      <a:pt x="654" y="152"/>
                    </a:lnTo>
                    <a:lnTo>
                      <a:pt x="823" y="186"/>
                    </a:lnTo>
                    <a:lnTo>
                      <a:pt x="864" y="242"/>
                    </a:lnTo>
                    <a:lnTo>
                      <a:pt x="846" y="310"/>
                    </a:lnTo>
                    <a:lnTo>
                      <a:pt x="739" y="360"/>
                    </a:lnTo>
                    <a:lnTo>
                      <a:pt x="643" y="343"/>
                    </a:lnTo>
                    <a:lnTo>
                      <a:pt x="418" y="236"/>
                    </a:lnTo>
                    <a:lnTo>
                      <a:pt x="316" y="124"/>
                    </a:lnTo>
                    <a:lnTo>
                      <a:pt x="220" y="102"/>
                    </a:lnTo>
                    <a:lnTo>
                      <a:pt x="152" y="192"/>
                    </a:lnTo>
                    <a:lnTo>
                      <a:pt x="119" y="412"/>
                    </a:lnTo>
                    <a:lnTo>
                      <a:pt x="119" y="439"/>
                    </a:lnTo>
                    <a:lnTo>
                      <a:pt x="119" y="626"/>
                    </a:lnTo>
                    <a:lnTo>
                      <a:pt x="152" y="711"/>
                    </a:lnTo>
                    <a:lnTo>
                      <a:pt x="248" y="784"/>
                    </a:lnTo>
                    <a:lnTo>
                      <a:pt x="237" y="902"/>
                    </a:lnTo>
                    <a:lnTo>
                      <a:pt x="163" y="987"/>
                    </a:lnTo>
                    <a:lnTo>
                      <a:pt x="51" y="1005"/>
                    </a:lnTo>
                    <a:lnTo>
                      <a:pt x="17" y="937"/>
                    </a:lnTo>
                    <a:lnTo>
                      <a:pt x="0" y="727"/>
                    </a:lnTo>
                    <a:lnTo>
                      <a:pt x="34" y="378"/>
                    </a:lnTo>
                    <a:lnTo>
                      <a:pt x="84" y="89"/>
                    </a:lnTo>
                    <a:lnTo>
                      <a:pt x="135" y="22"/>
                    </a:lnTo>
                    <a:lnTo>
                      <a:pt x="203" y="0"/>
                    </a:lnTo>
                    <a:lnTo>
                      <a:pt x="270" y="0"/>
                    </a:lnTo>
                    <a:lnTo>
                      <a:pt x="384" y="56"/>
                    </a:lnTo>
                    <a:lnTo>
                      <a:pt x="451"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18580200">
                <a:off x="4542480" y="3605040"/>
                <a:ext cx="190080" cy="129240"/>
              </a:xfrm>
              <a:custGeom>
                <a:avLst/>
                <a:gdLst/>
                <a:ahLst/>
                <a:rect l="l" t="t" r="r" b="b"/>
                <a:pathLst>
                  <a:path w="1158" h="786">
                    <a:moveTo>
                      <a:pt x="0" y="168"/>
                    </a:moveTo>
                    <a:lnTo>
                      <a:pt x="0" y="50"/>
                    </a:lnTo>
                    <a:lnTo>
                      <a:pt x="73" y="0"/>
                    </a:lnTo>
                    <a:lnTo>
                      <a:pt x="152" y="6"/>
                    </a:lnTo>
                    <a:lnTo>
                      <a:pt x="203" y="124"/>
                    </a:lnTo>
                    <a:lnTo>
                      <a:pt x="220" y="293"/>
                    </a:lnTo>
                    <a:lnTo>
                      <a:pt x="294" y="496"/>
                    </a:lnTo>
                    <a:lnTo>
                      <a:pt x="379" y="644"/>
                    </a:lnTo>
                    <a:lnTo>
                      <a:pt x="474" y="694"/>
                    </a:lnTo>
                    <a:lnTo>
                      <a:pt x="565" y="677"/>
                    </a:lnTo>
                    <a:lnTo>
                      <a:pt x="661" y="598"/>
                    </a:lnTo>
                    <a:lnTo>
                      <a:pt x="836" y="446"/>
                    </a:lnTo>
                    <a:lnTo>
                      <a:pt x="932" y="310"/>
                    </a:lnTo>
                    <a:lnTo>
                      <a:pt x="932" y="236"/>
                    </a:lnTo>
                    <a:lnTo>
                      <a:pt x="904" y="175"/>
                    </a:lnTo>
                    <a:lnTo>
                      <a:pt x="965" y="67"/>
                    </a:lnTo>
                    <a:lnTo>
                      <a:pt x="1056" y="17"/>
                    </a:lnTo>
                    <a:lnTo>
                      <a:pt x="1135" y="56"/>
                    </a:lnTo>
                    <a:lnTo>
                      <a:pt x="1158" y="135"/>
                    </a:lnTo>
                    <a:lnTo>
                      <a:pt x="1090" y="310"/>
                    </a:lnTo>
                    <a:lnTo>
                      <a:pt x="864" y="564"/>
                    </a:lnTo>
                    <a:lnTo>
                      <a:pt x="609" y="762"/>
                    </a:lnTo>
                    <a:lnTo>
                      <a:pt x="458" y="786"/>
                    </a:lnTo>
                    <a:lnTo>
                      <a:pt x="327" y="751"/>
                    </a:lnTo>
                    <a:lnTo>
                      <a:pt x="220" y="598"/>
                    </a:lnTo>
                    <a:lnTo>
                      <a:pt x="119" y="412"/>
                    </a:lnTo>
                    <a:lnTo>
                      <a:pt x="39" y="277"/>
                    </a:lnTo>
                    <a:lnTo>
                      <a:pt x="0"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18580200">
                <a:off x="4677480" y="3755160"/>
                <a:ext cx="188640" cy="195120"/>
              </a:xfrm>
              <a:custGeom>
                <a:avLst/>
                <a:gdLst/>
                <a:ahLst/>
                <a:rect l="l" t="t" r="r" b="b"/>
                <a:pathLst>
                  <a:path w="1147" h="1186">
                    <a:moveTo>
                      <a:pt x="0" y="112"/>
                    </a:moveTo>
                    <a:lnTo>
                      <a:pt x="96" y="0"/>
                    </a:lnTo>
                    <a:lnTo>
                      <a:pt x="236" y="0"/>
                    </a:lnTo>
                    <a:lnTo>
                      <a:pt x="502" y="27"/>
                    </a:lnTo>
                    <a:lnTo>
                      <a:pt x="813" y="44"/>
                    </a:lnTo>
                    <a:lnTo>
                      <a:pt x="931" y="96"/>
                    </a:lnTo>
                    <a:lnTo>
                      <a:pt x="983" y="162"/>
                    </a:lnTo>
                    <a:lnTo>
                      <a:pt x="994" y="264"/>
                    </a:lnTo>
                    <a:lnTo>
                      <a:pt x="959" y="372"/>
                    </a:lnTo>
                    <a:lnTo>
                      <a:pt x="863" y="535"/>
                    </a:lnTo>
                    <a:lnTo>
                      <a:pt x="739" y="671"/>
                    </a:lnTo>
                    <a:lnTo>
                      <a:pt x="643" y="795"/>
                    </a:lnTo>
                    <a:lnTo>
                      <a:pt x="603" y="891"/>
                    </a:lnTo>
                    <a:lnTo>
                      <a:pt x="575" y="959"/>
                    </a:lnTo>
                    <a:lnTo>
                      <a:pt x="586" y="1010"/>
                    </a:lnTo>
                    <a:lnTo>
                      <a:pt x="592" y="1044"/>
                    </a:lnTo>
                    <a:lnTo>
                      <a:pt x="706" y="1044"/>
                    </a:lnTo>
                    <a:lnTo>
                      <a:pt x="881" y="1016"/>
                    </a:lnTo>
                    <a:lnTo>
                      <a:pt x="994" y="1016"/>
                    </a:lnTo>
                    <a:lnTo>
                      <a:pt x="1112" y="1060"/>
                    </a:lnTo>
                    <a:lnTo>
                      <a:pt x="1147" y="1117"/>
                    </a:lnTo>
                    <a:lnTo>
                      <a:pt x="1112" y="1168"/>
                    </a:lnTo>
                    <a:lnTo>
                      <a:pt x="1062" y="1186"/>
                    </a:lnTo>
                    <a:lnTo>
                      <a:pt x="983" y="1162"/>
                    </a:lnTo>
                    <a:lnTo>
                      <a:pt x="874" y="1101"/>
                    </a:lnTo>
                    <a:lnTo>
                      <a:pt x="762" y="1112"/>
                    </a:lnTo>
                    <a:lnTo>
                      <a:pt x="575" y="1145"/>
                    </a:lnTo>
                    <a:lnTo>
                      <a:pt x="518" y="1134"/>
                    </a:lnTo>
                    <a:lnTo>
                      <a:pt x="491" y="1095"/>
                    </a:lnTo>
                    <a:lnTo>
                      <a:pt x="491" y="998"/>
                    </a:lnTo>
                    <a:lnTo>
                      <a:pt x="491" y="863"/>
                    </a:lnTo>
                    <a:lnTo>
                      <a:pt x="570" y="762"/>
                    </a:lnTo>
                    <a:lnTo>
                      <a:pt x="688" y="609"/>
                    </a:lnTo>
                    <a:lnTo>
                      <a:pt x="789" y="474"/>
                    </a:lnTo>
                    <a:lnTo>
                      <a:pt x="858" y="372"/>
                    </a:lnTo>
                    <a:lnTo>
                      <a:pt x="892" y="282"/>
                    </a:lnTo>
                    <a:lnTo>
                      <a:pt x="874" y="230"/>
                    </a:lnTo>
                    <a:lnTo>
                      <a:pt x="830" y="168"/>
                    </a:lnTo>
                    <a:lnTo>
                      <a:pt x="762" y="151"/>
                    </a:lnTo>
                    <a:lnTo>
                      <a:pt x="688" y="151"/>
                    </a:lnTo>
                    <a:lnTo>
                      <a:pt x="524" y="151"/>
                    </a:lnTo>
                    <a:lnTo>
                      <a:pt x="282" y="197"/>
                    </a:lnTo>
                    <a:lnTo>
                      <a:pt x="101" y="214"/>
                    </a:lnTo>
                    <a:lnTo>
                      <a:pt x="28" y="197"/>
                    </a:lnTo>
                    <a:lnTo>
                      <a:pt x="0" y="168"/>
                    </a:lnTo>
                    <a:lnTo>
                      <a:pt x="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rot="18580200">
                <a:off x="4502520" y="3875760"/>
                <a:ext cx="239400" cy="185400"/>
              </a:xfrm>
              <a:custGeom>
                <a:avLst/>
                <a:gdLst/>
                <a:ahLst/>
                <a:rect l="l" t="t" r="r" b="b"/>
                <a:pathLst>
                  <a:path w="1457" h="1130">
                    <a:moveTo>
                      <a:pt x="1186" y="468"/>
                    </a:moveTo>
                    <a:lnTo>
                      <a:pt x="1208" y="321"/>
                    </a:lnTo>
                    <a:lnTo>
                      <a:pt x="1293" y="265"/>
                    </a:lnTo>
                    <a:lnTo>
                      <a:pt x="1394" y="253"/>
                    </a:lnTo>
                    <a:lnTo>
                      <a:pt x="1457" y="321"/>
                    </a:lnTo>
                    <a:lnTo>
                      <a:pt x="1429" y="451"/>
                    </a:lnTo>
                    <a:lnTo>
                      <a:pt x="1372" y="627"/>
                    </a:lnTo>
                    <a:lnTo>
                      <a:pt x="1259" y="824"/>
                    </a:lnTo>
                    <a:lnTo>
                      <a:pt x="1118" y="994"/>
                    </a:lnTo>
                    <a:lnTo>
                      <a:pt x="999" y="1084"/>
                    </a:lnTo>
                    <a:lnTo>
                      <a:pt x="870" y="1130"/>
                    </a:lnTo>
                    <a:lnTo>
                      <a:pt x="745" y="1112"/>
                    </a:lnTo>
                    <a:lnTo>
                      <a:pt x="649" y="1062"/>
                    </a:lnTo>
                    <a:lnTo>
                      <a:pt x="616" y="977"/>
                    </a:lnTo>
                    <a:lnTo>
                      <a:pt x="575" y="830"/>
                    </a:lnTo>
                    <a:lnTo>
                      <a:pt x="531" y="559"/>
                    </a:lnTo>
                    <a:lnTo>
                      <a:pt x="496" y="372"/>
                    </a:lnTo>
                    <a:lnTo>
                      <a:pt x="496" y="151"/>
                    </a:lnTo>
                    <a:lnTo>
                      <a:pt x="474" y="112"/>
                    </a:lnTo>
                    <a:lnTo>
                      <a:pt x="406" y="101"/>
                    </a:lnTo>
                    <a:lnTo>
                      <a:pt x="328" y="162"/>
                    </a:lnTo>
                    <a:lnTo>
                      <a:pt x="254" y="265"/>
                    </a:lnTo>
                    <a:lnTo>
                      <a:pt x="170" y="321"/>
                    </a:lnTo>
                    <a:lnTo>
                      <a:pt x="39" y="321"/>
                    </a:lnTo>
                    <a:lnTo>
                      <a:pt x="0" y="287"/>
                    </a:lnTo>
                    <a:lnTo>
                      <a:pt x="0" y="230"/>
                    </a:lnTo>
                    <a:lnTo>
                      <a:pt x="57" y="180"/>
                    </a:lnTo>
                    <a:lnTo>
                      <a:pt x="118" y="197"/>
                    </a:lnTo>
                    <a:lnTo>
                      <a:pt x="175" y="186"/>
                    </a:lnTo>
                    <a:lnTo>
                      <a:pt x="277" y="112"/>
                    </a:lnTo>
                    <a:lnTo>
                      <a:pt x="378" y="33"/>
                    </a:lnTo>
                    <a:lnTo>
                      <a:pt x="474" y="11"/>
                    </a:lnTo>
                    <a:lnTo>
                      <a:pt x="610" y="0"/>
                    </a:lnTo>
                    <a:lnTo>
                      <a:pt x="616" y="61"/>
                    </a:lnTo>
                    <a:lnTo>
                      <a:pt x="581" y="129"/>
                    </a:lnTo>
                    <a:lnTo>
                      <a:pt x="575" y="304"/>
                    </a:lnTo>
                    <a:lnTo>
                      <a:pt x="616" y="536"/>
                    </a:lnTo>
                    <a:lnTo>
                      <a:pt x="677" y="762"/>
                    </a:lnTo>
                    <a:lnTo>
                      <a:pt x="734" y="898"/>
                    </a:lnTo>
                    <a:lnTo>
                      <a:pt x="819" y="960"/>
                    </a:lnTo>
                    <a:lnTo>
                      <a:pt x="904" y="960"/>
                    </a:lnTo>
                    <a:lnTo>
                      <a:pt x="988" y="898"/>
                    </a:lnTo>
                    <a:lnTo>
                      <a:pt x="1101" y="756"/>
                    </a:lnTo>
                    <a:lnTo>
                      <a:pt x="1175" y="553"/>
                    </a:lnTo>
                    <a:lnTo>
                      <a:pt x="1186" y="4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 name=""/>
            <p:cNvGrpSpPr/>
            <p:nvPr/>
          </p:nvGrpSpPr>
          <p:grpSpPr>
            <a:xfrm>
              <a:off x="6492240" y="3429720"/>
              <a:ext cx="344160" cy="685080"/>
              <a:chOff x="6492240" y="3429720"/>
              <a:chExt cx="344160" cy="685080"/>
            </a:xfrm>
          </p:grpSpPr>
          <p:sp>
            <p:nvSpPr>
              <p:cNvPr id="108" name=""/>
              <p:cNvSpPr/>
              <p:nvPr/>
            </p:nvSpPr>
            <p:spPr>
              <a:xfrm flipH="1">
                <a:off x="6592320" y="3467880"/>
                <a:ext cx="134640" cy="149400"/>
              </a:xfrm>
              <a:custGeom>
                <a:avLst/>
                <a:gdLst/>
                <a:ahLst/>
                <a:rect l="l" t="t" r="r" b="b"/>
                <a:pathLst>
                  <a:path w="1143" h="1268">
                    <a:moveTo>
                      <a:pt x="595" y="293"/>
                    </a:moveTo>
                    <a:lnTo>
                      <a:pt x="495" y="163"/>
                    </a:lnTo>
                    <a:lnTo>
                      <a:pt x="355" y="65"/>
                    </a:lnTo>
                    <a:lnTo>
                      <a:pt x="230" y="0"/>
                    </a:lnTo>
                    <a:lnTo>
                      <a:pt x="130" y="18"/>
                    </a:lnTo>
                    <a:lnTo>
                      <a:pt x="58" y="90"/>
                    </a:lnTo>
                    <a:lnTo>
                      <a:pt x="0" y="310"/>
                    </a:lnTo>
                    <a:lnTo>
                      <a:pt x="23" y="563"/>
                    </a:lnTo>
                    <a:lnTo>
                      <a:pt x="83" y="805"/>
                    </a:lnTo>
                    <a:lnTo>
                      <a:pt x="148" y="993"/>
                    </a:lnTo>
                    <a:lnTo>
                      <a:pt x="273" y="1188"/>
                    </a:lnTo>
                    <a:lnTo>
                      <a:pt x="380" y="1268"/>
                    </a:lnTo>
                    <a:lnTo>
                      <a:pt x="528" y="1268"/>
                    </a:lnTo>
                    <a:lnTo>
                      <a:pt x="678" y="1213"/>
                    </a:lnTo>
                    <a:lnTo>
                      <a:pt x="753" y="1073"/>
                    </a:lnTo>
                    <a:lnTo>
                      <a:pt x="793" y="895"/>
                    </a:lnTo>
                    <a:lnTo>
                      <a:pt x="778" y="675"/>
                    </a:lnTo>
                    <a:lnTo>
                      <a:pt x="1125" y="700"/>
                    </a:lnTo>
                    <a:lnTo>
                      <a:pt x="1143" y="603"/>
                    </a:lnTo>
                    <a:lnTo>
                      <a:pt x="745" y="563"/>
                    </a:lnTo>
                    <a:lnTo>
                      <a:pt x="645" y="335"/>
                    </a:lnTo>
                    <a:lnTo>
                      <a:pt x="595"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6680880" y="3429720"/>
                <a:ext cx="155160" cy="239760"/>
              </a:xfrm>
              <a:custGeom>
                <a:avLst/>
                <a:gdLst/>
                <a:ahLst/>
                <a:rect l="l" t="t" r="r" b="b"/>
                <a:pathLst>
                  <a:path w="1315" h="2033">
                    <a:moveTo>
                      <a:pt x="768" y="48"/>
                    </a:moveTo>
                    <a:lnTo>
                      <a:pt x="933" y="0"/>
                    </a:lnTo>
                    <a:lnTo>
                      <a:pt x="1065" y="8"/>
                    </a:lnTo>
                    <a:lnTo>
                      <a:pt x="1165" y="80"/>
                    </a:lnTo>
                    <a:lnTo>
                      <a:pt x="1233" y="195"/>
                    </a:lnTo>
                    <a:lnTo>
                      <a:pt x="1208" y="315"/>
                    </a:lnTo>
                    <a:lnTo>
                      <a:pt x="1115" y="315"/>
                    </a:lnTo>
                    <a:lnTo>
                      <a:pt x="1140" y="218"/>
                    </a:lnTo>
                    <a:lnTo>
                      <a:pt x="1065" y="130"/>
                    </a:lnTo>
                    <a:lnTo>
                      <a:pt x="993" y="98"/>
                    </a:lnTo>
                    <a:lnTo>
                      <a:pt x="868" y="130"/>
                    </a:lnTo>
                    <a:lnTo>
                      <a:pt x="918" y="228"/>
                    </a:lnTo>
                    <a:lnTo>
                      <a:pt x="933" y="315"/>
                    </a:lnTo>
                    <a:lnTo>
                      <a:pt x="918" y="390"/>
                    </a:lnTo>
                    <a:lnTo>
                      <a:pt x="793" y="423"/>
                    </a:lnTo>
                    <a:lnTo>
                      <a:pt x="660" y="398"/>
                    </a:lnTo>
                    <a:lnTo>
                      <a:pt x="635" y="340"/>
                    </a:lnTo>
                    <a:lnTo>
                      <a:pt x="495" y="495"/>
                    </a:lnTo>
                    <a:lnTo>
                      <a:pt x="413" y="665"/>
                    </a:lnTo>
                    <a:lnTo>
                      <a:pt x="298" y="885"/>
                    </a:lnTo>
                    <a:lnTo>
                      <a:pt x="223" y="1080"/>
                    </a:lnTo>
                    <a:lnTo>
                      <a:pt x="190" y="1268"/>
                    </a:lnTo>
                    <a:lnTo>
                      <a:pt x="215" y="1365"/>
                    </a:lnTo>
                    <a:lnTo>
                      <a:pt x="348" y="1488"/>
                    </a:lnTo>
                    <a:lnTo>
                      <a:pt x="620" y="1593"/>
                    </a:lnTo>
                    <a:lnTo>
                      <a:pt x="768" y="1640"/>
                    </a:lnTo>
                    <a:lnTo>
                      <a:pt x="918" y="1665"/>
                    </a:lnTo>
                    <a:lnTo>
                      <a:pt x="1140" y="1755"/>
                    </a:lnTo>
                    <a:lnTo>
                      <a:pt x="1305" y="1813"/>
                    </a:lnTo>
                    <a:lnTo>
                      <a:pt x="1315" y="1925"/>
                    </a:lnTo>
                    <a:lnTo>
                      <a:pt x="1233" y="2008"/>
                    </a:lnTo>
                    <a:lnTo>
                      <a:pt x="1133" y="2033"/>
                    </a:lnTo>
                    <a:lnTo>
                      <a:pt x="983" y="1958"/>
                    </a:lnTo>
                    <a:lnTo>
                      <a:pt x="635" y="1780"/>
                    </a:lnTo>
                    <a:lnTo>
                      <a:pt x="348" y="1658"/>
                    </a:lnTo>
                    <a:lnTo>
                      <a:pt x="148" y="1520"/>
                    </a:lnTo>
                    <a:lnTo>
                      <a:pt x="15" y="1398"/>
                    </a:lnTo>
                    <a:lnTo>
                      <a:pt x="0" y="1250"/>
                    </a:lnTo>
                    <a:lnTo>
                      <a:pt x="73" y="1055"/>
                    </a:lnTo>
                    <a:lnTo>
                      <a:pt x="223" y="763"/>
                    </a:lnTo>
                    <a:lnTo>
                      <a:pt x="363" y="520"/>
                    </a:lnTo>
                    <a:lnTo>
                      <a:pt x="538" y="268"/>
                    </a:lnTo>
                    <a:lnTo>
                      <a:pt x="670" y="120"/>
                    </a:lnTo>
                    <a:lnTo>
                      <a:pt x="835" y="48"/>
                    </a:lnTo>
                    <a:lnTo>
                      <a:pt x="768"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6608880" y="3628440"/>
                <a:ext cx="81000" cy="225000"/>
              </a:xfrm>
              <a:custGeom>
                <a:avLst/>
                <a:gdLst/>
                <a:ahLst/>
                <a:rect l="l" t="t" r="r" b="b"/>
                <a:pathLst>
                  <a:path w="688" h="1908">
                    <a:moveTo>
                      <a:pt x="43" y="148"/>
                    </a:moveTo>
                    <a:lnTo>
                      <a:pt x="68" y="50"/>
                    </a:lnTo>
                    <a:lnTo>
                      <a:pt x="175" y="0"/>
                    </a:lnTo>
                    <a:lnTo>
                      <a:pt x="273" y="0"/>
                    </a:lnTo>
                    <a:lnTo>
                      <a:pt x="398" y="73"/>
                    </a:lnTo>
                    <a:lnTo>
                      <a:pt x="515" y="245"/>
                    </a:lnTo>
                    <a:lnTo>
                      <a:pt x="598" y="423"/>
                    </a:lnTo>
                    <a:lnTo>
                      <a:pt x="638" y="665"/>
                    </a:lnTo>
                    <a:lnTo>
                      <a:pt x="673" y="950"/>
                    </a:lnTo>
                    <a:lnTo>
                      <a:pt x="688" y="1225"/>
                    </a:lnTo>
                    <a:lnTo>
                      <a:pt x="688" y="1583"/>
                    </a:lnTo>
                    <a:lnTo>
                      <a:pt x="638" y="1803"/>
                    </a:lnTo>
                    <a:lnTo>
                      <a:pt x="548" y="1883"/>
                    </a:lnTo>
                    <a:lnTo>
                      <a:pt x="390" y="1908"/>
                    </a:lnTo>
                    <a:lnTo>
                      <a:pt x="225" y="1900"/>
                    </a:lnTo>
                    <a:lnTo>
                      <a:pt x="140" y="1803"/>
                    </a:lnTo>
                    <a:lnTo>
                      <a:pt x="93" y="1633"/>
                    </a:lnTo>
                    <a:lnTo>
                      <a:pt x="50" y="1463"/>
                    </a:lnTo>
                    <a:lnTo>
                      <a:pt x="18" y="1153"/>
                    </a:lnTo>
                    <a:lnTo>
                      <a:pt x="0" y="805"/>
                    </a:lnTo>
                    <a:lnTo>
                      <a:pt x="0" y="398"/>
                    </a:lnTo>
                    <a:lnTo>
                      <a:pt x="43" y="220"/>
                    </a:lnTo>
                    <a:lnTo>
                      <a:pt x="43"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6528960" y="3634920"/>
                <a:ext cx="123840" cy="172800"/>
              </a:xfrm>
              <a:custGeom>
                <a:avLst/>
                <a:gdLst/>
                <a:ahLst/>
                <a:rect l="l" t="t" r="r" b="b"/>
                <a:pathLst>
                  <a:path w="1050" h="1465">
                    <a:moveTo>
                      <a:pt x="57" y="0"/>
                    </a:moveTo>
                    <a:lnTo>
                      <a:pt x="272" y="25"/>
                    </a:lnTo>
                    <a:lnTo>
                      <a:pt x="495" y="65"/>
                    </a:lnTo>
                    <a:lnTo>
                      <a:pt x="727" y="195"/>
                    </a:lnTo>
                    <a:lnTo>
                      <a:pt x="892" y="292"/>
                    </a:lnTo>
                    <a:lnTo>
                      <a:pt x="1000" y="432"/>
                    </a:lnTo>
                    <a:lnTo>
                      <a:pt x="1050" y="512"/>
                    </a:lnTo>
                    <a:lnTo>
                      <a:pt x="950" y="750"/>
                    </a:lnTo>
                    <a:lnTo>
                      <a:pt x="792" y="895"/>
                    </a:lnTo>
                    <a:lnTo>
                      <a:pt x="602" y="1000"/>
                    </a:lnTo>
                    <a:lnTo>
                      <a:pt x="502" y="1065"/>
                    </a:lnTo>
                    <a:lnTo>
                      <a:pt x="330" y="1097"/>
                    </a:lnTo>
                    <a:lnTo>
                      <a:pt x="322" y="1162"/>
                    </a:lnTo>
                    <a:lnTo>
                      <a:pt x="455" y="1220"/>
                    </a:lnTo>
                    <a:lnTo>
                      <a:pt x="645" y="1270"/>
                    </a:lnTo>
                    <a:lnTo>
                      <a:pt x="825" y="1367"/>
                    </a:lnTo>
                    <a:lnTo>
                      <a:pt x="752" y="1440"/>
                    </a:lnTo>
                    <a:lnTo>
                      <a:pt x="677" y="1465"/>
                    </a:lnTo>
                    <a:lnTo>
                      <a:pt x="570" y="1357"/>
                    </a:lnTo>
                    <a:lnTo>
                      <a:pt x="405" y="1292"/>
                    </a:lnTo>
                    <a:lnTo>
                      <a:pt x="272" y="1245"/>
                    </a:lnTo>
                    <a:lnTo>
                      <a:pt x="272" y="1147"/>
                    </a:lnTo>
                    <a:lnTo>
                      <a:pt x="297" y="1042"/>
                    </a:lnTo>
                    <a:lnTo>
                      <a:pt x="380" y="1000"/>
                    </a:lnTo>
                    <a:lnTo>
                      <a:pt x="645" y="895"/>
                    </a:lnTo>
                    <a:lnTo>
                      <a:pt x="792" y="732"/>
                    </a:lnTo>
                    <a:lnTo>
                      <a:pt x="900" y="562"/>
                    </a:lnTo>
                    <a:lnTo>
                      <a:pt x="875" y="480"/>
                    </a:lnTo>
                    <a:lnTo>
                      <a:pt x="792" y="382"/>
                    </a:lnTo>
                    <a:lnTo>
                      <a:pt x="595" y="245"/>
                    </a:lnTo>
                    <a:lnTo>
                      <a:pt x="355" y="195"/>
                    </a:lnTo>
                    <a:lnTo>
                      <a:pt x="197" y="187"/>
                    </a:lnTo>
                    <a:lnTo>
                      <a:pt x="57" y="187"/>
                    </a:lnTo>
                    <a:lnTo>
                      <a:pt x="0" y="97"/>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6491880" y="3830760"/>
                <a:ext cx="150840" cy="279360"/>
              </a:xfrm>
              <a:custGeom>
                <a:avLst/>
                <a:gdLst/>
                <a:ahLst/>
                <a:rect l="l" t="t" r="r" b="b"/>
                <a:pathLst>
                  <a:path w="1278" h="2367">
                    <a:moveTo>
                      <a:pt x="148" y="0"/>
                    </a:moveTo>
                    <a:lnTo>
                      <a:pt x="33" y="0"/>
                    </a:lnTo>
                    <a:lnTo>
                      <a:pt x="0" y="170"/>
                    </a:lnTo>
                    <a:lnTo>
                      <a:pt x="83" y="270"/>
                    </a:lnTo>
                    <a:lnTo>
                      <a:pt x="348" y="505"/>
                    </a:lnTo>
                    <a:lnTo>
                      <a:pt x="580" y="805"/>
                    </a:lnTo>
                    <a:lnTo>
                      <a:pt x="730" y="1115"/>
                    </a:lnTo>
                    <a:lnTo>
                      <a:pt x="753" y="1317"/>
                    </a:lnTo>
                    <a:lnTo>
                      <a:pt x="745" y="1465"/>
                    </a:lnTo>
                    <a:lnTo>
                      <a:pt x="680" y="1797"/>
                    </a:lnTo>
                    <a:lnTo>
                      <a:pt x="595" y="2067"/>
                    </a:lnTo>
                    <a:lnTo>
                      <a:pt x="523" y="2222"/>
                    </a:lnTo>
                    <a:lnTo>
                      <a:pt x="505" y="2320"/>
                    </a:lnTo>
                    <a:lnTo>
                      <a:pt x="580" y="2320"/>
                    </a:lnTo>
                    <a:lnTo>
                      <a:pt x="695" y="2287"/>
                    </a:lnTo>
                    <a:lnTo>
                      <a:pt x="730" y="2295"/>
                    </a:lnTo>
                    <a:lnTo>
                      <a:pt x="970" y="2310"/>
                    </a:lnTo>
                    <a:lnTo>
                      <a:pt x="1153" y="2367"/>
                    </a:lnTo>
                    <a:lnTo>
                      <a:pt x="1218" y="2335"/>
                    </a:lnTo>
                    <a:lnTo>
                      <a:pt x="1278" y="2212"/>
                    </a:lnTo>
                    <a:lnTo>
                      <a:pt x="1218" y="2147"/>
                    </a:lnTo>
                    <a:lnTo>
                      <a:pt x="945" y="2140"/>
                    </a:lnTo>
                    <a:lnTo>
                      <a:pt x="753" y="2165"/>
                    </a:lnTo>
                    <a:lnTo>
                      <a:pt x="655" y="2212"/>
                    </a:lnTo>
                    <a:lnTo>
                      <a:pt x="670" y="2100"/>
                    </a:lnTo>
                    <a:lnTo>
                      <a:pt x="770" y="1927"/>
                    </a:lnTo>
                    <a:lnTo>
                      <a:pt x="853" y="1660"/>
                    </a:lnTo>
                    <a:lnTo>
                      <a:pt x="920" y="1432"/>
                    </a:lnTo>
                    <a:lnTo>
                      <a:pt x="870" y="1172"/>
                    </a:lnTo>
                    <a:lnTo>
                      <a:pt x="795" y="895"/>
                    </a:lnTo>
                    <a:lnTo>
                      <a:pt x="645" y="577"/>
                    </a:lnTo>
                    <a:lnTo>
                      <a:pt x="430" y="285"/>
                    </a:lnTo>
                    <a:lnTo>
                      <a:pt x="248" y="72"/>
                    </a:lnTo>
                    <a:lnTo>
                      <a:pt x="1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6636240" y="3830040"/>
                <a:ext cx="101520" cy="284760"/>
              </a:xfrm>
              <a:custGeom>
                <a:avLst/>
                <a:gdLst/>
                <a:ahLst/>
                <a:rect l="l" t="t" r="r" b="b"/>
                <a:pathLst>
                  <a:path w="860" h="2412">
                    <a:moveTo>
                      <a:pt x="595" y="0"/>
                    </a:moveTo>
                    <a:lnTo>
                      <a:pt x="487" y="227"/>
                    </a:lnTo>
                    <a:lnTo>
                      <a:pt x="412" y="560"/>
                    </a:lnTo>
                    <a:lnTo>
                      <a:pt x="322" y="927"/>
                    </a:lnTo>
                    <a:lnTo>
                      <a:pt x="240" y="1300"/>
                    </a:lnTo>
                    <a:lnTo>
                      <a:pt x="240" y="1437"/>
                    </a:lnTo>
                    <a:lnTo>
                      <a:pt x="322" y="1682"/>
                    </a:lnTo>
                    <a:lnTo>
                      <a:pt x="437" y="1812"/>
                    </a:lnTo>
                    <a:lnTo>
                      <a:pt x="545" y="1975"/>
                    </a:lnTo>
                    <a:lnTo>
                      <a:pt x="620" y="2095"/>
                    </a:lnTo>
                    <a:lnTo>
                      <a:pt x="587" y="2152"/>
                    </a:lnTo>
                    <a:lnTo>
                      <a:pt x="397" y="2177"/>
                    </a:lnTo>
                    <a:lnTo>
                      <a:pt x="90" y="2225"/>
                    </a:lnTo>
                    <a:lnTo>
                      <a:pt x="0" y="2300"/>
                    </a:lnTo>
                    <a:lnTo>
                      <a:pt x="75" y="2365"/>
                    </a:lnTo>
                    <a:lnTo>
                      <a:pt x="247" y="2412"/>
                    </a:lnTo>
                    <a:lnTo>
                      <a:pt x="447" y="2315"/>
                    </a:lnTo>
                    <a:lnTo>
                      <a:pt x="595" y="2250"/>
                    </a:lnTo>
                    <a:lnTo>
                      <a:pt x="785" y="2225"/>
                    </a:lnTo>
                    <a:lnTo>
                      <a:pt x="860" y="2202"/>
                    </a:lnTo>
                    <a:lnTo>
                      <a:pt x="835" y="2120"/>
                    </a:lnTo>
                    <a:lnTo>
                      <a:pt x="620" y="1910"/>
                    </a:lnTo>
                    <a:lnTo>
                      <a:pt x="495" y="1690"/>
                    </a:lnTo>
                    <a:lnTo>
                      <a:pt x="387" y="1542"/>
                    </a:lnTo>
                    <a:lnTo>
                      <a:pt x="372" y="1397"/>
                    </a:lnTo>
                    <a:lnTo>
                      <a:pt x="422" y="1155"/>
                    </a:lnTo>
                    <a:lnTo>
                      <a:pt x="537" y="902"/>
                    </a:lnTo>
                    <a:lnTo>
                      <a:pt x="662" y="472"/>
                    </a:lnTo>
                    <a:lnTo>
                      <a:pt x="770" y="220"/>
                    </a:lnTo>
                    <a:lnTo>
                      <a:pt x="760" y="72"/>
                    </a:lnTo>
                    <a:lnTo>
                      <a:pt x="662" y="0"/>
                    </a:lnTo>
                    <a:lnTo>
                      <a:pt x="5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rot="652800">
              <a:off x="1463040" y="1279800"/>
              <a:ext cx="548640" cy="274320"/>
            </a:xfrm>
            <a:prstGeom prst="wedgeEllipseCallout">
              <a:avLst>
                <a:gd name="adj1" fmla="val -43750"/>
                <a:gd name="adj2" fmla="val 70000"/>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554480" y="1371600"/>
              <a:ext cx="548640" cy="182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I’m ready!</a:t>
              </a:r>
              <a:endParaRPr b="0" lang="en-US" sz="800" spc="-1" strike="noStrike">
                <a:solidFill>
                  <a:srgbClr val="000000"/>
                </a:solidFill>
                <a:latin typeface="Arial"/>
              </a:endParaRPr>
            </a:p>
          </p:txBody>
        </p:sp>
        <p:sp>
          <p:nvSpPr>
            <p:cNvPr id="116" name=""/>
            <p:cNvSpPr/>
            <p:nvPr/>
          </p:nvSpPr>
          <p:spPr>
            <a:xfrm flipH="1" rot="670800">
              <a:off x="1097280" y="3008160"/>
              <a:ext cx="457200" cy="274320"/>
            </a:xfrm>
            <a:prstGeom prst="wedgeEllipseCallout">
              <a:avLst>
                <a:gd name="adj1" fmla="val -54712"/>
                <a:gd name="adj2" fmla="val 76962"/>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194480" y="3088440"/>
              <a:ext cx="342720" cy="113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HELP!</a:t>
              </a:r>
              <a:endParaRPr b="0" lang="en-US" sz="800" spc="-1" strike="noStrike">
                <a:solidFill>
                  <a:srgbClr val="000000"/>
                </a:solidFill>
                <a:latin typeface="Arial"/>
              </a:endParaRPr>
            </a:p>
          </p:txBody>
        </p:sp>
        <p:sp>
          <p:nvSpPr>
            <p:cNvPr id="118" name=""/>
            <p:cNvSpPr/>
            <p:nvPr/>
          </p:nvSpPr>
          <p:spPr>
            <a:xfrm>
              <a:off x="8412480" y="1005840"/>
              <a:ext cx="548640" cy="457200"/>
            </a:xfrm>
            <a:prstGeom prst="wedgeEllipseCallout">
              <a:avLst>
                <a:gd name="adj1" fmla="val -43750"/>
                <a:gd name="adj2" fmla="val 70000"/>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I can!</a:t>
              </a:r>
              <a:endParaRPr b="0" lang="en-US" sz="800" spc="-1" strike="noStrike">
                <a:solidFill>
                  <a:srgbClr val="000000"/>
                </a:solidFill>
                <a:latin typeface="Arial"/>
              </a:endParaRPr>
            </a:p>
          </p:txBody>
        </p:sp>
        <p:sp>
          <p:nvSpPr>
            <p:cNvPr id="119" name=""/>
            <p:cNvSpPr/>
            <p:nvPr/>
          </p:nvSpPr>
          <p:spPr>
            <a:xfrm>
              <a:off x="3931920" y="5577840"/>
              <a:ext cx="640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inter Break!</a:t>
              </a:r>
              <a:endParaRPr b="0" lang="en-US" sz="1200" spc="-1" strike="noStrike">
                <a:solidFill>
                  <a:srgbClr val="000000"/>
                </a:solidFill>
                <a:latin typeface="Arial"/>
              </a:endParaRPr>
            </a:p>
          </p:txBody>
        </p:sp>
        <p:sp>
          <p:nvSpPr>
            <p:cNvPr id="120" name=""/>
            <p:cNvSpPr/>
            <p:nvPr/>
          </p:nvSpPr>
          <p:spPr>
            <a:xfrm flipH="1">
              <a:off x="3474720" y="5760720"/>
              <a:ext cx="548640" cy="54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 name=""/>
            <p:cNvGrpSpPr/>
            <p:nvPr/>
          </p:nvGrpSpPr>
          <p:grpSpPr>
            <a:xfrm>
              <a:off x="6487200" y="3357360"/>
              <a:ext cx="110160" cy="143280"/>
              <a:chOff x="6487200" y="3357360"/>
              <a:chExt cx="110160" cy="143280"/>
            </a:xfrm>
          </p:grpSpPr>
          <p:sp>
            <p:nvSpPr>
              <p:cNvPr id="122" name=""/>
              <p:cNvSpPr/>
              <p:nvPr/>
            </p:nvSpPr>
            <p:spPr>
              <a:xfrm rot="18388800">
                <a:off x="6505560" y="3369600"/>
                <a:ext cx="73080" cy="82800"/>
              </a:xfrm>
              <a:custGeom>
                <a:avLst/>
                <a:gdLst/>
                <a:ahLst/>
                <a:rect l="l" t="t" r="r" b="b"/>
                <a:pathLst>
                  <a:path w="425" h="495">
                    <a:moveTo>
                      <a:pt x="50" y="22"/>
                    </a:moveTo>
                    <a:lnTo>
                      <a:pt x="165" y="0"/>
                    </a:lnTo>
                    <a:lnTo>
                      <a:pt x="275" y="7"/>
                    </a:lnTo>
                    <a:lnTo>
                      <a:pt x="375" y="55"/>
                    </a:lnTo>
                    <a:lnTo>
                      <a:pt x="425" y="145"/>
                    </a:lnTo>
                    <a:lnTo>
                      <a:pt x="425" y="217"/>
                    </a:lnTo>
                    <a:lnTo>
                      <a:pt x="375" y="315"/>
                    </a:lnTo>
                    <a:lnTo>
                      <a:pt x="290" y="372"/>
                    </a:lnTo>
                    <a:lnTo>
                      <a:pt x="165" y="372"/>
                    </a:lnTo>
                    <a:lnTo>
                      <a:pt x="90" y="420"/>
                    </a:lnTo>
                    <a:lnTo>
                      <a:pt x="65" y="495"/>
                    </a:lnTo>
                    <a:lnTo>
                      <a:pt x="0" y="470"/>
                    </a:lnTo>
                    <a:lnTo>
                      <a:pt x="25" y="372"/>
                    </a:lnTo>
                    <a:lnTo>
                      <a:pt x="115" y="315"/>
                    </a:lnTo>
                    <a:lnTo>
                      <a:pt x="265" y="300"/>
                    </a:lnTo>
                    <a:lnTo>
                      <a:pt x="325" y="242"/>
                    </a:lnTo>
                    <a:lnTo>
                      <a:pt x="340" y="152"/>
                    </a:lnTo>
                    <a:lnTo>
                      <a:pt x="275" y="72"/>
                    </a:lnTo>
                    <a:lnTo>
                      <a:pt x="175" y="72"/>
                    </a:lnTo>
                    <a:lnTo>
                      <a:pt x="65" y="97"/>
                    </a:lnTo>
                    <a:lnTo>
                      <a:pt x="25" y="72"/>
                    </a:lnTo>
                    <a:lnTo>
                      <a:pt x="50"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3" name=""/>
              <p:cNvSpPr/>
              <p:nvPr/>
            </p:nvSpPr>
            <p:spPr>
              <a:xfrm rot="18388800">
                <a:off x="6558840" y="3473640"/>
                <a:ext cx="22680" cy="22320"/>
              </a:xfrm>
              <a:custGeom>
                <a:avLst/>
                <a:gdLst/>
                <a:ahLst/>
                <a:rect l="l" t="t" r="r" b="b"/>
                <a:pathLst>
                  <a:path w="132" h="135">
                    <a:moveTo>
                      <a:pt x="132" y="8"/>
                    </a:moveTo>
                    <a:lnTo>
                      <a:pt x="65" y="0"/>
                    </a:lnTo>
                    <a:lnTo>
                      <a:pt x="20" y="50"/>
                    </a:lnTo>
                    <a:lnTo>
                      <a:pt x="0" y="128"/>
                    </a:lnTo>
                    <a:lnTo>
                      <a:pt x="65" y="135"/>
                    </a:lnTo>
                    <a:lnTo>
                      <a:pt x="120" y="100"/>
                    </a:lnTo>
                    <a:lnTo>
                      <a:pt x="13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24" name=""/>
            <p:cNvGrpSpPr/>
            <p:nvPr/>
          </p:nvGrpSpPr>
          <p:grpSpPr>
            <a:xfrm>
              <a:off x="6576480" y="3277440"/>
              <a:ext cx="103320" cy="147600"/>
              <a:chOff x="6576480" y="3277440"/>
              <a:chExt cx="103320" cy="147600"/>
            </a:xfrm>
          </p:grpSpPr>
          <p:sp>
            <p:nvSpPr>
              <p:cNvPr id="125" name=""/>
              <p:cNvSpPr/>
              <p:nvPr/>
            </p:nvSpPr>
            <p:spPr>
              <a:xfrm rot="19934400">
                <a:off x="6591240" y="3289680"/>
                <a:ext cx="73080" cy="82800"/>
              </a:xfrm>
              <a:custGeom>
                <a:avLst/>
                <a:gdLst/>
                <a:ahLst/>
                <a:rect l="l" t="t" r="r" b="b"/>
                <a:pathLst>
                  <a:path w="425" h="495">
                    <a:moveTo>
                      <a:pt x="50" y="22"/>
                    </a:moveTo>
                    <a:lnTo>
                      <a:pt x="165" y="0"/>
                    </a:lnTo>
                    <a:lnTo>
                      <a:pt x="275" y="7"/>
                    </a:lnTo>
                    <a:lnTo>
                      <a:pt x="375" y="55"/>
                    </a:lnTo>
                    <a:lnTo>
                      <a:pt x="425" y="145"/>
                    </a:lnTo>
                    <a:lnTo>
                      <a:pt x="425" y="217"/>
                    </a:lnTo>
                    <a:lnTo>
                      <a:pt x="375" y="315"/>
                    </a:lnTo>
                    <a:lnTo>
                      <a:pt x="290" y="372"/>
                    </a:lnTo>
                    <a:lnTo>
                      <a:pt x="165" y="372"/>
                    </a:lnTo>
                    <a:lnTo>
                      <a:pt x="90" y="420"/>
                    </a:lnTo>
                    <a:lnTo>
                      <a:pt x="65" y="495"/>
                    </a:lnTo>
                    <a:lnTo>
                      <a:pt x="0" y="470"/>
                    </a:lnTo>
                    <a:lnTo>
                      <a:pt x="25" y="372"/>
                    </a:lnTo>
                    <a:lnTo>
                      <a:pt x="115" y="315"/>
                    </a:lnTo>
                    <a:lnTo>
                      <a:pt x="265" y="300"/>
                    </a:lnTo>
                    <a:lnTo>
                      <a:pt x="325" y="242"/>
                    </a:lnTo>
                    <a:lnTo>
                      <a:pt x="340" y="152"/>
                    </a:lnTo>
                    <a:lnTo>
                      <a:pt x="275" y="72"/>
                    </a:lnTo>
                    <a:lnTo>
                      <a:pt x="175" y="72"/>
                    </a:lnTo>
                    <a:lnTo>
                      <a:pt x="65" y="97"/>
                    </a:lnTo>
                    <a:lnTo>
                      <a:pt x="25" y="72"/>
                    </a:lnTo>
                    <a:lnTo>
                      <a:pt x="50"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6" name=""/>
              <p:cNvSpPr/>
              <p:nvPr/>
            </p:nvSpPr>
            <p:spPr>
              <a:xfrm rot="19934400">
                <a:off x="6609600" y="3398400"/>
                <a:ext cx="22680" cy="22320"/>
              </a:xfrm>
              <a:custGeom>
                <a:avLst/>
                <a:gdLst/>
                <a:ahLst/>
                <a:rect l="l" t="t" r="r" b="b"/>
                <a:pathLst>
                  <a:path w="132" h="135">
                    <a:moveTo>
                      <a:pt x="132" y="8"/>
                    </a:moveTo>
                    <a:lnTo>
                      <a:pt x="65" y="0"/>
                    </a:lnTo>
                    <a:lnTo>
                      <a:pt x="20" y="50"/>
                    </a:lnTo>
                    <a:lnTo>
                      <a:pt x="0" y="128"/>
                    </a:lnTo>
                    <a:lnTo>
                      <a:pt x="65" y="135"/>
                    </a:lnTo>
                    <a:lnTo>
                      <a:pt x="120" y="100"/>
                    </a:lnTo>
                    <a:lnTo>
                      <a:pt x="13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sp>
        <p:nvSpPr>
          <p:cNvPr id="127" name=""/>
          <p:cNvSpPr/>
          <p:nvPr/>
        </p:nvSpPr>
        <p:spPr>
          <a:xfrm>
            <a:off x="11448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8" name=""/>
          <p:cNvSpPr/>
          <p:nvPr/>
        </p:nvSpPr>
        <p:spPr>
          <a:xfrm>
            <a:off x="114480" y="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aphicFrame>
        <p:nvGraphicFramePr>
          <p:cNvPr id="129" name=""/>
          <p:cNvGraphicFramePr/>
          <p:nvPr/>
        </p:nvGraphicFramePr>
        <p:xfrm>
          <a:off x="380880" y="6172200"/>
          <a:ext cx="8399520" cy="258840"/>
        </p:xfrm>
        <a:graphic>
          <a:graphicData uri="http://schemas.openxmlformats.org/drawingml/2006/table">
            <a:tbl>
              <a:tblPr/>
              <a:tblGrid>
                <a:gridCol w="743040"/>
                <a:gridCol w="628560"/>
                <a:gridCol w="567000"/>
                <a:gridCol w="645840"/>
                <a:gridCol w="646200"/>
                <a:gridCol w="646200"/>
                <a:gridCol w="646200"/>
                <a:gridCol w="645840"/>
                <a:gridCol w="646200"/>
                <a:gridCol w="646200"/>
                <a:gridCol w="646200"/>
                <a:gridCol w="645840"/>
                <a:gridCol w="646200"/>
              </a:tblGrid>
              <a:tr h="261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ug</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pt</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ct</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v</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c</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an</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eb</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y</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e</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ly</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ug</a:t>
                      </a:r>
                      <a:endParaRPr b="0" lang="en-US" sz="11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30" name=""/>
          <p:cNvSpPr/>
          <p:nvPr/>
        </p:nvSpPr>
        <p:spPr>
          <a:xfrm>
            <a:off x="3367440" y="6447600"/>
            <a:ext cx="23983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ctr" pos="2743200"/>
                <a:tab algn="r" pos="5486400"/>
                <a:tab algn="l" pos="6400800"/>
                <a:tab algn="l" pos="7315200"/>
                <a:tab algn="l" pos="8229600"/>
                <a:tab algn="l" pos="9144000"/>
                <a:tab algn="l" pos="10058400"/>
              </a:tabLst>
            </a:pPr>
            <a:r>
              <a:rPr b="0" lang="en-US" sz="1200" spc="-1" strike="noStrike">
                <a:solidFill>
                  <a:srgbClr val="3333ff"/>
                </a:solidFill>
                <a:latin typeface="Arial"/>
              </a:rPr>
              <a:t>Ellen Moir, UC Santa Cruz, 1990</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12068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oles of a Mentor</a:t>
            </a:r>
            <a:endParaRPr b="0" lang="en-US" sz="4800" spc="-1" strike="noStrike">
              <a:solidFill>
                <a:srgbClr val="000000"/>
              </a:solidFill>
              <a:latin typeface="Arial"/>
            </a:endParaRPr>
          </a:p>
        </p:txBody>
      </p:sp>
      <p:sp>
        <p:nvSpPr>
          <p:cNvPr id="132" name="PlaceHolder 2"/>
          <p:cNvSpPr>
            <a:spLocks noGrp="1"/>
          </p:cNvSpPr>
          <p:nvPr>
            <p:ph/>
          </p:nvPr>
        </p:nvSpPr>
        <p:spPr>
          <a:xfrm>
            <a:off x="903240" y="1131480"/>
            <a:ext cx="3587760" cy="49942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olver</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ocat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or</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ch</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or</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r</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or</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sted Listener</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a:t>
            </a:r>
            <a:endParaRPr b="0" lang="en-US" sz="2800" spc="-1" strike="noStrike">
              <a:solidFill>
                <a:srgbClr val="000000"/>
              </a:solidFill>
              <a:latin typeface="Arial"/>
            </a:endParaRPr>
          </a:p>
        </p:txBody>
      </p:sp>
      <p:sp>
        <p:nvSpPr>
          <p:cNvPr id="133" name="PlaceHolder 3"/>
          <p:cNvSpPr>
            <a:spLocks noGrp="1"/>
          </p:cNvSpPr>
          <p:nvPr>
            <p:ph/>
          </p:nvPr>
        </p:nvSpPr>
        <p:spPr>
          <a:xfrm>
            <a:off x="4724280" y="1445760"/>
            <a:ext cx="3810240" cy="4699080"/>
          </a:xfrm>
          <a:prstGeom prst="rect">
            <a:avLst/>
          </a:prstGeom>
          <a:solidFill>
            <a:srgbClr val="bbe0e3"/>
          </a:solidFill>
          <a:ln w="25560">
            <a:solidFill>
              <a:srgbClr val="000000"/>
            </a:solidFill>
            <a:prstDash val="sysDot"/>
            <a:miter/>
          </a:ln>
        </p:spPr>
        <p:txBody>
          <a:bodyPr lIns="90000" rIns="90000" tIns="46800" bIns="46800" anchor="t">
            <a:normAutofit/>
          </a:bodyPr>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role assigned for your table. </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a list of specific activities a mentor might do in that role.  </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one activity per Post-It Note.</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144000" cy="15908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haracteristics of </a:t>
            </a:r>
            <a:br>
              <a:rPr sz="4800"/>
            </a:br>
            <a:r>
              <a:rPr b="1" lang="en-US" sz="4800" spc="-1" strike="noStrike">
                <a:solidFill>
                  <a:srgbClr val="000000"/>
                </a:solidFill>
                <a:latin typeface="Arial"/>
              </a:rPr>
              <a:t>an Effective Mentor</a:t>
            </a:r>
            <a:endParaRPr b="0" lang="en-US" sz="4800" spc="-1" strike="noStrike">
              <a:solidFill>
                <a:srgbClr val="000000"/>
              </a:solidFill>
              <a:latin typeface="Arial"/>
            </a:endParaRPr>
          </a:p>
        </p:txBody>
      </p:sp>
      <p:sp>
        <p:nvSpPr>
          <p:cNvPr id="135" name="PlaceHolder 2"/>
          <p:cNvSpPr>
            <a:spLocks noGrp="1"/>
          </p:cNvSpPr>
          <p:nvPr>
            <p:ph/>
          </p:nvPr>
        </p:nvSpPr>
        <p:spPr>
          <a:xfrm>
            <a:off x="5105520" y="1750680"/>
            <a:ext cx="3581280" cy="4189320"/>
          </a:xfrm>
          <a:prstGeom prst="rect">
            <a:avLst/>
          </a:prstGeom>
          <a:solidFill>
            <a:srgbClr val="ccffff"/>
          </a:solidFill>
          <a:ln w="38160">
            <a:solidFill>
              <a:srgbClr val="000000"/>
            </a:solidFill>
            <a:prstDash val="sysDot"/>
            <a:miter/>
          </a:ln>
        </p:spPr>
        <p:txBody>
          <a:bodyPr lIns="90000" rIns="90000" tIns="46800" bIns="46800" anchor="t">
            <a:normAutofit/>
          </a:bodyPr>
          <a:p>
            <a:pPr marL="343080" indent="0">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Think/Pair/Share”</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nk about someone who has been a mentor in your lif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t down what that person was like? What characteristics made them an effective mentor? </a:t>
            </a: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 with an “elbow partner.”</a:t>
            </a:r>
            <a:r>
              <a:rPr b="1"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PlaceHolder 3"/>
          <p:cNvSpPr>
            <a:spLocks noGrp="1"/>
          </p:cNvSpPr>
          <p:nvPr>
            <p:ph/>
          </p:nvPr>
        </p:nvSpPr>
        <p:spPr>
          <a:xfrm>
            <a:off x="456840" y="1676520"/>
            <a:ext cx="4016520" cy="487656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The message mentors provide is twofold: You are worth my time and effort because you are a valuable human being. And I can offer you – by my word or deed, or by the example of my life – ways to expand your horizons and to increase the likelihood that you will achieve success.”</a:t>
            </a:r>
            <a:endParaRPr b="0" lang="en-US" sz="2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ff"/>
                </a:solidFill>
                <a:latin typeface="Arial"/>
              </a:rPr>
              <a:t>One on One: A Guide for Establishing   </a:t>
            </a:r>
            <a:endParaRPr b="0" lang="en-US" sz="1400" spc="-1" strike="noStrike">
              <a:solidFill>
                <a:srgbClr val="000000"/>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ff"/>
                </a:solidFill>
                <a:latin typeface="Arial"/>
              </a:rPr>
              <a:t>Mentor Programs</a:t>
            </a:r>
            <a:r>
              <a:rPr b="1" lang="en-US" sz="1400" spc="-1" strike="noStrike">
                <a:solidFill>
                  <a:srgbClr val="3333ff"/>
                </a:solidFill>
                <a:latin typeface="Arial"/>
              </a:rPr>
              <a:t>,</a:t>
            </a:r>
            <a:r>
              <a:rPr b="0" lang="en-US" sz="1400" spc="-1" strike="noStrike">
                <a:solidFill>
                  <a:srgbClr val="3333ff"/>
                </a:solidFill>
                <a:latin typeface="Arial"/>
              </a:rPr>
              <a:t> USDOE</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5908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haracteristics of </a:t>
            </a:r>
            <a:br>
              <a:rPr sz="4800"/>
            </a:br>
            <a:r>
              <a:rPr b="1" lang="en-US" sz="4800" spc="-1" strike="noStrike">
                <a:solidFill>
                  <a:srgbClr val="000000"/>
                </a:solidFill>
                <a:latin typeface="Arial"/>
              </a:rPr>
              <a:t>an Effective Mentor</a:t>
            </a:r>
            <a:endParaRPr b="0" lang="en-US" sz="4800" spc="-1" strike="noStrike">
              <a:solidFill>
                <a:srgbClr val="000000"/>
              </a:solidFill>
              <a:latin typeface="Arial"/>
            </a:endParaRPr>
          </a:p>
        </p:txBody>
      </p:sp>
      <p:sp>
        <p:nvSpPr>
          <p:cNvPr id="138" name="PlaceHolder 2"/>
          <p:cNvSpPr>
            <a:spLocks noGrp="1"/>
          </p:cNvSpPr>
          <p:nvPr>
            <p:ph/>
          </p:nvPr>
        </p:nvSpPr>
        <p:spPr>
          <a:xfrm>
            <a:off x="402840" y="1599840"/>
            <a:ext cx="8435880" cy="525780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tted to the role of mentoring</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ing of the beginning teacher</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able of observing in a non-biased manner without judgment</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lled at providing instructional support</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communicator with excellent interpersonal skills</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of a continuous learner</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or of hope and optimism</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Arial"/>
              </a:rPr>
              <a:t>                                                                    </a:t>
            </a:r>
            <a:r>
              <a:rPr b="0" lang="en-US" sz="1400" spc="-1" strike="noStrike">
                <a:solidFill>
                  <a:srgbClr val="3333ff"/>
                </a:solidFill>
                <a:latin typeface="Arial"/>
              </a:rPr>
              <a:t>James B. Rowley,  </a:t>
            </a:r>
            <a:r>
              <a:rPr b="1" i="1" lang="en-US" sz="1400" spc="-1" strike="noStrike">
                <a:solidFill>
                  <a:srgbClr val="3333ff"/>
                </a:solidFill>
                <a:latin typeface="Arial"/>
              </a:rPr>
              <a:t>Educational Leadership</a:t>
            </a:r>
            <a:r>
              <a:rPr b="1" lang="en-US" sz="1400" spc="-1" strike="noStrike">
                <a:solidFill>
                  <a:srgbClr val="3333ff"/>
                </a:solidFill>
                <a:latin typeface="Arial"/>
              </a:rPr>
              <a:t>,</a:t>
            </a:r>
            <a:r>
              <a:rPr b="0" lang="en-US" sz="1400" spc="-1" strike="noStrike">
                <a:solidFill>
                  <a:srgbClr val="3333ff"/>
                </a:solidFill>
                <a:latin typeface="Arial"/>
              </a:rPr>
              <a:t> May 1999</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1T13:47:30Z</dcterms:created>
  <dc:creator>User</dc:creator>
  <dc:description/>
  <dc:language>en-US</dc:language>
  <cp:lastModifiedBy>User</cp:lastModifiedBy>
  <dcterms:modified xsi:type="dcterms:W3CDTF">2008-07-11T15:34:29Z</dcterms:modified>
  <cp:revision>4</cp:revision>
  <dc:subject/>
  <dc:title>TEACH DELTA REGION  INTERNSHIP MENTOR TRAINING</dc:title>
</cp:coreProperties>
</file>