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1F5D-A367-44A0-9E61-FE69515C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C41-B629-491C-836F-B48B9C01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EEEB-663F-41A0-88AE-9D65FD4A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0D43-D98E-464C-BBC0-F0B47BB3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6A1C-FE0C-4F4C-A535-D8C9FDD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027A-2DE0-4F13-B092-C7951AC3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6A4C-D7EC-4D94-B752-1DDF6B79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D969-D755-4016-849D-0CED78EC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06CD-F7C1-43EE-9CFF-0CFEC50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AA74-7898-4F5E-801A-0253B12E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7647-ADA2-456F-9336-B26421D8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374-4BFF-4BA0-A826-264AD965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93B8-0498-496F-9B3E-738186EC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415F-AA20-4399-8C8E-007950EB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CBD9-F8AD-45EC-85BA-3AE25EDE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290E-C1AA-4583-B592-5A9544AC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5A5D-7711-47C7-890C-25C3E1A9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D14-3D9E-4A44-9BE9-B287B6EC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7F3-6C05-4053-BCE2-2255C87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E9A-3B07-4B98-9460-2DED949F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06F-CCF1-48E9-AB10-3754F259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FF8-1429-4B69-BB63-0DB31C8E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13B7-36F0-4C80-AF83-1B4144FD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69B-34E4-496F-A90B-3AF57CF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8866-1FEE-4D8B-B2D3-B0338757AE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3135-8CE8-4AB3-B8D2-ADD5D5CE0C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fessional Development for Supervisors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 777 Inter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professional development provided through L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intern service logs to validate that the activity was successfully comple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intern performance during intern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c0039"/>
                </a:solidFill>
                <a:latin typeface="Arial"/>
              </a:rPr>
              <a:t>Note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ns may not be assigned to supervisors who make direct employment decisions about the in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EC Internship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upervised by a site supervisor and a university supervis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at a field site which reflects changing demographics of schools and promotes comparison of school experi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the practitioner-scholar to demonstrate and apply knowledge bases and dispositions in practical sett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ime and Date Requirem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C intern is required to spend a minimum of 200 hours on site (excluding travel tim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ship schedule is determined by the intern and the site supervisor with the approval of the university supervis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ected Outcom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C program prepares scholar-practitioners. Scholar-practitioners exhibit certain expected outcomes upon completion of the internship. Those outcomes are presented on the following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EXPECTED OUTCOMES – Scholar-practitioners who can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and apply the knowledge bases acquired in other program components in practical settings which reflect changing demographics of schools and promote comparisons of school experi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opportunities for and actively participate in personal and professional improvement p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opportunities and participate effectively in the professional co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caring, inclusive, and challenging learning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, accept, and complete professional obligations in a timely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 appropriately to the rapid changes in educational contexts at local, state, and national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 ethical relationships with parents, colleagues, and institutions to promote student personal and academic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ndards of professional attire, grooming, demeanor and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ethical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ervisor Qualification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d master’s degree from an accredited instit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in an administrative/ supervisory role in an appropriate organizational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upervisor Responsibilit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 intern activities during internship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 as a professional mentor to int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design, delivery, and evaluation of LEC internship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pportunities for the intern to participate in activities that will promote personal and professional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pportunities for the intern to participate in the professional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esources and information to meet the goals of LEC forms H.1, H.2, and H.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4-16T18:46:39Z</dcterms:modified>
  <cp:revision>1</cp:revision>
  <dc:subject/>
  <dc:title>Professional Development for Supervisors of</dc:title>
</cp:coreProperties>
</file>