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38.xml.rels" ContentType="application/vnd.openxmlformats-package.relationships+xml"/>
  <Override PartName="/ppt/notesSlides/_rels/notesSlide66.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7.xml.rels" ContentType="application/vnd.openxmlformats-package.relationships+xml"/>
  <Override PartName="/ppt/notesSlides/_rels/notesSlide62.xml.rels" ContentType="application/vnd.openxmlformats-package.relationships+xml"/>
  <Override PartName="/ppt/notesSlides/notesSlide34.xml" ContentType="application/vnd.openxmlformats-officedocument.presentationml.notesSlid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6.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67.xml" ContentType="application/vnd.openxmlformats-officedocument.presentationml.notesSlide+xml"/>
  <Override PartName="/ppt/notesSlides/notesSlide62.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38.xml" ContentType="application/vnd.openxmlformats-officedocument.presentationml.notesSlide+xml"/>
  <Override PartName="/ppt/notesSlides/notesSlide64.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2.xml" ContentType="application/vnd.openxmlformats-officedocument.presentationml.notesSlide+xml"/>
  <Override PartName="/ppt/notesSlides/notesSlide42.xml" ContentType="application/vnd.openxmlformats-officedocument.presentationml.notesSlide+xml"/>
  <Override PartName="/ppt/notesSlides/notesSlide66.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png" ContentType="image/png"/>
  <Override PartName="/ppt/media/image10.wmf" ContentType="image/x-wmf"/>
  <Override PartName="/ppt/media/image6.png" ContentType="image/png"/>
  <Override PartName="/ppt/media/image14.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8.png" ContentType="image/png"/>
  <Override PartName="/ppt/media/image17.png" ContentType="image/png"/>
  <Override PartName="/ppt/media/image16.wmf" ContentType="image/x-wmf"/>
  <Override PartName="/ppt/media/image15.wmf" ContentType="image/x-wmf"/>
  <Override PartName="/ppt/media/image1.png" ContentType="image/png"/>
  <Override PartName="/ppt/media/image25.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AAAE6-FD3F-4DE4-86A4-2CED3E51EE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werPoint can be used as a two-day mentor training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rginia Department of Education would like to acknowledge the contributions of the following, who helped make this training resource possibl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Eric L. Cunningham, Director of Human Resources, Spotsylvania County School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Terry Dozier, Director of the Center for Teacher Leadership, Virginia Commonwealth University School of Educa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ise D. Hunt, Recruitment and Licensure Specialist, Culpeper County School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na Lane, Specialist, Office of Staff Development and Training, Fairfax County Public School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becca Waters, Coordinator, VCCS Career Switcher Progra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m Wright, Curriculum and Instruction Facilitator, Southside VA “No Child Left Behind” Off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0929-7243-4621-8ABB-188661F2A5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8" name="PlaceHolder 1"/>
          <p:cNvSpPr>
            <a:spLocks noGrp="1"/>
          </p:cNvSpPr>
          <p:nvPr>
            <p:ph type="sldImg"/>
          </p:nvPr>
        </p:nvSpPr>
        <p:spPr>
          <a:xfrm>
            <a:off x="544680" y="685800"/>
            <a:ext cx="5770440" cy="4327560"/>
          </a:xfrm>
          <a:prstGeom prst="rect">
            <a:avLst/>
          </a:prstGeom>
          <a:ln w="0">
            <a:noFill/>
          </a:ln>
        </p:spPr>
      </p:sp>
      <p:sp>
        <p:nvSpPr>
          <p:cNvPr id="519" name="PlaceHolder 2"/>
          <p:cNvSpPr>
            <a:spLocks noGrp="1"/>
          </p:cNvSpPr>
          <p:nvPr>
            <p:ph type="body"/>
          </p:nvPr>
        </p:nvSpPr>
        <p:spPr>
          <a:xfrm>
            <a:off x="914400" y="5409720"/>
            <a:ext cx="5029200" cy="26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
          <p:cNvSpPr txBox="1"/>
          <p:nvPr/>
        </p:nvSpPr>
        <p:spPr>
          <a:xfrm>
            <a:off x="685800" y="4343400"/>
            <a:ext cx="5486400" cy="4114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1999 Virginia General Assembly enacted the Education Accountability and Quality Enhancement Act (HB 2710 and SB 1145) aimed at supporting educator productivity and accountability. The elements of the legislation include the …mentoring of new teachers and those experiencing difficulties as part of the training of continuum for all teachers. The legislation amended the Code of Virginia </a:t>
            </a:r>
            <a:r>
              <a:rPr b="0" lang="en-US" sz="1200" spc="-1" strike="noStrike">
                <a:solidFill>
                  <a:srgbClr val="000000"/>
                </a:solidFill>
                <a:latin typeface="Arial"/>
                <a:ea typeface="Arial"/>
              </a:rPr>
              <a:t>§ 22.1-305.1 Mentor Teacher Progr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Guidelines for Mentor Teacher Programs for Beginning and Experienced Teach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ivision of Teacher Education and Licensure, Virginia Department of Education, 2000)</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CIPATION (During the first few days/weeks) - Tremendous commitment; idealistic view; may be elated but at the same time terrifi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IVAL (Usually within the first month) - Overwhelmed; exaggerated “reality”; exhaus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ILLUSIONMENT (After six to eight weeks) - Distressed; disenchantment; full of self-doubt and may be physically ill; question professional commit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UVENATION (After winter break) – Slow rise in attitude; acceptance of “realities”; renewed sense of accomplish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LECTION (Near end of year) – Invigorating; emerging vision; new phase of more realistic anticip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CIPATION (End of year) – Looking forward to next school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sent to participants the question you wish to have answ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How many years have you personally been involved in mentoring beginning teacher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ck left – 0 to 1 year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ck right – 2 to 5 year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nt left – 6 to 10 year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nt right – More than 10 yea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How satisfied are you with your division’s current mentoring program?</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ck left – Not at all or don’t know</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ck right – Somewhat, but see room for growth</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nt left – Satisfied</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nt right – Very Satisfied: We’re “the bomb”</a:t>
            </a: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the roles of a mentor. Be sure to have one role printed for each of the table groups in the room. Give each table group a set of Post-It Notes. Ask that members write one activity on each Post-It Note, making the print large enough to read. Discuss your contributions with the table group.</a:t>
            </a:r>
            <a:endParaRPr b="0" lang="en-US" sz="1200" spc="-1" strike="noStrike">
              <a:solidFill>
                <a:srgbClr val="000000"/>
              </a:solidFill>
              <a:latin typeface="Arial"/>
            </a:endParaRPr>
          </a:p>
        </p:txBody>
      </p:sp>
      <p:graphicFrame>
        <p:nvGraphicFramePr>
          <p:cNvPr id="526" name=""/>
          <p:cNvGraphicFramePr/>
          <p:nvPr/>
        </p:nvGraphicFramePr>
        <p:xfrm>
          <a:off x="1066680" y="5562720"/>
          <a:ext cx="4572000" cy="3047760"/>
        </p:xfrm>
        <a:graphic>
          <a:graphicData uri="http://schemas.openxmlformats.org/drawingml/2006/table">
            <a:tbl>
              <a:tblPr/>
              <a:tblGrid>
                <a:gridCol w="2286000"/>
                <a:gridCol w="2286000"/>
              </a:tblGrid>
              <a:tr h="609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 Solv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oca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ilitato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c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aborato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rn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sso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sted Listen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ivity will work best if you will put your timeline of 4-6 pieces of chart paper, taped together horizontally. Be sure to draw you line and affix the months of the year and the phases prior to the beginning of th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 timeline on the wall. Affix the months and phases in the appropriate pla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able groups to attach their Post-It Notes with activities at the appropriate point on the time lin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ll activities have been attached ask the table group to debrief with each other and to appoint someone to report out to the group.</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able should have a sheet of chart paper and a set of magic markers. Encourage table groups to be as creative as possible and to post their final product on the w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able group should take some time to reflect on all the want ads posted and determine if there are characteristics they might wish to ad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move to the corner of the classroom where the answer to the question is posted, those who use “Great Beginnings” move to the corner of the classroom where the “Great Beginnings” sign is posted, and so on...  Allow three (3) minutes for the participants to gather in the four corners of the room. Visually assess the percentage of participants using each type of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2470D-CF29-4F44-A495-0C49E3B768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3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35" name="PlaceHolder 1"/>
          <p:cNvSpPr>
            <a:spLocks noGrp="1"/>
          </p:cNvSpPr>
          <p:nvPr>
            <p:ph type="sldImg"/>
          </p:nvPr>
        </p:nvSpPr>
        <p:spPr>
          <a:xfrm>
            <a:off x="544680" y="685800"/>
            <a:ext cx="5770440" cy="4327560"/>
          </a:xfrm>
          <a:prstGeom prst="rect">
            <a:avLst/>
          </a:prstGeom>
          <a:ln w="0">
            <a:noFill/>
          </a:ln>
        </p:spPr>
      </p:sp>
      <p:sp>
        <p:nvSpPr>
          <p:cNvPr id="536" name="PlaceHolder 2"/>
          <p:cNvSpPr>
            <a:spLocks noGrp="1"/>
          </p:cNvSpPr>
          <p:nvPr>
            <p:ph type="body"/>
          </p:nvPr>
        </p:nvSpPr>
        <p:spPr>
          <a:xfrm>
            <a:off x="533160" y="5181120"/>
            <a:ext cx="6019560" cy="26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rPr>
              <a:t>Invite participants to relax and to close their eyes.  (If some participants are uncomfortable closing their eyes, they may decide to focus on one spot in the room.) Ask them to think about a person who has been a support to them, perhaps a mentor, a colleague, or someone else in their professional context -- someone with whom they have had a trusting relationship.  Ask them to visualize that person coming in the door of their classroom or office, to see the person’s face, to hear his/her voice, to note body language and gestures.  Ask them to invite the person to come in, to hear the language, to note their feelings, their own body language, the sound of their own voice while in that person’s company.  Ask what they talked about and how they felt during the conversation.  Bring the visualization to a close by asking the participants to bring the conversation to an end and to watch the support person move toward the door and say goodby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ietly bring participants back to the present and explain that the next activity is to be completed in </a:t>
            </a:r>
            <a:r>
              <a:rPr b="0" lang="en-US" sz="1000" spc="-1" strike="noStrike" u="sng">
                <a:solidFill>
                  <a:srgbClr val="000000"/>
                </a:solidFill>
                <a:uFillTx/>
                <a:latin typeface="Arial"/>
              </a:rPr>
              <a:t>silence</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DDE4-A416-4174-8FC6-721F81683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4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41" name="PlaceHolder 1"/>
          <p:cNvSpPr>
            <a:spLocks noGrp="1"/>
          </p:cNvSpPr>
          <p:nvPr>
            <p:ph type="sldImg"/>
          </p:nvPr>
        </p:nvSpPr>
        <p:spPr>
          <a:xfrm>
            <a:off x="544680" y="685800"/>
            <a:ext cx="5770440" cy="4327560"/>
          </a:xfrm>
          <a:prstGeom prst="rect">
            <a:avLst/>
          </a:prstGeom>
          <a:ln w="0">
            <a:noFill/>
          </a:ln>
        </p:spPr>
      </p:sp>
      <p:sp>
        <p:nvSpPr>
          <p:cNvPr id="542" name="PlaceHolder 2"/>
          <p:cNvSpPr>
            <a:spLocks noGrp="1"/>
          </p:cNvSpPr>
          <p:nvPr>
            <p:ph type="body"/>
          </p:nvPr>
        </p:nvSpPr>
        <p:spPr>
          <a:xfrm>
            <a:off x="533160" y="5181120"/>
            <a:ext cx="6019560" cy="3505320"/>
          </a:xfrm>
          <a:prstGeom prst="rect">
            <a:avLst/>
          </a:prstGeom>
          <a:noFill/>
          <a:ln w="0">
            <a:noFill/>
          </a:ln>
        </p:spPr>
        <p:txBody>
          <a:bodyPr lIns="90000" rIns="90000" tIns="46800" bIns="46800" anchor="t">
            <a:noAutofit/>
          </a:bodyPr>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the visualization, ask participants to quietly pick up one of the felt markers on the table and begin a “silent share.” Taking turns they are to jot down on the blank chart paper any behaviors, attitudes, phrases, or language that characterized this trusting relationship. The recording proceeds “round robin” fashion with only one person recording at a time. Ask participants to quietly look at what others at their table have written and record something new. They should not repeat things that have already been listed.  Anybody may pass at any time.  The activity continues until the trainer calls tim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up share: Ask someone at each table to stand up and show his/her table’s chart to the rest of the participants. Ask participants to silently scan the charts and identify similarities. Close by having participants verbally share the similarities across the charts. Suggest that most of us generally have a good understanding of the attitudes and behaviors that contribute to a trusting relationship.</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Direc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Provide participants with a “Give One-Get One” chart that is three columns wide and four rows deep and ask them to fill in three boxes with examples of what they will or can do to develop a trusting relationship with their mente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 Ask for an example from the group and fill in the box on the overhead. For example, “I will call my mentee before school starts and set up a time to meet (perhaps over a cup of coffee) just to get to know him/h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Ask candidates to </a:t>
            </a:r>
            <a:r>
              <a:rPr b="0" lang="en-US" sz="1200" spc="-1" strike="noStrike" u="sng">
                <a:solidFill>
                  <a:srgbClr val="000000"/>
                </a:solidFill>
                <a:uFillTx/>
                <a:latin typeface="Arial"/>
                <a:ea typeface="Times New Roman"/>
              </a:rPr>
              <a:t>get up</a:t>
            </a:r>
            <a:r>
              <a:rPr b="0" lang="en-US" sz="1200" spc="-1" strike="noStrike">
                <a:solidFill>
                  <a:srgbClr val="000000"/>
                </a:solidFill>
                <a:latin typeface="Arial"/>
                <a:ea typeface="Times New Roman"/>
              </a:rPr>
              <a:t> and find other ideas from colleagues around the room. They should talk with people they do not know. Give one of their ideas to that person and get one from him/her. If they have the same ideas on their form, they should brainstorm another way to build a trusting relationship. </a:t>
            </a:r>
            <a:r>
              <a:rPr b="0" lang="en-US" sz="1200" spc="-1" strike="noStrike" u="sng">
                <a:solidFill>
                  <a:srgbClr val="000000"/>
                </a:solidFill>
                <a:uFillTx/>
                <a:latin typeface="Arial"/>
                <a:ea typeface="Times New Roman"/>
              </a:rPr>
              <a:t>The trainer should model how this should be done to avoid confusion when people get u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Remind participants that they should move quickly from one person to another. The goal is not to thoroughly discuss each idea, but to generate as many ideas as possi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The trainer may want to give a prize for the first five people to complete all 12 box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Keeping in mind time limitations, ask group to share out the most interesting ideas they received for specific things they can do to develop a trusting relationship.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playing should take two-three minutes 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ing should last about 2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participants with a copy of a T-Chart  OR provide them with a sheet of chart paper on which they can draw their own “Evidence vs. Opinion T-Chart.”</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ivity may simply be completed as a group, or it may be constructed so it’s more inter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each participant with a copy of both cards (one thumbs up, one thumbs down or one with “Evidence” and one with “Opinion”). Allow them to respond by raising the appropriate card.</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participants back to goals that were established in the morning.</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ice-breaker, have table groups  create an acrostic using the word M-E-N-T-O-R and post on the w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 to any questions from Day 1.</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three case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ne set for each individual in the tabl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CASE STUDY #1, all participants will individually read the observation data and, as a group, complete responses to the questions on page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 volunteer to be the beginning teacher and trainer(s) will role play mentor-beginning teacher post-observation conference. Have table groups debrief regarding their interpretation of the data and post-observation conference. Report out for three-five minutes as a large group, answering any questions the participants may have about data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participants into groups of six. Distribute copies of CASE STUDIES #2 and #3 to each table group. Participants will read both case stud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 of the participants at each table group will analyze data and generate questions for post-observation conference for CASE STUDY #2; the other half will do the same for CASE STUDY #3. (Odd numbers of persons at a table may mean that one person is an ob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alyzing data and generating questions, participants who analyzed cases study two will partner with a participant who analyzed case study three. Pairs will role model a post-observation conference between mentor and beginning teacher using the questions genera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ll participants have had an opportunity to role model, discuss as a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559" name=""/>
          <p:cNvGraphicFramePr/>
          <p:nvPr/>
        </p:nvGraphicFramePr>
        <p:xfrm>
          <a:off x="1828800" y="7086600"/>
          <a:ext cx="1060560" cy="1459080"/>
        </p:xfrm>
        <a:graphic>
          <a:graphicData uri="http://schemas.openxmlformats.org/drawingml/2006/table">
            <a:tbl>
              <a:tblPr/>
              <a:tblGrid>
                <a:gridCol w="1060560"/>
              </a:tblGrid>
              <a:tr h="246240">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rticipant #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rticipant #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rticipant #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60" name=""/>
          <p:cNvGraphicFramePr/>
          <p:nvPr/>
        </p:nvGraphicFramePr>
        <p:xfrm>
          <a:off x="3886200" y="7086600"/>
          <a:ext cx="1060560" cy="1459080"/>
        </p:xfrm>
        <a:graphic>
          <a:graphicData uri="http://schemas.openxmlformats.org/drawingml/2006/table">
            <a:tbl>
              <a:tblPr/>
              <a:tblGrid>
                <a:gridCol w="1060560"/>
              </a:tblGrid>
              <a:tr h="246240">
                <a:tc>
                  <a:txBody>
                    <a:bodyPr lIns="90000" rIns="90000" tIns="46800" bIns="46800" anchor="b">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rticipant #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rticipant #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rticipant #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61" name=""/>
          <p:cNvSpPr/>
          <p:nvPr/>
        </p:nvSpPr>
        <p:spPr>
          <a:xfrm>
            <a:off x="3200400" y="7086600"/>
            <a:ext cx="457200" cy="228600"/>
          </a:xfrm>
          <a:prstGeom prst="leftRightArrow">
            <a:avLst>
              <a:gd name="adj1" fmla="val 50000"/>
              <a:gd name="adj2" fmla="val 398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3200400" y="7696080"/>
            <a:ext cx="457200" cy="228600"/>
          </a:xfrm>
          <a:prstGeom prst="leftRightArrow">
            <a:avLst>
              <a:gd name="adj1" fmla="val 50000"/>
              <a:gd name="adj2" fmla="val 398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3200400" y="8305920"/>
            <a:ext cx="457200" cy="228600"/>
          </a:xfrm>
          <a:prstGeom prst="leftRightArrow">
            <a:avLst>
              <a:gd name="adj1" fmla="val 50000"/>
              <a:gd name="adj2" fmla="val 398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1219320" y="7162920"/>
            <a:ext cx="380880" cy="1447560"/>
          </a:xfrm>
          <a:custGeom>
            <a:avLst/>
            <a:gdLst>
              <a:gd name="textAreaLeft" fmla="*/ 50760 w 380880"/>
              <a:gd name="textAreaRight" fmla="*/ 330120 w 380880"/>
              <a:gd name="textAreaTop" fmla="*/ 253080 h 1447560"/>
              <a:gd name="textAreaBottom" fmla="*/ 1049400 h 14475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5105520" y="7086600"/>
            <a:ext cx="380880" cy="1447920"/>
          </a:xfrm>
          <a:custGeom>
            <a:avLst/>
            <a:gdLst>
              <a:gd name="textAreaLeft" fmla="*/ 50760 w 380880"/>
              <a:gd name="textAreaRight" fmla="*/ 330120 w 380880"/>
              <a:gd name="textAreaTop" fmla="*/ 253440 h 1447920"/>
              <a:gd name="textAreaBottom" fmla="*/ 1049760 h 1447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rot="16200000">
            <a:off x="285840" y="7639200"/>
            <a:ext cx="125712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se Study #2</a:t>
            </a:r>
            <a:endParaRPr b="0" lang="en-US" sz="1200" spc="-1" strike="noStrike">
              <a:solidFill>
                <a:srgbClr val="000000"/>
              </a:solidFill>
              <a:latin typeface="Arial"/>
            </a:endParaRPr>
          </a:p>
        </p:txBody>
      </p:sp>
      <p:sp>
        <p:nvSpPr>
          <p:cNvPr id="567" name=""/>
          <p:cNvSpPr/>
          <p:nvPr/>
        </p:nvSpPr>
        <p:spPr>
          <a:xfrm rot="5400000">
            <a:off x="5162040" y="7638840"/>
            <a:ext cx="125712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se Study #3</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 each table one of the difficult situations to brainstorm possible solutions or approaches that a mentor might ta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groups should chart their responses and report out to the large group.</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will brainstorm in table groups to create a list of non-negotiables for the mentor selection process in school divisions.</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importance of the role of the principal to the success of the mentoring program. Have brief whole-group discussion regarding points- “popcorn” out any points left out. </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importance of establishing accountability for the mentoring program through formative (ongoing) and summative evalu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ost Surveys (satisfa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act Lo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hly Reports (to principal and/or mentor coordinat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terly Benchmarks (toward program go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Discussion Groups (beginning teachers only, mentors only, beginning teachers &amp; men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thly Meetings (coordinators, beginning teachers only, mentors only, beginning teachers &amp; men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importance of analyzing data and adjusting the program accordingly.</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all participants to spend one minute silently reflecting on the last two days to identify the “most important point” from the two-day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to stand. Ask for a volunteer to share his/her “most important point.” If others have the same point, ask them to sit down. Continue until all participants are s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of Education shall establish, from such funds as may be appropriated by the General Assembly, mentor teacher programs utilizing specially trained public school teachers as mentors to provide assistance and professional support to teachers entering the profession and to improve the performance of experienced teachers who are not performing at an acceptable level. The Board shall issue guidelines for such mentor teacher programs and shall set criteria for beginning and experienced teacher participation, including self referral, and the qualifications and training of mentor teachers. Such guidelines shall provide that the mentor programs be administered by local school boards, with the assistance of an advisory committee made up of teachers and administrators, and that mentors (i) be classroom teachers who have achieved continuing contract status and who work in the same building as the teachers they are assisting or be instructional personnel who are assigned solely as mentors; (ii) be assigned a limited number of teachers at any time; however, instructional personnel who are not assigned solely as mentors should not be assigned to more than four teachers at any time; and (iii) guide teachers in the program through demonstrations, observations, and consultations to promote instructional excellence. Local school boards shall strive to provide adequate release time for mentor teachers during the contract day.</a:t>
            </a:r>
            <a:endParaRPr b="0" lang="en-US" sz="1200" spc="-1" strike="noStrike">
              <a:solidFill>
                <a:srgbClr val="000000"/>
              </a:solidFill>
              <a:latin typeface="Arial"/>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1" i="1" lang="en-US" sz="1200" spc="-1" strike="noStrike">
                <a:solidFill>
                  <a:srgbClr val="000000"/>
                </a:solidFill>
                <a:latin typeface="Arial"/>
              </a:rPr>
              <a:t>Guidelines for Mentor Teacher Programs for Beginning and Experienced Teachers</a:t>
            </a:r>
            <a:endParaRPr b="0" lang="en-US" sz="1200" spc="-1" strike="noStrike">
              <a:solidFill>
                <a:srgbClr val="000000"/>
              </a:solidFill>
              <a:latin typeface="Arial"/>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rginia Department of Education (June 22,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1F4A1F-8714-4403-A5DD-61723DF149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775F7A-21DC-4779-B3B0-5C6D9518E5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2ED4CC-05B4-432F-90ED-9442B48B45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3DF93A-592F-4963-A0FF-9EECFFD412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6FFBB-124C-4015-AB33-33A079310F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65BFD-A8FC-4C3C-9A9B-0F2190087E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A9A2AE-AE3D-423C-B894-9252D1DF43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855294-2F86-4328-B06C-5DED6C8C06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90419C5-7955-4B14-B472-A2257C3C36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1F78AB-9CC1-4671-B3BE-D77BFD056D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7E1C3A-3B2E-433C-8248-9F879EA3AA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074149-36EE-45C0-AEAB-8B57BF9233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2"/>
          <a:stretch/>
        </p:blipFill>
        <p:spPr>
          <a:xfrm>
            <a:off x="8229600" y="6248520"/>
            <a:ext cx="762120" cy="512640"/>
          </a:xfrm>
          <a:prstGeom prst="rect">
            <a:avLst/>
          </a:prstGeom>
          <a:ln w="0">
            <a:noFill/>
          </a:ln>
        </p:spPr>
      </p:pic>
      <p:sp>
        <p:nvSpPr>
          <p:cNvPr id="3" name=""/>
          <p:cNvSpPr/>
          <p:nvPr/>
        </p:nvSpPr>
        <p:spPr>
          <a:xfrm flipH="1">
            <a:off x="23400" y="6585120"/>
            <a:ext cx="8923320" cy="0"/>
          </a:xfrm>
          <a:prstGeom prst="line">
            <a:avLst/>
          </a:prstGeom>
          <a:ln w="12600">
            <a:solidFill>
              <a:srgbClr val="005da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193680" y="6541920"/>
            <a:ext cx="1544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mber 2007</a:t>
            </a:r>
            <a:endParaRPr b="0" lang="en-US" sz="1200" spc="-1" strike="noStrike">
              <a:solidFill>
                <a:srgbClr val="000000"/>
              </a:solidFill>
              <a:latin typeface="Arial"/>
            </a:endParaRPr>
          </a:p>
        </p:txBody>
      </p:sp>
      <p:sp>
        <p:nvSpPr>
          <p:cNvPr id="5" name="PlaceHolder 3"/>
          <p:cNvSpPr>
            <a:spLocks noGrp="1"/>
          </p:cNvSpPr>
          <p:nvPr>
            <p:ph type="sldNum" idx="1"/>
          </p:nvPr>
        </p:nvSpPr>
        <p:spPr>
          <a:xfrm>
            <a:off x="3463560" y="6546960"/>
            <a:ext cx="2133720" cy="311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8DB10-1C3C-4B88-B6EE-7950C5F916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m-w.com/dictionary/indication" TargetMode="External"/><Relationship Id="rId2" Type="http://schemas.openxmlformats.org/officeDocument/2006/relationships/hyperlink" Target="http://www.m-w.com/dictionary/testimony" TargetMode="External"/><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slideLayout" Target="../slideLayouts/slideLayout8.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wmf"/><Relationship Id="rId3" Type="http://schemas.openxmlformats.org/officeDocument/2006/relationships/slideLayout" Target="../slideLayouts/slideLayout8.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8.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8.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4.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04760"/>
            <a:ext cx="77724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br>
              <a:rPr sz="4800"/>
            </a:br>
            <a:endParaRPr b="0" lang="en-US" sz="8000" spc="-1" strike="noStrike">
              <a:solidFill>
                <a:srgbClr val="000000"/>
              </a:solidFill>
              <a:latin typeface="Arial"/>
            </a:endParaRPr>
          </a:p>
        </p:txBody>
      </p:sp>
      <p:sp>
        <p:nvSpPr>
          <p:cNvPr id="50" name=""/>
          <p:cNvSpPr/>
          <p:nvPr/>
        </p:nvSpPr>
        <p:spPr>
          <a:xfrm>
            <a:off x="841320" y="1371600"/>
            <a:ext cx="741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Arial"/>
              </a:rPr>
              <a:t>Virginia Department of Education</a:t>
            </a:r>
            <a:endParaRPr b="0" lang="en-US" sz="3600" spc="-1" strike="noStrike">
              <a:solidFill>
                <a:srgbClr val="000000"/>
              </a:solidFill>
              <a:latin typeface="Arial"/>
            </a:endParaRPr>
          </a:p>
        </p:txBody>
      </p:sp>
      <p:sp>
        <p:nvSpPr>
          <p:cNvPr id="51" name=""/>
          <p:cNvSpPr/>
          <p:nvPr/>
        </p:nvSpPr>
        <p:spPr>
          <a:xfrm>
            <a:off x="1722240" y="2316240"/>
            <a:ext cx="5578560" cy="2775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333ff"/>
                </a:solidFill>
                <a:latin typeface="Arial"/>
              </a:rPr>
              <a:t>MENTOR</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333ff"/>
                </a:solidFill>
                <a:latin typeface="Arial"/>
              </a:rPr>
              <a:t>TRAINING</a:t>
            </a:r>
            <a:endParaRPr b="0" lang="en-US" sz="8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9144000" cy="11239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genda: Day 1</a:t>
            </a:r>
            <a:endParaRPr b="0" lang="en-US" sz="4800" spc="-1" strike="noStrike">
              <a:solidFill>
                <a:srgbClr val="000000"/>
              </a:solidFill>
              <a:latin typeface="Arial"/>
            </a:endParaRPr>
          </a:p>
        </p:txBody>
      </p:sp>
      <p:sp>
        <p:nvSpPr>
          <p:cNvPr id="79" name="PlaceHolder 2"/>
          <p:cNvSpPr>
            <a:spLocks noGrp="1"/>
          </p:cNvSpPr>
          <p:nvPr>
            <p:ph/>
          </p:nvPr>
        </p:nvSpPr>
        <p:spPr>
          <a:xfrm>
            <a:off x="258480" y="1320480"/>
            <a:ext cx="8575560" cy="4770360"/>
          </a:xfrm>
          <a:prstGeom prst="rect">
            <a:avLst/>
          </a:prstGeom>
          <a:noFill/>
          <a:ln w="0">
            <a:noFill/>
          </a:ln>
        </p:spPr>
        <p:txBody>
          <a:bodyPr lIns="90000" rIns="90000" tIns="46800" bIns="46800" anchor="t">
            <a:normAutofit fontScale="92000"/>
          </a:bodyPr>
          <a:p>
            <a:pPr marL="315360" indent="-315360">
              <a:lnSpc>
                <a:spcPct val="90000"/>
              </a:lnSpc>
              <a:spcAft>
                <a:spcPts val="1451"/>
              </a:spcAft>
              <a:buClr>
                <a:srgbClr val="000000"/>
              </a:buClr>
              <a:buFont typeface="Arial"/>
              <a:buChar char="•"/>
              <a:tabLst>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etting to know the participants</a:t>
            </a:r>
            <a:endParaRPr b="0" lang="en-US" sz="2900" spc="-1" strike="noStrike">
              <a:solidFill>
                <a:srgbClr val="000000"/>
              </a:solidFill>
              <a:latin typeface="Arial"/>
            </a:endParaRPr>
          </a:p>
          <a:p>
            <a:pPr marL="315360" indent="-315360">
              <a:lnSpc>
                <a:spcPct val="90000"/>
              </a:lnSpc>
              <a:spcAft>
                <a:spcPts val="1451"/>
              </a:spcAft>
              <a:buClr>
                <a:srgbClr val="000000"/>
              </a:buClr>
              <a:buFont typeface="Arial"/>
              <a:buChar char="•"/>
              <a:tabLst>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elcome and introductions</a:t>
            </a:r>
            <a:endParaRPr b="0" lang="en-US" sz="2900" spc="-1" strike="noStrike">
              <a:solidFill>
                <a:srgbClr val="000000"/>
              </a:solidFill>
              <a:latin typeface="Arial"/>
            </a:endParaRPr>
          </a:p>
          <a:p>
            <a:pPr marL="315360" indent="-315360">
              <a:lnSpc>
                <a:spcPct val="90000"/>
              </a:lnSpc>
              <a:spcAft>
                <a:spcPts val="1451"/>
              </a:spcAft>
              <a:buClr>
                <a:srgbClr val="000000"/>
              </a:buClr>
              <a:buFont typeface="Arial"/>
              <a:buChar char="•"/>
              <a:tabLst>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stablish purpose of the training</a:t>
            </a:r>
            <a:endParaRPr b="0" lang="en-US" sz="2900" spc="-1" strike="noStrike">
              <a:solidFill>
                <a:srgbClr val="000000"/>
              </a:solidFill>
              <a:latin typeface="Arial"/>
            </a:endParaRPr>
          </a:p>
          <a:p>
            <a:pPr marL="315360" indent="-315360">
              <a:lnSpc>
                <a:spcPct val="90000"/>
              </a:lnSpc>
              <a:spcAft>
                <a:spcPts val="1451"/>
              </a:spcAft>
              <a:buClr>
                <a:srgbClr val="000000"/>
              </a:buClr>
              <a:buFont typeface="Arial"/>
              <a:buChar char="•"/>
              <a:tabLst>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stablish Goals/Expectations  </a:t>
            </a:r>
            <a:endParaRPr b="0" lang="en-US" sz="2900" spc="-1" strike="noStrike">
              <a:solidFill>
                <a:srgbClr val="000000"/>
              </a:solidFill>
              <a:latin typeface="Arial"/>
            </a:endParaRPr>
          </a:p>
          <a:p>
            <a:pPr marL="315360" indent="-315360">
              <a:lnSpc>
                <a:spcPct val="90000"/>
              </a:lnSpc>
              <a:spcAft>
                <a:spcPts val="1451"/>
              </a:spcAft>
              <a:buClr>
                <a:srgbClr val="000000"/>
              </a:buClr>
              <a:buFont typeface="Arial"/>
              <a:buChar char="•"/>
              <a:tabLst>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y mentoring?</a:t>
            </a:r>
            <a:endParaRPr b="0" lang="en-US" sz="2900" spc="-1" strike="noStrike">
              <a:solidFill>
                <a:srgbClr val="000000"/>
              </a:solidFill>
              <a:latin typeface="Arial"/>
            </a:endParaRPr>
          </a:p>
          <a:p>
            <a:pPr marL="315360" indent="-315360">
              <a:lnSpc>
                <a:spcPct val="90000"/>
              </a:lnSpc>
              <a:spcAft>
                <a:spcPts val="1451"/>
              </a:spcAft>
              <a:buClr>
                <a:srgbClr val="000000"/>
              </a:buClr>
              <a:buFont typeface="Arial"/>
              <a:buChar char="•"/>
              <a:tabLst>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nderstanding the needs of beginning teachers</a:t>
            </a:r>
            <a:endParaRPr b="0" lang="en-US" sz="2900" spc="-1" strike="noStrike">
              <a:solidFill>
                <a:srgbClr val="000000"/>
              </a:solidFill>
              <a:latin typeface="Arial"/>
            </a:endParaRPr>
          </a:p>
          <a:p>
            <a:pPr marL="315360" indent="-315360">
              <a:lnSpc>
                <a:spcPct val="90000"/>
              </a:lnSpc>
              <a:spcAft>
                <a:spcPts val="1451"/>
              </a:spcAft>
              <a:buClr>
                <a:srgbClr val="000000"/>
              </a:buClr>
              <a:buFont typeface="Arial"/>
              <a:buChar char="•"/>
              <a:tabLst>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haracteristics of effective mentoring</a:t>
            </a:r>
            <a:endParaRPr b="0" lang="en-US" sz="2900" spc="-1" strike="noStrike">
              <a:solidFill>
                <a:srgbClr val="000000"/>
              </a:solidFill>
              <a:latin typeface="Arial"/>
            </a:endParaRPr>
          </a:p>
          <a:p>
            <a:pPr marL="315360" indent="-315360">
              <a:lnSpc>
                <a:spcPct val="90000"/>
              </a:lnSpc>
              <a:spcAft>
                <a:spcPts val="1451"/>
              </a:spcAft>
              <a:buClr>
                <a:srgbClr val="000000"/>
              </a:buClr>
              <a:buFont typeface="Arial"/>
              <a:buChar char="•"/>
              <a:tabLst>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nguage of support</a:t>
            </a:r>
            <a:endParaRPr b="0" lang="en-US" sz="2900" spc="-1" strike="noStrike">
              <a:solidFill>
                <a:srgbClr val="000000"/>
              </a:solidFill>
              <a:latin typeface="Arial"/>
            </a:endParaRPr>
          </a:p>
          <a:p>
            <a:pPr marL="315360" indent="-315360">
              <a:lnSpc>
                <a:spcPct val="90000"/>
              </a:lnSpc>
              <a:spcAft>
                <a:spcPts val="1451"/>
              </a:spcAft>
              <a:buClr>
                <a:srgbClr val="000000"/>
              </a:buClr>
              <a:buFont typeface="Arial"/>
              <a:buChar char="•"/>
              <a:tabLst>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mative assessment </a:t>
            </a:r>
            <a:endParaRPr b="0" lang="en-US" sz="2900" spc="-1" strike="noStrike">
              <a:solidFill>
                <a:srgbClr val="000000"/>
              </a:solidFill>
              <a:latin typeface="Arial"/>
            </a:endParaRPr>
          </a:p>
        </p:txBody>
      </p:sp>
      <p:pic>
        <p:nvPicPr>
          <p:cNvPr id="80" name="" descr=""/>
          <p:cNvPicPr/>
          <p:nvPr/>
        </p:nvPicPr>
        <p:blipFill>
          <a:blip r:embed="rId1"/>
          <a:stretch/>
        </p:blipFill>
        <p:spPr>
          <a:xfrm>
            <a:off x="6415200" y="1560600"/>
            <a:ext cx="1939680" cy="2448000"/>
          </a:xfrm>
          <a:prstGeom prst="rect">
            <a:avLst/>
          </a:prstGeom>
          <a:ln w="0">
            <a:noFill/>
          </a:ln>
        </p:spPr>
      </p:pic>
      <p:sp>
        <p:nvSpPr>
          <p:cNvPr id="4" name="PlaceHolder 3"/>
          <p:cNvSpPr>
            <a:spLocks noGrp="1"/>
          </p:cNvSpPr>
          <p:nvPr>
            <p:ph type="sldNum" idx="1"/>
          </p:nvPr>
        </p:nvSpPr>
        <p:spPr/>
        <p:txBody>
          <a:bodyPr/>
          <a:p>
            <a:fld id="{A996CB4A-D0CF-411C-80A2-5081188033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11494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elcome &amp; Introductions</a:t>
            </a:r>
            <a:endParaRPr b="0" lang="en-US" sz="4800" spc="-1" strike="noStrike">
              <a:solidFill>
                <a:srgbClr val="000000"/>
              </a:solidFill>
              <a:latin typeface="Arial"/>
            </a:endParaRPr>
          </a:p>
        </p:txBody>
      </p:sp>
      <p:sp>
        <p:nvSpPr>
          <p:cNvPr id="82" name="PlaceHolder 2"/>
          <p:cNvSpPr>
            <a:spLocks noGrp="1"/>
          </p:cNvSpPr>
          <p:nvPr>
            <p:ph/>
          </p:nvPr>
        </p:nvSpPr>
        <p:spPr>
          <a:xfrm>
            <a:off x="838080" y="1565280"/>
            <a:ext cx="7315200" cy="4495680"/>
          </a:xfrm>
          <a:prstGeom prst="rect">
            <a:avLst/>
          </a:prstGeom>
          <a:noFill/>
          <a:ln w="0">
            <a:noFill/>
          </a:ln>
        </p:spPr>
        <p:txBody>
          <a:bodyPr lIns="90000" rIns="90000" tIns="46800" bIns="46800" anchor="t">
            <a:normAutofit/>
          </a:bodyPr>
          <a:p>
            <a:pPr marL="343080" indent="-343080">
              <a:spcAft>
                <a:spcPts val="1800"/>
              </a:spcAft>
              <a:buClr>
                <a:srgbClr val="000000"/>
              </a:buClr>
              <a:buFont typeface="Arial"/>
              <a:buChar char="•"/>
              <a:tabLst>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lease introduce yourself to your table group.  </a:t>
            </a:r>
            <a:endParaRPr b="0" lang="en-US" sz="3600" spc="-1" strike="noStrike">
              <a:solidFill>
                <a:srgbClr val="000000"/>
              </a:solidFill>
              <a:latin typeface="Arial"/>
            </a:endParaRPr>
          </a:p>
          <a:p>
            <a:pPr marL="343080" indent="-343080">
              <a:spcAft>
                <a:spcPts val="1800"/>
              </a:spcAft>
              <a:buClr>
                <a:srgbClr val="000000"/>
              </a:buClr>
              <a:buFont typeface="Arial"/>
              <a:buChar char="•"/>
              <a:tabLst>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ch table group should develop ONE goal/expectation regarding today’s training. </a:t>
            </a:r>
            <a:endParaRPr b="0" lang="en-US" sz="3600" spc="-1" strike="noStrike">
              <a:solidFill>
                <a:srgbClr val="000000"/>
              </a:solidFill>
              <a:latin typeface="Arial"/>
            </a:endParaRPr>
          </a:p>
          <a:p>
            <a:pPr marL="343080" indent="-343080">
              <a:spcAft>
                <a:spcPts val="1800"/>
              </a:spcAft>
              <a:buClr>
                <a:srgbClr val="000000"/>
              </a:buClr>
              <a:buFont typeface="Arial"/>
              <a:buChar char="•"/>
              <a:tabLst>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 prepared to report out to the entire group. </a:t>
            </a: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FBF96E44-F3D4-4F0C-A8BA-DCB9263A18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11653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y Mentoring?</a:t>
            </a:r>
            <a:endParaRPr b="0" lang="en-US" sz="4800" spc="-1" strike="noStrike">
              <a:solidFill>
                <a:srgbClr val="000000"/>
              </a:solidFill>
              <a:latin typeface="Arial"/>
            </a:endParaRPr>
          </a:p>
        </p:txBody>
      </p:sp>
      <p:sp>
        <p:nvSpPr>
          <p:cNvPr id="84" name=""/>
          <p:cNvSpPr/>
          <p:nvPr/>
        </p:nvSpPr>
        <p:spPr>
          <a:xfrm>
            <a:off x="824040" y="5965920"/>
            <a:ext cx="76914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ff"/>
                </a:solidFill>
                <a:latin typeface="Arial"/>
              </a:rPr>
              <a:t>Guidelines for Mentoring Teacher Programs for Beginning &amp; Experienced Teachers</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Arial"/>
              </a:rPr>
              <a:t>Virginia Department of Education</a:t>
            </a:r>
            <a:endParaRPr b="0" lang="en-US" sz="1400" spc="-1" strike="noStrike">
              <a:solidFill>
                <a:srgbClr val="000000"/>
              </a:solidFill>
              <a:latin typeface="Arial"/>
            </a:endParaRPr>
          </a:p>
        </p:txBody>
      </p:sp>
      <p:sp>
        <p:nvSpPr>
          <p:cNvPr id="85" name=""/>
          <p:cNvSpPr/>
          <p:nvPr/>
        </p:nvSpPr>
        <p:spPr>
          <a:xfrm>
            <a:off x="7682040" y="163980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2"/>
          <p:cNvSpPr>
            <a:spLocks noGrp="1"/>
          </p:cNvSpPr>
          <p:nvPr>
            <p:ph/>
          </p:nvPr>
        </p:nvSpPr>
        <p:spPr>
          <a:xfrm>
            <a:off x="298080" y="1243080"/>
            <a:ext cx="8845560" cy="4713120"/>
          </a:xfrm>
          <a:prstGeom prst="rect">
            <a:avLst/>
          </a:prstGeom>
          <a:noFill/>
          <a:ln w="0">
            <a:noFill/>
          </a:ln>
        </p:spPr>
        <p:txBody>
          <a:bodyPr lIns="90000" rIns="90000" tIns="46800" bIns="46800" anchor="t">
            <a:normAutofit fontScale="99000"/>
          </a:bodyPr>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aining quality teachers</a:t>
            </a:r>
            <a:endParaRPr b="0" lang="en-US" sz="2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 beginning teachers’ skills and performance</a:t>
            </a:r>
            <a:endParaRPr b="0" lang="en-US" sz="2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ing teacher morale, communications and collegiality</a:t>
            </a:r>
            <a:endParaRPr b="0" lang="en-US" sz="2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a sense of professionalism, positive attitude</a:t>
            </a:r>
            <a:endParaRPr b="0" lang="en-US" sz="2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ing a seamless transition into the first year of teaching</a:t>
            </a:r>
            <a:endParaRPr b="0" lang="en-US" sz="2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ting theory into practice</a:t>
            </a:r>
            <a:endParaRPr b="0" lang="en-US" sz="2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ing teacher isolation</a:t>
            </a:r>
            <a:endParaRPr b="0" lang="en-US" sz="2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self-reflecti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26EA4A-59D8-48BE-8692-8DE53398A3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102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8" name="PlaceHolder 2"/>
          <p:cNvSpPr>
            <a:spLocks noGrp="1"/>
          </p:cNvSpPr>
          <p:nvPr>
            <p:ph/>
          </p:nvPr>
        </p:nvSpPr>
        <p:spPr>
          <a:xfrm>
            <a:off x="393480" y="1160280"/>
            <a:ext cx="8272440" cy="539892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Teacher Retention Statistics</a:t>
            </a:r>
            <a:br>
              <a:rPr sz="2400"/>
            </a:br>
            <a:endParaRPr b="0" lang="en-US" sz="4000" spc="-1" strike="noStrike">
              <a:solidFill>
                <a:srgbClr val="000000"/>
              </a:solidFill>
              <a:latin typeface="Arial"/>
            </a:endParaRPr>
          </a:p>
          <a:p>
            <a:pPr marL="339480" indent="-3394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7% of teachers leave after one year</a:t>
            </a:r>
            <a:endParaRPr b="0" lang="en-US" sz="3600" spc="-1" strike="noStrike">
              <a:solidFill>
                <a:srgbClr val="000000"/>
              </a:solidFill>
              <a:latin typeface="Arial"/>
            </a:endParaRPr>
          </a:p>
          <a:p>
            <a:pPr marL="339480" indent="-3394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0% of teachers leave after two years</a:t>
            </a:r>
            <a:endParaRPr b="0" lang="en-US" sz="3600" spc="-1" strike="noStrike">
              <a:solidFill>
                <a:srgbClr val="000000"/>
              </a:solidFill>
              <a:latin typeface="Arial"/>
            </a:endParaRPr>
          </a:p>
          <a:p>
            <a:pPr marL="339480" indent="-3394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0% leave after three years</a:t>
            </a:r>
            <a:endParaRPr b="0" lang="en-US" sz="3600" spc="-1" strike="noStrike">
              <a:solidFill>
                <a:srgbClr val="000000"/>
              </a:solidFill>
              <a:latin typeface="Arial"/>
            </a:endParaRPr>
          </a:p>
          <a:p>
            <a:pPr marL="339480" indent="-3394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arly half leave after five years</a:t>
            </a:r>
            <a:endParaRPr b="0" lang="en-US" sz="3600" spc="-1" strike="noStrike">
              <a:solidFill>
                <a:srgbClr val="000000"/>
              </a:solidFill>
              <a:latin typeface="Arial"/>
            </a:endParaRPr>
          </a:p>
          <a:p>
            <a:pPr marL="33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394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ff"/>
                </a:solidFill>
                <a:latin typeface="Arial"/>
              </a:rPr>
              <a:t>Mentoring Beginning Teachers: Guiding, Reflecting, Coaching</a:t>
            </a:r>
            <a:endParaRPr b="0" lang="en-US" sz="1400" spc="-1" strike="noStrike">
              <a:solidFill>
                <a:srgbClr val="000000"/>
              </a:solidFill>
              <a:latin typeface="Arial"/>
            </a:endParaRPr>
          </a:p>
          <a:p>
            <a:pPr marL="339480" indent="0" algn="r">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Arial"/>
              </a:rPr>
              <a:t>Boreen, Johnson, Niday and Potts (2000)</a:t>
            </a:r>
            <a:endParaRPr b="0" lang="en-US" sz="1400" spc="-1" strike="noStrike">
              <a:solidFill>
                <a:srgbClr val="000000"/>
              </a:solidFill>
              <a:latin typeface="Arial"/>
            </a:endParaRPr>
          </a:p>
          <a:p>
            <a:pPr marL="339480" indent="0" algn="r">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p:txBody>
      </p:sp>
      <p:sp>
        <p:nvSpPr>
          <p:cNvPr id="89" name=""/>
          <p:cNvSpPr/>
          <p:nvPr/>
        </p:nvSpPr>
        <p:spPr>
          <a:xfrm>
            <a:off x="0" y="0"/>
            <a:ext cx="9144000" cy="11350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y Mentoring?</a:t>
            </a:r>
            <a:endParaRPr b="0" lang="en-US" sz="4800" spc="-1" strike="noStrike">
              <a:solidFill>
                <a:srgbClr val="000000"/>
              </a:solidFill>
              <a:latin typeface="Arial"/>
            </a:endParaRPr>
          </a:p>
        </p:txBody>
      </p:sp>
      <p:sp>
        <p:nvSpPr>
          <p:cNvPr id="4" name="PlaceHolder 3"/>
          <p:cNvSpPr>
            <a:spLocks noGrp="1"/>
          </p:cNvSpPr>
          <p:nvPr>
            <p:ph type="sldNum" idx="1"/>
          </p:nvPr>
        </p:nvSpPr>
        <p:spPr/>
        <p:txBody>
          <a:bodyPr/>
          <a:p>
            <a:fld id="{3595BC5B-9414-43AD-9347-FF1965D750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y Mentoring?</a:t>
            </a:r>
            <a:endParaRPr b="0" lang="en-US" sz="4800" spc="-1" strike="noStrike">
              <a:solidFill>
                <a:srgbClr val="000000"/>
              </a:solidFill>
              <a:latin typeface="Arial"/>
            </a:endParaRPr>
          </a:p>
        </p:txBody>
      </p:sp>
      <p:sp>
        <p:nvSpPr>
          <p:cNvPr id="91" name="PlaceHolder 2"/>
          <p:cNvSpPr>
            <a:spLocks noGrp="1"/>
          </p:cNvSpPr>
          <p:nvPr>
            <p:ph/>
          </p:nvPr>
        </p:nvSpPr>
        <p:spPr>
          <a:xfrm>
            <a:off x="685800" y="1752120"/>
            <a:ext cx="7772400" cy="4496040"/>
          </a:xfrm>
          <a:prstGeom prst="rect">
            <a:avLst/>
          </a:prstGeom>
          <a:noFill/>
          <a:ln w="0">
            <a:noFill/>
          </a:ln>
        </p:spPr>
        <p:txBody>
          <a:bodyPr lIns="90000" rIns="90000" tIns="46800" bIns="46800" anchor="t">
            <a:normAutofit/>
          </a:bodyPr>
          <a:p>
            <a:pPr marL="343080" indent="0" algn="ctr">
              <a:lnSpc>
                <a:spcPct val="8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Cost Implications</a:t>
            </a:r>
            <a:endParaRPr b="0" lang="en-US" sz="3600" spc="-1" strike="noStrike">
              <a:solidFill>
                <a:srgbClr val="000000"/>
              </a:solidFill>
              <a:latin typeface="Arial"/>
            </a:endParaRPr>
          </a:p>
          <a:p>
            <a:pPr marL="343080" indent="-343080">
              <a:lnSpc>
                <a:spcPct val="8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st of replacing a teacher is 25-35% of the annual salary and benefit costs.</a:t>
            </a:r>
            <a:endParaRPr b="0" lang="en-US" sz="3600" spc="-1" strike="noStrike">
              <a:solidFill>
                <a:srgbClr val="000000"/>
              </a:solidFill>
              <a:latin typeface="Arial"/>
            </a:endParaRPr>
          </a:p>
          <a:p>
            <a:pPr marL="343080" indent="-343080">
              <a:lnSpc>
                <a:spcPct val="80000"/>
              </a:lnSpc>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costs $11,000 every time a teacher leaves the profession.</a:t>
            </a:r>
            <a:endParaRPr b="0" lang="en-US" sz="3600" spc="-1" strike="noStrike">
              <a:solidFill>
                <a:srgbClr val="000000"/>
              </a:solidFill>
              <a:latin typeface="Arial"/>
            </a:endParaRPr>
          </a:p>
          <a:p>
            <a:pPr marL="34308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lnSpc>
                <a:spcPct val="9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ff"/>
                </a:solidFill>
                <a:latin typeface="Arial"/>
              </a:rPr>
              <a:t>Center of Best Practices of the National Governors Associatio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EC66494-B9E6-4205-BD08-3AFEDC6043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5876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Guidelines for Mentor </a:t>
            </a:r>
            <a:br>
              <a:rPr sz="4800"/>
            </a:br>
            <a:r>
              <a:rPr b="1" lang="en-US" sz="4800" spc="-1" strike="noStrike">
                <a:solidFill>
                  <a:srgbClr val="000000"/>
                </a:solidFill>
                <a:latin typeface="Arial"/>
              </a:rPr>
              <a:t>Teacher Programs</a:t>
            </a:r>
            <a:endParaRPr b="0" lang="en-US" sz="4800" spc="-1" strike="noStrike">
              <a:solidFill>
                <a:srgbClr val="000000"/>
              </a:solidFill>
              <a:latin typeface="Arial"/>
            </a:endParaRPr>
          </a:p>
        </p:txBody>
      </p:sp>
      <p:sp>
        <p:nvSpPr>
          <p:cNvPr id="93" name="PlaceHolder 2"/>
          <p:cNvSpPr>
            <a:spLocks noGrp="1"/>
          </p:cNvSpPr>
          <p:nvPr>
            <p:ph/>
          </p:nvPr>
        </p:nvSpPr>
        <p:spPr>
          <a:xfrm>
            <a:off x="493560" y="1645920"/>
            <a:ext cx="8143920" cy="44514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1999 Virginia General Assembly enacted the Education Accountability and Quality Enhancement Act … aimed at supporting educator productivity and accountability. The elements of the legislation include the … mentoring of new teachers and those experiencing difficulties as part of the training of continuum for all teachers. The legislation amended the Code of Virginia </a:t>
            </a:r>
            <a:r>
              <a:rPr b="0" lang="en-US" sz="2800" spc="-1" strike="noStrike">
                <a:solidFill>
                  <a:srgbClr val="000000"/>
                </a:solidFill>
                <a:latin typeface="Arial"/>
                <a:ea typeface="Arial"/>
              </a:rPr>
              <a:t>§ 22.1-305.1 Mentor Teacher Program.”</a:t>
            </a:r>
            <a:endParaRPr b="0" lang="en-US" sz="2800" spc="-1" strike="noStrike">
              <a:solidFill>
                <a:srgbClr val="000000"/>
              </a:solidFill>
              <a:latin typeface="Arial"/>
            </a:endParaRPr>
          </a:p>
        </p:txBody>
      </p:sp>
      <p:sp>
        <p:nvSpPr>
          <p:cNvPr id="94" name=""/>
          <p:cNvSpPr/>
          <p:nvPr/>
        </p:nvSpPr>
        <p:spPr>
          <a:xfrm>
            <a:off x="990720" y="6004080"/>
            <a:ext cx="7238880" cy="5212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ff"/>
                </a:solidFill>
                <a:latin typeface="Arial"/>
              </a:rPr>
              <a:t>Guidelines for Mentor Teacher Programs for Beginning and Experienced Teachers</a:t>
            </a:r>
            <a:r>
              <a:rPr b="0" i="1" lang="en-US" sz="1400" spc="-1" strike="noStrike">
                <a:solidFill>
                  <a:srgbClr val="3333ff"/>
                </a:solidFill>
                <a:latin typeface="Arial"/>
              </a:rPr>
              <a:t> </a:t>
            </a:r>
            <a:endParaRPr b="0" lang="en-US" sz="1400" spc="-1" strike="noStrike">
              <a:solidFill>
                <a:srgbClr val="000000"/>
              </a:solidFill>
              <a:latin typeface="Arial"/>
            </a:endParaRPr>
          </a:p>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Arial"/>
              </a:rPr>
              <a:t>Virginia Department of Education</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F5D445-BFDF-4F94-B7C9-37B808455F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y Mentoring?</a:t>
            </a:r>
            <a:endParaRPr b="0" lang="en-US" sz="4800" spc="-1" strike="noStrike">
              <a:solidFill>
                <a:srgbClr val="000000"/>
              </a:solidFill>
              <a:latin typeface="Arial"/>
            </a:endParaRPr>
          </a:p>
        </p:txBody>
      </p:sp>
      <p:sp>
        <p:nvSpPr>
          <p:cNvPr id="96"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IT’S THE LAW!!</a:t>
            </a:r>
            <a:endParaRPr b="0" lang="en-US" sz="80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de of Virginia §22.1-305.1</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7" name="" descr=""/>
          <p:cNvPicPr/>
          <p:nvPr/>
        </p:nvPicPr>
        <p:blipFill>
          <a:blip r:embed="rId1"/>
          <a:stretch/>
        </p:blipFill>
        <p:spPr>
          <a:xfrm>
            <a:off x="2971800" y="3733920"/>
            <a:ext cx="3124080" cy="2292120"/>
          </a:xfrm>
          <a:prstGeom prst="rect">
            <a:avLst/>
          </a:prstGeom>
          <a:ln w="0">
            <a:noFill/>
          </a:ln>
        </p:spPr>
      </p:pic>
      <p:sp>
        <p:nvSpPr>
          <p:cNvPr id="4" name="PlaceHolder 3"/>
          <p:cNvSpPr>
            <a:spLocks noGrp="1"/>
          </p:cNvSpPr>
          <p:nvPr>
            <p:ph type="sldNum" idx="1"/>
          </p:nvPr>
        </p:nvSpPr>
        <p:spPr/>
        <p:txBody>
          <a:bodyPr/>
          <a:p>
            <a:fld id="{41BC73B7-D296-4234-831C-2368484FA3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21002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Understanding the Needs </a:t>
            </a:r>
            <a:br>
              <a:rPr sz="4800"/>
            </a:br>
            <a:r>
              <a:rPr b="1" lang="en-US" sz="4800" spc="-1" strike="noStrike">
                <a:solidFill>
                  <a:srgbClr val="000000"/>
                </a:solidFill>
                <a:latin typeface="Arial"/>
              </a:rPr>
              <a:t>of the Beginning Teacher</a:t>
            </a:r>
            <a:endParaRPr b="0" lang="en-US" sz="4800" spc="-1" strike="noStrike">
              <a:solidFill>
                <a:srgbClr val="000000"/>
              </a:solidFill>
              <a:latin typeface="Arial"/>
            </a:endParaRPr>
          </a:p>
        </p:txBody>
      </p:sp>
      <p:sp>
        <p:nvSpPr>
          <p:cNvPr id="99" name="PlaceHolder 2"/>
          <p:cNvSpPr>
            <a:spLocks noGrp="1"/>
          </p:cNvSpPr>
          <p:nvPr>
            <p:ph/>
          </p:nvPr>
        </p:nvSpPr>
        <p:spPr>
          <a:xfrm>
            <a:off x="337680" y="2108160"/>
            <a:ext cx="6443640" cy="4299120"/>
          </a:xfrm>
          <a:prstGeom prst="rect">
            <a:avLst/>
          </a:prstGeom>
          <a:noFill/>
          <a:ln w="0">
            <a:noFill/>
          </a:ln>
        </p:spPr>
        <p:txBody>
          <a:bodyPr lIns="90000" rIns="90000" tIns="46800" bIns="46800" anchor="t">
            <a:normAutofit/>
          </a:bodyPr>
          <a:p>
            <a:pPr marL="343080" indent="-3430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 in table groups.</a:t>
            </a:r>
            <a:endParaRPr b="0" lang="en-US" sz="4000" spc="-1" strike="noStrike">
              <a:solidFill>
                <a:srgbClr val="000000"/>
              </a:solidFill>
              <a:latin typeface="Arial"/>
            </a:endParaRPr>
          </a:p>
          <a:p>
            <a:pPr marL="343080" indent="-343080">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t chart paper and markers.</a:t>
            </a:r>
            <a:endParaRPr b="0" lang="en-US" sz="4000" spc="-1" strike="noStrike">
              <a:solidFill>
                <a:srgbClr val="000000"/>
              </a:solidFill>
              <a:latin typeface="Arial"/>
            </a:endParaRPr>
          </a:p>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w a picture of what a first-year teacher looks like.</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00" name="" descr=""/>
          <p:cNvPicPr/>
          <p:nvPr/>
        </p:nvPicPr>
        <p:blipFill>
          <a:blip r:embed="rId1"/>
          <a:stretch/>
        </p:blipFill>
        <p:spPr>
          <a:xfrm>
            <a:off x="6324480" y="2171880"/>
            <a:ext cx="2114640" cy="2514600"/>
          </a:xfrm>
          <a:prstGeom prst="rect">
            <a:avLst/>
          </a:prstGeom>
          <a:ln w="0">
            <a:noFill/>
          </a:ln>
        </p:spPr>
      </p:pic>
      <p:sp>
        <p:nvSpPr>
          <p:cNvPr id="4" name="PlaceHolder 3"/>
          <p:cNvSpPr>
            <a:spLocks noGrp="1"/>
          </p:cNvSpPr>
          <p:nvPr>
            <p:ph type="sldNum" idx="1"/>
          </p:nvPr>
        </p:nvSpPr>
        <p:spPr/>
        <p:txBody>
          <a:bodyPr/>
          <a:p>
            <a:fld id="{7213657E-5E73-43F4-A3BC-470A83E4EE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20653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st Commonly Reported Problems </a:t>
            </a:r>
            <a:br>
              <a:rPr sz="4000"/>
            </a:br>
            <a:r>
              <a:rPr b="1" lang="en-US" sz="4000" spc="-1" strike="noStrike">
                <a:solidFill>
                  <a:srgbClr val="000000"/>
                </a:solidFill>
                <a:latin typeface="Arial"/>
              </a:rPr>
              <a:t>Facing Beginning Teachers</a:t>
            </a:r>
            <a:endParaRPr b="0" lang="en-US" sz="4000" spc="-1" strike="noStrike">
              <a:solidFill>
                <a:srgbClr val="000000"/>
              </a:solidFill>
              <a:latin typeface="Arial"/>
            </a:endParaRPr>
          </a:p>
        </p:txBody>
      </p:sp>
      <p:sp>
        <p:nvSpPr>
          <p:cNvPr id="102" name="PlaceHolder 2"/>
          <p:cNvSpPr>
            <a:spLocks noGrp="1"/>
          </p:cNvSpPr>
          <p:nvPr>
            <p:ph/>
          </p:nvPr>
        </p:nvSpPr>
        <p:spPr>
          <a:xfrm>
            <a:off x="928800" y="2077920"/>
            <a:ext cx="7867440" cy="4780080"/>
          </a:xfrm>
          <a:prstGeom prst="rect">
            <a:avLst/>
          </a:prstGeom>
          <a:noFill/>
          <a:ln w="0">
            <a:noFill/>
          </a:ln>
        </p:spPr>
        <p:txBody>
          <a:bodyPr lIns="90000" rIns="90000" tIns="46800" bIns="46800" anchor="t">
            <a:normAutofit/>
          </a:bodyPr>
          <a:p>
            <a:pPr marL="343080" indent="-343080">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ipline</a:t>
            </a:r>
            <a:endParaRPr b="0" lang="en-US" sz="2400" spc="-1" strike="noStrike">
              <a:solidFill>
                <a:srgbClr val="000000"/>
              </a:solidFill>
              <a:latin typeface="Arial"/>
            </a:endParaRPr>
          </a:p>
          <a:p>
            <a:pPr marL="343080" indent="-343080">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ing students</a:t>
            </a:r>
            <a:endParaRPr b="0" lang="en-US" sz="2400" spc="-1" strike="noStrike">
              <a:solidFill>
                <a:srgbClr val="000000"/>
              </a:solidFill>
              <a:latin typeface="Arial"/>
            </a:endParaRPr>
          </a:p>
          <a:p>
            <a:pPr marL="343080" indent="-343080">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ling with individual differences</a:t>
            </a:r>
            <a:endParaRPr b="0" lang="en-US" sz="2400" spc="-1" strike="noStrike">
              <a:solidFill>
                <a:srgbClr val="000000"/>
              </a:solidFill>
              <a:latin typeface="Arial"/>
            </a:endParaRPr>
          </a:p>
          <a:p>
            <a:pPr marL="343080" indent="-343080">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 relations</a:t>
            </a:r>
            <a:endParaRPr b="0" lang="en-US" sz="2400" spc="-1" strike="noStrike">
              <a:solidFill>
                <a:srgbClr val="000000"/>
              </a:solidFill>
              <a:latin typeface="Arial"/>
            </a:endParaRPr>
          </a:p>
          <a:p>
            <a:pPr marL="343080" indent="-343080">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class work</a:t>
            </a:r>
            <a:endParaRPr b="0" lang="en-US" sz="2400" spc="-1" strike="noStrike">
              <a:solidFill>
                <a:srgbClr val="000000"/>
              </a:solidFill>
              <a:latin typeface="Arial"/>
            </a:endParaRPr>
          </a:p>
          <a:p>
            <a:pPr marL="343080" indent="-343080">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ng student work</a:t>
            </a:r>
            <a:endParaRPr b="0" lang="en-US" sz="2400" spc="-1" strike="noStrike">
              <a:solidFill>
                <a:srgbClr val="000000"/>
              </a:solidFill>
              <a:latin typeface="Arial"/>
            </a:endParaRPr>
          </a:p>
          <a:p>
            <a:pPr marL="343080" indent="-343080">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ufficient materials and supplies</a:t>
            </a:r>
            <a:endParaRPr b="0" lang="en-US" sz="2400" spc="-1" strike="noStrike">
              <a:solidFill>
                <a:srgbClr val="000000"/>
              </a:solidFill>
              <a:latin typeface="Arial"/>
            </a:endParaRPr>
          </a:p>
          <a:p>
            <a:pPr marL="343080" indent="-343080">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personal problems</a:t>
            </a:r>
            <a:endParaRPr b="0" lang="en-US" sz="2400" spc="-1" strike="noStrike">
              <a:solidFill>
                <a:srgbClr val="000000"/>
              </a:solidFill>
              <a:latin typeface="Arial"/>
            </a:endParaRPr>
          </a:p>
          <a:p>
            <a:pPr marL="343080" indent="-343080">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 with colleagues</a:t>
            </a:r>
            <a:endParaRPr b="0" lang="en-US" sz="24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Arial"/>
              </a:rPr>
              <a:t>Veenman, 1986</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11316A-0221-4661-9866-D329C890A9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sp>
          <p:nvSpPr>
            <p:cNvPr id="104" name=""/>
            <p:cNvSpPr/>
            <p:nvPr/>
          </p:nvSpPr>
          <p:spPr>
            <a:xfrm>
              <a:off x="0" y="0"/>
              <a:ext cx="9144000" cy="6858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91440" y="91440"/>
              <a:ext cx="8961120" cy="6675120"/>
            </a:xfrm>
            <a:prstGeom prst="rect">
              <a:avLst/>
            </a:prstGeom>
            <a:solidFill>
              <a:srgbClr val="ffffff"/>
            </a:solidFill>
            <a:ln w="507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6" name=""/>
            <p:cNvGraphicFramePr/>
            <p:nvPr/>
          </p:nvGraphicFramePr>
          <p:xfrm>
            <a:off x="822960" y="2194560"/>
            <a:ext cx="7586280" cy="2897640"/>
          </p:xfrm>
          <a:graphic>
            <a:graphicData uri="http://schemas.openxmlformats.org/presentationml/2006/ole">
              <p:oleObj r:id="rId1" spid="">
                <p:embed/>
                <p:pic>
                  <p:nvPicPr>
                    <p:cNvPr id="107" name="" descr=""/>
                    <p:cNvPicPr/>
                    <p:nvPr/>
                  </p:nvPicPr>
                  <p:blipFill>
                    <a:blip r:embed="rId2"/>
                    <a:stretch/>
                  </p:blipFill>
                  <p:spPr>
                    <a:xfrm>
                      <a:off x="822960" y="2194560"/>
                      <a:ext cx="7586280" cy="2897640"/>
                    </a:xfrm>
                    <a:prstGeom prst="rect">
                      <a:avLst/>
                    </a:prstGeom>
                    <a:ln w="0">
                      <a:noFill/>
                    </a:ln>
                  </p:spPr>
                </p:pic>
              </p:oleObj>
            </a:graphicData>
          </a:graphic>
        </p:graphicFrame>
        <p:sp>
          <p:nvSpPr>
            <p:cNvPr id="108" name=""/>
            <p:cNvSpPr/>
            <p:nvPr/>
          </p:nvSpPr>
          <p:spPr>
            <a:xfrm>
              <a:off x="737280" y="1145520"/>
              <a:ext cx="0" cy="5029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31520" y="6126480"/>
              <a:ext cx="768096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0" y="274320"/>
              <a:ext cx="9144000" cy="82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Phases of First Year Teacher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Attitudes Towards Teaching</a:t>
              </a:r>
              <a:endParaRPr b="0" lang="en-US" sz="3200" spc="-1" strike="noStrike">
                <a:solidFill>
                  <a:srgbClr val="000000"/>
                </a:solidFill>
                <a:latin typeface="Arial"/>
              </a:endParaRPr>
            </a:p>
          </p:txBody>
        </p:sp>
        <p:sp>
          <p:nvSpPr>
            <p:cNvPr id="111" name=""/>
            <p:cNvSpPr/>
            <p:nvPr/>
          </p:nvSpPr>
          <p:spPr>
            <a:xfrm>
              <a:off x="457200" y="6126480"/>
              <a:ext cx="8503920" cy="457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005840" y="2011680"/>
              <a:ext cx="1280160" cy="27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Anticipation</a:t>
              </a:r>
              <a:endParaRPr b="0" lang="en-US" sz="1100" spc="-1" strike="noStrike">
                <a:solidFill>
                  <a:srgbClr val="000000"/>
                </a:solidFill>
                <a:latin typeface="Arial"/>
              </a:endParaRPr>
            </a:p>
          </p:txBody>
        </p:sp>
        <p:sp>
          <p:nvSpPr>
            <p:cNvPr id="113" name=""/>
            <p:cNvSpPr/>
            <p:nvPr/>
          </p:nvSpPr>
          <p:spPr>
            <a:xfrm>
              <a:off x="2011680" y="3200400"/>
              <a:ext cx="822960" cy="27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Survival</a:t>
              </a:r>
              <a:endParaRPr b="0" lang="en-US" sz="1100" spc="-1" strike="noStrike">
                <a:solidFill>
                  <a:srgbClr val="000000"/>
                </a:solidFill>
                <a:latin typeface="Arial"/>
              </a:endParaRPr>
            </a:p>
          </p:txBody>
        </p:sp>
        <p:sp>
          <p:nvSpPr>
            <p:cNvPr id="114" name=""/>
            <p:cNvSpPr/>
            <p:nvPr/>
          </p:nvSpPr>
          <p:spPr>
            <a:xfrm>
              <a:off x="2377440" y="5029200"/>
              <a:ext cx="1463040" cy="36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Disillusionment</a:t>
              </a:r>
              <a:endParaRPr b="0" lang="en-US" sz="1100" spc="-1" strike="noStrike">
                <a:solidFill>
                  <a:srgbClr val="000000"/>
                </a:solidFill>
                <a:latin typeface="Arial"/>
              </a:endParaRPr>
            </a:p>
          </p:txBody>
        </p:sp>
        <p:sp>
          <p:nvSpPr>
            <p:cNvPr id="115" name=""/>
            <p:cNvSpPr/>
            <p:nvPr/>
          </p:nvSpPr>
          <p:spPr>
            <a:xfrm>
              <a:off x="4663440" y="4023360"/>
              <a:ext cx="1554480" cy="36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Rejuvenation</a:t>
              </a:r>
              <a:endParaRPr b="0" lang="en-US" sz="1100" spc="-1" strike="noStrike">
                <a:solidFill>
                  <a:srgbClr val="000000"/>
                </a:solidFill>
                <a:latin typeface="Arial"/>
              </a:endParaRPr>
            </a:p>
          </p:txBody>
        </p:sp>
        <p:sp>
          <p:nvSpPr>
            <p:cNvPr id="116" name=""/>
            <p:cNvSpPr/>
            <p:nvPr/>
          </p:nvSpPr>
          <p:spPr>
            <a:xfrm>
              <a:off x="6126480" y="3017520"/>
              <a:ext cx="1097280" cy="36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Reflection</a:t>
              </a:r>
              <a:endParaRPr b="0" lang="en-US" sz="1100" spc="-1" strike="noStrike">
                <a:solidFill>
                  <a:srgbClr val="000000"/>
                </a:solidFill>
                <a:latin typeface="Arial"/>
              </a:endParaRPr>
            </a:p>
          </p:txBody>
        </p:sp>
        <p:sp>
          <p:nvSpPr>
            <p:cNvPr id="117" name=""/>
            <p:cNvSpPr/>
            <p:nvPr/>
          </p:nvSpPr>
          <p:spPr>
            <a:xfrm>
              <a:off x="7132320" y="2011680"/>
              <a:ext cx="1188720" cy="27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Anticipation</a:t>
              </a:r>
              <a:endParaRPr b="0" lang="en-US" sz="1100" spc="-1" strike="noStrike">
                <a:solidFill>
                  <a:srgbClr val="000000"/>
                </a:solidFill>
                <a:latin typeface="Arial"/>
              </a:endParaRPr>
            </a:p>
          </p:txBody>
        </p:sp>
        <p:grpSp>
          <p:nvGrpSpPr>
            <p:cNvPr id="118" name=""/>
            <p:cNvGrpSpPr/>
            <p:nvPr/>
          </p:nvGrpSpPr>
          <p:grpSpPr>
            <a:xfrm>
              <a:off x="822960" y="1274400"/>
              <a:ext cx="822600" cy="764640"/>
              <a:chOff x="822960" y="1274400"/>
              <a:chExt cx="822600" cy="764640"/>
            </a:xfrm>
          </p:grpSpPr>
          <p:grpSp>
            <p:nvGrpSpPr>
              <p:cNvPr id="119" name=""/>
              <p:cNvGrpSpPr/>
              <p:nvPr/>
            </p:nvGrpSpPr>
            <p:grpSpPr>
              <a:xfrm>
                <a:off x="883080" y="1274400"/>
                <a:ext cx="762480" cy="744840"/>
                <a:chOff x="883080" y="1274400"/>
                <a:chExt cx="762480" cy="744840"/>
              </a:xfrm>
            </p:grpSpPr>
            <p:sp>
              <p:nvSpPr>
                <p:cNvPr id="120" name=""/>
                <p:cNvSpPr/>
                <p:nvPr/>
              </p:nvSpPr>
              <p:spPr>
                <a:xfrm flipH="1">
                  <a:off x="1261080" y="1400040"/>
                  <a:ext cx="133200" cy="157320"/>
                </a:xfrm>
                <a:custGeom>
                  <a:avLst/>
                  <a:gdLst/>
                  <a:ahLst/>
                  <a:rect l="l" t="t" r="r" b="b"/>
                  <a:pathLst>
                    <a:path w="518" h="614">
                      <a:moveTo>
                        <a:pt x="157" y="222"/>
                      </a:moveTo>
                      <a:lnTo>
                        <a:pt x="187" y="136"/>
                      </a:lnTo>
                      <a:lnTo>
                        <a:pt x="225" y="50"/>
                      </a:lnTo>
                      <a:lnTo>
                        <a:pt x="282" y="7"/>
                      </a:lnTo>
                      <a:lnTo>
                        <a:pt x="360" y="0"/>
                      </a:lnTo>
                      <a:lnTo>
                        <a:pt x="424" y="29"/>
                      </a:lnTo>
                      <a:lnTo>
                        <a:pt x="469" y="75"/>
                      </a:lnTo>
                      <a:lnTo>
                        <a:pt x="502" y="161"/>
                      </a:lnTo>
                      <a:lnTo>
                        <a:pt x="518" y="265"/>
                      </a:lnTo>
                      <a:lnTo>
                        <a:pt x="518" y="373"/>
                      </a:lnTo>
                      <a:lnTo>
                        <a:pt x="492" y="491"/>
                      </a:lnTo>
                      <a:lnTo>
                        <a:pt x="424" y="566"/>
                      </a:lnTo>
                      <a:lnTo>
                        <a:pt x="357" y="614"/>
                      </a:lnTo>
                      <a:lnTo>
                        <a:pt x="292" y="609"/>
                      </a:lnTo>
                      <a:lnTo>
                        <a:pt x="236" y="559"/>
                      </a:lnTo>
                      <a:lnTo>
                        <a:pt x="187" y="473"/>
                      </a:lnTo>
                      <a:lnTo>
                        <a:pt x="154" y="398"/>
                      </a:lnTo>
                      <a:lnTo>
                        <a:pt x="154" y="301"/>
                      </a:lnTo>
                      <a:lnTo>
                        <a:pt x="0" y="279"/>
                      </a:lnTo>
                      <a:lnTo>
                        <a:pt x="19" y="226"/>
                      </a:lnTo>
                      <a:lnTo>
                        <a:pt x="157" y="2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133280" y="1274400"/>
                  <a:ext cx="172800" cy="352800"/>
                </a:xfrm>
                <a:custGeom>
                  <a:avLst/>
                  <a:gdLst/>
                  <a:ahLst/>
                  <a:rect l="l" t="t" r="r" b="b"/>
                  <a:pathLst>
                    <a:path w="675" h="1376">
                      <a:moveTo>
                        <a:pt x="16" y="1365"/>
                      </a:moveTo>
                      <a:lnTo>
                        <a:pt x="0" y="1297"/>
                      </a:lnTo>
                      <a:lnTo>
                        <a:pt x="37" y="1242"/>
                      </a:lnTo>
                      <a:lnTo>
                        <a:pt x="160" y="1178"/>
                      </a:lnTo>
                      <a:lnTo>
                        <a:pt x="269" y="1106"/>
                      </a:lnTo>
                      <a:lnTo>
                        <a:pt x="373" y="987"/>
                      </a:lnTo>
                      <a:lnTo>
                        <a:pt x="515" y="822"/>
                      </a:lnTo>
                      <a:lnTo>
                        <a:pt x="552" y="756"/>
                      </a:lnTo>
                      <a:lnTo>
                        <a:pt x="571" y="692"/>
                      </a:lnTo>
                      <a:lnTo>
                        <a:pt x="563" y="627"/>
                      </a:lnTo>
                      <a:lnTo>
                        <a:pt x="529" y="508"/>
                      </a:lnTo>
                      <a:lnTo>
                        <a:pt x="448" y="357"/>
                      </a:lnTo>
                      <a:lnTo>
                        <a:pt x="359" y="274"/>
                      </a:lnTo>
                      <a:lnTo>
                        <a:pt x="280" y="227"/>
                      </a:lnTo>
                      <a:lnTo>
                        <a:pt x="217" y="220"/>
                      </a:lnTo>
                      <a:lnTo>
                        <a:pt x="183" y="227"/>
                      </a:lnTo>
                      <a:lnTo>
                        <a:pt x="180" y="195"/>
                      </a:lnTo>
                      <a:lnTo>
                        <a:pt x="257" y="184"/>
                      </a:lnTo>
                      <a:lnTo>
                        <a:pt x="347" y="184"/>
                      </a:lnTo>
                      <a:lnTo>
                        <a:pt x="283" y="111"/>
                      </a:lnTo>
                      <a:lnTo>
                        <a:pt x="246" y="54"/>
                      </a:lnTo>
                      <a:lnTo>
                        <a:pt x="273" y="32"/>
                      </a:lnTo>
                      <a:lnTo>
                        <a:pt x="373" y="130"/>
                      </a:lnTo>
                      <a:lnTo>
                        <a:pt x="392" y="145"/>
                      </a:lnTo>
                      <a:lnTo>
                        <a:pt x="373" y="68"/>
                      </a:lnTo>
                      <a:lnTo>
                        <a:pt x="359" y="11"/>
                      </a:lnTo>
                      <a:lnTo>
                        <a:pt x="373" y="0"/>
                      </a:lnTo>
                      <a:lnTo>
                        <a:pt x="406" y="11"/>
                      </a:lnTo>
                      <a:lnTo>
                        <a:pt x="436" y="145"/>
                      </a:lnTo>
                      <a:lnTo>
                        <a:pt x="452" y="141"/>
                      </a:lnTo>
                      <a:lnTo>
                        <a:pt x="452" y="36"/>
                      </a:lnTo>
                      <a:lnTo>
                        <a:pt x="482" y="25"/>
                      </a:lnTo>
                      <a:lnTo>
                        <a:pt x="503" y="43"/>
                      </a:lnTo>
                      <a:lnTo>
                        <a:pt x="492" y="184"/>
                      </a:lnTo>
                      <a:lnTo>
                        <a:pt x="485" y="241"/>
                      </a:lnTo>
                      <a:lnTo>
                        <a:pt x="503" y="357"/>
                      </a:lnTo>
                      <a:lnTo>
                        <a:pt x="563" y="479"/>
                      </a:lnTo>
                      <a:lnTo>
                        <a:pt x="626" y="620"/>
                      </a:lnTo>
                      <a:lnTo>
                        <a:pt x="675" y="724"/>
                      </a:lnTo>
                      <a:lnTo>
                        <a:pt x="672" y="778"/>
                      </a:lnTo>
                      <a:lnTo>
                        <a:pt x="582" y="875"/>
                      </a:lnTo>
                      <a:lnTo>
                        <a:pt x="459" y="997"/>
                      </a:lnTo>
                      <a:lnTo>
                        <a:pt x="359" y="1117"/>
                      </a:lnTo>
                      <a:lnTo>
                        <a:pt x="236" y="1276"/>
                      </a:lnTo>
                      <a:lnTo>
                        <a:pt x="134" y="1354"/>
                      </a:lnTo>
                      <a:lnTo>
                        <a:pt x="57" y="1376"/>
                      </a:lnTo>
                      <a:lnTo>
                        <a:pt x="16" y="1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1328760" y="1603080"/>
                  <a:ext cx="316800" cy="177840"/>
                </a:xfrm>
                <a:custGeom>
                  <a:avLst/>
                  <a:gdLst/>
                  <a:ahLst/>
                  <a:rect l="l" t="t" r="r" b="b"/>
                  <a:pathLst>
                    <a:path w="1236" h="692">
                      <a:moveTo>
                        <a:pt x="251" y="559"/>
                      </a:moveTo>
                      <a:lnTo>
                        <a:pt x="430" y="552"/>
                      </a:lnTo>
                      <a:lnTo>
                        <a:pt x="594" y="530"/>
                      </a:lnTo>
                      <a:lnTo>
                        <a:pt x="695" y="505"/>
                      </a:lnTo>
                      <a:lnTo>
                        <a:pt x="841" y="423"/>
                      </a:lnTo>
                      <a:lnTo>
                        <a:pt x="945" y="344"/>
                      </a:lnTo>
                      <a:lnTo>
                        <a:pt x="1080" y="247"/>
                      </a:lnTo>
                      <a:lnTo>
                        <a:pt x="1143" y="186"/>
                      </a:lnTo>
                      <a:lnTo>
                        <a:pt x="1192" y="143"/>
                      </a:lnTo>
                      <a:lnTo>
                        <a:pt x="1236" y="96"/>
                      </a:lnTo>
                      <a:lnTo>
                        <a:pt x="1236" y="46"/>
                      </a:lnTo>
                      <a:lnTo>
                        <a:pt x="1187" y="0"/>
                      </a:lnTo>
                      <a:lnTo>
                        <a:pt x="1157" y="10"/>
                      </a:lnTo>
                      <a:lnTo>
                        <a:pt x="1076" y="107"/>
                      </a:lnTo>
                      <a:lnTo>
                        <a:pt x="987" y="218"/>
                      </a:lnTo>
                      <a:lnTo>
                        <a:pt x="897" y="322"/>
                      </a:lnTo>
                      <a:lnTo>
                        <a:pt x="766" y="408"/>
                      </a:lnTo>
                      <a:lnTo>
                        <a:pt x="653" y="466"/>
                      </a:lnTo>
                      <a:lnTo>
                        <a:pt x="530" y="494"/>
                      </a:lnTo>
                      <a:lnTo>
                        <a:pt x="358" y="498"/>
                      </a:lnTo>
                      <a:lnTo>
                        <a:pt x="258" y="498"/>
                      </a:lnTo>
                      <a:lnTo>
                        <a:pt x="172" y="433"/>
                      </a:lnTo>
                      <a:lnTo>
                        <a:pt x="149" y="390"/>
                      </a:lnTo>
                      <a:lnTo>
                        <a:pt x="112" y="390"/>
                      </a:lnTo>
                      <a:lnTo>
                        <a:pt x="139" y="444"/>
                      </a:lnTo>
                      <a:lnTo>
                        <a:pt x="179" y="494"/>
                      </a:lnTo>
                      <a:lnTo>
                        <a:pt x="79" y="473"/>
                      </a:lnTo>
                      <a:lnTo>
                        <a:pt x="4" y="462"/>
                      </a:lnTo>
                      <a:lnTo>
                        <a:pt x="4" y="483"/>
                      </a:lnTo>
                      <a:lnTo>
                        <a:pt x="71" y="498"/>
                      </a:lnTo>
                      <a:lnTo>
                        <a:pt x="116" y="526"/>
                      </a:lnTo>
                      <a:lnTo>
                        <a:pt x="157" y="530"/>
                      </a:lnTo>
                      <a:lnTo>
                        <a:pt x="93" y="552"/>
                      </a:lnTo>
                      <a:lnTo>
                        <a:pt x="0" y="573"/>
                      </a:lnTo>
                      <a:lnTo>
                        <a:pt x="4" y="595"/>
                      </a:lnTo>
                      <a:lnTo>
                        <a:pt x="34" y="602"/>
                      </a:lnTo>
                      <a:lnTo>
                        <a:pt x="123" y="573"/>
                      </a:lnTo>
                      <a:lnTo>
                        <a:pt x="179" y="569"/>
                      </a:lnTo>
                      <a:lnTo>
                        <a:pt x="146" y="602"/>
                      </a:lnTo>
                      <a:lnTo>
                        <a:pt x="93" y="655"/>
                      </a:lnTo>
                      <a:lnTo>
                        <a:pt x="71" y="670"/>
                      </a:lnTo>
                      <a:lnTo>
                        <a:pt x="90" y="692"/>
                      </a:lnTo>
                      <a:lnTo>
                        <a:pt x="135" y="666"/>
                      </a:lnTo>
                      <a:lnTo>
                        <a:pt x="195" y="612"/>
                      </a:lnTo>
                      <a:lnTo>
                        <a:pt x="251" y="5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1168200" y="1585080"/>
                  <a:ext cx="185400" cy="244800"/>
                </a:xfrm>
                <a:custGeom>
                  <a:avLst/>
                  <a:gdLst/>
                  <a:ahLst/>
                  <a:rect l="l" t="t" r="r" b="b"/>
                  <a:pathLst>
                    <a:path w="725" h="954">
                      <a:moveTo>
                        <a:pt x="46" y="108"/>
                      </a:moveTo>
                      <a:lnTo>
                        <a:pt x="75" y="32"/>
                      </a:lnTo>
                      <a:lnTo>
                        <a:pt x="124" y="0"/>
                      </a:lnTo>
                      <a:lnTo>
                        <a:pt x="169" y="0"/>
                      </a:lnTo>
                      <a:lnTo>
                        <a:pt x="214" y="22"/>
                      </a:lnTo>
                      <a:lnTo>
                        <a:pt x="258" y="65"/>
                      </a:lnTo>
                      <a:lnTo>
                        <a:pt x="281" y="140"/>
                      </a:lnTo>
                      <a:lnTo>
                        <a:pt x="293" y="215"/>
                      </a:lnTo>
                      <a:lnTo>
                        <a:pt x="314" y="290"/>
                      </a:lnTo>
                      <a:lnTo>
                        <a:pt x="356" y="373"/>
                      </a:lnTo>
                      <a:lnTo>
                        <a:pt x="426" y="459"/>
                      </a:lnTo>
                      <a:lnTo>
                        <a:pt x="495" y="516"/>
                      </a:lnTo>
                      <a:lnTo>
                        <a:pt x="595" y="559"/>
                      </a:lnTo>
                      <a:lnTo>
                        <a:pt x="681" y="624"/>
                      </a:lnTo>
                      <a:lnTo>
                        <a:pt x="725" y="688"/>
                      </a:lnTo>
                      <a:lnTo>
                        <a:pt x="718" y="742"/>
                      </a:lnTo>
                      <a:lnTo>
                        <a:pt x="707" y="806"/>
                      </a:lnTo>
                      <a:lnTo>
                        <a:pt x="674" y="849"/>
                      </a:lnTo>
                      <a:lnTo>
                        <a:pt x="618" y="903"/>
                      </a:lnTo>
                      <a:lnTo>
                        <a:pt x="535" y="942"/>
                      </a:lnTo>
                      <a:lnTo>
                        <a:pt x="472" y="954"/>
                      </a:lnTo>
                      <a:lnTo>
                        <a:pt x="382" y="935"/>
                      </a:lnTo>
                      <a:lnTo>
                        <a:pt x="300" y="892"/>
                      </a:lnTo>
                      <a:lnTo>
                        <a:pt x="214" y="828"/>
                      </a:lnTo>
                      <a:lnTo>
                        <a:pt x="154" y="753"/>
                      </a:lnTo>
                      <a:lnTo>
                        <a:pt x="98" y="656"/>
                      </a:lnTo>
                      <a:lnTo>
                        <a:pt x="53" y="545"/>
                      </a:lnTo>
                      <a:lnTo>
                        <a:pt x="23" y="448"/>
                      </a:lnTo>
                      <a:lnTo>
                        <a:pt x="9" y="355"/>
                      </a:lnTo>
                      <a:lnTo>
                        <a:pt x="0" y="226"/>
                      </a:lnTo>
                      <a:lnTo>
                        <a:pt x="23" y="140"/>
                      </a:lnTo>
                      <a:lnTo>
                        <a:pt x="46"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883080" y="1689840"/>
                  <a:ext cx="318960" cy="222120"/>
                </a:xfrm>
                <a:custGeom>
                  <a:avLst/>
                  <a:gdLst/>
                  <a:ahLst/>
                  <a:rect l="l" t="t" r="r" b="b"/>
                  <a:pathLst>
                    <a:path w="1243" h="865">
                      <a:moveTo>
                        <a:pt x="138" y="273"/>
                      </a:moveTo>
                      <a:lnTo>
                        <a:pt x="258" y="175"/>
                      </a:lnTo>
                      <a:lnTo>
                        <a:pt x="403" y="86"/>
                      </a:lnTo>
                      <a:lnTo>
                        <a:pt x="496" y="32"/>
                      </a:lnTo>
                      <a:lnTo>
                        <a:pt x="570" y="14"/>
                      </a:lnTo>
                      <a:lnTo>
                        <a:pt x="630" y="0"/>
                      </a:lnTo>
                      <a:lnTo>
                        <a:pt x="683" y="21"/>
                      </a:lnTo>
                      <a:lnTo>
                        <a:pt x="716" y="89"/>
                      </a:lnTo>
                      <a:lnTo>
                        <a:pt x="739" y="273"/>
                      </a:lnTo>
                      <a:lnTo>
                        <a:pt x="739" y="495"/>
                      </a:lnTo>
                      <a:lnTo>
                        <a:pt x="739" y="639"/>
                      </a:lnTo>
                      <a:lnTo>
                        <a:pt x="765" y="726"/>
                      </a:lnTo>
                      <a:lnTo>
                        <a:pt x="818" y="711"/>
                      </a:lnTo>
                      <a:lnTo>
                        <a:pt x="855" y="658"/>
                      </a:lnTo>
                      <a:lnTo>
                        <a:pt x="929" y="596"/>
                      </a:lnTo>
                      <a:lnTo>
                        <a:pt x="1045" y="560"/>
                      </a:lnTo>
                      <a:lnTo>
                        <a:pt x="1123" y="560"/>
                      </a:lnTo>
                      <a:lnTo>
                        <a:pt x="1243" y="581"/>
                      </a:lnTo>
                      <a:lnTo>
                        <a:pt x="1236" y="624"/>
                      </a:lnTo>
                      <a:lnTo>
                        <a:pt x="1209" y="661"/>
                      </a:lnTo>
                      <a:lnTo>
                        <a:pt x="1169" y="668"/>
                      </a:lnTo>
                      <a:lnTo>
                        <a:pt x="1123" y="646"/>
                      </a:lnTo>
                      <a:lnTo>
                        <a:pt x="1056" y="617"/>
                      </a:lnTo>
                      <a:lnTo>
                        <a:pt x="988" y="617"/>
                      </a:lnTo>
                      <a:lnTo>
                        <a:pt x="899" y="672"/>
                      </a:lnTo>
                      <a:lnTo>
                        <a:pt x="844" y="754"/>
                      </a:lnTo>
                      <a:lnTo>
                        <a:pt x="832" y="822"/>
                      </a:lnTo>
                      <a:lnTo>
                        <a:pt x="809" y="865"/>
                      </a:lnTo>
                      <a:lnTo>
                        <a:pt x="720" y="862"/>
                      </a:lnTo>
                      <a:lnTo>
                        <a:pt x="716" y="797"/>
                      </a:lnTo>
                      <a:lnTo>
                        <a:pt x="686" y="704"/>
                      </a:lnTo>
                      <a:lnTo>
                        <a:pt x="676" y="606"/>
                      </a:lnTo>
                      <a:lnTo>
                        <a:pt x="683" y="477"/>
                      </a:lnTo>
                      <a:lnTo>
                        <a:pt x="672" y="295"/>
                      </a:lnTo>
                      <a:lnTo>
                        <a:pt x="665" y="175"/>
                      </a:lnTo>
                      <a:lnTo>
                        <a:pt x="642" y="132"/>
                      </a:lnTo>
                      <a:lnTo>
                        <a:pt x="597" y="89"/>
                      </a:lnTo>
                      <a:lnTo>
                        <a:pt x="549" y="89"/>
                      </a:lnTo>
                      <a:lnTo>
                        <a:pt x="481" y="132"/>
                      </a:lnTo>
                      <a:lnTo>
                        <a:pt x="391" y="216"/>
                      </a:lnTo>
                      <a:lnTo>
                        <a:pt x="280" y="323"/>
                      </a:lnTo>
                      <a:lnTo>
                        <a:pt x="168" y="424"/>
                      </a:lnTo>
                      <a:lnTo>
                        <a:pt x="112" y="456"/>
                      </a:lnTo>
                      <a:lnTo>
                        <a:pt x="45" y="456"/>
                      </a:lnTo>
                      <a:lnTo>
                        <a:pt x="0" y="409"/>
                      </a:lnTo>
                      <a:lnTo>
                        <a:pt x="3" y="334"/>
                      </a:lnTo>
                      <a:lnTo>
                        <a:pt x="49" y="295"/>
                      </a:lnTo>
                      <a:lnTo>
                        <a:pt x="100" y="284"/>
                      </a:lnTo>
                      <a:lnTo>
                        <a:pt x="13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1000800" y="1786320"/>
                  <a:ext cx="217800" cy="232920"/>
                </a:xfrm>
                <a:custGeom>
                  <a:avLst/>
                  <a:gdLst/>
                  <a:ahLst/>
                  <a:rect l="l" t="t" r="r" b="b"/>
                  <a:pathLst>
                    <a:path w="850" h="909">
                      <a:moveTo>
                        <a:pt x="0" y="76"/>
                      </a:moveTo>
                      <a:lnTo>
                        <a:pt x="26" y="19"/>
                      </a:lnTo>
                      <a:lnTo>
                        <a:pt x="82" y="0"/>
                      </a:lnTo>
                      <a:lnTo>
                        <a:pt x="160" y="8"/>
                      </a:lnTo>
                      <a:lnTo>
                        <a:pt x="179" y="62"/>
                      </a:lnTo>
                      <a:lnTo>
                        <a:pt x="149" y="271"/>
                      </a:lnTo>
                      <a:lnTo>
                        <a:pt x="145" y="430"/>
                      </a:lnTo>
                      <a:lnTo>
                        <a:pt x="138" y="519"/>
                      </a:lnTo>
                      <a:lnTo>
                        <a:pt x="138" y="537"/>
                      </a:lnTo>
                      <a:lnTo>
                        <a:pt x="156" y="624"/>
                      </a:lnTo>
                      <a:lnTo>
                        <a:pt x="205" y="639"/>
                      </a:lnTo>
                      <a:lnTo>
                        <a:pt x="268" y="624"/>
                      </a:lnTo>
                      <a:lnTo>
                        <a:pt x="362" y="574"/>
                      </a:lnTo>
                      <a:lnTo>
                        <a:pt x="462" y="549"/>
                      </a:lnTo>
                      <a:lnTo>
                        <a:pt x="574" y="530"/>
                      </a:lnTo>
                      <a:lnTo>
                        <a:pt x="697" y="516"/>
                      </a:lnTo>
                      <a:lnTo>
                        <a:pt x="787" y="516"/>
                      </a:lnTo>
                      <a:lnTo>
                        <a:pt x="827" y="527"/>
                      </a:lnTo>
                      <a:lnTo>
                        <a:pt x="850" y="553"/>
                      </a:lnTo>
                      <a:lnTo>
                        <a:pt x="839" y="592"/>
                      </a:lnTo>
                      <a:lnTo>
                        <a:pt x="783" y="624"/>
                      </a:lnTo>
                      <a:lnTo>
                        <a:pt x="731" y="671"/>
                      </a:lnTo>
                      <a:lnTo>
                        <a:pt x="682" y="737"/>
                      </a:lnTo>
                      <a:lnTo>
                        <a:pt x="652" y="790"/>
                      </a:lnTo>
                      <a:lnTo>
                        <a:pt x="627" y="844"/>
                      </a:lnTo>
                      <a:lnTo>
                        <a:pt x="608" y="909"/>
                      </a:lnTo>
                      <a:lnTo>
                        <a:pt x="581" y="909"/>
                      </a:lnTo>
                      <a:lnTo>
                        <a:pt x="559" y="884"/>
                      </a:lnTo>
                      <a:lnTo>
                        <a:pt x="551" y="812"/>
                      </a:lnTo>
                      <a:lnTo>
                        <a:pt x="604" y="747"/>
                      </a:lnTo>
                      <a:lnTo>
                        <a:pt x="674" y="671"/>
                      </a:lnTo>
                      <a:lnTo>
                        <a:pt x="741" y="614"/>
                      </a:lnTo>
                      <a:lnTo>
                        <a:pt x="771" y="596"/>
                      </a:lnTo>
                      <a:lnTo>
                        <a:pt x="783" y="571"/>
                      </a:lnTo>
                      <a:lnTo>
                        <a:pt x="753" y="553"/>
                      </a:lnTo>
                      <a:lnTo>
                        <a:pt x="652" y="553"/>
                      </a:lnTo>
                      <a:lnTo>
                        <a:pt x="525" y="574"/>
                      </a:lnTo>
                      <a:lnTo>
                        <a:pt x="425" y="607"/>
                      </a:lnTo>
                      <a:lnTo>
                        <a:pt x="316" y="667"/>
                      </a:lnTo>
                      <a:lnTo>
                        <a:pt x="223" y="710"/>
                      </a:lnTo>
                      <a:lnTo>
                        <a:pt x="123" y="714"/>
                      </a:lnTo>
                      <a:lnTo>
                        <a:pt x="82" y="700"/>
                      </a:lnTo>
                      <a:lnTo>
                        <a:pt x="60" y="646"/>
                      </a:lnTo>
                      <a:lnTo>
                        <a:pt x="44" y="571"/>
                      </a:lnTo>
                      <a:lnTo>
                        <a:pt x="37" y="430"/>
                      </a:lnTo>
                      <a:lnTo>
                        <a:pt x="22" y="180"/>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822960" y="1706760"/>
                <a:ext cx="163440" cy="332280"/>
                <a:chOff x="822960" y="1706760"/>
                <a:chExt cx="163440" cy="332280"/>
              </a:xfrm>
            </p:grpSpPr>
            <p:sp>
              <p:nvSpPr>
                <p:cNvPr id="127" name=""/>
                <p:cNvSpPr/>
                <p:nvPr/>
              </p:nvSpPr>
              <p:spPr>
                <a:xfrm flipH="1">
                  <a:off x="822960" y="1892160"/>
                  <a:ext cx="128880" cy="41040"/>
                </a:xfrm>
                <a:custGeom>
                  <a:avLst/>
                  <a:gdLst/>
                  <a:ahLst/>
                  <a:rect l="l" t="t" r="r" b="b"/>
                  <a:pathLst>
                    <a:path w="405" h="129">
                      <a:moveTo>
                        <a:pt x="405" y="129"/>
                      </a:moveTo>
                      <a:lnTo>
                        <a:pt x="196" y="35"/>
                      </a:lnTo>
                      <a:lnTo>
                        <a:pt x="57" y="0"/>
                      </a:lnTo>
                      <a:lnTo>
                        <a:pt x="12" y="0"/>
                      </a:lnTo>
                      <a:lnTo>
                        <a:pt x="0" y="32"/>
                      </a:lnTo>
                      <a:lnTo>
                        <a:pt x="26" y="57"/>
                      </a:lnTo>
                      <a:lnTo>
                        <a:pt x="83" y="64"/>
                      </a:lnTo>
                      <a:lnTo>
                        <a:pt x="218" y="89"/>
                      </a:lnTo>
                      <a:lnTo>
                        <a:pt x="405" y="12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8" name=""/>
                <p:cNvSpPr/>
                <p:nvPr/>
              </p:nvSpPr>
              <p:spPr>
                <a:xfrm flipH="1">
                  <a:off x="949680" y="1929240"/>
                  <a:ext cx="36720" cy="109800"/>
                </a:xfrm>
                <a:custGeom>
                  <a:avLst/>
                  <a:gdLst/>
                  <a:ahLst/>
                  <a:rect l="l" t="t" r="r" b="b"/>
                  <a:pathLst>
                    <a:path w="116" h="348">
                      <a:moveTo>
                        <a:pt x="116" y="348"/>
                      </a:moveTo>
                      <a:lnTo>
                        <a:pt x="112" y="177"/>
                      </a:lnTo>
                      <a:lnTo>
                        <a:pt x="82" y="47"/>
                      </a:lnTo>
                      <a:lnTo>
                        <a:pt x="49" y="0"/>
                      </a:lnTo>
                      <a:lnTo>
                        <a:pt x="23" y="0"/>
                      </a:lnTo>
                      <a:lnTo>
                        <a:pt x="0" y="15"/>
                      </a:lnTo>
                      <a:lnTo>
                        <a:pt x="0" y="65"/>
                      </a:lnTo>
                      <a:lnTo>
                        <a:pt x="56" y="220"/>
                      </a:lnTo>
                      <a:lnTo>
                        <a:pt x="116" y="3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852480" y="1706760"/>
                  <a:ext cx="80640" cy="42480"/>
                </a:xfrm>
                <a:custGeom>
                  <a:avLst/>
                  <a:gdLst/>
                  <a:ahLst/>
                  <a:rect l="l" t="t" r="r" b="b"/>
                  <a:pathLst>
                    <a:path w="254" h="132">
                      <a:moveTo>
                        <a:pt x="0" y="86"/>
                      </a:moveTo>
                      <a:lnTo>
                        <a:pt x="49" y="35"/>
                      </a:lnTo>
                      <a:lnTo>
                        <a:pt x="118" y="3"/>
                      </a:lnTo>
                      <a:lnTo>
                        <a:pt x="197" y="0"/>
                      </a:lnTo>
                      <a:lnTo>
                        <a:pt x="254" y="10"/>
                      </a:lnTo>
                      <a:lnTo>
                        <a:pt x="164" y="21"/>
                      </a:lnTo>
                      <a:lnTo>
                        <a:pt x="129" y="43"/>
                      </a:lnTo>
                      <a:lnTo>
                        <a:pt x="96" y="75"/>
                      </a:lnTo>
                      <a:lnTo>
                        <a:pt x="80" y="111"/>
                      </a:lnTo>
                      <a:lnTo>
                        <a:pt x="49" y="132"/>
                      </a:lnTo>
                      <a:lnTo>
                        <a:pt x="12" y="129"/>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graphicFrame>
          <p:nvGraphicFramePr>
            <p:cNvPr id="130" name=""/>
            <p:cNvGraphicFramePr/>
            <p:nvPr/>
          </p:nvGraphicFramePr>
          <p:xfrm>
            <a:off x="822960" y="3200400"/>
            <a:ext cx="1105200" cy="1097280"/>
          </p:xfrm>
          <a:graphic>
            <a:graphicData uri="http://schemas.openxmlformats.org/presentationml/2006/ole">
              <p:oleObj r:id="rId3" spid="">
                <p:embed/>
                <p:pic>
                  <p:nvPicPr>
                    <p:cNvPr id="131" name="" descr=""/>
                    <p:cNvPicPr/>
                    <p:nvPr/>
                  </p:nvPicPr>
                  <p:blipFill>
                    <a:blip r:embed="rId4"/>
                    <a:stretch/>
                  </p:blipFill>
                  <p:spPr>
                    <a:xfrm>
                      <a:off x="822960" y="3200400"/>
                      <a:ext cx="1105200" cy="1097280"/>
                    </a:xfrm>
                    <a:prstGeom prst="rect">
                      <a:avLst/>
                    </a:prstGeom>
                    <a:ln w="0">
                      <a:noFill/>
                    </a:ln>
                  </p:spPr>
                </p:pic>
              </p:oleObj>
            </a:graphicData>
          </a:graphic>
        </p:graphicFrame>
        <p:grpSp>
          <p:nvGrpSpPr>
            <p:cNvPr id="132" name=""/>
            <p:cNvGrpSpPr/>
            <p:nvPr/>
          </p:nvGrpSpPr>
          <p:grpSpPr>
            <a:xfrm>
              <a:off x="7863840" y="1305360"/>
              <a:ext cx="731520" cy="713160"/>
              <a:chOff x="7863840" y="1305360"/>
              <a:chExt cx="731520" cy="713160"/>
            </a:xfrm>
          </p:grpSpPr>
          <p:sp>
            <p:nvSpPr>
              <p:cNvPr id="133" name=""/>
              <p:cNvSpPr/>
              <p:nvPr/>
            </p:nvSpPr>
            <p:spPr>
              <a:xfrm flipH="1">
                <a:off x="8226360" y="1425600"/>
                <a:ext cx="127800" cy="150840"/>
              </a:xfrm>
              <a:custGeom>
                <a:avLst/>
                <a:gdLst/>
                <a:ahLst/>
                <a:rect l="l" t="t" r="r" b="b"/>
                <a:pathLst>
                  <a:path w="518" h="614">
                    <a:moveTo>
                      <a:pt x="157" y="222"/>
                    </a:moveTo>
                    <a:lnTo>
                      <a:pt x="187" y="136"/>
                    </a:lnTo>
                    <a:lnTo>
                      <a:pt x="225" y="50"/>
                    </a:lnTo>
                    <a:lnTo>
                      <a:pt x="282" y="7"/>
                    </a:lnTo>
                    <a:lnTo>
                      <a:pt x="360" y="0"/>
                    </a:lnTo>
                    <a:lnTo>
                      <a:pt x="424" y="29"/>
                    </a:lnTo>
                    <a:lnTo>
                      <a:pt x="469" y="75"/>
                    </a:lnTo>
                    <a:lnTo>
                      <a:pt x="502" y="161"/>
                    </a:lnTo>
                    <a:lnTo>
                      <a:pt x="518" y="265"/>
                    </a:lnTo>
                    <a:lnTo>
                      <a:pt x="518" y="373"/>
                    </a:lnTo>
                    <a:lnTo>
                      <a:pt x="492" y="491"/>
                    </a:lnTo>
                    <a:lnTo>
                      <a:pt x="424" y="566"/>
                    </a:lnTo>
                    <a:lnTo>
                      <a:pt x="357" y="614"/>
                    </a:lnTo>
                    <a:lnTo>
                      <a:pt x="292" y="609"/>
                    </a:lnTo>
                    <a:lnTo>
                      <a:pt x="236" y="559"/>
                    </a:lnTo>
                    <a:lnTo>
                      <a:pt x="187" y="473"/>
                    </a:lnTo>
                    <a:lnTo>
                      <a:pt x="154" y="398"/>
                    </a:lnTo>
                    <a:lnTo>
                      <a:pt x="154" y="301"/>
                    </a:lnTo>
                    <a:lnTo>
                      <a:pt x="0" y="279"/>
                    </a:lnTo>
                    <a:lnTo>
                      <a:pt x="19" y="226"/>
                    </a:lnTo>
                    <a:lnTo>
                      <a:pt x="157" y="2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8103960" y="1305360"/>
                <a:ext cx="165600" cy="338040"/>
              </a:xfrm>
              <a:custGeom>
                <a:avLst/>
                <a:gdLst/>
                <a:ahLst/>
                <a:rect l="l" t="t" r="r" b="b"/>
                <a:pathLst>
                  <a:path w="675" h="1376">
                    <a:moveTo>
                      <a:pt x="16" y="1365"/>
                    </a:moveTo>
                    <a:lnTo>
                      <a:pt x="0" y="1297"/>
                    </a:lnTo>
                    <a:lnTo>
                      <a:pt x="37" y="1242"/>
                    </a:lnTo>
                    <a:lnTo>
                      <a:pt x="160" y="1178"/>
                    </a:lnTo>
                    <a:lnTo>
                      <a:pt x="269" y="1106"/>
                    </a:lnTo>
                    <a:lnTo>
                      <a:pt x="373" y="987"/>
                    </a:lnTo>
                    <a:lnTo>
                      <a:pt x="515" y="822"/>
                    </a:lnTo>
                    <a:lnTo>
                      <a:pt x="552" y="756"/>
                    </a:lnTo>
                    <a:lnTo>
                      <a:pt x="571" y="692"/>
                    </a:lnTo>
                    <a:lnTo>
                      <a:pt x="563" y="627"/>
                    </a:lnTo>
                    <a:lnTo>
                      <a:pt x="529" y="508"/>
                    </a:lnTo>
                    <a:lnTo>
                      <a:pt x="448" y="357"/>
                    </a:lnTo>
                    <a:lnTo>
                      <a:pt x="359" y="274"/>
                    </a:lnTo>
                    <a:lnTo>
                      <a:pt x="280" y="227"/>
                    </a:lnTo>
                    <a:lnTo>
                      <a:pt x="217" y="220"/>
                    </a:lnTo>
                    <a:lnTo>
                      <a:pt x="183" y="227"/>
                    </a:lnTo>
                    <a:lnTo>
                      <a:pt x="180" y="195"/>
                    </a:lnTo>
                    <a:lnTo>
                      <a:pt x="257" y="184"/>
                    </a:lnTo>
                    <a:lnTo>
                      <a:pt x="347" y="184"/>
                    </a:lnTo>
                    <a:lnTo>
                      <a:pt x="283" y="111"/>
                    </a:lnTo>
                    <a:lnTo>
                      <a:pt x="246" y="54"/>
                    </a:lnTo>
                    <a:lnTo>
                      <a:pt x="273" y="32"/>
                    </a:lnTo>
                    <a:lnTo>
                      <a:pt x="373" y="130"/>
                    </a:lnTo>
                    <a:lnTo>
                      <a:pt x="392" y="145"/>
                    </a:lnTo>
                    <a:lnTo>
                      <a:pt x="373" y="68"/>
                    </a:lnTo>
                    <a:lnTo>
                      <a:pt x="359" y="11"/>
                    </a:lnTo>
                    <a:lnTo>
                      <a:pt x="373" y="0"/>
                    </a:lnTo>
                    <a:lnTo>
                      <a:pt x="406" y="11"/>
                    </a:lnTo>
                    <a:lnTo>
                      <a:pt x="436" y="145"/>
                    </a:lnTo>
                    <a:lnTo>
                      <a:pt x="452" y="141"/>
                    </a:lnTo>
                    <a:lnTo>
                      <a:pt x="452" y="36"/>
                    </a:lnTo>
                    <a:lnTo>
                      <a:pt x="482" y="25"/>
                    </a:lnTo>
                    <a:lnTo>
                      <a:pt x="503" y="43"/>
                    </a:lnTo>
                    <a:lnTo>
                      <a:pt x="492" y="184"/>
                    </a:lnTo>
                    <a:lnTo>
                      <a:pt x="485" y="241"/>
                    </a:lnTo>
                    <a:lnTo>
                      <a:pt x="503" y="357"/>
                    </a:lnTo>
                    <a:lnTo>
                      <a:pt x="563" y="479"/>
                    </a:lnTo>
                    <a:lnTo>
                      <a:pt x="626" y="620"/>
                    </a:lnTo>
                    <a:lnTo>
                      <a:pt x="675" y="724"/>
                    </a:lnTo>
                    <a:lnTo>
                      <a:pt x="672" y="778"/>
                    </a:lnTo>
                    <a:lnTo>
                      <a:pt x="582" y="875"/>
                    </a:lnTo>
                    <a:lnTo>
                      <a:pt x="459" y="997"/>
                    </a:lnTo>
                    <a:lnTo>
                      <a:pt x="359" y="1117"/>
                    </a:lnTo>
                    <a:lnTo>
                      <a:pt x="236" y="1276"/>
                    </a:lnTo>
                    <a:lnTo>
                      <a:pt x="134" y="1354"/>
                    </a:lnTo>
                    <a:lnTo>
                      <a:pt x="57" y="1376"/>
                    </a:lnTo>
                    <a:lnTo>
                      <a:pt x="16" y="1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8291520" y="1620360"/>
                <a:ext cx="303840" cy="170280"/>
              </a:xfrm>
              <a:custGeom>
                <a:avLst/>
                <a:gdLst/>
                <a:ahLst/>
                <a:rect l="l" t="t" r="r" b="b"/>
                <a:pathLst>
                  <a:path w="1236" h="692">
                    <a:moveTo>
                      <a:pt x="251" y="559"/>
                    </a:moveTo>
                    <a:lnTo>
                      <a:pt x="430" y="552"/>
                    </a:lnTo>
                    <a:lnTo>
                      <a:pt x="594" y="530"/>
                    </a:lnTo>
                    <a:lnTo>
                      <a:pt x="695" y="505"/>
                    </a:lnTo>
                    <a:lnTo>
                      <a:pt x="841" y="423"/>
                    </a:lnTo>
                    <a:lnTo>
                      <a:pt x="945" y="344"/>
                    </a:lnTo>
                    <a:lnTo>
                      <a:pt x="1080" y="247"/>
                    </a:lnTo>
                    <a:lnTo>
                      <a:pt x="1143" y="186"/>
                    </a:lnTo>
                    <a:lnTo>
                      <a:pt x="1192" y="143"/>
                    </a:lnTo>
                    <a:lnTo>
                      <a:pt x="1236" y="96"/>
                    </a:lnTo>
                    <a:lnTo>
                      <a:pt x="1236" y="46"/>
                    </a:lnTo>
                    <a:lnTo>
                      <a:pt x="1187" y="0"/>
                    </a:lnTo>
                    <a:lnTo>
                      <a:pt x="1157" y="10"/>
                    </a:lnTo>
                    <a:lnTo>
                      <a:pt x="1076" y="107"/>
                    </a:lnTo>
                    <a:lnTo>
                      <a:pt x="987" y="218"/>
                    </a:lnTo>
                    <a:lnTo>
                      <a:pt x="897" y="322"/>
                    </a:lnTo>
                    <a:lnTo>
                      <a:pt x="766" y="408"/>
                    </a:lnTo>
                    <a:lnTo>
                      <a:pt x="653" y="466"/>
                    </a:lnTo>
                    <a:lnTo>
                      <a:pt x="530" y="494"/>
                    </a:lnTo>
                    <a:lnTo>
                      <a:pt x="358" y="498"/>
                    </a:lnTo>
                    <a:lnTo>
                      <a:pt x="258" y="498"/>
                    </a:lnTo>
                    <a:lnTo>
                      <a:pt x="172" y="433"/>
                    </a:lnTo>
                    <a:lnTo>
                      <a:pt x="149" y="390"/>
                    </a:lnTo>
                    <a:lnTo>
                      <a:pt x="112" y="390"/>
                    </a:lnTo>
                    <a:lnTo>
                      <a:pt x="139" y="444"/>
                    </a:lnTo>
                    <a:lnTo>
                      <a:pt x="179" y="494"/>
                    </a:lnTo>
                    <a:lnTo>
                      <a:pt x="79" y="473"/>
                    </a:lnTo>
                    <a:lnTo>
                      <a:pt x="4" y="462"/>
                    </a:lnTo>
                    <a:lnTo>
                      <a:pt x="4" y="483"/>
                    </a:lnTo>
                    <a:lnTo>
                      <a:pt x="71" y="498"/>
                    </a:lnTo>
                    <a:lnTo>
                      <a:pt x="116" y="526"/>
                    </a:lnTo>
                    <a:lnTo>
                      <a:pt x="157" y="530"/>
                    </a:lnTo>
                    <a:lnTo>
                      <a:pt x="93" y="552"/>
                    </a:lnTo>
                    <a:lnTo>
                      <a:pt x="0" y="573"/>
                    </a:lnTo>
                    <a:lnTo>
                      <a:pt x="4" y="595"/>
                    </a:lnTo>
                    <a:lnTo>
                      <a:pt x="34" y="602"/>
                    </a:lnTo>
                    <a:lnTo>
                      <a:pt x="123" y="573"/>
                    </a:lnTo>
                    <a:lnTo>
                      <a:pt x="179" y="569"/>
                    </a:lnTo>
                    <a:lnTo>
                      <a:pt x="146" y="602"/>
                    </a:lnTo>
                    <a:lnTo>
                      <a:pt x="93" y="655"/>
                    </a:lnTo>
                    <a:lnTo>
                      <a:pt x="71" y="670"/>
                    </a:lnTo>
                    <a:lnTo>
                      <a:pt x="90" y="692"/>
                    </a:lnTo>
                    <a:lnTo>
                      <a:pt x="135" y="666"/>
                    </a:lnTo>
                    <a:lnTo>
                      <a:pt x="195" y="612"/>
                    </a:lnTo>
                    <a:lnTo>
                      <a:pt x="251" y="5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8137800" y="1603080"/>
                <a:ext cx="177840" cy="234360"/>
              </a:xfrm>
              <a:custGeom>
                <a:avLst/>
                <a:gdLst/>
                <a:ahLst/>
                <a:rect l="l" t="t" r="r" b="b"/>
                <a:pathLst>
                  <a:path w="725" h="954">
                    <a:moveTo>
                      <a:pt x="46" y="108"/>
                    </a:moveTo>
                    <a:lnTo>
                      <a:pt x="75" y="32"/>
                    </a:lnTo>
                    <a:lnTo>
                      <a:pt x="124" y="0"/>
                    </a:lnTo>
                    <a:lnTo>
                      <a:pt x="169" y="0"/>
                    </a:lnTo>
                    <a:lnTo>
                      <a:pt x="214" y="22"/>
                    </a:lnTo>
                    <a:lnTo>
                      <a:pt x="258" y="65"/>
                    </a:lnTo>
                    <a:lnTo>
                      <a:pt x="281" y="140"/>
                    </a:lnTo>
                    <a:lnTo>
                      <a:pt x="293" y="215"/>
                    </a:lnTo>
                    <a:lnTo>
                      <a:pt x="314" y="290"/>
                    </a:lnTo>
                    <a:lnTo>
                      <a:pt x="356" y="373"/>
                    </a:lnTo>
                    <a:lnTo>
                      <a:pt x="426" y="459"/>
                    </a:lnTo>
                    <a:lnTo>
                      <a:pt x="495" y="516"/>
                    </a:lnTo>
                    <a:lnTo>
                      <a:pt x="595" y="559"/>
                    </a:lnTo>
                    <a:lnTo>
                      <a:pt x="681" y="624"/>
                    </a:lnTo>
                    <a:lnTo>
                      <a:pt x="725" y="688"/>
                    </a:lnTo>
                    <a:lnTo>
                      <a:pt x="718" y="742"/>
                    </a:lnTo>
                    <a:lnTo>
                      <a:pt x="707" y="806"/>
                    </a:lnTo>
                    <a:lnTo>
                      <a:pt x="674" y="849"/>
                    </a:lnTo>
                    <a:lnTo>
                      <a:pt x="618" y="903"/>
                    </a:lnTo>
                    <a:lnTo>
                      <a:pt x="535" y="942"/>
                    </a:lnTo>
                    <a:lnTo>
                      <a:pt x="472" y="954"/>
                    </a:lnTo>
                    <a:lnTo>
                      <a:pt x="382" y="935"/>
                    </a:lnTo>
                    <a:lnTo>
                      <a:pt x="300" y="892"/>
                    </a:lnTo>
                    <a:lnTo>
                      <a:pt x="214" y="828"/>
                    </a:lnTo>
                    <a:lnTo>
                      <a:pt x="154" y="753"/>
                    </a:lnTo>
                    <a:lnTo>
                      <a:pt x="98" y="656"/>
                    </a:lnTo>
                    <a:lnTo>
                      <a:pt x="53" y="545"/>
                    </a:lnTo>
                    <a:lnTo>
                      <a:pt x="23" y="448"/>
                    </a:lnTo>
                    <a:lnTo>
                      <a:pt x="9" y="355"/>
                    </a:lnTo>
                    <a:lnTo>
                      <a:pt x="0" y="226"/>
                    </a:lnTo>
                    <a:lnTo>
                      <a:pt x="23" y="140"/>
                    </a:lnTo>
                    <a:lnTo>
                      <a:pt x="46"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7863840" y="1703520"/>
                <a:ext cx="306000" cy="212760"/>
              </a:xfrm>
              <a:custGeom>
                <a:avLst/>
                <a:gdLst/>
                <a:ahLst/>
                <a:rect l="l" t="t" r="r" b="b"/>
                <a:pathLst>
                  <a:path w="1243" h="865">
                    <a:moveTo>
                      <a:pt x="138" y="273"/>
                    </a:moveTo>
                    <a:lnTo>
                      <a:pt x="258" y="175"/>
                    </a:lnTo>
                    <a:lnTo>
                      <a:pt x="403" y="86"/>
                    </a:lnTo>
                    <a:lnTo>
                      <a:pt x="496" y="32"/>
                    </a:lnTo>
                    <a:lnTo>
                      <a:pt x="570" y="14"/>
                    </a:lnTo>
                    <a:lnTo>
                      <a:pt x="630" y="0"/>
                    </a:lnTo>
                    <a:lnTo>
                      <a:pt x="683" y="21"/>
                    </a:lnTo>
                    <a:lnTo>
                      <a:pt x="716" y="89"/>
                    </a:lnTo>
                    <a:lnTo>
                      <a:pt x="739" y="273"/>
                    </a:lnTo>
                    <a:lnTo>
                      <a:pt x="739" y="495"/>
                    </a:lnTo>
                    <a:lnTo>
                      <a:pt x="739" y="639"/>
                    </a:lnTo>
                    <a:lnTo>
                      <a:pt x="765" y="726"/>
                    </a:lnTo>
                    <a:lnTo>
                      <a:pt x="818" y="711"/>
                    </a:lnTo>
                    <a:lnTo>
                      <a:pt x="855" y="658"/>
                    </a:lnTo>
                    <a:lnTo>
                      <a:pt x="929" y="596"/>
                    </a:lnTo>
                    <a:lnTo>
                      <a:pt x="1045" y="560"/>
                    </a:lnTo>
                    <a:lnTo>
                      <a:pt x="1123" y="560"/>
                    </a:lnTo>
                    <a:lnTo>
                      <a:pt x="1243" y="581"/>
                    </a:lnTo>
                    <a:lnTo>
                      <a:pt x="1236" y="624"/>
                    </a:lnTo>
                    <a:lnTo>
                      <a:pt x="1209" y="661"/>
                    </a:lnTo>
                    <a:lnTo>
                      <a:pt x="1169" y="668"/>
                    </a:lnTo>
                    <a:lnTo>
                      <a:pt x="1123" y="646"/>
                    </a:lnTo>
                    <a:lnTo>
                      <a:pt x="1056" y="617"/>
                    </a:lnTo>
                    <a:lnTo>
                      <a:pt x="988" y="617"/>
                    </a:lnTo>
                    <a:lnTo>
                      <a:pt x="899" y="672"/>
                    </a:lnTo>
                    <a:lnTo>
                      <a:pt x="844" y="754"/>
                    </a:lnTo>
                    <a:lnTo>
                      <a:pt x="832" y="822"/>
                    </a:lnTo>
                    <a:lnTo>
                      <a:pt x="809" y="865"/>
                    </a:lnTo>
                    <a:lnTo>
                      <a:pt x="720" y="862"/>
                    </a:lnTo>
                    <a:lnTo>
                      <a:pt x="716" y="797"/>
                    </a:lnTo>
                    <a:lnTo>
                      <a:pt x="686" y="704"/>
                    </a:lnTo>
                    <a:lnTo>
                      <a:pt x="676" y="606"/>
                    </a:lnTo>
                    <a:lnTo>
                      <a:pt x="683" y="477"/>
                    </a:lnTo>
                    <a:lnTo>
                      <a:pt x="672" y="295"/>
                    </a:lnTo>
                    <a:lnTo>
                      <a:pt x="665" y="175"/>
                    </a:lnTo>
                    <a:lnTo>
                      <a:pt x="642" y="132"/>
                    </a:lnTo>
                    <a:lnTo>
                      <a:pt x="597" y="89"/>
                    </a:lnTo>
                    <a:lnTo>
                      <a:pt x="549" y="89"/>
                    </a:lnTo>
                    <a:lnTo>
                      <a:pt x="481" y="132"/>
                    </a:lnTo>
                    <a:lnTo>
                      <a:pt x="391" y="216"/>
                    </a:lnTo>
                    <a:lnTo>
                      <a:pt x="280" y="323"/>
                    </a:lnTo>
                    <a:lnTo>
                      <a:pt x="168" y="424"/>
                    </a:lnTo>
                    <a:lnTo>
                      <a:pt x="112" y="456"/>
                    </a:lnTo>
                    <a:lnTo>
                      <a:pt x="45" y="456"/>
                    </a:lnTo>
                    <a:lnTo>
                      <a:pt x="0" y="409"/>
                    </a:lnTo>
                    <a:lnTo>
                      <a:pt x="3" y="334"/>
                    </a:lnTo>
                    <a:lnTo>
                      <a:pt x="49" y="295"/>
                    </a:lnTo>
                    <a:lnTo>
                      <a:pt x="100" y="284"/>
                    </a:lnTo>
                    <a:lnTo>
                      <a:pt x="13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a:off x="7977240" y="1795680"/>
                <a:ext cx="208800" cy="222840"/>
              </a:xfrm>
              <a:custGeom>
                <a:avLst/>
                <a:gdLst/>
                <a:ahLst/>
                <a:rect l="l" t="t" r="r" b="b"/>
                <a:pathLst>
                  <a:path w="850" h="909">
                    <a:moveTo>
                      <a:pt x="0" y="76"/>
                    </a:moveTo>
                    <a:lnTo>
                      <a:pt x="26" y="19"/>
                    </a:lnTo>
                    <a:lnTo>
                      <a:pt x="82" y="0"/>
                    </a:lnTo>
                    <a:lnTo>
                      <a:pt x="160" y="8"/>
                    </a:lnTo>
                    <a:lnTo>
                      <a:pt x="179" y="62"/>
                    </a:lnTo>
                    <a:lnTo>
                      <a:pt x="149" y="271"/>
                    </a:lnTo>
                    <a:lnTo>
                      <a:pt x="145" y="430"/>
                    </a:lnTo>
                    <a:lnTo>
                      <a:pt x="138" y="519"/>
                    </a:lnTo>
                    <a:lnTo>
                      <a:pt x="138" y="537"/>
                    </a:lnTo>
                    <a:lnTo>
                      <a:pt x="156" y="624"/>
                    </a:lnTo>
                    <a:lnTo>
                      <a:pt x="205" y="639"/>
                    </a:lnTo>
                    <a:lnTo>
                      <a:pt x="268" y="624"/>
                    </a:lnTo>
                    <a:lnTo>
                      <a:pt x="362" y="574"/>
                    </a:lnTo>
                    <a:lnTo>
                      <a:pt x="462" y="549"/>
                    </a:lnTo>
                    <a:lnTo>
                      <a:pt x="574" y="530"/>
                    </a:lnTo>
                    <a:lnTo>
                      <a:pt x="697" y="516"/>
                    </a:lnTo>
                    <a:lnTo>
                      <a:pt x="787" y="516"/>
                    </a:lnTo>
                    <a:lnTo>
                      <a:pt x="827" y="527"/>
                    </a:lnTo>
                    <a:lnTo>
                      <a:pt x="850" y="553"/>
                    </a:lnTo>
                    <a:lnTo>
                      <a:pt x="839" y="592"/>
                    </a:lnTo>
                    <a:lnTo>
                      <a:pt x="783" y="624"/>
                    </a:lnTo>
                    <a:lnTo>
                      <a:pt x="731" y="671"/>
                    </a:lnTo>
                    <a:lnTo>
                      <a:pt x="682" y="737"/>
                    </a:lnTo>
                    <a:lnTo>
                      <a:pt x="652" y="790"/>
                    </a:lnTo>
                    <a:lnTo>
                      <a:pt x="627" y="844"/>
                    </a:lnTo>
                    <a:lnTo>
                      <a:pt x="608" y="909"/>
                    </a:lnTo>
                    <a:lnTo>
                      <a:pt x="581" y="909"/>
                    </a:lnTo>
                    <a:lnTo>
                      <a:pt x="559" y="884"/>
                    </a:lnTo>
                    <a:lnTo>
                      <a:pt x="551" y="812"/>
                    </a:lnTo>
                    <a:lnTo>
                      <a:pt x="604" y="747"/>
                    </a:lnTo>
                    <a:lnTo>
                      <a:pt x="674" y="671"/>
                    </a:lnTo>
                    <a:lnTo>
                      <a:pt x="741" y="614"/>
                    </a:lnTo>
                    <a:lnTo>
                      <a:pt x="771" y="596"/>
                    </a:lnTo>
                    <a:lnTo>
                      <a:pt x="783" y="571"/>
                    </a:lnTo>
                    <a:lnTo>
                      <a:pt x="753" y="553"/>
                    </a:lnTo>
                    <a:lnTo>
                      <a:pt x="652" y="553"/>
                    </a:lnTo>
                    <a:lnTo>
                      <a:pt x="525" y="574"/>
                    </a:lnTo>
                    <a:lnTo>
                      <a:pt x="425" y="607"/>
                    </a:lnTo>
                    <a:lnTo>
                      <a:pt x="316" y="667"/>
                    </a:lnTo>
                    <a:lnTo>
                      <a:pt x="223" y="710"/>
                    </a:lnTo>
                    <a:lnTo>
                      <a:pt x="123" y="714"/>
                    </a:lnTo>
                    <a:lnTo>
                      <a:pt x="82" y="700"/>
                    </a:lnTo>
                    <a:lnTo>
                      <a:pt x="60" y="646"/>
                    </a:lnTo>
                    <a:lnTo>
                      <a:pt x="44" y="571"/>
                    </a:lnTo>
                    <a:lnTo>
                      <a:pt x="37" y="430"/>
                    </a:lnTo>
                    <a:lnTo>
                      <a:pt x="22" y="180"/>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7863840" y="1737360"/>
              <a:ext cx="163440" cy="331920"/>
              <a:chOff x="7863840" y="1737360"/>
              <a:chExt cx="163440" cy="331920"/>
            </a:xfrm>
          </p:grpSpPr>
          <p:sp>
            <p:nvSpPr>
              <p:cNvPr id="140" name=""/>
              <p:cNvSpPr/>
              <p:nvPr/>
            </p:nvSpPr>
            <p:spPr>
              <a:xfrm flipH="1">
                <a:off x="7863840" y="1922760"/>
                <a:ext cx="128880" cy="41040"/>
              </a:xfrm>
              <a:custGeom>
                <a:avLst/>
                <a:gdLst/>
                <a:ahLst/>
                <a:rect l="l" t="t" r="r" b="b"/>
                <a:pathLst>
                  <a:path w="405" h="129">
                    <a:moveTo>
                      <a:pt x="405" y="129"/>
                    </a:moveTo>
                    <a:lnTo>
                      <a:pt x="196" y="35"/>
                    </a:lnTo>
                    <a:lnTo>
                      <a:pt x="57" y="0"/>
                    </a:lnTo>
                    <a:lnTo>
                      <a:pt x="12" y="0"/>
                    </a:lnTo>
                    <a:lnTo>
                      <a:pt x="0" y="32"/>
                    </a:lnTo>
                    <a:lnTo>
                      <a:pt x="26" y="57"/>
                    </a:lnTo>
                    <a:lnTo>
                      <a:pt x="83" y="64"/>
                    </a:lnTo>
                    <a:lnTo>
                      <a:pt x="218" y="89"/>
                    </a:lnTo>
                    <a:lnTo>
                      <a:pt x="405" y="12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1" name=""/>
              <p:cNvSpPr/>
              <p:nvPr/>
            </p:nvSpPr>
            <p:spPr>
              <a:xfrm flipH="1">
                <a:off x="7990560" y="1959480"/>
                <a:ext cx="36720" cy="109800"/>
              </a:xfrm>
              <a:custGeom>
                <a:avLst/>
                <a:gdLst/>
                <a:ahLst/>
                <a:rect l="l" t="t" r="r" b="b"/>
                <a:pathLst>
                  <a:path w="116" h="348">
                    <a:moveTo>
                      <a:pt x="116" y="348"/>
                    </a:moveTo>
                    <a:lnTo>
                      <a:pt x="112" y="177"/>
                    </a:lnTo>
                    <a:lnTo>
                      <a:pt x="82" y="47"/>
                    </a:lnTo>
                    <a:lnTo>
                      <a:pt x="49" y="0"/>
                    </a:lnTo>
                    <a:lnTo>
                      <a:pt x="23" y="0"/>
                    </a:lnTo>
                    <a:lnTo>
                      <a:pt x="0" y="15"/>
                    </a:lnTo>
                    <a:lnTo>
                      <a:pt x="0" y="65"/>
                    </a:lnTo>
                    <a:lnTo>
                      <a:pt x="56" y="220"/>
                    </a:lnTo>
                    <a:lnTo>
                      <a:pt x="116" y="3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7893360" y="1737360"/>
                <a:ext cx="80640" cy="42480"/>
              </a:xfrm>
              <a:custGeom>
                <a:avLst/>
                <a:gdLst/>
                <a:ahLst/>
                <a:rect l="l" t="t" r="r" b="b"/>
                <a:pathLst>
                  <a:path w="254" h="132">
                    <a:moveTo>
                      <a:pt x="0" y="86"/>
                    </a:moveTo>
                    <a:lnTo>
                      <a:pt x="49" y="35"/>
                    </a:lnTo>
                    <a:lnTo>
                      <a:pt x="118" y="3"/>
                    </a:lnTo>
                    <a:lnTo>
                      <a:pt x="197" y="0"/>
                    </a:lnTo>
                    <a:lnTo>
                      <a:pt x="254" y="10"/>
                    </a:lnTo>
                    <a:lnTo>
                      <a:pt x="164" y="21"/>
                    </a:lnTo>
                    <a:lnTo>
                      <a:pt x="129" y="43"/>
                    </a:lnTo>
                    <a:lnTo>
                      <a:pt x="96" y="75"/>
                    </a:lnTo>
                    <a:lnTo>
                      <a:pt x="80" y="111"/>
                    </a:lnTo>
                    <a:lnTo>
                      <a:pt x="49" y="132"/>
                    </a:lnTo>
                    <a:lnTo>
                      <a:pt x="12" y="129"/>
                    </a:lnTo>
                    <a:lnTo>
                      <a:pt x="0" y="8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aphicFrame>
          <p:nvGraphicFramePr>
            <p:cNvPr id="143" name=""/>
            <p:cNvGraphicFramePr/>
            <p:nvPr/>
          </p:nvGraphicFramePr>
          <p:xfrm>
            <a:off x="2743200" y="5303520"/>
            <a:ext cx="319320" cy="667440"/>
          </p:xfrm>
          <a:graphic>
            <a:graphicData uri="http://schemas.openxmlformats.org/presentationml/2006/ole">
              <p:oleObj r:id="rId5" spid="">
                <p:embed/>
                <p:pic>
                  <p:nvPicPr>
                    <p:cNvPr id="144" name="" descr=""/>
                    <p:cNvPicPr/>
                    <p:nvPr/>
                  </p:nvPicPr>
                  <p:blipFill>
                    <a:blip r:embed="rId6"/>
                    <a:stretch/>
                  </p:blipFill>
                  <p:spPr>
                    <a:xfrm>
                      <a:off x="2743200" y="5303520"/>
                      <a:ext cx="319320" cy="667440"/>
                    </a:xfrm>
                    <a:prstGeom prst="rect">
                      <a:avLst/>
                    </a:prstGeom>
                    <a:ln w="0">
                      <a:noFill/>
                    </a:ln>
                  </p:spPr>
                </p:pic>
              </p:oleObj>
            </a:graphicData>
          </a:graphic>
        </p:graphicFrame>
        <p:grpSp>
          <p:nvGrpSpPr>
            <p:cNvPr id="145" name=""/>
            <p:cNvGrpSpPr/>
            <p:nvPr/>
          </p:nvGrpSpPr>
          <p:grpSpPr>
            <a:xfrm>
              <a:off x="4394520" y="3468960"/>
              <a:ext cx="513000" cy="651240"/>
              <a:chOff x="4394520" y="3468960"/>
              <a:chExt cx="513000" cy="651240"/>
            </a:xfrm>
          </p:grpSpPr>
          <p:sp>
            <p:nvSpPr>
              <p:cNvPr id="146" name=""/>
              <p:cNvSpPr/>
              <p:nvPr/>
            </p:nvSpPr>
            <p:spPr>
              <a:xfrm rot="18580200">
                <a:off x="4420800" y="3497760"/>
                <a:ext cx="137880" cy="133560"/>
              </a:xfrm>
              <a:custGeom>
                <a:avLst/>
                <a:gdLst/>
                <a:ahLst/>
                <a:rect l="l" t="t" r="r" b="b"/>
                <a:pathLst>
                  <a:path w="841" h="813">
                    <a:moveTo>
                      <a:pt x="559" y="554"/>
                    </a:moveTo>
                    <a:lnTo>
                      <a:pt x="626" y="401"/>
                    </a:lnTo>
                    <a:lnTo>
                      <a:pt x="660" y="254"/>
                    </a:lnTo>
                    <a:lnTo>
                      <a:pt x="626" y="136"/>
                    </a:lnTo>
                    <a:lnTo>
                      <a:pt x="519" y="34"/>
                    </a:lnTo>
                    <a:lnTo>
                      <a:pt x="389" y="0"/>
                    </a:lnTo>
                    <a:lnTo>
                      <a:pt x="214" y="68"/>
                    </a:lnTo>
                    <a:lnTo>
                      <a:pt x="102" y="204"/>
                    </a:lnTo>
                    <a:lnTo>
                      <a:pt x="34" y="374"/>
                    </a:lnTo>
                    <a:lnTo>
                      <a:pt x="11" y="492"/>
                    </a:lnTo>
                    <a:lnTo>
                      <a:pt x="0" y="627"/>
                    </a:lnTo>
                    <a:lnTo>
                      <a:pt x="11" y="723"/>
                    </a:lnTo>
                    <a:lnTo>
                      <a:pt x="50" y="796"/>
                    </a:lnTo>
                    <a:lnTo>
                      <a:pt x="152" y="813"/>
                    </a:lnTo>
                    <a:lnTo>
                      <a:pt x="270" y="796"/>
                    </a:lnTo>
                    <a:lnTo>
                      <a:pt x="384" y="730"/>
                    </a:lnTo>
                    <a:lnTo>
                      <a:pt x="485" y="678"/>
                    </a:lnTo>
                    <a:lnTo>
                      <a:pt x="524" y="639"/>
                    </a:lnTo>
                    <a:lnTo>
                      <a:pt x="779" y="695"/>
                    </a:lnTo>
                    <a:lnTo>
                      <a:pt x="841" y="689"/>
                    </a:lnTo>
                    <a:lnTo>
                      <a:pt x="841" y="627"/>
                    </a:lnTo>
                    <a:lnTo>
                      <a:pt x="559" y="5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rot="18580200">
                <a:off x="4518360" y="3660840"/>
                <a:ext cx="149400" cy="261360"/>
              </a:xfrm>
              <a:custGeom>
                <a:avLst/>
                <a:gdLst/>
                <a:ahLst/>
                <a:rect l="l" t="t" r="r" b="b"/>
                <a:pathLst>
                  <a:path w="909" h="1592">
                    <a:moveTo>
                      <a:pt x="305" y="237"/>
                    </a:moveTo>
                    <a:lnTo>
                      <a:pt x="419" y="119"/>
                    </a:lnTo>
                    <a:lnTo>
                      <a:pt x="605" y="6"/>
                    </a:lnTo>
                    <a:lnTo>
                      <a:pt x="690" y="0"/>
                    </a:lnTo>
                    <a:lnTo>
                      <a:pt x="841" y="50"/>
                    </a:lnTo>
                    <a:lnTo>
                      <a:pt x="909" y="124"/>
                    </a:lnTo>
                    <a:lnTo>
                      <a:pt x="909" y="237"/>
                    </a:lnTo>
                    <a:lnTo>
                      <a:pt x="797" y="445"/>
                    </a:lnTo>
                    <a:lnTo>
                      <a:pt x="672" y="609"/>
                    </a:lnTo>
                    <a:lnTo>
                      <a:pt x="621" y="744"/>
                    </a:lnTo>
                    <a:lnTo>
                      <a:pt x="587" y="903"/>
                    </a:lnTo>
                    <a:lnTo>
                      <a:pt x="621" y="1056"/>
                    </a:lnTo>
                    <a:lnTo>
                      <a:pt x="655" y="1202"/>
                    </a:lnTo>
                    <a:lnTo>
                      <a:pt x="655" y="1371"/>
                    </a:lnTo>
                    <a:lnTo>
                      <a:pt x="605" y="1473"/>
                    </a:lnTo>
                    <a:lnTo>
                      <a:pt x="491" y="1530"/>
                    </a:lnTo>
                    <a:lnTo>
                      <a:pt x="356" y="1592"/>
                    </a:lnTo>
                    <a:lnTo>
                      <a:pt x="232" y="1592"/>
                    </a:lnTo>
                    <a:lnTo>
                      <a:pt x="147" y="1546"/>
                    </a:lnTo>
                    <a:lnTo>
                      <a:pt x="33" y="1360"/>
                    </a:lnTo>
                    <a:lnTo>
                      <a:pt x="0" y="1168"/>
                    </a:lnTo>
                    <a:lnTo>
                      <a:pt x="11" y="919"/>
                    </a:lnTo>
                    <a:lnTo>
                      <a:pt x="96" y="609"/>
                    </a:lnTo>
                    <a:lnTo>
                      <a:pt x="181" y="406"/>
                    </a:lnTo>
                    <a:lnTo>
                      <a:pt x="305" y="2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rot="18580200">
                <a:off x="4436280" y="3689280"/>
                <a:ext cx="141840" cy="164880"/>
              </a:xfrm>
              <a:custGeom>
                <a:avLst/>
                <a:gdLst/>
                <a:ahLst/>
                <a:rect l="l" t="t" r="r" b="b"/>
                <a:pathLst>
                  <a:path w="864" h="1005">
                    <a:moveTo>
                      <a:pt x="451" y="89"/>
                    </a:moveTo>
                    <a:lnTo>
                      <a:pt x="654" y="152"/>
                    </a:lnTo>
                    <a:lnTo>
                      <a:pt x="823" y="186"/>
                    </a:lnTo>
                    <a:lnTo>
                      <a:pt x="864" y="242"/>
                    </a:lnTo>
                    <a:lnTo>
                      <a:pt x="846" y="310"/>
                    </a:lnTo>
                    <a:lnTo>
                      <a:pt x="739" y="360"/>
                    </a:lnTo>
                    <a:lnTo>
                      <a:pt x="643" y="343"/>
                    </a:lnTo>
                    <a:lnTo>
                      <a:pt x="418" y="236"/>
                    </a:lnTo>
                    <a:lnTo>
                      <a:pt x="316" y="124"/>
                    </a:lnTo>
                    <a:lnTo>
                      <a:pt x="220" y="102"/>
                    </a:lnTo>
                    <a:lnTo>
                      <a:pt x="152" y="192"/>
                    </a:lnTo>
                    <a:lnTo>
                      <a:pt x="119" y="412"/>
                    </a:lnTo>
                    <a:lnTo>
                      <a:pt x="119" y="439"/>
                    </a:lnTo>
                    <a:lnTo>
                      <a:pt x="119" y="626"/>
                    </a:lnTo>
                    <a:lnTo>
                      <a:pt x="152" y="711"/>
                    </a:lnTo>
                    <a:lnTo>
                      <a:pt x="248" y="784"/>
                    </a:lnTo>
                    <a:lnTo>
                      <a:pt x="237" y="902"/>
                    </a:lnTo>
                    <a:lnTo>
                      <a:pt x="163" y="987"/>
                    </a:lnTo>
                    <a:lnTo>
                      <a:pt x="51" y="1005"/>
                    </a:lnTo>
                    <a:lnTo>
                      <a:pt x="17" y="937"/>
                    </a:lnTo>
                    <a:lnTo>
                      <a:pt x="0" y="727"/>
                    </a:lnTo>
                    <a:lnTo>
                      <a:pt x="34" y="378"/>
                    </a:lnTo>
                    <a:lnTo>
                      <a:pt x="84" y="89"/>
                    </a:lnTo>
                    <a:lnTo>
                      <a:pt x="135" y="22"/>
                    </a:lnTo>
                    <a:lnTo>
                      <a:pt x="203" y="0"/>
                    </a:lnTo>
                    <a:lnTo>
                      <a:pt x="270" y="0"/>
                    </a:lnTo>
                    <a:lnTo>
                      <a:pt x="384" y="56"/>
                    </a:lnTo>
                    <a:lnTo>
                      <a:pt x="451"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18580200">
                <a:off x="4542480" y="3605040"/>
                <a:ext cx="190080" cy="129240"/>
              </a:xfrm>
              <a:custGeom>
                <a:avLst/>
                <a:gdLst/>
                <a:ahLst/>
                <a:rect l="l" t="t" r="r" b="b"/>
                <a:pathLst>
                  <a:path w="1158" h="786">
                    <a:moveTo>
                      <a:pt x="0" y="168"/>
                    </a:moveTo>
                    <a:lnTo>
                      <a:pt x="0" y="50"/>
                    </a:lnTo>
                    <a:lnTo>
                      <a:pt x="73" y="0"/>
                    </a:lnTo>
                    <a:lnTo>
                      <a:pt x="152" y="6"/>
                    </a:lnTo>
                    <a:lnTo>
                      <a:pt x="203" y="124"/>
                    </a:lnTo>
                    <a:lnTo>
                      <a:pt x="220" y="293"/>
                    </a:lnTo>
                    <a:lnTo>
                      <a:pt x="294" y="496"/>
                    </a:lnTo>
                    <a:lnTo>
                      <a:pt x="379" y="644"/>
                    </a:lnTo>
                    <a:lnTo>
                      <a:pt x="474" y="694"/>
                    </a:lnTo>
                    <a:lnTo>
                      <a:pt x="565" y="677"/>
                    </a:lnTo>
                    <a:lnTo>
                      <a:pt x="661" y="598"/>
                    </a:lnTo>
                    <a:lnTo>
                      <a:pt x="836" y="446"/>
                    </a:lnTo>
                    <a:lnTo>
                      <a:pt x="932" y="310"/>
                    </a:lnTo>
                    <a:lnTo>
                      <a:pt x="932" y="236"/>
                    </a:lnTo>
                    <a:lnTo>
                      <a:pt x="904" y="175"/>
                    </a:lnTo>
                    <a:lnTo>
                      <a:pt x="965" y="67"/>
                    </a:lnTo>
                    <a:lnTo>
                      <a:pt x="1056" y="17"/>
                    </a:lnTo>
                    <a:lnTo>
                      <a:pt x="1135" y="56"/>
                    </a:lnTo>
                    <a:lnTo>
                      <a:pt x="1158" y="135"/>
                    </a:lnTo>
                    <a:lnTo>
                      <a:pt x="1090" y="310"/>
                    </a:lnTo>
                    <a:lnTo>
                      <a:pt x="864" y="564"/>
                    </a:lnTo>
                    <a:lnTo>
                      <a:pt x="609" y="762"/>
                    </a:lnTo>
                    <a:lnTo>
                      <a:pt x="458" y="786"/>
                    </a:lnTo>
                    <a:lnTo>
                      <a:pt x="327" y="751"/>
                    </a:lnTo>
                    <a:lnTo>
                      <a:pt x="220" y="598"/>
                    </a:lnTo>
                    <a:lnTo>
                      <a:pt x="119" y="412"/>
                    </a:lnTo>
                    <a:lnTo>
                      <a:pt x="39" y="277"/>
                    </a:lnTo>
                    <a:lnTo>
                      <a:pt x="0"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18580200">
                <a:off x="4677480" y="3755160"/>
                <a:ext cx="188640" cy="195120"/>
              </a:xfrm>
              <a:custGeom>
                <a:avLst/>
                <a:gdLst/>
                <a:ahLst/>
                <a:rect l="l" t="t" r="r" b="b"/>
                <a:pathLst>
                  <a:path w="1147" h="1186">
                    <a:moveTo>
                      <a:pt x="0" y="112"/>
                    </a:moveTo>
                    <a:lnTo>
                      <a:pt x="96" y="0"/>
                    </a:lnTo>
                    <a:lnTo>
                      <a:pt x="236" y="0"/>
                    </a:lnTo>
                    <a:lnTo>
                      <a:pt x="502" y="27"/>
                    </a:lnTo>
                    <a:lnTo>
                      <a:pt x="813" y="44"/>
                    </a:lnTo>
                    <a:lnTo>
                      <a:pt x="931" y="96"/>
                    </a:lnTo>
                    <a:lnTo>
                      <a:pt x="983" y="162"/>
                    </a:lnTo>
                    <a:lnTo>
                      <a:pt x="994" y="264"/>
                    </a:lnTo>
                    <a:lnTo>
                      <a:pt x="959" y="372"/>
                    </a:lnTo>
                    <a:lnTo>
                      <a:pt x="863" y="535"/>
                    </a:lnTo>
                    <a:lnTo>
                      <a:pt x="739" y="671"/>
                    </a:lnTo>
                    <a:lnTo>
                      <a:pt x="643" y="795"/>
                    </a:lnTo>
                    <a:lnTo>
                      <a:pt x="603" y="891"/>
                    </a:lnTo>
                    <a:lnTo>
                      <a:pt x="575" y="959"/>
                    </a:lnTo>
                    <a:lnTo>
                      <a:pt x="586" y="1010"/>
                    </a:lnTo>
                    <a:lnTo>
                      <a:pt x="592" y="1044"/>
                    </a:lnTo>
                    <a:lnTo>
                      <a:pt x="706" y="1044"/>
                    </a:lnTo>
                    <a:lnTo>
                      <a:pt x="881" y="1016"/>
                    </a:lnTo>
                    <a:lnTo>
                      <a:pt x="994" y="1016"/>
                    </a:lnTo>
                    <a:lnTo>
                      <a:pt x="1112" y="1060"/>
                    </a:lnTo>
                    <a:lnTo>
                      <a:pt x="1147" y="1117"/>
                    </a:lnTo>
                    <a:lnTo>
                      <a:pt x="1112" y="1168"/>
                    </a:lnTo>
                    <a:lnTo>
                      <a:pt x="1062" y="1186"/>
                    </a:lnTo>
                    <a:lnTo>
                      <a:pt x="983" y="1162"/>
                    </a:lnTo>
                    <a:lnTo>
                      <a:pt x="874" y="1101"/>
                    </a:lnTo>
                    <a:lnTo>
                      <a:pt x="762" y="1112"/>
                    </a:lnTo>
                    <a:lnTo>
                      <a:pt x="575" y="1145"/>
                    </a:lnTo>
                    <a:lnTo>
                      <a:pt x="518" y="1134"/>
                    </a:lnTo>
                    <a:lnTo>
                      <a:pt x="491" y="1095"/>
                    </a:lnTo>
                    <a:lnTo>
                      <a:pt x="491" y="998"/>
                    </a:lnTo>
                    <a:lnTo>
                      <a:pt x="491" y="863"/>
                    </a:lnTo>
                    <a:lnTo>
                      <a:pt x="570" y="762"/>
                    </a:lnTo>
                    <a:lnTo>
                      <a:pt x="688" y="609"/>
                    </a:lnTo>
                    <a:lnTo>
                      <a:pt x="789" y="474"/>
                    </a:lnTo>
                    <a:lnTo>
                      <a:pt x="858" y="372"/>
                    </a:lnTo>
                    <a:lnTo>
                      <a:pt x="892" y="282"/>
                    </a:lnTo>
                    <a:lnTo>
                      <a:pt x="874" y="230"/>
                    </a:lnTo>
                    <a:lnTo>
                      <a:pt x="830" y="168"/>
                    </a:lnTo>
                    <a:lnTo>
                      <a:pt x="762" y="151"/>
                    </a:lnTo>
                    <a:lnTo>
                      <a:pt x="688" y="151"/>
                    </a:lnTo>
                    <a:lnTo>
                      <a:pt x="524" y="151"/>
                    </a:lnTo>
                    <a:lnTo>
                      <a:pt x="282" y="197"/>
                    </a:lnTo>
                    <a:lnTo>
                      <a:pt x="101" y="214"/>
                    </a:lnTo>
                    <a:lnTo>
                      <a:pt x="28" y="197"/>
                    </a:lnTo>
                    <a:lnTo>
                      <a:pt x="0" y="168"/>
                    </a:lnTo>
                    <a:lnTo>
                      <a:pt x="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18580200">
                <a:off x="4502520" y="3875760"/>
                <a:ext cx="239400" cy="185400"/>
              </a:xfrm>
              <a:custGeom>
                <a:avLst/>
                <a:gdLst/>
                <a:ahLst/>
                <a:rect l="l" t="t" r="r" b="b"/>
                <a:pathLst>
                  <a:path w="1457" h="1130">
                    <a:moveTo>
                      <a:pt x="1186" y="468"/>
                    </a:moveTo>
                    <a:lnTo>
                      <a:pt x="1208" y="321"/>
                    </a:lnTo>
                    <a:lnTo>
                      <a:pt x="1293" y="265"/>
                    </a:lnTo>
                    <a:lnTo>
                      <a:pt x="1394" y="253"/>
                    </a:lnTo>
                    <a:lnTo>
                      <a:pt x="1457" y="321"/>
                    </a:lnTo>
                    <a:lnTo>
                      <a:pt x="1429" y="451"/>
                    </a:lnTo>
                    <a:lnTo>
                      <a:pt x="1372" y="627"/>
                    </a:lnTo>
                    <a:lnTo>
                      <a:pt x="1259" y="824"/>
                    </a:lnTo>
                    <a:lnTo>
                      <a:pt x="1118" y="994"/>
                    </a:lnTo>
                    <a:lnTo>
                      <a:pt x="999" y="1084"/>
                    </a:lnTo>
                    <a:lnTo>
                      <a:pt x="870" y="1130"/>
                    </a:lnTo>
                    <a:lnTo>
                      <a:pt x="745" y="1112"/>
                    </a:lnTo>
                    <a:lnTo>
                      <a:pt x="649" y="1062"/>
                    </a:lnTo>
                    <a:lnTo>
                      <a:pt x="616" y="977"/>
                    </a:lnTo>
                    <a:lnTo>
                      <a:pt x="575" y="830"/>
                    </a:lnTo>
                    <a:lnTo>
                      <a:pt x="531" y="559"/>
                    </a:lnTo>
                    <a:lnTo>
                      <a:pt x="496" y="372"/>
                    </a:lnTo>
                    <a:lnTo>
                      <a:pt x="496" y="151"/>
                    </a:lnTo>
                    <a:lnTo>
                      <a:pt x="474" y="112"/>
                    </a:lnTo>
                    <a:lnTo>
                      <a:pt x="406" y="101"/>
                    </a:lnTo>
                    <a:lnTo>
                      <a:pt x="328" y="162"/>
                    </a:lnTo>
                    <a:lnTo>
                      <a:pt x="254" y="265"/>
                    </a:lnTo>
                    <a:lnTo>
                      <a:pt x="170" y="321"/>
                    </a:lnTo>
                    <a:lnTo>
                      <a:pt x="39" y="321"/>
                    </a:lnTo>
                    <a:lnTo>
                      <a:pt x="0" y="287"/>
                    </a:lnTo>
                    <a:lnTo>
                      <a:pt x="0" y="230"/>
                    </a:lnTo>
                    <a:lnTo>
                      <a:pt x="57" y="180"/>
                    </a:lnTo>
                    <a:lnTo>
                      <a:pt x="118" y="197"/>
                    </a:lnTo>
                    <a:lnTo>
                      <a:pt x="175" y="186"/>
                    </a:lnTo>
                    <a:lnTo>
                      <a:pt x="277" y="112"/>
                    </a:lnTo>
                    <a:lnTo>
                      <a:pt x="378" y="33"/>
                    </a:lnTo>
                    <a:lnTo>
                      <a:pt x="474" y="11"/>
                    </a:lnTo>
                    <a:lnTo>
                      <a:pt x="610" y="0"/>
                    </a:lnTo>
                    <a:lnTo>
                      <a:pt x="616" y="61"/>
                    </a:lnTo>
                    <a:lnTo>
                      <a:pt x="581" y="129"/>
                    </a:lnTo>
                    <a:lnTo>
                      <a:pt x="575" y="304"/>
                    </a:lnTo>
                    <a:lnTo>
                      <a:pt x="616" y="536"/>
                    </a:lnTo>
                    <a:lnTo>
                      <a:pt x="677" y="762"/>
                    </a:lnTo>
                    <a:lnTo>
                      <a:pt x="734" y="898"/>
                    </a:lnTo>
                    <a:lnTo>
                      <a:pt x="819" y="960"/>
                    </a:lnTo>
                    <a:lnTo>
                      <a:pt x="904" y="960"/>
                    </a:lnTo>
                    <a:lnTo>
                      <a:pt x="988" y="898"/>
                    </a:lnTo>
                    <a:lnTo>
                      <a:pt x="1101" y="756"/>
                    </a:lnTo>
                    <a:lnTo>
                      <a:pt x="1175" y="553"/>
                    </a:lnTo>
                    <a:lnTo>
                      <a:pt x="1186" y="4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 name=""/>
            <p:cNvGrpSpPr/>
            <p:nvPr/>
          </p:nvGrpSpPr>
          <p:grpSpPr>
            <a:xfrm>
              <a:off x="6492240" y="3429720"/>
              <a:ext cx="344160" cy="685080"/>
              <a:chOff x="6492240" y="3429720"/>
              <a:chExt cx="344160" cy="685080"/>
            </a:xfrm>
          </p:grpSpPr>
          <p:sp>
            <p:nvSpPr>
              <p:cNvPr id="153" name=""/>
              <p:cNvSpPr/>
              <p:nvPr/>
            </p:nvSpPr>
            <p:spPr>
              <a:xfrm flipH="1">
                <a:off x="6592320" y="3467880"/>
                <a:ext cx="134640" cy="149400"/>
              </a:xfrm>
              <a:custGeom>
                <a:avLst/>
                <a:gdLst/>
                <a:ahLst/>
                <a:rect l="l" t="t" r="r" b="b"/>
                <a:pathLst>
                  <a:path w="1143" h="1268">
                    <a:moveTo>
                      <a:pt x="595" y="293"/>
                    </a:moveTo>
                    <a:lnTo>
                      <a:pt x="495" y="163"/>
                    </a:lnTo>
                    <a:lnTo>
                      <a:pt x="355" y="65"/>
                    </a:lnTo>
                    <a:lnTo>
                      <a:pt x="230" y="0"/>
                    </a:lnTo>
                    <a:lnTo>
                      <a:pt x="130" y="18"/>
                    </a:lnTo>
                    <a:lnTo>
                      <a:pt x="58" y="90"/>
                    </a:lnTo>
                    <a:lnTo>
                      <a:pt x="0" y="310"/>
                    </a:lnTo>
                    <a:lnTo>
                      <a:pt x="23" y="563"/>
                    </a:lnTo>
                    <a:lnTo>
                      <a:pt x="83" y="805"/>
                    </a:lnTo>
                    <a:lnTo>
                      <a:pt x="148" y="993"/>
                    </a:lnTo>
                    <a:lnTo>
                      <a:pt x="273" y="1188"/>
                    </a:lnTo>
                    <a:lnTo>
                      <a:pt x="380" y="1268"/>
                    </a:lnTo>
                    <a:lnTo>
                      <a:pt x="528" y="1268"/>
                    </a:lnTo>
                    <a:lnTo>
                      <a:pt x="678" y="1213"/>
                    </a:lnTo>
                    <a:lnTo>
                      <a:pt x="753" y="1073"/>
                    </a:lnTo>
                    <a:lnTo>
                      <a:pt x="793" y="895"/>
                    </a:lnTo>
                    <a:lnTo>
                      <a:pt x="778" y="675"/>
                    </a:lnTo>
                    <a:lnTo>
                      <a:pt x="1125" y="700"/>
                    </a:lnTo>
                    <a:lnTo>
                      <a:pt x="1143" y="603"/>
                    </a:lnTo>
                    <a:lnTo>
                      <a:pt x="745" y="563"/>
                    </a:lnTo>
                    <a:lnTo>
                      <a:pt x="645" y="335"/>
                    </a:lnTo>
                    <a:lnTo>
                      <a:pt x="595"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6680880" y="3429720"/>
                <a:ext cx="155160" cy="239760"/>
              </a:xfrm>
              <a:custGeom>
                <a:avLst/>
                <a:gdLst/>
                <a:ahLst/>
                <a:rect l="l" t="t" r="r" b="b"/>
                <a:pathLst>
                  <a:path w="1315" h="2033">
                    <a:moveTo>
                      <a:pt x="768" y="48"/>
                    </a:moveTo>
                    <a:lnTo>
                      <a:pt x="933" y="0"/>
                    </a:lnTo>
                    <a:lnTo>
                      <a:pt x="1065" y="8"/>
                    </a:lnTo>
                    <a:lnTo>
                      <a:pt x="1165" y="80"/>
                    </a:lnTo>
                    <a:lnTo>
                      <a:pt x="1233" y="195"/>
                    </a:lnTo>
                    <a:lnTo>
                      <a:pt x="1208" y="315"/>
                    </a:lnTo>
                    <a:lnTo>
                      <a:pt x="1115" y="315"/>
                    </a:lnTo>
                    <a:lnTo>
                      <a:pt x="1140" y="218"/>
                    </a:lnTo>
                    <a:lnTo>
                      <a:pt x="1065" y="130"/>
                    </a:lnTo>
                    <a:lnTo>
                      <a:pt x="993" y="98"/>
                    </a:lnTo>
                    <a:lnTo>
                      <a:pt x="868" y="130"/>
                    </a:lnTo>
                    <a:lnTo>
                      <a:pt x="918" y="228"/>
                    </a:lnTo>
                    <a:lnTo>
                      <a:pt x="933" y="315"/>
                    </a:lnTo>
                    <a:lnTo>
                      <a:pt x="918" y="390"/>
                    </a:lnTo>
                    <a:lnTo>
                      <a:pt x="793" y="423"/>
                    </a:lnTo>
                    <a:lnTo>
                      <a:pt x="660" y="398"/>
                    </a:lnTo>
                    <a:lnTo>
                      <a:pt x="635" y="340"/>
                    </a:lnTo>
                    <a:lnTo>
                      <a:pt x="495" y="495"/>
                    </a:lnTo>
                    <a:lnTo>
                      <a:pt x="413" y="665"/>
                    </a:lnTo>
                    <a:lnTo>
                      <a:pt x="298" y="885"/>
                    </a:lnTo>
                    <a:lnTo>
                      <a:pt x="223" y="1080"/>
                    </a:lnTo>
                    <a:lnTo>
                      <a:pt x="190" y="1268"/>
                    </a:lnTo>
                    <a:lnTo>
                      <a:pt x="215" y="1365"/>
                    </a:lnTo>
                    <a:lnTo>
                      <a:pt x="348" y="1488"/>
                    </a:lnTo>
                    <a:lnTo>
                      <a:pt x="620" y="1593"/>
                    </a:lnTo>
                    <a:lnTo>
                      <a:pt x="768" y="1640"/>
                    </a:lnTo>
                    <a:lnTo>
                      <a:pt x="918" y="1665"/>
                    </a:lnTo>
                    <a:lnTo>
                      <a:pt x="1140" y="1755"/>
                    </a:lnTo>
                    <a:lnTo>
                      <a:pt x="1305" y="1813"/>
                    </a:lnTo>
                    <a:lnTo>
                      <a:pt x="1315" y="1925"/>
                    </a:lnTo>
                    <a:lnTo>
                      <a:pt x="1233" y="2008"/>
                    </a:lnTo>
                    <a:lnTo>
                      <a:pt x="1133" y="2033"/>
                    </a:lnTo>
                    <a:lnTo>
                      <a:pt x="983" y="1958"/>
                    </a:lnTo>
                    <a:lnTo>
                      <a:pt x="635" y="1780"/>
                    </a:lnTo>
                    <a:lnTo>
                      <a:pt x="348" y="1658"/>
                    </a:lnTo>
                    <a:lnTo>
                      <a:pt x="148" y="1520"/>
                    </a:lnTo>
                    <a:lnTo>
                      <a:pt x="15" y="1398"/>
                    </a:lnTo>
                    <a:lnTo>
                      <a:pt x="0" y="1250"/>
                    </a:lnTo>
                    <a:lnTo>
                      <a:pt x="73" y="1055"/>
                    </a:lnTo>
                    <a:lnTo>
                      <a:pt x="223" y="763"/>
                    </a:lnTo>
                    <a:lnTo>
                      <a:pt x="363" y="520"/>
                    </a:lnTo>
                    <a:lnTo>
                      <a:pt x="538" y="268"/>
                    </a:lnTo>
                    <a:lnTo>
                      <a:pt x="670" y="120"/>
                    </a:lnTo>
                    <a:lnTo>
                      <a:pt x="835" y="48"/>
                    </a:lnTo>
                    <a:lnTo>
                      <a:pt x="768"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6608880" y="3628440"/>
                <a:ext cx="81000" cy="225000"/>
              </a:xfrm>
              <a:custGeom>
                <a:avLst/>
                <a:gdLst/>
                <a:ahLst/>
                <a:rect l="l" t="t" r="r" b="b"/>
                <a:pathLst>
                  <a:path w="688" h="1908">
                    <a:moveTo>
                      <a:pt x="43" y="148"/>
                    </a:moveTo>
                    <a:lnTo>
                      <a:pt x="68" y="50"/>
                    </a:lnTo>
                    <a:lnTo>
                      <a:pt x="175" y="0"/>
                    </a:lnTo>
                    <a:lnTo>
                      <a:pt x="273" y="0"/>
                    </a:lnTo>
                    <a:lnTo>
                      <a:pt x="398" y="73"/>
                    </a:lnTo>
                    <a:lnTo>
                      <a:pt x="515" y="245"/>
                    </a:lnTo>
                    <a:lnTo>
                      <a:pt x="598" y="423"/>
                    </a:lnTo>
                    <a:lnTo>
                      <a:pt x="638" y="665"/>
                    </a:lnTo>
                    <a:lnTo>
                      <a:pt x="673" y="950"/>
                    </a:lnTo>
                    <a:lnTo>
                      <a:pt x="688" y="1225"/>
                    </a:lnTo>
                    <a:lnTo>
                      <a:pt x="688" y="1583"/>
                    </a:lnTo>
                    <a:lnTo>
                      <a:pt x="638" y="1803"/>
                    </a:lnTo>
                    <a:lnTo>
                      <a:pt x="548" y="1883"/>
                    </a:lnTo>
                    <a:lnTo>
                      <a:pt x="390" y="1908"/>
                    </a:lnTo>
                    <a:lnTo>
                      <a:pt x="225" y="1900"/>
                    </a:lnTo>
                    <a:lnTo>
                      <a:pt x="140" y="1803"/>
                    </a:lnTo>
                    <a:lnTo>
                      <a:pt x="93" y="1633"/>
                    </a:lnTo>
                    <a:lnTo>
                      <a:pt x="50" y="1463"/>
                    </a:lnTo>
                    <a:lnTo>
                      <a:pt x="18" y="1153"/>
                    </a:lnTo>
                    <a:lnTo>
                      <a:pt x="0" y="805"/>
                    </a:lnTo>
                    <a:lnTo>
                      <a:pt x="0" y="398"/>
                    </a:lnTo>
                    <a:lnTo>
                      <a:pt x="43" y="220"/>
                    </a:lnTo>
                    <a:lnTo>
                      <a:pt x="43"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a:off x="6528960" y="3634920"/>
                <a:ext cx="123840" cy="172800"/>
              </a:xfrm>
              <a:custGeom>
                <a:avLst/>
                <a:gdLst/>
                <a:ahLst/>
                <a:rect l="l" t="t" r="r" b="b"/>
                <a:pathLst>
                  <a:path w="1050" h="1465">
                    <a:moveTo>
                      <a:pt x="57" y="0"/>
                    </a:moveTo>
                    <a:lnTo>
                      <a:pt x="272" y="25"/>
                    </a:lnTo>
                    <a:lnTo>
                      <a:pt x="495" y="65"/>
                    </a:lnTo>
                    <a:lnTo>
                      <a:pt x="727" y="195"/>
                    </a:lnTo>
                    <a:lnTo>
                      <a:pt x="892" y="292"/>
                    </a:lnTo>
                    <a:lnTo>
                      <a:pt x="1000" y="432"/>
                    </a:lnTo>
                    <a:lnTo>
                      <a:pt x="1050" y="512"/>
                    </a:lnTo>
                    <a:lnTo>
                      <a:pt x="950" y="750"/>
                    </a:lnTo>
                    <a:lnTo>
                      <a:pt x="792" y="895"/>
                    </a:lnTo>
                    <a:lnTo>
                      <a:pt x="602" y="1000"/>
                    </a:lnTo>
                    <a:lnTo>
                      <a:pt x="502" y="1065"/>
                    </a:lnTo>
                    <a:lnTo>
                      <a:pt x="330" y="1097"/>
                    </a:lnTo>
                    <a:lnTo>
                      <a:pt x="322" y="1162"/>
                    </a:lnTo>
                    <a:lnTo>
                      <a:pt x="455" y="1220"/>
                    </a:lnTo>
                    <a:lnTo>
                      <a:pt x="645" y="1270"/>
                    </a:lnTo>
                    <a:lnTo>
                      <a:pt x="825" y="1367"/>
                    </a:lnTo>
                    <a:lnTo>
                      <a:pt x="752" y="1440"/>
                    </a:lnTo>
                    <a:lnTo>
                      <a:pt x="677" y="1465"/>
                    </a:lnTo>
                    <a:lnTo>
                      <a:pt x="570" y="1357"/>
                    </a:lnTo>
                    <a:lnTo>
                      <a:pt x="405" y="1292"/>
                    </a:lnTo>
                    <a:lnTo>
                      <a:pt x="272" y="1245"/>
                    </a:lnTo>
                    <a:lnTo>
                      <a:pt x="272" y="1147"/>
                    </a:lnTo>
                    <a:lnTo>
                      <a:pt x="297" y="1042"/>
                    </a:lnTo>
                    <a:lnTo>
                      <a:pt x="380" y="1000"/>
                    </a:lnTo>
                    <a:lnTo>
                      <a:pt x="645" y="895"/>
                    </a:lnTo>
                    <a:lnTo>
                      <a:pt x="792" y="732"/>
                    </a:lnTo>
                    <a:lnTo>
                      <a:pt x="900" y="562"/>
                    </a:lnTo>
                    <a:lnTo>
                      <a:pt x="875" y="480"/>
                    </a:lnTo>
                    <a:lnTo>
                      <a:pt x="792" y="382"/>
                    </a:lnTo>
                    <a:lnTo>
                      <a:pt x="595" y="245"/>
                    </a:lnTo>
                    <a:lnTo>
                      <a:pt x="355" y="195"/>
                    </a:lnTo>
                    <a:lnTo>
                      <a:pt x="197" y="187"/>
                    </a:lnTo>
                    <a:lnTo>
                      <a:pt x="57" y="187"/>
                    </a:lnTo>
                    <a:lnTo>
                      <a:pt x="0" y="97"/>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6491880" y="3830760"/>
                <a:ext cx="150840" cy="279360"/>
              </a:xfrm>
              <a:custGeom>
                <a:avLst/>
                <a:gdLst/>
                <a:ahLst/>
                <a:rect l="l" t="t" r="r" b="b"/>
                <a:pathLst>
                  <a:path w="1278" h="2367">
                    <a:moveTo>
                      <a:pt x="148" y="0"/>
                    </a:moveTo>
                    <a:lnTo>
                      <a:pt x="33" y="0"/>
                    </a:lnTo>
                    <a:lnTo>
                      <a:pt x="0" y="170"/>
                    </a:lnTo>
                    <a:lnTo>
                      <a:pt x="83" y="270"/>
                    </a:lnTo>
                    <a:lnTo>
                      <a:pt x="348" y="505"/>
                    </a:lnTo>
                    <a:lnTo>
                      <a:pt x="580" y="805"/>
                    </a:lnTo>
                    <a:lnTo>
                      <a:pt x="730" y="1115"/>
                    </a:lnTo>
                    <a:lnTo>
                      <a:pt x="753" y="1317"/>
                    </a:lnTo>
                    <a:lnTo>
                      <a:pt x="745" y="1465"/>
                    </a:lnTo>
                    <a:lnTo>
                      <a:pt x="680" y="1797"/>
                    </a:lnTo>
                    <a:lnTo>
                      <a:pt x="595" y="2067"/>
                    </a:lnTo>
                    <a:lnTo>
                      <a:pt x="523" y="2222"/>
                    </a:lnTo>
                    <a:lnTo>
                      <a:pt x="505" y="2320"/>
                    </a:lnTo>
                    <a:lnTo>
                      <a:pt x="580" y="2320"/>
                    </a:lnTo>
                    <a:lnTo>
                      <a:pt x="695" y="2287"/>
                    </a:lnTo>
                    <a:lnTo>
                      <a:pt x="730" y="2295"/>
                    </a:lnTo>
                    <a:lnTo>
                      <a:pt x="970" y="2310"/>
                    </a:lnTo>
                    <a:lnTo>
                      <a:pt x="1153" y="2367"/>
                    </a:lnTo>
                    <a:lnTo>
                      <a:pt x="1218" y="2335"/>
                    </a:lnTo>
                    <a:lnTo>
                      <a:pt x="1278" y="2212"/>
                    </a:lnTo>
                    <a:lnTo>
                      <a:pt x="1218" y="2147"/>
                    </a:lnTo>
                    <a:lnTo>
                      <a:pt x="945" y="2140"/>
                    </a:lnTo>
                    <a:lnTo>
                      <a:pt x="753" y="2165"/>
                    </a:lnTo>
                    <a:lnTo>
                      <a:pt x="655" y="2212"/>
                    </a:lnTo>
                    <a:lnTo>
                      <a:pt x="670" y="2100"/>
                    </a:lnTo>
                    <a:lnTo>
                      <a:pt x="770" y="1927"/>
                    </a:lnTo>
                    <a:lnTo>
                      <a:pt x="853" y="1660"/>
                    </a:lnTo>
                    <a:lnTo>
                      <a:pt x="920" y="1432"/>
                    </a:lnTo>
                    <a:lnTo>
                      <a:pt x="870" y="1172"/>
                    </a:lnTo>
                    <a:lnTo>
                      <a:pt x="795" y="895"/>
                    </a:lnTo>
                    <a:lnTo>
                      <a:pt x="645" y="577"/>
                    </a:lnTo>
                    <a:lnTo>
                      <a:pt x="430" y="285"/>
                    </a:lnTo>
                    <a:lnTo>
                      <a:pt x="248" y="72"/>
                    </a:lnTo>
                    <a:lnTo>
                      <a:pt x="1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6636240" y="3830040"/>
                <a:ext cx="101520" cy="284760"/>
              </a:xfrm>
              <a:custGeom>
                <a:avLst/>
                <a:gdLst/>
                <a:ahLst/>
                <a:rect l="l" t="t" r="r" b="b"/>
                <a:pathLst>
                  <a:path w="860" h="2412">
                    <a:moveTo>
                      <a:pt x="595" y="0"/>
                    </a:moveTo>
                    <a:lnTo>
                      <a:pt x="487" y="227"/>
                    </a:lnTo>
                    <a:lnTo>
                      <a:pt x="412" y="560"/>
                    </a:lnTo>
                    <a:lnTo>
                      <a:pt x="322" y="927"/>
                    </a:lnTo>
                    <a:lnTo>
                      <a:pt x="240" y="1300"/>
                    </a:lnTo>
                    <a:lnTo>
                      <a:pt x="240" y="1437"/>
                    </a:lnTo>
                    <a:lnTo>
                      <a:pt x="322" y="1682"/>
                    </a:lnTo>
                    <a:lnTo>
                      <a:pt x="437" y="1812"/>
                    </a:lnTo>
                    <a:lnTo>
                      <a:pt x="545" y="1975"/>
                    </a:lnTo>
                    <a:lnTo>
                      <a:pt x="620" y="2095"/>
                    </a:lnTo>
                    <a:lnTo>
                      <a:pt x="587" y="2152"/>
                    </a:lnTo>
                    <a:lnTo>
                      <a:pt x="397" y="2177"/>
                    </a:lnTo>
                    <a:lnTo>
                      <a:pt x="90" y="2225"/>
                    </a:lnTo>
                    <a:lnTo>
                      <a:pt x="0" y="2300"/>
                    </a:lnTo>
                    <a:lnTo>
                      <a:pt x="75" y="2365"/>
                    </a:lnTo>
                    <a:lnTo>
                      <a:pt x="247" y="2412"/>
                    </a:lnTo>
                    <a:lnTo>
                      <a:pt x="447" y="2315"/>
                    </a:lnTo>
                    <a:lnTo>
                      <a:pt x="595" y="2250"/>
                    </a:lnTo>
                    <a:lnTo>
                      <a:pt x="785" y="2225"/>
                    </a:lnTo>
                    <a:lnTo>
                      <a:pt x="860" y="2202"/>
                    </a:lnTo>
                    <a:lnTo>
                      <a:pt x="835" y="2120"/>
                    </a:lnTo>
                    <a:lnTo>
                      <a:pt x="620" y="1910"/>
                    </a:lnTo>
                    <a:lnTo>
                      <a:pt x="495" y="1690"/>
                    </a:lnTo>
                    <a:lnTo>
                      <a:pt x="387" y="1542"/>
                    </a:lnTo>
                    <a:lnTo>
                      <a:pt x="372" y="1397"/>
                    </a:lnTo>
                    <a:lnTo>
                      <a:pt x="422" y="1155"/>
                    </a:lnTo>
                    <a:lnTo>
                      <a:pt x="537" y="902"/>
                    </a:lnTo>
                    <a:lnTo>
                      <a:pt x="662" y="472"/>
                    </a:lnTo>
                    <a:lnTo>
                      <a:pt x="770" y="220"/>
                    </a:lnTo>
                    <a:lnTo>
                      <a:pt x="760" y="72"/>
                    </a:lnTo>
                    <a:lnTo>
                      <a:pt x="662" y="0"/>
                    </a:lnTo>
                    <a:lnTo>
                      <a:pt x="5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 name=""/>
            <p:cNvSpPr/>
            <p:nvPr/>
          </p:nvSpPr>
          <p:spPr>
            <a:xfrm rot="652800">
              <a:off x="1463040" y="1279800"/>
              <a:ext cx="548640" cy="274320"/>
            </a:xfrm>
            <a:prstGeom prst="wedgeEllipseCallout">
              <a:avLst>
                <a:gd name="adj1" fmla="val -43750"/>
                <a:gd name="adj2" fmla="val 7000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554480" y="1371600"/>
              <a:ext cx="548640" cy="182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I’m ready!</a:t>
              </a:r>
              <a:endParaRPr b="0" lang="en-US" sz="800" spc="-1" strike="noStrike">
                <a:solidFill>
                  <a:srgbClr val="000000"/>
                </a:solidFill>
                <a:latin typeface="Arial"/>
              </a:endParaRPr>
            </a:p>
          </p:txBody>
        </p:sp>
        <p:sp>
          <p:nvSpPr>
            <p:cNvPr id="161" name=""/>
            <p:cNvSpPr/>
            <p:nvPr/>
          </p:nvSpPr>
          <p:spPr>
            <a:xfrm flipH="1" rot="670800">
              <a:off x="1097280" y="3008160"/>
              <a:ext cx="457200" cy="274320"/>
            </a:xfrm>
            <a:prstGeom prst="wedgeEllipseCallout">
              <a:avLst>
                <a:gd name="adj1" fmla="val -54712"/>
                <a:gd name="adj2" fmla="val 76962"/>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194480" y="3088440"/>
              <a:ext cx="342720" cy="113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HELP!</a:t>
              </a:r>
              <a:endParaRPr b="0" lang="en-US" sz="800" spc="-1" strike="noStrike">
                <a:solidFill>
                  <a:srgbClr val="000000"/>
                </a:solidFill>
                <a:latin typeface="Arial"/>
              </a:endParaRPr>
            </a:p>
          </p:txBody>
        </p:sp>
        <p:sp>
          <p:nvSpPr>
            <p:cNvPr id="163" name=""/>
            <p:cNvSpPr/>
            <p:nvPr/>
          </p:nvSpPr>
          <p:spPr>
            <a:xfrm>
              <a:off x="8412480" y="1005840"/>
              <a:ext cx="548640" cy="457200"/>
            </a:xfrm>
            <a:prstGeom prst="wedgeEllipseCallout">
              <a:avLst>
                <a:gd name="adj1" fmla="val -43750"/>
                <a:gd name="adj2" fmla="val 70000"/>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Y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I can!</a:t>
              </a:r>
              <a:endParaRPr b="0" lang="en-US" sz="800" spc="-1" strike="noStrike">
                <a:solidFill>
                  <a:srgbClr val="000000"/>
                </a:solidFill>
                <a:latin typeface="Arial"/>
              </a:endParaRPr>
            </a:p>
          </p:txBody>
        </p:sp>
        <p:sp>
          <p:nvSpPr>
            <p:cNvPr id="164" name=""/>
            <p:cNvSpPr/>
            <p:nvPr/>
          </p:nvSpPr>
          <p:spPr>
            <a:xfrm>
              <a:off x="3931920" y="5577840"/>
              <a:ext cx="640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inter Break!</a:t>
              </a:r>
              <a:endParaRPr b="0" lang="en-US" sz="1200" spc="-1" strike="noStrike">
                <a:solidFill>
                  <a:srgbClr val="000000"/>
                </a:solidFill>
                <a:latin typeface="Arial"/>
              </a:endParaRPr>
            </a:p>
          </p:txBody>
        </p:sp>
        <p:sp>
          <p:nvSpPr>
            <p:cNvPr id="165" name=""/>
            <p:cNvSpPr/>
            <p:nvPr/>
          </p:nvSpPr>
          <p:spPr>
            <a:xfrm flipH="1">
              <a:off x="3474720" y="5760720"/>
              <a:ext cx="548640" cy="54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6" name=""/>
            <p:cNvGrpSpPr/>
            <p:nvPr/>
          </p:nvGrpSpPr>
          <p:grpSpPr>
            <a:xfrm>
              <a:off x="6487200" y="3357360"/>
              <a:ext cx="110160" cy="143280"/>
              <a:chOff x="6487200" y="3357360"/>
              <a:chExt cx="110160" cy="143280"/>
            </a:xfrm>
          </p:grpSpPr>
          <p:sp>
            <p:nvSpPr>
              <p:cNvPr id="167" name=""/>
              <p:cNvSpPr/>
              <p:nvPr/>
            </p:nvSpPr>
            <p:spPr>
              <a:xfrm rot="18388800">
                <a:off x="6505560" y="3369600"/>
                <a:ext cx="73080" cy="82800"/>
              </a:xfrm>
              <a:custGeom>
                <a:avLst/>
                <a:gdLst/>
                <a:ahLst/>
                <a:rect l="l" t="t" r="r" b="b"/>
                <a:pathLst>
                  <a:path w="425" h="495">
                    <a:moveTo>
                      <a:pt x="50" y="22"/>
                    </a:moveTo>
                    <a:lnTo>
                      <a:pt x="165" y="0"/>
                    </a:lnTo>
                    <a:lnTo>
                      <a:pt x="275" y="7"/>
                    </a:lnTo>
                    <a:lnTo>
                      <a:pt x="375" y="55"/>
                    </a:lnTo>
                    <a:lnTo>
                      <a:pt x="425" y="145"/>
                    </a:lnTo>
                    <a:lnTo>
                      <a:pt x="425" y="217"/>
                    </a:lnTo>
                    <a:lnTo>
                      <a:pt x="375" y="315"/>
                    </a:lnTo>
                    <a:lnTo>
                      <a:pt x="290" y="372"/>
                    </a:lnTo>
                    <a:lnTo>
                      <a:pt x="165" y="372"/>
                    </a:lnTo>
                    <a:lnTo>
                      <a:pt x="90" y="420"/>
                    </a:lnTo>
                    <a:lnTo>
                      <a:pt x="65" y="495"/>
                    </a:lnTo>
                    <a:lnTo>
                      <a:pt x="0" y="470"/>
                    </a:lnTo>
                    <a:lnTo>
                      <a:pt x="25" y="372"/>
                    </a:lnTo>
                    <a:lnTo>
                      <a:pt x="115" y="315"/>
                    </a:lnTo>
                    <a:lnTo>
                      <a:pt x="265" y="300"/>
                    </a:lnTo>
                    <a:lnTo>
                      <a:pt x="325" y="242"/>
                    </a:lnTo>
                    <a:lnTo>
                      <a:pt x="340" y="152"/>
                    </a:lnTo>
                    <a:lnTo>
                      <a:pt x="275" y="72"/>
                    </a:lnTo>
                    <a:lnTo>
                      <a:pt x="175" y="72"/>
                    </a:lnTo>
                    <a:lnTo>
                      <a:pt x="65" y="97"/>
                    </a:lnTo>
                    <a:lnTo>
                      <a:pt x="25" y="72"/>
                    </a:lnTo>
                    <a:lnTo>
                      <a:pt x="50"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68" name=""/>
              <p:cNvSpPr/>
              <p:nvPr/>
            </p:nvSpPr>
            <p:spPr>
              <a:xfrm rot="18388800">
                <a:off x="6558840" y="3473640"/>
                <a:ext cx="22680" cy="22320"/>
              </a:xfrm>
              <a:custGeom>
                <a:avLst/>
                <a:gdLst/>
                <a:ahLst/>
                <a:rect l="l" t="t" r="r" b="b"/>
                <a:pathLst>
                  <a:path w="132" h="135">
                    <a:moveTo>
                      <a:pt x="132" y="8"/>
                    </a:moveTo>
                    <a:lnTo>
                      <a:pt x="65" y="0"/>
                    </a:lnTo>
                    <a:lnTo>
                      <a:pt x="20" y="50"/>
                    </a:lnTo>
                    <a:lnTo>
                      <a:pt x="0" y="128"/>
                    </a:lnTo>
                    <a:lnTo>
                      <a:pt x="65" y="135"/>
                    </a:lnTo>
                    <a:lnTo>
                      <a:pt x="120" y="100"/>
                    </a:lnTo>
                    <a:lnTo>
                      <a:pt x="13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9" name=""/>
            <p:cNvGrpSpPr/>
            <p:nvPr/>
          </p:nvGrpSpPr>
          <p:grpSpPr>
            <a:xfrm>
              <a:off x="6576480" y="3277440"/>
              <a:ext cx="103320" cy="147600"/>
              <a:chOff x="6576480" y="3277440"/>
              <a:chExt cx="103320" cy="147600"/>
            </a:xfrm>
          </p:grpSpPr>
          <p:sp>
            <p:nvSpPr>
              <p:cNvPr id="170" name=""/>
              <p:cNvSpPr/>
              <p:nvPr/>
            </p:nvSpPr>
            <p:spPr>
              <a:xfrm rot="19934400">
                <a:off x="6591240" y="3289680"/>
                <a:ext cx="73080" cy="82800"/>
              </a:xfrm>
              <a:custGeom>
                <a:avLst/>
                <a:gdLst/>
                <a:ahLst/>
                <a:rect l="l" t="t" r="r" b="b"/>
                <a:pathLst>
                  <a:path w="425" h="495">
                    <a:moveTo>
                      <a:pt x="50" y="22"/>
                    </a:moveTo>
                    <a:lnTo>
                      <a:pt x="165" y="0"/>
                    </a:lnTo>
                    <a:lnTo>
                      <a:pt x="275" y="7"/>
                    </a:lnTo>
                    <a:lnTo>
                      <a:pt x="375" y="55"/>
                    </a:lnTo>
                    <a:lnTo>
                      <a:pt x="425" y="145"/>
                    </a:lnTo>
                    <a:lnTo>
                      <a:pt x="425" y="217"/>
                    </a:lnTo>
                    <a:lnTo>
                      <a:pt x="375" y="315"/>
                    </a:lnTo>
                    <a:lnTo>
                      <a:pt x="290" y="372"/>
                    </a:lnTo>
                    <a:lnTo>
                      <a:pt x="165" y="372"/>
                    </a:lnTo>
                    <a:lnTo>
                      <a:pt x="90" y="420"/>
                    </a:lnTo>
                    <a:lnTo>
                      <a:pt x="65" y="495"/>
                    </a:lnTo>
                    <a:lnTo>
                      <a:pt x="0" y="470"/>
                    </a:lnTo>
                    <a:lnTo>
                      <a:pt x="25" y="372"/>
                    </a:lnTo>
                    <a:lnTo>
                      <a:pt x="115" y="315"/>
                    </a:lnTo>
                    <a:lnTo>
                      <a:pt x="265" y="300"/>
                    </a:lnTo>
                    <a:lnTo>
                      <a:pt x="325" y="242"/>
                    </a:lnTo>
                    <a:lnTo>
                      <a:pt x="340" y="152"/>
                    </a:lnTo>
                    <a:lnTo>
                      <a:pt x="275" y="72"/>
                    </a:lnTo>
                    <a:lnTo>
                      <a:pt x="175" y="72"/>
                    </a:lnTo>
                    <a:lnTo>
                      <a:pt x="65" y="97"/>
                    </a:lnTo>
                    <a:lnTo>
                      <a:pt x="25" y="72"/>
                    </a:lnTo>
                    <a:lnTo>
                      <a:pt x="50"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1" name=""/>
              <p:cNvSpPr/>
              <p:nvPr/>
            </p:nvSpPr>
            <p:spPr>
              <a:xfrm rot="19934400">
                <a:off x="6609600" y="3398400"/>
                <a:ext cx="22680" cy="22320"/>
              </a:xfrm>
              <a:custGeom>
                <a:avLst/>
                <a:gdLst/>
                <a:ahLst/>
                <a:rect l="l" t="t" r="r" b="b"/>
                <a:pathLst>
                  <a:path w="132" h="135">
                    <a:moveTo>
                      <a:pt x="132" y="8"/>
                    </a:moveTo>
                    <a:lnTo>
                      <a:pt x="65" y="0"/>
                    </a:lnTo>
                    <a:lnTo>
                      <a:pt x="20" y="50"/>
                    </a:lnTo>
                    <a:lnTo>
                      <a:pt x="0" y="128"/>
                    </a:lnTo>
                    <a:lnTo>
                      <a:pt x="65" y="135"/>
                    </a:lnTo>
                    <a:lnTo>
                      <a:pt x="120" y="100"/>
                    </a:lnTo>
                    <a:lnTo>
                      <a:pt x="132"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sp>
        <p:nvSpPr>
          <p:cNvPr id="172" name=""/>
          <p:cNvSpPr/>
          <p:nvPr/>
        </p:nvSpPr>
        <p:spPr>
          <a:xfrm>
            <a:off x="11448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3" name=""/>
          <p:cNvSpPr/>
          <p:nvPr/>
        </p:nvSpPr>
        <p:spPr>
          <a:xfrm>
            <a:off x="114480" y="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aphicFrame>
        <p:nvGraphicFramePr>
          <p:cNvPr id="174" name=""/>
          <p:cNvGraphicFramePr/>
          <p:nvPr/>
        </p:nvGraphicFramePr>
        <p:xfrm>
          <a:off x="380880" y="6172200"/>
          <a:ext cx="8399520" cy="258840"/>
        </p:xfrm>
        <a:graphic>
          <a:graphicData uri="http://schemas.openxmlformats.org/drawingml/2006/table">
            <a:tbl>
              <a:tblPr/>
              <a:tblGrid>
                <a:gridCol w="743040"/>
                <a:gridCol w="628560"/>
                <a:gridCol w="566640"/>
                <a:gridCol w="646200"/>
                <a:gridCol w="646200"/>
                <a:gridCol w="646200"/>
                <a:gridCol w="645840"/>
                <a:gridCol w="646200"/>
                <a:gridCol w="646200"/>
                <a:gridCol w="646200"/>
                <a:gridCol w="645840"/>
                <a:gridCol w="646200"/>
                <a:gridCol w="646200"/>
              </a:tblGrid>
              <a:tr h="261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ug</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pt</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ct</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v</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c</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an</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eb</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r</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y</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ne</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uly</a:t>
                      </a:r>
                      <a:endParaRPr b="0" lang="en-US" sz="11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ug</a:t>
                      </a:r>
                      <a:endParaRPr b="0" lang="en-US" sz="11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75" name=""/>
          <p:cNvSpPr/>
          <p:nvPr/>
        </p:nvSpPr>
        <p:spPr>
          <a:xfrm>
            <a:off x="3367440" y="6447600"/>
            <a:ext cx="23983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ctr" pos="2743200"/>
                <a:tab algn="r" pos="5486400"/>
                <a:tab algn="l" pos="6400800"/>
                <a:tab algn="l" pos="7315200"/>
                <a:tab algn="l" pos="8229600"/>
                <a:tab algn="l" pos="9144000"/>
                <a:tab algn="l" pos="10058400"/>
              </a:tabLst>
            </a:pPr>
            <a:r>
              <a:rPr b="0" lang="en-US" sz="1200" spc="-1" strike="noStrike">
                <a:solidFill>
                  <a:srgbClr val="3333ff"/>
                </a:solidFill>
                <a:latin typeface="Arial"/>
              </a:rPr>
              <a:t>Ellen Moir, UC Santa Cruz, 1990</a:t>
            </a:r>
            <a:endParaRPr b="0" lang="en-US" sz="1200" spc="-1" strike="noStrike">
              <a:solidFill>
                <a:srgbClr val="000000"/>
              </a:solidFill>
              <a:latin typeface="Arial"/>
            </a:endParaRPr>
          </a:p>
        </p:txBody>
      </p:sp>
      <p:sp>
        <p:nvSpPr>
          <p:cNvPr id="2" name="PlaceHolder 1"/>
          <p:cNvSpPr>
            <a:spLocks noGrp="1"/>
          </p:cNvSpPr>
          <p:nvPr>
            <p:ph type="sldNum" idx="1"/>
          </p:nvPr>
        </p:nvSpPr>
        <p:spPr/>
        <p:txBody>
          <a:bodyPr/>
          <a:p>
            <a:fld id="{EE1A9A09-F984-4809-A790-6C0C6130BA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297000"/>
            <a:ext cx="6943680" cy="104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800" spc="-1" strike="noStrike">
                <a:solidFill>
                  <a:srgbClr val="000000"/>
                </a:solidFill>
                <a:latin typeface="Arial"/>
              </a:rPr>
              <a:t>Let’s begin with…</a:t>
            </a:r>
            <a:endParaRPr b="0" lang="en-US" sz="4800" spc="-1" strike="noStrike">
              <a:solidFill>
                <a:srgbClr val="000000"/>
              </a:solidFill>
              <a:latin typeface="Arial"/>
            </a:endParaRPr>
          </a:p>
        </p:txBody>
      </p:sp>
      <p:sp>
        <p:nvSpPr>
          <p:cNvPr id="53" name=""/>
          <p:cNvSpPr/>
          <p:nvPr/>
        </p:nvSpPr>
        <p:spPr>
          <a:xfrm>
            <a:off x="2743200" y="2057400"/>
            <a:ext cx="4191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914400" y="1752480"/>
            <a:ext cx="4267080" cy="4191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57200" y="1295280"/>
            <a:ext cx="91440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txBox="1"/>
          <p:nvPr/>
        </p:nvSpPr>
        <p:spPr>
          <a:xfrm>
            <a:off x="838080" y="1447920"/>
            <a:ext cx="2286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Times New Roman"/>
              </a:rPr>
              <a:t>1</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Times New Roman"/>
              <a:ea typeface="Times New Roman"/>
            </a:endParaRPr>
          </a:p>
        </p:txBody>
      </p:sp>
      <p:sp>
        <p:nvSpPr>
          <p:cNvPr id="57" name=""/>
          <p:cNvSpPr/>
          <p:nvPr/>
        </p:nvSpPr>
        <p:spPr>
          <a:xfrm>
            <a:off x="4724280" y="1295280"/>
            <a:ext cx="91440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57200" y="5486400"/>
            <a:ext cx="91440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724280" y="5486400"/>
            <a:ext cx="91440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txBox="1"/>
          <p:nvPr/>
        </p:nvSpPr>
        <p:spPr>
          <a:xfrm>
            <a:off x="5105520" y="1447920"/>
            <a:ext cx="2286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Times New Roman"/>
              </a:rPr>
              <a:t>2</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Times New Roman"/>
              <a:ea typeface="Times New Roman"/>
            </a:endParaRPr>
          </a:p>
        </p:txBody>
      </p:sp>
      <p:sp>
        <p:nvSpPr>
          <p:cNvPr id="61" name=""/>
          <p:cNvSpPr txBox="1"/>
          <p:nvPr/>
        </p:nvSpPr>
        <p:spPr>
          <a:xfrm>
            <a:off x="838080" y="5638680"/>
            <a:ext cx="2286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Times New Roman"/>
              </a:rPr>
              <a:t>3</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Times New Roman"/>
              <a:ea typeface="Times New Roman"/>
            </a:endParaRPr>
          </a:p>
        </p:txBody>
      </p:sp>
      <p:sp>
        <p:nvSpPr>
          <p:cNvPr id="62" name=""/>
          <p:cNvSpPr txBox="1"/>
          <p:nvPr/>
        </p:nvSpPr>
        <p:spPr>
          <a:xfrm>
            <a:off x="5105520" y="5638680"/>
            <a:ext cx="2286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Times New Roman"/>
              </a:rPr>
              <a:t>4</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Times New Roman"/>
              <a:ea typeface="Times New Roman"/>
            </a:endParaRPr>
          </a:p>
        </p:txBody>
      </p:sp>
      <p:sp>
        <p:nvSpPr>
          <p:cNvPr id="63" name=""/>
          <p:cNvSpPr/>
          <p:nvPr/>
        </p:nvSpPr>
        <p:spPr>
          <a:xfrm>
            <a:off x="1295280" y="2819520"/>
            <a:ext cx="3353040" cy="19371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FOUR</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ORNERS </a:t>
            </a:r>
            <a:endParaRPr b="0" lang="en-US" sz="4800" spc="-1" strike="noStrike">
              <a:solidFill>
                <a:srgbClr val="000000"/>
              </a:solidFill>
              <a:latin typeface="Arial"/>
            </a:endParaRPr>
          </a:p>
        </p:txBody>
      </p:sp>
      <p:sp>
        <p:nvSpPr>
          <p:cNvPr id="64" name=""/>
          <p:cNvSpPr/>
          <p:nvPr/>
        </p:nvSpPr>
        <p:spPr>
          <a:xfrm>
            <a:off x="5865840" y="1873080"/>
            <a:ext cx="2797200" cy="3924000"/>
          </a:xfrm>
          <a:prstGeom prst="rect">
            <a:avLst/>
          </a:prstGeom>
          <a:solidFill>
            <a:srgbClr val="ffff00"/>
          </a:solidFill>
          <a:ln w="38160">
            <a:solidFill>
              <a:srgbClr val="000000"/>
            </a:solidFill>
            <a:prstDash val="sysDot"/>
            <a:miter/>
          </a:ln>
        </p:spPr>
        <p:style>
          <a:lnRef idx="0"/>
          <a:fillRef idx="0"/>
          <a:effectRef idx="0"/>
          <a:fontRef idx="minor"/>
        </p:style>
        <p:txBody>
          <a:bodyPr lIns="90000" rIns="90000" tIns="46800" bIns="46800" anchor="t">
            <a:spAutoFit/>
          </a:bodyPr>
          <a:p>
            <a:pPr>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en to the question.</a:t>
            </a:r>
            <a:endParaRPr b="0" lang="en-US" sz="2000" spc="-1" strike="noStrike">
              <a:solidFill>
                <a:srgbClr val="000000"/>
              </a:solidFill>
              <a:latin typeface="Arial"/>
            </a:endParaRPr>
          </a:p>
          <a:p>
            <a:pPr>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e to the appropriate corner based on your answer to the question.</a:t>
            </a:r>
            <a:endParaRPr b="0" lang="en-US" sz="2000" spc="-1" strike="noStrike">
              <a:solidFill>
                <a:srgbClr val="000000"/>
              </a:solidFill>
              <a:latin typeface="Arial"/>
            </a:endParaRPr>
          </a:p>
          <a:p>
            <a:pPr>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ready to listen to the next question and move to the right corn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11206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oles of a Mentor</a:t>
            </a:r>
            <a:endParaRPr b="0" lang="en-US" sz="4800" spc="-1" strike="noStrike">
              <a:solidFill>
                <a:srgbClr val="000000"/>
              </a:solidFill>
              <a:latin typeface="Arial"/>
            </a:endParaRPr>
          </a:p>
        </p:txBody>
      </p:sp>
      <p:sp>
        <p:nvSpPr>
          <p:cNvPr id="177" name="PlaceHolder 2"/>
          <p:cNvSpPr>
            <a:spLocks noGrp="1"/>
          </p:cNvSpPr>
          <p:nvPr>
            <p:ph/>
          </p:nvPr>
        </p:nvSpPr>
        <p:spPr>
          <a:xfrm>
            <a:off x="903240" y="1131480"/>
            <a:ext cx="3587760" cy="49942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olve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ocat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o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ach</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o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e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o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sted Listene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a:t>
            </a:r>
            <a:endParaRPr b="0" lang="en-US" sz="2800" spc="-1" strike="noStrike">
              <a:solidFill>
                <a:srgbClr val="000000"/>
              </a:solidFill>
              <a:latin typeface="Arial"/>
            </a:endParaRPr>
          </a:p>
        </p:txBody>
      </p:sp>
      <p:sp>
        <p:nvSpPr>
          <p:cNvPr id="178" name="PlaceHolder 3"/>
          <p:cNvSpPr>
            <a:spLocks noGrp="1"/>
          </p:cNvSpPr>
          <p:nvPr>
            <p:ph/>
          </p:nvPr>
        </p:nvSpPr>
        <p:spPr>
          <a:xfrm>
            <a:off x="4724280" y="1445760"/>
            <a:ext cx="3810240" cy="4699080"/>
          </a:xfrm>
          <a:prstGeom prst="rect">
            <a:avLst/>
          </a:prstGeom>
          <a:solidFill>
            <a:srgbClr val="bbe0e3"/>
          </a:solidFill>
          <a:ln w="25560">
            <a:solidFill>
              <a:srgbClr val="000000"/>
            </a:solidFill>
            <a:prstDash val="sysDot"/>
            <a:miter/>
          </a:ln>
        </p:spPr>
        <p:txBody>
          <a:bodyPr lIns="90000" rIns="90000" tIns="46800" bIns="46800" anchor="t">
            <a:normAutofit/>
          </a:bodyPr>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role assigned for your table. </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a list of specific activities a mentor might do in that role.  </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one activity per Post-It Note.</a:t>
            </a: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72432E8-E44D-41C1-9D32-576097EEC5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oles &amp; Phases</a:t>
            </a:r>
            <a:endParaRPr b="0" lang="en-US" sz="4800" spc="-1" strike="noStrike">
              <a:solidFill>
                <a:srgbClr val="000000"/>
              </a:solidFill>
              <a:latin typeface="Arial"/>
            </a:endParaRPr>
          </a:p>
        </p:txBody>
      </p:sp>
      <p:sp>
        <p:nvSpPr>
          <p:cNvPr id="180" name="PlaceHolder 2"/>
          <p:cNvSpPr>
            <a:spLocks noGrp="1"/>
          </p:cNvSpPr>
          <p:nvPr>
            <p:ph/>
          </p:nvPr>
        </p:nvSpPr>
        <p:spPr>
          <a:xfrm>
            <a:off x="372960" y="1258920"/>
            <a:ext cx="8313840" cy="4867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000000"/>
                </a:solidFill>
                <a:latin typeface="Arial"/>
              </a:rPr>
              <a:t>Using your Post-It Notes, place each Post-It Note on the beginning teacher phase where you feel it would most benefit the beginning teache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
          <p:cNvSpPr/>
          <p:nvPr/>
        </p:nvSpPr>
        <p:spPr>
          <a:xfrm>
            <a:off x="1069920" y="3513240"/>
            <a:ext cx="3184560" cy="2653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ticipatio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rviv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illusionmen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juvenatio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flectio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ticipation</a:t>
            </a:r>
            <a:endParaRPr b="0" lang="en-US" sz="2800" spc="-1" strike="noStrike">
              <a:solidFill>
                <a:srgbClr val="000000"/>
              </a:solidFill>
              <a:latin typeface="Arial"/>
            </a:endParaRPr>
          </a:p>
        </p:txBody>
      </p:sp>
      <p:pic>
        <p:nvPicPr>
          <p:cNvPr id="182" name="" descr=""/>
          <p:cNvPicPr/>
          <p:nvPr/>
        </p:nvPicPr>
        <p:blipFill>
          <a:blip r:embed="rId1"/>
          <a:stretch/>
        </p:blipFill>
        <p:spPr>
          <a:xfrm>
            <a:off x="4951440" y="3186000"/>
            <a:ext cx="3354480" cy="2799000"/>
          </a:xfrm>
          <a:prstGeom prst="rect">
            <a:avLst/>
          </a:prstGeom>
          <a:ln w="0">
            <a:noFill/>
          </a:ln>
        </p:spPr>
      </p:pic>
      <p:sp>
        <p:nvSpPr>
          <p:cNvPr id="4" name="PlaceHolder 3"/>
          <p:cNvSpPr>
            <a:spLocks noGrp="1"/>
          </p:cNvSpPr>
          <p:nvPr>
            <p:ph type="sldNum" idx="1"/>
          </p:nvPr>
        </p:nvSpPr>
        <p:spPr/>
        <p:txBody>
          <a:bodyPr/>
          <a:p>
            <a:fld id="{1ECDBCB7-183C-4026-81F1-B4DCDDA4A0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5908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haracteristics of </a:t>
            </a:r>
            <a:br>
              <a:rPr sz="4800"/>
            </a:br>
            <a:r>
              <a:rPr b="1" lang="en-US" sz="4800" spc="-1" strike="noStrike">
                <a:solidFill>
                  <a:srgbClr val="000000"/>
                </a:solidFill>
                <a:latin typeface="Arial"/>
              </a:rPr>
              <a:t>an Effective Mentor</a:t>
            </a:r>
            <a:endParaRPr b="0" lang="en-US" sz="4800" spc="-1" strike="noStrike">
              <a:solidFill>
                <a:srgbClr val="000000"/>
              </a:solidFill>
              <a:latin typeface="Arial"/>
            </a:endParaRPr>
          </a:p>
        </p:txBody>
      </p:sp>
      <p:sp>
        <p:nvSpPr>
          <p:cNvPr id="184" name="PlaceHolder 2"/>
          <p:cNvSpPr>
            <a:spLocks noGrp="1"/>
          </p:cNvSpPr>
          <p:nvPr>
            <p:ph/>
          </p:nvPr>
        </p:nvSpPr>
        <p:spPr>
          <a:xfrm>
            <a:off x="5105520" y="1752480"/>
            <a:ext cx="3581280" cy="4191120"/>
          </a:xfrm>
          <a:prstGeom prst="rect">
            <a:avLst/>
          </a:prstGeom>
          <a:solidFill>
            <a:srgbClr val="ccffff"/>
          </a:solidFill>
          <a:ln w="38160">
            <a:solidFill>
              <a:srgbClr val="000000"/>
            </a:solidFill>
            <a:prstDash val="sysDot"/>
            <a:miter/>
          </a:ln>
        </p:spPr>
        <p:txBody>
          <a:bodyPr lIns="90000" rIns="90000" tIns="46800" bIns="46800" anchor="t">
            <a:normAutofit/>
          </a:bodyPr>
          <a:p>
            <a:pPr marL="343080" indent="0">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ink/Pair/Share”</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nk about someone who has been a mentor in your lif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t down what that person was like? What characteristics made them an effective mentor? </a:t>
            </a:r>
            <a:endParaRPr b="0" lang="en-US" sz="20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 with an “elbow partner.”</a:t>
            </a:r>
            <a:r>
              <a:rPr b="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PlaceHolder 3"/>
          <p:cNvSpPr>
            <a:spLocks noGrp="1"/>
          </p:cNvSpPr>
          <p:nvPr>
            <p:ph/>
          </p:nvPr>
        </p:nvSpPr>
        <p:spPr>
          <a:xfrm>
            <a:off x="456840" y="1676520"/>
            <a:ext cx="4016520" cy="48765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e message mentors provide is twofold: You are worth my time and effort because you are a valuable human being. And I can offer you – by my word or deed, or by the example of my life – ways to expand your horizons and to increase the likelihood that you will achieve success.”</a:t>
            </a:r>
            <a:endParaRPr b="0" lang="en-US" sz="2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ff"/>
                </a:solidFill>
                <a:latin typeface="Arial"/>
              </a:rPr>
              <a:t>One on One: A Guide for Establishing   </a:t>
            </a:r>
            <a:endParaRPr b="0" lang="en-US" sz="1400" spc="-1" strike="noStrike">
              <a:solidFill>
                <a:srgbClr val="000000"/>
              </a:solidFill>
              <a:latin typeface="Arial"/>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ff"/>
                </a:solidFill>
                <a:latin typeface="Arial"/>
              </a:rPr>
              <a:t>Mentor Programs</a:t>
            </a:r>
            <a:r>
              <a:rPr b="1" lang="en-US" sz="1400" spc="-1" strike="noStrike">
                <a:solidFill>
                  <a:srgbClr val="3333ff"/>
                </a:solidFill>
                <a:latin typeface="Arial"/>
              </a:rPr>
              <a:t>,</a:t>
            </a:r>
            <a:r>
              <a:rPr b="0" lang="en-US" sz="1400" spc="-1" strike="noStrike">
                <a:solidFill>
                  <a:srgbClr val="3333ff"/>
                </a:solidFill>
                <a:latin typeface="Arial"/>
              </a:rPr>
              <a:t> USDOE</a:t>
            </a: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8A1B93CC-E036-41C5-BBE9-D6312331A6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11336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n Effective Mentor</a:t>
            </a:r>
            <a:endParaRPr b="0" lang="en-US" sz="4800" spc="-1" strike="noStrike">
              <a:solidFill>
                <a:srgbClr val="000000"/>
              </a:solidFill>
              <a:latin typeface="Arial"/>
            </a:endParaRPr>
          </a:p>
        </p:txBody>
      </p:sp>
      <p:sp>
        <p:nvSpPr>
          <p:cNvPr id="187" name="PlaceHolder 2"/>
          <p:cNvSpPr>
            <a:spLocks noGrp="1"/>
          </p:cNvSpPr>
          <p:nvPr>
            <p:ph/>
          </p:nvPr>
        </p:nvSpPr>
        <p:spPr>
          <a:xfrm>
            <a:off x="457200" y="1454040"/>
            <a:ext cx="8153280" cy="5205600"/>
          </a:xfrm>
          <a:prstGeom prst="rect">
            <a:avLst/>
          </a:prstGeom>
          <a:noFill/>
          <a:ln w="0">
            <a:noFill/>
          </a:ln>
        </p:spPr>
        <p:txBody>
          <a:bodyPr lIns="90000" rIns="90000" tIns="46800" bIns="46800" anchor="t">
            <a:normAutofit/>
          </a:bodyPr>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Does not:</a:t>
            </a:r>
            <a:endParaRPr b="0" lang="en-US" sz="4000" spc="-1" strike="noStrike">
              <a:solidFill>
                <a:srgbClr val="000000"/>
              </a:solidFill>
              <a:latin typeface="Arial"/>
            </a:endParaRPr>
          </a:p>
          <a:p>
            <a:pPr lvl="1" marL="7430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valuate</a:t>
            </a:r>
            <a:endParaRPr b="0" lang="en-US" sz="3600" spc="-1" strike="noStrike">
              <a:solidFill>
                <a:srgbClr val="000000"/>
              </a:solidFill>
              <a:latin typeface="Arial"/>
            </a:endParaRPr>
          </a:p>
          <a:p>
            <a:pPr lvl="1" marL="7430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udge</a:t>
            </a:r>
            <a:endParaRPr b="0" lang="en-US" sz="3600" spc="-1" strike="noStrike">
              <a:solidFill>
                <a:srgbClr val="000000"/>
              </a:solidFill>
              <a:latin typeface="Arial"/>
            </a:endParaRPr>
          </a:p>
          <a:p>
            <a:pPr lvl="1" marL="7430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ume the role of an expert</a:t>
            </a:r>
            <a:endParaRPr b="0" lang="en-US" sz="3600" spc="-1" strike="noStrike">
              <a:solidFill>
                <a:srgbClr val="000000"/>
              </a:solidFill>
              <a:latin typeface="Arial"/>
            </a:endParaRPr>
          </a:p>
          <a:p>
            <a:pPr lvl="1" marL="743040" indent="-28584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tempt to clone him/herself</a:t>
            </a:r>
            <a:endParaRPr b="0" lang="en-US" sz="3600" spc="-1" strike="noStrike">
              <a:solidFill>
                <a:srgbClr val="000000"/>
              </a:solidFill>
              <a:latin typeface="Arial"/>
            </a:endParaRPr>
          </a:p>
        </p:txBody>
      </p:sp>
      <p:sp>
        <p:nvSpPr>
          <p:cNvPr id="188" name=""/>
          <p:cNvSpPr/>
          <p:nvPr/>
        </p:nvSpPr>
        <p:spPr>
          <a:xfrm>
            <a:off x="5562720" y="1676520"/>
            <a:ext cx="1950840" cy="2133360"/>
          </a:xfrm>
          <a:prstGeom prst="noSmoking">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txBox="1"/>
          <p:nvPr/>
        </p:nvSpPr>
        <p:spPr>
          <a:xfrm>
            <a:off x="5029200" y="2286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 O !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 name="PlaceHolder 3"/>
          <p:cNvSpPr>
            <a:spLocks noGrp="1"/>
          </p:cNvSpPr>
          <p:nvPr>
            <p:ph type="sldNum" idx="1"/>
          </p:nvPr>
        </p:nvSpPr>
        <p:spPr/>
        <p:txBody>
          <a:bodyPr/>
          <a:p>
            <a:fld id="{E815EDEE-B385-43E0-99FD-C6AF3632D1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0"/>
            <a:ext cx="9144000" cy="15588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haracteristics of</a:t>
            </a:r>
            <a:br>
              <a:rPr sz="4800"/>
            </a:br>
            <a:r>
              <a:rPr b="1" lang="en-US" sz="4800" spc="-1" strike="noStrike">
                <a:solidFill>
                  <a:srgbClr val="000000"/>
                </a:solidFill>
                <a:latin typeface="Arial"/>
              </a:rPr>
              <a:t>an Effective Mentor</a:t>
            </a:r>
            <a:endParaRPr b="0" lang="en-US" sz="4800" spc="-1" strike="noStrike">
              <a:solidFill>
                <a:srgbClr val="000000"/>
              </a:solidFill>
              <a:latin typeface="Arial"/>
            </a:endParaRPr>
          </a:p>
        </p:txBody>
      </p:sp>
      <p:sp>
        <p:nvSpPr>
          <p:cNvPr id="191" name="PlaceHolder 2"/>
          <p:cNvSpPr>
            <a:spLocks noGrp="1"/>
          </p:cNvSpPr>
          <p:nvPr>
            <p:ph/>
          </p:nvPr>
        </p:nvSpPr>
        <p:spPr>
          <a:xfrm>
            <a:off x="284040" y="1798560"/>
            <a:ext cx="5615280" cy="5059440"/>
          </a:xfrm>
          <a:prstGeom prst="rect">
            <a:avLst/>
          </a:prstGeom>
          <a:noFill/>
          <a:ln w="0">
            <a:noFill/>
          </a:ln>
        </p:spPr>
        <p:txBody>
          <a:bodyPr lIns="90000" rIns="90000" tIns="46800" bIns="46800" anchor="t">
            <a:normAutofit/>
          </a:bodyPr>
          <a:p>
            <a:pPr marL="343080" indent="-343080">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lk with your table about your mentor. </a:t>
            </a:r>
            <a:endParaRPr b="0" lang="en-US" sz="2600" spc="-1" strike="noStrike">
              <a:solidFill>
                <a:srgbClr val="000000"/>
              </a:solidFill>
              <a:latin typeface="Arial"/>
            </a:endParaRPr>
          </a:p>
          <a:p>
            <a:pPr marL="343080" indent="-343080">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the format of a newspaper want-ad, create a mentor want-ad for your division. </a:t>
            </a:r>
            <a:endParaRPr b="0" lang="en-US" sz="2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lude qualities desired, job responsibilities, and</a:t>
            </a:r>
            <a:endParaRPr b="0" lang="en-US" sz="2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benefits of the job.</a:t>
            </a:r>
            <a:endParaRPr b="0" lang="en-US" sz="2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Aft>
                <a:spcPts val="13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t it on the wall.</a:t>
            </a:r>
            <a:endParaRPr b="0" lang="en-US" sz="2600" spc="-1" strike="noStrike">
              <a:solidFill>
                <a:srgbClr val="000000"/>
              </a:solidFill>
              <a:latin typeface="Arial"/>
            </a:endParaRPr>
          </a:p>
        </p:txBody>
      </p:sp>
      <p:sp>
        <p:nvSpPr>
          <p:cNvPr id="192" name=""/>
          <p:cNvSpPr/>
          <p:nvPr/>
        </p:nvSpPr>
        <p:spPr>
          <a:xfrm rot="6339600">
            <a:off x="6099480" y="1756440"/>
            <a:ext cx="2635200" cy="2585880"/>
          </a:xfrm>
          <a:custGeom>
            <a:avLst/>
            <a:gdLst>
              <a:gd name="textAreaLeft" fmla="*/ 0 w 2635200"/>
              <a:gd name="textAreaRight" fmla="*/ 2635560 w 2635200"/>
              <a:gd name="textAreaTop" fmla="*/ 335160 h 2585880"/>
              <a:gd name="textAreaBottom" fmla="*/ 2250720 h 25858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txBox="1"/>
          <p:nvPr/>
        </p:nvSpPr>
        <p:spPr>
          <a:xfrm rot="1005600">
            <a:off x="7015320" y="2116080"/>
            <a:ext cx="1852560" cy="37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6699"/>
                </a:solidFill>
                <a:effectLst>
                  <a:outerShdw dist="40186" dir="1096358" blurRad="0" rotWithShape="0">
                    <a:srgbClr val="b2b2b2">
                      <a:alpha val="80000"/>
                    </a:srgbClr>
                  </a:outerShdw>
                </a:effectLst>
                <a:latin typeface="Times New Roman"/>
              </a:rPr>
              <a:t>Vacancy!!</a:t>
            </a:r>
            <a:endParaRPr b="1"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94" name=""/>
          <p:cNvSpPr/>
          <p:nvPr/>
        </p:nvSpPr>
        <p:spPr>
          <a:xfrm>
            <a:off x="4800600" y="4724280"/>
            <a:ext cx="4114800" cy="1313640"/>
          </a:xfrm>
          <a:prstGeom prst="rect">
            <a:avLst/>
          </a:prstGeom>
          <a:solidFill>
            <a:srgbClr val="ffff00"/>
          </a:solidFill>
          <a:ln w="28440">
            <a:solidFill>
              <a:srgbClr val="000000"/>
            </a:solidFill>
            <a:prstDash val="sysDot"/>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member: Want-ads are brief</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focus on key points. Don’t forget to include where to apply if interested in being a mentor.</a:t>
            </a:r>
            <a:endParaRPr b="0" lang="en-US" sz="2000" spc="-1" strike="noStrike">
              <a:solidFill>
                <a:srgbClr val="000000"/>
              </a:solidFill>
              <a:latin typeface="Arial"/>
            </a:endParaRPr>
          </a:p>
        </p:txBody>
      </p:sp>
      <p:pic>
        <p:nvPicPr>
          <p:cNvPr id="195" name="" descr=""/>
          <p:cNvPicPr/>
          <p:nvPr/>
        </p:nvPicPr>
        <p:blipFill>
          <a:blip r:embed="rId1"/>
          <a:stretch/>
        </p:blipFill>
        <p:spPr>
          <a:xfrm>
            <a:off x="3276720" y="4952880"/>
            <a:ext cx="2057400" cy="1344600"/>
          </a:xfrm>
          <a:prstGeom prst="rect">
            <a:avLst/>
          </a:prstGeom>
          <a:ln w="0">
            <a:noFill/>
          </a:ln>
        </p:spPr>
      </p:pic>
      <p:sp>
        <p:nvSpPr>
          <p:cNvPr id="4" name="PlaceHolder 3"/>
          <p:cNvSpPr>
            <a:spLocks noGrp="1"/>
          </p:cNvSpPr>
          <p:nvPr>
            <p:ph type="sldNum" idx="1"/>
          </p:nvPr>
        </p:nvSpPr>
        <p:spPr/>
        <p:txBody>
          <a:bodyPr/>
          <a:p>
            <a:fld id="{A2749F33-B324-47FC-90AC-CD79A70AE9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9144000" cy="15908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haracteristics of </a:t>
            </a:r>
            <a:br>
              <a:rPr sz="4800"/>
            </a:br>
            <a:r>
              <a:rPr b="1" lang="en-US" sz="4800" spc="-1" strike="noStrike">
                <a:solidFill>
                  <a:srgbClr val="000000"/>
                </a:solidFill>
                <a:latin typeface="Arial"/>
              </a:rPr>
              <a:t>an Effective Mentor</a:t>
            </a:r>
            <a:endParaRPr b="0" lang="en-US" sz="4800" spc="-1" strike="noStrike">
              <a:solidFill>
                <a:srgbClr val="000000"/>
              </a:solidFill>
              <a:latin typeface="Arial"/>
            </a:endParaRPr>
          </a:p>
        </p:txBody>
      </p:sp>
      <p:sp>
        <p:nvSpPr>
          <p:cNvPr id="197" name="PlaceHolder 2"/>
          <p:cNvSpPr>
            <a:spLocks noGrp="1"/>
          </p:cNvSpPr>
          <p:nvPr>
            <p:ph/>
          </p:nvPr>
        </p:nvSpPr>
        <p:spPr>
          <a:xfrm>
            <a:off x="402840" y="1599840"/>
            <a:ext cx="8435880" cy="525780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ted to the role of mentoring</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ing of the beginning teacher</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able of observing in a non-biased manner without judgment</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lled at providing instructional support</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communicator with excellent interpersonal skills</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of a continuous learner</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or of hope and optimism</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Arial"/>
              </a:rPr>
              <a:t>                                                                    </a:t>
            </a:r>
            <a:r>
              <a:rPr b="0" lang="en-US" sz="1400" spc="-1" strike="noStrike">
                <a:solidFill>
                  <a:srgbClr val="3333ff"/>
                </a:solidFill>
                <a:latin typeface="Arial"/>
              </a:rPr>
              <a:t>James B. Rowley,  </a:t>
            </a:r>
            <a:r>
              <a:rPr b="1" i="1" lang="en-US" sz="1400" spc="-1" strike="noStrike">
                <a:solidFill>
                  <a:srgbClr val="3333ff"/>
                </a:solidFill>
                <a:latin typeface="Arial"/>
              </a:rPr>
              <a:t>Educational Leadership</a:t>
            </a:r>
            <a:r>
              <a:rPr b="1" lang="en-US" sz="1400" spc="-1" strike="noStrike">
                <a:solidFill>
                  <a:srgbClr val="3333ff"/>
                </a:solidFill>
                <a:latin typeface="Arial"/>
              </a:rPr>
              <a:t>,</a:t>
            </a:r>
            <a:r>
              <a:rPr b="0" lang="en-US" sz="1400" spc="-1" strike="noStrike">
                <a:solidFill>
                  <a:srgbClr val="3333ff"/>
                </a:solidFill>
                <a:latin typeface="Arial"/>
              </a:rPr>
              <a:t> May 1999</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30FF9F-2044-46DB-96B2-2DE30FA4E7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entoring for “What?”</a:t>
            </a:r>
            <a:endParaRPr b="0" lang="en-US" sz="4800" spc="-1" strike="noStrike">
              <a:solidFill>
                <a:srgbClr val="000000"/>
              </a:solidFill>
              <a:latin typeface="Arial"/>
            </a:endParaRPr>
          </a:p>
        </p:txBody>
      </p:sp>
      <p:sp>
        <p:nvSpPr>
          <p:cNvPr id="199" name="PlaceHolder 2"/>
          <p:cNvSpPr>
            <a:spLocks noGrp="1"/>
          </p:cNvSpPr>
          <p:nvPr>
            <p:ph/>
          </p:nvPr>
        </p:nvSpPr>
        <p:spPr>
          <a:xfrm>
            <a:off x="380520" y="1600200"/>
            <a:ext cx="8458200" cy="4648320"/>
          </a:xfrm>
          <a:prstGeom prst="rect">
            <a:avLst/>
          </a:prstGeom>
          <a:noFill/>
          <a:ln w="0">
            <a:noFill/>
          </a:ln>
        </p:spPr>
        <p:txBody>
          <a:bodyPr lIns="90000" rIns="90000" tIns="46800" bIns="46800" anchor="t">
            <a:normAutofit/>
          </a:bodyPr>
          <a:p>
            <a:pPr marL="343080" indent="-343080">
              <a:lnSpc>
                <a:spcPct val="90000"/>
              </a:lnSpc>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roved teaching performance</a:t>
            </a:r>
            <a:endParaRPr b="0" lang="en-US" sz="4000" spc="-1" strike="noStrike">
              <a:solidFill>
                <a:srgbClr val="000000"/>
              </a:solidFill>
              <a:latin typeface="Arial"/>
            </a:endParaRPr>
          </a:p>
          <a:p>
            <a:pPr marL="343080" indent="-343080">
              <a:lnSpc>
                <a:spcPct val="90000"/>
              </a:lnSpc>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creased student achievement, especially among traditionally underserved student populations</a:t>
            </a:r>
            <a:endParaRPr b="0" lang="en-US" sz="4000" spc="-1" strike="noStrike">
              <a:solidFill>
                <a:srgbClr val="000000"/>
              </a:solidFill>
              <a:latin typeface="Arial"/>
            </a:endParaRPr>
          </a:p>
          <a:p>
            <a:pPr marL="343080" indent="-343080">
              <a:lnSpc>
                <a:spcPct val="90000"/>
              </a:lnSpc>
              <a:spcAft>
                <a:spcPts val="2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creased retention of teachers</a:t>
            </a:r>
            <a:endParaRPr b="0" lang="en-US" sz="4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Virginia Requirements of Quality &amp; Effectiveness for Beginning</a:t>
            </a:r>
            <a:endParaRPr b="0" lang="en-US" sz="1400" spc="-1" strike="noStrike">
              <a:solidFill>
                <a:srgbClr val="000000"/>
              </a:solidFill>
              <a:latin typeface="Arial"/>
            </a:endParaRPr>
          </a:p>
          <a:p>
            <a:pPr marL="34308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ff"/>
                </a:solidFill>
                <a:latin typeface="Arial"/>
              </a:rPr>
              <a:t>Teacher Mentor Programs in Hard-to-Staff Schools</a:t>
            </a:r>
            <a:r>
              <a:rPr b="0" lang="en-US" sz="1400" spc="-1" strike="noStrike">
                <a:solidFill>
                  <a:srgbClr val="3333ff"/>
                </a:solidFill>
                <a:latin typeface="Arial"/>
              </a:rPr>
              <a:t> (June 2004)</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B80C37-676C-4C89-B305-BCE1A8BF5D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4343400" y="228600"/>
            <a:ext cx="4233960" cy="5867280"/>
          </a:xfrm>
          <a:prstGeom prst="rect">
            <a:avLst/>
          </a:prstGeom>
          <a:ln w="0">
            <a:noFill/>
          </a:ln>
        </p:spPr>
      </p:pic>
      <p:sp>
        <p:nvSpPr>
          <p:cNvPr id="201" name="PlaceHolder 1"/>
          <p:cNvSpPr>
            <a:spLocks noGrp="1"/>
          </p:cNvSpPr>
          <p:nvPr>
            <p:ph/>
          </p:nvPr>
        </p:nvSpPr>
        <p:spPr>
          <a:xfrm>
            <a:off x="914040" y="1257120"/>
            <a:ext cx="3429000" cy="4343400"/>
          </a:xfrm>
          <a:prstGeom prst="rect">
            <a:avLst/>
          </a:prstGeom>
          <a:noFill/>
          <a:ln w="0">
            <a:noFill/>
          </a:ln>
        </p:spPr>
        <p:txBody>
          <a:bodyPr lIns="90000" rIns="90000" tIns="46800" bIns="46800" anchor="t">
            <a:normAutofit/>
          </a:bodyPr>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ntoring </a:t>
            </a:r>
            <a:endParaRPr b="0" lang="en-US" sz="44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grams </a:t>
            </a:r>
            <a:endParaRPr b="0" lang="en-US" sz="44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ed to be </a:t>
            </a:r>
            <a:endParaRPr b="0" lang="en-US" sz="44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sed on </a:t>
            </a:r>
            <a:endParaRPr b="0" lang="en-US" sz="44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aching </a:t>
            </a:r>
            <a:endParaRPr b="0" lang="en-US" sz="4400" spc="-1" strike="noStrike">
              <a:solidFill>
                <a:srgbClr val="000000"/>
              </a:solidFill>
              <a:latin typeface="Arial"/>
            </a:endParaRPr>
          </a:p>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andards.</a:t>
            </a: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CA0A93-8149-4983-8C6E-72CF81519C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144000" cy="15382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Understanding the Purposes </a:t>
            </a:r>
            <a:br>
              <a:rPr sz="4800"/>
            </a:br>
            <a:r>
              <a:rPr b="1" lang="en-US" sz="4800" spc="-1" strike="noStrike">
                <a:solidFill>
                  <a:srgbClr val="000000"/>
                </a:solidFill>
                <a:latin typeface="Arial"/>
              </a:rPr>
              <a:t>of Teaching Standards</a:t>
            </a:r>
            <a:endParaRPr b="0" lang="en-US" sz="4800" spc="-1" strike="noStrike">
              <a:solidFill>
                <a:srgbClr val="000000"/>
              </a:solidFill>
              <a:latin typeface="Arial"/>
            </a:endParaRPr>
          </a:p>
        </p:txBody>
      </p:sp>
      <p:sp>
        <p:nvSpPr>
          <p:cNvPr id="203" name="PlaceHolder 2"/>
          <p:cNvSpPr>
            <a:spLocks noGrp="1"/>
          </p:cNvSpPr>
          <p:nvPr>
            <p:ph/>
          </p:nvPr>
        </p:nvSpPr>
        <p:spPr>
          <a:xfrm>
            <a:off x="444600" y="1639800"/>
            <a:ext cx="8229600" cy="4525920"/>
          </a:xfrm>
          <a:prstGeom prst="rect">
            <a:avLst/>
          </a:prstGeom>
          <a:noFill/>
          <a:ln w="0">
            <a:noFill/>
          </a:ln>
        </p:spPr>
        <p:txBody>
          <a:bodyPr lIns="90000" rIns="90000" tIns="46800" bIns="46800" anchor="t">
            <a:normAutofit fontScale="98000"/>
          </a:bodyPr>
          <a:p>
            <a:pPr marL="335880" indent="0">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aching standards provide:</a:t>
            </a:r>
            <a:endParaRPr b="0" lang="en-US" sz="3600" spc="-1" strike="noStrike">
              <a:solidFill>
                <a:srgbClr val="000000"/>
              </a:solidFill>
              <a:latin typeface="Arial"/>
            </a:endParaRPr>
          </a:p>
          <a:p>
            <a:pPr lvl="1" marL="727920" indent="-280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conceptual model of good teaching</a:t>
            </a:r>
            <a:endParaRPr b="0" lang="en-US" sz="3600" spc="-1" strike="noStrike">
              <a:solidFill>
                <a:srgbClr val="000000"/>
              </a:solidFill>
              <a:latin typeface="Arial"/>
            </a:endParaRPr>
          </a:p>
          <a:p>
            <a:pPr lvl="1" marL="727920" indent="-280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mon language for teaching</a:t>
            </a:r>
            <a:endParaRPr b="0" lang="en-US" sz="3600" spc="-1" strike="noStrike">
              <a:solidFill>
                <a:srgbClr val="000000"/>
              </a:solidFill>
              <a:latin typeface="Arial"/>
            </a:endParaRPr>
          </a:p>
          <a:p>
            <a:pPr lvl="1" marL="727920" indent="-280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ear benchmarks for assessing the performance of beginning teachers</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07876DA9-D3A3-470C-A2BE-FECF0263BC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276120" y="1212840"/>
            <a:ext cx="886788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t>
            </a:r>
            <a:r>
              <a:rPr b="1" i="1" lang="en-US" sz="2800" spc="-1" strike="noStrike">
                <a:solidFill>
                  <a:srgbClr val="000000"/>
                </a:solidFill>
                <a:latin typeface="Arial"/>
              </a:rPr>
              <a:t>Guidelines for Uniform Performance Standards and Evaluation Criteria for Teachers, Administrators, and Superintendents</a:t>
            </a:r>
            <a:r>
              <a:rPr b="1" lang="en-US" sz="2800" spc="-1" strike="noStrike">
                <a:solidFill>
                  <a:srgbClr val="000000"/>
                </a:solidFill>
                <a:latin typeface="Arial"/>
              </a:rPr>
              <a:t> (Virginia Department of Education, 2000) defines fiv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jor categories of evaluation criteria:</a:t>
            </a:r>
            <a:endParaRPr b="0" lang="en-US" sz="2800" spc="-1" strike="noStrike">
              <a:solidFill>
                <a:srgbClr val="000000"/>
              </a:solidFill>
              <a:latin typeface="Arial"/>
            </a:endParaRPr>
          </a:p>
        </p:txBody>
      </p:sp>
      <p:sp>
        <p:nvSpPr>
          <p:cNvPr id="205" name=""/>
          <p:cNvSpPr/>
          <p:nvPr/>
        </p:nvSpPr>
        <p:spPr>
          <a:xfrm>
            <a:off x="860400" y="3662280"/>
            <a:ext cx="7402680" cy="24040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600" spc="-1" strike="noStrike">
                <a:solidFill>
                  <a:srgbClr val="000000"/>
                </a:solidFill>
                <a:latin typeface="Arial"/>
              </a:rPr>
              <a:t>Planning and Assessment</a:t>
            </a:r>
            <a:endParaRPr b="0" lang="en-US" sz="2600" spc="-1" strike="noStrike">
              <a:solidFill>
                <a:srgbClr val="000000"/>
              </a:solidFill>
              <a:latin typeface="Arial"/>
            </a:endParaRPr>
          </a:p>
          <a:p>
            <a:pPr>
              <a:lnSpc>
                <a:spcPct val="7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Instruction</a:t>
            </a:r>
            <a:endParaRPr b="0" lang="en-US" sz="2600" spc="-1" strike="noStrike">
              <a:solidFill>
                <a:srgbClr val="000000"/>
              </a:solidFill>
              <a:latin typeface="Arial"/>
            </a:endParaRPr>
          </a:p>
          <a:p>
            <a:pPr>
              <a:lnSpc>
                <a:spcPct val="7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Safety and Learning Environment</a:t>
            </a:r>
            <a:endParaRPr b="0" lang="en-US" sz="2600" spc="-1" strike="noStrike">
              <a:solidFill>
                <a:srgbClr val="000000"/>
              </a:solidFill>
              <a:latin typeface="Arial"/>
            </a:endParaRPr>
          </a:p>
          <a:p>
            <a:pPr>
              <a:lnSpc>
                <a:spcPct val="7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Communication and Community Relations</a:t>
            </a:r>
            <a:endParaRPr b="0" lang="en-US" sz="2600" spc="-1" strike="noStrike">
              <a:solidFill>
                <a:srgbClr val="000000"/>
              </a:solidFill>
              <a:latin typeface="Arial"/>
            </a:endParaRPr>
          </a:p>
          <a:p>
            <a:pPr>
              <a:lnSpc>
                <a:spcPct val="75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Professionalism</a:t>
            </a:r>
            <a:endParaRPr b="0" lang="en-US" sz="2600" spc="-1" strike="noStrike">
              <a:solidFill>
                <a:srgbClr val="000000"/>
              </a:solidFill>
              <a:latin typeface="Arial"/>
            </a:endParaRPr>
          </a:p>
        </p:txBody>
      </p:sp>
      <p:sp>
        <p:nvSpPr>
          <p:cNvPr id="206" name=""/>
          <p:cNvSpPr/>
          <p:nvPr/>
        </p:nvSpPr>
        <p:spPr>
          <a:xfrm>
            <a:off x="0" y="0"/>
            <a:ext cx="9144000" cy="1155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0" y="318960"/>
            <a:ext cx="9144000" cy="1863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efining Good Teaching</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 name="PlaceHolder 1"/>
          <p:cNvSpPr>
            <a:spLocks noGrp="1"/>
          </p:cNvSpPr>
          <p:nvPr>
            <p:ph type="sldNum" idx="1"/>
          </p:nvPr>
        </p:nvSpPr>
        <p:spPr/>
        <p:txBody>
          <a:bodyPr/>
          <a:p>
            <a:fld id="{FD2F2823-F7A3-46DA-AAC6-0EFF8C6D4A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360"/>
            <a:ext cx="91440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Four Corners: Question #1</a:t>
            </a:r>
            <a:endParaRPr b="0" lang="en-US" sz="4800" spc="-1" strike="noStrike">
              <a:solidFill>
                <a:srgbClr val="000000"/>
              </a:solidFill>
              <a:latin typeface="Arial"/>
            </a:endParaRPr>
          </a:p>
        </p:txBody>
      </p:sp>
      <p:sp>
        <p:nvSpPr>
          <p:cNvPr id="66" name="PlaceHolder 2"/>
          <p:cNvSpPr>
            <a:spLocks noGrp="1"/>
          </p:cNvSpPr>
          <p:nvPr>
            <p:ph/>
          </p:nvPr>
        </p:nvSpPr>
        <p:spPr>
          <a:xfrm>
            <a:off x="409320" y="1195200"/>
            <a:ext cx="8256600" cy="4894200"/>
          </a:xfrm>
          <a:prstGeom prst="rect">
            <a:avLst/>
          </a:prstGeom>
          <a:noFill/>
          <a:ln w="0">
            <a:noFill/>
          </a:ln>
        </p:spPr>
        <p:txBody>
          <a:bodyPr lIns="90000" rIns="90000" tIns="46800" bIns="46800" anchor="t">
            <a:norm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many beginning teachers</a:t>
            </a:r>
            <a:endParaRPr b="0" lang="en-US" sz="4000" spc="-1" strike="noStrike">
              <a:solidFill>
                <a:srgbClr val="000000"/>
              </a:solidFill>
              <a:latin typeface="Arial"/>
            </a:endParaRPr>
          </a:p>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o you have in your school</a:t>
            </a:r>
            <a:endParaRPr b="0" lang="en-US" sz="4000" spc="-1" strike="noStrike">
              <a:solidFill>
                <a:srgbClr val="000000"/>
              </a:solidFill>
              <a:latin typeface="Arial"/>
            </a:endParaRPr>
          </a:p>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vision this school year?</a:t>
            </a:r>
            <a:endParaRPr b="0" lang="en-US" sz="4000" spc="-1" strike="noStrike">
              <a:solidFill>
                <a:srgbClr val="000000"/>
              </a:solidFill>
              <a:latin typeface="Arial"/>
            </a:endParaRPr>
          </a:p>
          <a:p>
            <a:pPr lvl="2" marL="1371600" indent="-457200">
              <a:spcBef>
                <a:spcPts val="1599"/>
              </a:spcBef>
              <a:spcAft>
                <a:spcPts val="15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 left: 1 to 25</a:t>
            </a:r>
            <a:endParaRPr b="0" lang="en-US" sz="3200" spc="-1" strike="noStrike">
              <a:solidFill>
                <a:srgbClr val="000000"/>
              </a:solidFill>
              <a:latin typeface="Arial"/>
            </a:endParaRPr>
          </a:p>
          <a:p>
            <a:pPr lvl="2" marL="1371600" indent="-457200">
              <a:spcAft>
                <a:spcPts val="15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 right: 26 to 100</a:t>
            </a:r>
            <a:endParaRPr b="0" lang="en-US" sz="3200" spc="-1" strike="noStrike">
              <a:solidFill>
                <a:srgbClr val="000000"/>
              </a:solidFill>
              <a:latin typeface="Arial"/>
            </a:endParaRPr>
          </a:p>
          <a:p>
            <a:pPr lvl="2" marL="1371600" indent="-457200">
              <a:spcAft>
                <a:spcPts val="15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nt left: 101 to 250</a:t>
            </a:r>
            <a:endParaRPr b="0" lang="en-US" sz="3200" spc="-1" strike="noStrike">
              <a:solidFill>
                <a:srgbClr val="000000"/>
              </a:solidFill>
              <a:latin typeface="Arial"/>
            </a:endParaRPr>
          </a:p>
          <a:p>
            <a:pPr lvl="2" marL="1371600" indent="-457200">
              <a:spcAft>
                <a:spcPts val="15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nt right:  More than 250</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97903-6676-4CDC-B08F-A63DB2B7C7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85800" y="1181160"/>
            <a:ext cx="3962520" cy="4724280"/>
          </a:xfrm>
          <a:prstGeom prst="triangle">
            <a:avLst>
              <a:gd name="adj" fmla="val 50000"/>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685800" y="571680"/>
            <a:ext cx="7772400" cy="5562360"/>
          </a:xfrm>
          <a:prstGeom prst="triangle">
            <a:avLst>
              <a:gd name="adj" fmla="val 50000"/>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3809880" y="1638360"/>
            <a:ext cx="1143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971800" y="3314880"/>
            <a:ext cx="28195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971800" y="2933640"/>
            <a:ext cx="32004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828800" y="4533840"/>
            <a:ext cx="54864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517840" y="4851360"/>
            <a:ext cx="4114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cc33"/>
                </a:solidFill>
                <a:latin typeface="Comic Sans MS"/>
              </a:rPr>
              <a:t>Mentoring based on</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cc33"/>
                </a:solidFill>
                <a:latin typeface="Comic Sans MS"/>
              </a:rPr>
              <a:t> </a:t>
            </a:r>
            <a:r>
              <a:rPr b="1" lang="en-US" sz="2600" spc="-1" strike="noStrike">
                <a:solidFill>
                  <a:srgbClr val="33cc33"/>
                </a:solidFill>
                <a:latin typeface="Comic Sans MS"/>
              </a:rPr>
              <a:t>teaching standards ...</a:t>
            </a:r>
            <a:r>
              <a:rPr b="1" lang="en-US" sz="2400" spc="-1" strike="noStrike">
                <a:solidFill>
                  <a:srgbClr val="33cc33"/>
                </a:solidFill>
                <a:latin typeface="Comic Sans MS"/>
              </a:rPr>
              <a:t> </a:t>
            </a:r>
            <a:endParaRPr b="0" lang="en-US" sz="2400" spc="-1" strike="noStrike">
              <a:solidFill>
                <a:srgbClr val="000000"/>
              </a:solidFill>
              <a:latin typeface="Arial"/>
            </a:endParaRPr>
          </a:p>
        </p:txBody>
      </p:sp>
      <p:sp>
        <p:nvSpPr>
          <p:cNvPr id="215" name=""/>
          <p:cNvSpPr/>
          <p:nvPr/>
        </p:nvSpPr>
        <p:spPr>
          <a:xfrm>
            <a:off x="2560680" y="3297240"/>
            <a:ext cx="39625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Comic Sans MS"/>
              </a:rPr>
              <a:t>improves teaching performance which ...</a:t>
            </a:r>
            <a:endParaRPr b="0" lang="en-US" sz="2600" spc="-1" strike="noStrike">
              <a:solidFill>
                <a:srgbClr val="000000"/>
              </a:solidFill>
              <a:latin typeface="Arial"/>
            </a:endParaRPr>
          </a:p>
        </p:txBody>
      </p:sp>
      <p:sp>
        <p:nvSpPr>
          <p:cNvPr id="216" name=""/>
          <p:cNvSpPr/>
          <p:nvPr/>
        </p:nvSpPr>
        <p:spPr>
          <a:xfrm>
            <a:off x="3292560" y="1587600"/>
            <a:ext cx="253692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Comic Sans MS"/>
              </a:rPr>
              <a:t>increases student achievement!</a:t>
            </a:r>
            <a:endParaRPr b="0" lang="en-US" sz="2600" spc="-1" strike="noStrike">
              <a:solidFill>
                <a:srgbClr val="000000"/>
              </a:solidFill>
              <a:latin typeface="Arial"/>
            </a:endParaRPr>
          </a:p>
        </p:txBody>
      </p:sp>
      <p:sp>
        <p:nvSpPr>
          <p:cNvPr id="217" name=""/>
          <p:cNvSpPr/>
          <p:nvPr/>
        </p:nvSpPr>
        <p:spPr>
          <a:xfrm flipV="1">
            <a:off x="533520" y="4609800"/>
            <a:ext cx="838080" cy="1219320"/>
          </a:xfrm>
          <a:prstGeom prst="line">
            <a:avLst/>
          </a:prstGeom>
          <a:ln w="7632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1676520" y="2857680"/>
            <a:ext cx="914400" cy="137160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048120" y="1028880"/>
            <a:ext cx="838080" cy="12189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txBox="1"/>
          <p:nvPr/>
        </p:nvSpPr>
        <p:spPr>
          <a:xfrm>
            <a:off x="382680" y="306360"/>
            <a:ext cx="25905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Arial"/>
              </a:rPr>
              <a:t>Building 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Arial"/>
              </a:rPr>
              <a:t>Strong</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Arial"/>
              </a:rPr>
              <a:t>Foundation ...</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
        <p:nvSpPr>
          <p:cNvPr id="221" name=""/>
          <p:cNvSpPr txBox="1"/>
          <p:nvPr/>
        </p:nvSpPr>
        <p:spPr>
          <a:xfrm>
            <a:off x="6243480" y="684360"/>
            <a:ext cx="221004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Arial"/>
              </a:rPr>
              <a:t>...for</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Arial"/>
              </a:rPr>
              <a:t>Mentoring</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
        <p:nvSpPr>
          <p:cNvPr id="2" name="PlaceHolder 1"/>
          <p:cNvSpPr>
            <a:spLocks noGrp="1"/>
          </p:cNvSpPr>
          <p:nvPr>
            <p:ph type="sldNum" idx="1"/>
          </p:nvPr>
        </p:nvSpPr>
        <p:spPr/>
        <p:txBody>
          <a:bodyPr/>
          <a:p>
            <a:fld id="{B7737D3C-48B4-4417-BFDB-DB063BA4EF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360"/>
            <a:ext cx="91440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How” of Mentoring</a:t>
            </a:r>
            <a:endParaRPr b="0" lang="en-US" sz="4800" spc="-1" strike="noStrike">
              <a:solidFill>
                <a:srgbClr val="000000"/>
              </a:solidFill>
              <a:latin typeface="Arial"/>
            </a:endParaRPr>
          </a:p>
        </p:txBody>
      </p:sp>
      <p:sp>
        <p:nvSpPr>
          <p:cNvPr id="223" name="PlaceHolder 2"/>
          <p:cNvSpPr>
            <a:spLocks noGrp="1"/>
          </p:cNvSpPr>
          <p:nvPr>
            <p:ph/>
          </p:nvPr>
        </p:nvSpPr>
        <p:spPr>
          <a:xfrm>
            <a:off x="0" y="1244160"/>
            <a:ext cx="9144000" cy="56134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duction is a process – a comprehensive, coherent, and sustained professional development process that is organized by a school district to train, support, and retain new teachers and seamlessly progresses them into a lifelong learning program. Mentoring is an action. It is what mentors do. A mentor is a single person, whose basic function is to help a new teacher.”</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Arial"/>
              </a:rPr>
              <a:t>                                                                                                                                                  </a:t>
            </a:r>
            <a:r>
              <a:rPr b="0" lang="en-US" sz="1400" spc="-1" strike="noStrike">
                <a:solidFill>
                  <a:srgbClr val="3333ff"/>
                </a:solidFill>
                <a:latin typeface="Arial"/>
              </a:rPr>
              <a:t>Harry K. Wong</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156E93-40B8-42B2-902C-F32279BFD0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0" y="0"/>
            <a:ext cx="9144000" cy="11304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Arial"/>
              </a:rPr>
              <a:t>Building a Trusting Relationship</a:t>
            </a:r>
            <a:endParaRPr b="0" lang="en-US" sz="4500" spc="-1" strike="noStrike">
              <a:solidFill>
                <a:srgbClr val="000000"/>
              </a:solidFill>
              <a:latin typeface="Arial"/>
            </a:endParaRPr>
          </a:p>
        </p:txBody>
      </p:sp>
      <p:sp>
        <p:nvSpPr>
          <p:cNvPr id="225" name="PlaceHolder 2"/>
          <p:cNvSpPr>
            <a:spLocks noGrp="1"/>
          </p:cNvSpPr>
          <p:nvPr>
            <p:ph/>
          </p:nvPr>
        </p:nvSpPr>
        <p:spPr>
          <a:xfrm>
            <a:off x="1261800" y="1860120"/>
            <a:ext cx="6553080" cy="3838680"/>
          </a:xfrm>
          <a:prstGeom prst="rect">
            <a:avLst/>
          </a:prstGeom>
          <a:noFill/>
          <a:ln w="0">
            <a:noFill/>
          </a:ln>
        </p:spPr>
        <p:txBody>
          <a:bodyPr lIns="90000" rIns="90000" tIns="46800" bIns="46800" anchor="t">
            <a:normAutofit/>
          </a:bodyPr>
          <a:p>
            <a:pPr marL="343080" indent="0" algn="ctr">
              <a:lnSpc>
                <a:spcPct val="120000"/>
              </a:lnSpc>
              <a:spcAft>
                <a:spcPts val="2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VISUALIZATION</a:t>
            </a:r>
            <a:r>
              <a:rPr b="1" lang="en-US" sz="4400" spc="-1" strike="noStrike">
                <a:solidFill>
                  <a:srgbClr val="000000"/>
                </a:solidFill>
                <a:latin typeface="Arial"/>
              </a:rPr>
              <a:t>  </a:t>
            </a:r>
            <a:endParaRPr b="0" lang="en-US" sz="4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nk of a person with whom you’ve</a:t>
            </a:r>
            <a:endParaRPr b="0" lang="en-US" sz="4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joyed a trusting relationship.</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26" name=""/>
          <p:cNvSpPr/>
          <p:nvPr/>
        </p:nvSpPr>
        <p:spPr>
          <a:xfrm>
            <a:off x="7904520" y="6134040"/>
            <a:ext cx="113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4C0D1-2104-4B43-93B6-5BB50152C9E3}" type="slidenum">
              <a:rPr b="0" lang="en-US"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37BFC-5372-4F6C-9087-210B15A513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0" y="0"/>
            <a:ext cx="9144000" cy="11304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Arial"/>
              </a:rPr>
              <a:t>Building a Trusting Relationship</a:t>
            </a:r>
            <a:endParaRPr b="0" lang="en-US" sz="4500" spc="-1" strike="noStrike">
              <a:solidFill>
                <a:srgbClr val="000000"/>
              </a:solidFill>
              <a:latin typeface="Arial"/>
            </a:endParaRPr>
          </a:p>
        </p:txBody>
      </p:sp>
      <p:sp>
        <p:nvSpPr>
          <p:cNvPr id="228" name="PlaceHolder 2"/>
          <p:cNvSpPr>
            <a:spLocks noGrp="1"/>
          </p:cNvSpPr>
          <p:nvPr>
            <p:ph/>
          </p:nvPr>
        </p:nvSpPr>
        <p:spPr>
          <a:xfrm>
            <a:off x="271440" y="1238040"/>
            <a:ext cx="8594640" cy="4997160"/>
          </a:xfrm>
          <a:prstGeom prst="rect">
            <a:avLst/>
          </a:prstGeom>
          <a:noFill/>
          <a:ln w="0">
            <a:noFill/>
          </a:ln>
        </p:spPr>
        <p:txBody>
          <a:bodyPr lIns="90000" rIns="90000" tIns="46800" bIns="46800" anchor="t">
            <a:normAutofit/>
          </a:bodyPr>
          <a:p>
            <a:pPr marL="343080" indent="0" algn="ctr">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ilent Share</a:t>
            </a:r>
            <a:endParaRPr b="0" lang="en-US" sz="4800" spc="-1" strike="noStrike">
              <a:solidFill>
                <a:srgbClr val="000000"/>
              </a:solidFill>
              <a:latin typeface="Arial"/>
            </a:endParaRPr>
          </a:p>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 a “silent share” by having one person jot down one of the characteristics of this trusting relationship.</a:t>
            </a:r>
            <a:endParaRPr b="0" lang="en-US" sz="2800" spc="-1" strike="noStrike">
              <a:solidFill>
                <a:srgbClr val="000000"/>
              </a:solidFill>
              <a:latin typeface="Arial"/>
            </a:endParaRPr>
          </a:p>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 recording “round robin.”</a:t>
            </a:r>
            <a:endParaRPr b="0" lang="en-US" sz="2800" spc="-1" strike="noStrike">
              <a:solidFill>
                <a:srgbClr val="000000"/>
              </a:solidFill>
              <a:latin typeface="Arial"/>
            </a:endParaRPr>
          </a:p>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ay pass at any time.</a:t>
            </a:r>
            <a:endParaRPr b="0" lang="en-US" sz="2800" spc="-1" strike="noStrike">
              <a:solidFill>
                <a:srgbClr val="000000"/>
              </a:solidFill>
              <a:latin typeface="Arial"/>
            </a:endParaRPr>
          </a:p>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oint someone to be prepared to share with the rest of the participants &amp; post your chart.</a:t>
            </a:r>
            <a:endParaRPr b="0" lang="en-US" sz="2800" spc="-1" strike="noStrike">
              <a:solidFill>
                <a:srgbClr val="000000"/>
              </a:solidFill>
              <a:latin typeface="Arial"/>
            </a:endParaRPr>
          </a:p>
          <a:p>
            <a:pPr marL="343080" indent="-34308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ently scan the charts and identify similarities.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05C5BE-30EF-4D79-BB56-7D77B63E25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0"/>
            <a:ext cx="9144000" cy="13716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Give One – Get One</a:t>
            </a:r>
            <a:endParaRPr b="0" lang="en-US" sz="4800" spc="-1" strike="noStrike">
              <a:solidFill>
                <a:srgbClr val="000000"/>
              </a:solidFill>
              <a:latin typeface="Arial"/>
            </a:endParaRPr>
          </a:p>
        </p:txBody>
      </p:sp>
      <p:sp>
        <p:nvSpPr>
          <p:cNvPr id="230" name="PlaceHolder 2"/>
          <p:cNvSpPr>
            <a:spLocks noGrp="1"/>
          </p:cNvSpPr>
          <p:nvPr>
            <p:ph/>
          </p:nvPr>
        </p:nvSpPr>
        <p:spPr>
          <a:xfrm>
            <a:off x="220680" y="1402920"/>
            <a:ext cx="5184720" cy="5095800"/>
          </a:xfrm>
          <a:prstGeom prst="rect">
            <a:avLst/>
          </a:prstGeom>
          <a:noFill/>
          <a:ln w="0">
            <a:noFill/>
          </a:ln>
        </p:spPr>
        <p:txBody>
          <a:bodyPr lIns="90000" rIns="90000" tIns="46800" bIns="46800" anchor="t">
            <a:normAutofit fontScale="99000"/>
          </a:bodyPr>
          <a:p>
            <a:pPr marL="339480" indent="-3394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t down 3 strategies you will/can use to develop a trusting relationship with your mentee.</a:t>
            </a:r>
            <a:endParaRPr b="0" lang="en-US" sz="2400" spc="-1" strike="noStrike">
              <a:solidFill>
                <a:srgbClr val="000000"/>
              </a:solidFill>
              <a:latin typeface="Arial"/>
            </a:endParaRPr>
          </a:p>
          <a:p>
            <a:pPr marL="339480" indent="-3394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et up</a:t>
            </a:r>
            <a:r>
              <a:rPr b="0" lang="en-US" sz="2400" spc="-1" strike="noStrike">
                <a:solidFill>
                  <a:srgbClr val="000000"/>
                </a:solidFill>
                <a:latin typeface="Arial"/>
              </a:rPr>
              <a:t> and find someone at another table.</a:t>
            </a:r>
            <a:endParaRPr b="0" lang="en-US" sz="2400" spc="-1" strike="noStrike">
              <a:solidFill>
                <a:srgbClr val="000000"/>
              </a:solidFill>
              <a:latin typeface="Arial"/>
            </a:endParaRPr>
          </a:p>
          <a:p>
            <a:pPr marL="339480" indent="-3394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ONE idea from your list to your partner. GET ONE IDEA FROM YOUR PARTNER.</a:t>
            </a:r>
            <a:endParaRPr b="0" lang="en-US" sz="2400" spc="-1" strike="noStrike">
              <a:solidFill>
                <a:srgbClr val="000000"/>
              </a:solidFill>
              <a:latin typeface="Arial"/>
            </a:endParaRPr>
          </a:p>
          <a:p>
            <a:pPr marL="339480" indent="-3394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list and your partner’s list are identical, you must brainstorm together an idea that can be added to both of your lists.</a:t>
            </a:r>
            <a:endParaRPr b="0" lang="en-US" sz="2400" spc="-1" strike="noStrike">
              <a:solidFill>
                <a:srgbClr val="000000"/>
              </a:solidFill>
              <a:latin typeface="Arial"/>
            </a:endParaRPr>
          </a:p>
        </p:txBody>
      </p:sp>
      <p:graphicFrame>
        <p:nvGraphicFramePr>
          <p:cNvPr id="231" name=""/>
          <p:cNvGraphicFramePr/>
          <p:nvPr/>
        </p:nvGraphicFramePr>
        <p:xfrm>
          <a:off x="5433840" y="1595520"/>
          <a:ext cx="3270240" cy="3047400"/>
        </p:xfrm>
        <a:graphic>
          <a:graphicData uri="http://schemas.openxmlformats.org/drawingml/2006/table">
            <a:tbl>
              <a:tblPr/>
              <a:tblGrid>
                <a:gridCol w="1164960"/>
                <a:gridCol w="990000"/>
                <a:gridCol w="1115280"/>
              </a:tblGrid>
              <a:tr h="776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0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2" name=""/>
          <p:cNvSpPr/>
          <p:nvPr/>
        </p:nvSpPr>
        <p:spPr>
          <a:xfrm>
            <a:off x="5680080" y="4697280"/>
            <a:ext cx="299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Note: Exchange no more th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one strategy with any given partn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txBox="1"/>
          <p:nvPr/>
        </p:nvSpPr>
        <p:spPr>
          <a:xfrm>
            <a:off x="5514840" y="2357280"/>
            <a:ext cx="3075120" cy="14400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Give one - Get one Chart</a:t>
            </a:r>
            <a:endParaRPr b="0" lang="en-US" sz="24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1"/>
          </p:nvPr>
        </p:nvSpPr>
        <p:spPr/>
        <p:txBody>
          <a:bodyPr/>
          <a:p>
            <a:fld id="{2796E5E5-2D1A-4C81-BDCA-6E0EFBA9E2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Language of Support</a:t>
            </a:r>
            <a:endParaRPr b="0" lang="en-US" sz="4800" spc="-1" strike="noStrike">
              <a:solidFill>
                <a:srgbClr val="000000"/>
              </a:solidFill>
              <a:latin typeface="Arial"/>
            </a:endParaRPr>
          </a:p>
        </p:txBody>
      </p:sp>
      <p:sp>
        <p:nvSpPr>
          <p:cNvPr id="235" name="PlaceHolder 2"/>
          <p:cNvSpPr>
            <a:spLocks noGrp="1"/>
          </p:cNvSpPr>
          <p:nvPr>
            <p:ph/>
          </p:nvPr>
        </p:nvSpPr>
        <p:spPr>
          <a:xfrm>
            <a:off x="442800" y="1352520"/>
            <a:ext cx="4052880" cy="1162080"/>
          </a:xfrm>
          <a:prstGeom prst="rect">
            <a:avLst/>
          </a:prstGeom>
          <a:solidFill>
            <a:srgbClr val="ccffff"/>
          </a:solidFill>
          <a:ln w="25560">
            <a:solidFill>
              <a:srgbClr val="000000"/>
            </a:solidFill>
            <a:prstDash val="sysDot"/>
            <a:miter/>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phrasing</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etting the teacher know that</a:t>
            </a: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ou hear, understand, and care.</a:t>
            </a:r>
            <a:endParaRPr b="0" lang="en-US" sz="1800" spc="-1" strike="noStrike">
              <a:solidFill>
                <a:srgbClr val="000000"/>
              </a:solidFill>
              <a:latin typeface="Arial"/>
            </a:endParaRPr>
          </a:p>
        </p:txBody>
      </p:sp>
      <p:sp>
        <p:nvSpPr>
          <p:cNvPr id="236" name="PlaceHolder 3"/>
          <p:cNvSpPr>
            <a:spLocks noGrp="1"/>
          </p:cNvSpPr>
          <p:nvPr>
            <p:ph/>
          </p:nvPr>
        </p:nvSpPr>
        <p:spPr>
          <a:xfrm>
            <a:off x="4586400" y="1352520"/>
            <a:ext cx="4100400" cy="1162080"/>
          </a:xfrm>
          <a:prstGeom prst="rect">
            <a:avLst/>
          </a:prstGeom>
          <a:solidFill>
            <a:srgbClr val="ccffff"/>
          </a:solidFill>
          <a:ln w="25560">
            <a:solidFill>
              <a:srgbClr val="000000"/>
            </a:solidFill>
            <a:prstDash val="sysDot"/>
            <a:miter/>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rifying</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tting the teacher know that you</a:t>
            </a:r>
            <a:endParaRPr b="0" lang="en-US" sz="16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r, but you’re not sure of what you</a:t>
            </a:r>
            <a:endParaRPr b="0" lang="en-US" sz="16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rd</a:t>
            </a:r>
            <a:endParaRPr b="0" lang="en-US" sz="1600" spc="-1" strike="noStrike">
              <a:solidFill>
                <a:srgbClr val="000000"/>
              </a:solidFill>
              <a:latin typeface="Arial"/>
            </a:endParaRPr>
          </a:p>
        </p:txBody>
      </p:sp>
      <p:sp>
        <p:nvSpPr>
          <p:cNvPr id="237" name=""/>
          <p:cNvSpPr/>
          <p:nvPr/>
        </p:nvSpPr>
        <p:spPr>
          <a:xfrm>
            <a:off x="685800" y="2666880"/>
            <a:ext cx="3657600" cy="3295800"/>
          </a:xfrm>
          <a:prstGeom prst="rect">
            <a:avLst/>
          </a:prstGeom>
          <a:noFill/>
          <a:ln w="0">
            <a:noFill/>
          </a:ln>
        </p:spPr>
        <p:style>
          <a:lnRef idx="0"/>
          <a:fillRef idx="0"/>
          <a:effectRef idx="0"/>
          <a:fontRef idx="minor"/>
        </p:style>
        <p:txBody>
          <a:bodyPr lIns="90000" rIns="90000" tIns="46800" bIns="46800" anchor="t">
            <a:spAutoFit/>
          </a:bodyPr>
          <a:p>
            <a:pPr marL="171360" indent="-17136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words…</a:t>
            </a:r>
            <a:endParaRPr b="0" lang="en-US" sz="2000" spc="-1" strike="noStrike">
              <a:solidFill>
                <a:srgbClr val="000000"/>
              </a:solidFill>
              <a:latin typeface="Arial"/>
            </a:endParaRPr>
          </a:p>
          <a:p>
            <a:pPr marL="171360" indent="-17136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m hearing…</a:t>
            </a:r>
            <a:endParaRPr b="0" lang="en-US" sz="2000" spc="-1" strike="noStrike">
              <a:solidFill>
                <a:srgbClr val="000000"/>
              </a:solidFill>
              <a:latin typeface="Arial"/>
            </a:endParaRPr>
          </a:p>
          <a:p>
            <a:pPr marL="171360" indent="-17136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what I hear you say…</a:t>
            </a:r>
            <a:endParaRPr b="0" lang="en-US" sz="2000" spc="-1" strike="noStrike">
              <a:solidFill>
                <a:srgbClr val="000000"/>
              </a:solidFill>
              <a:latin typeface="Arial"/>
            </a:endParaRPr>
          </a:p>
          <a:p>
            <a:pPr marL="171360" indent="-17136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hearing many things…</a:t>
            </a:r>
            <a:endParaRPr b="0" lang="en-US" sz="2000" spc="-1" strike="noStrike">
              <a:solidFill>
                <a:srgbClr val="000000"/>
              </a:solidFill>
              <a:latin typeface="Arial"/>
            </a:endParaRPr>
          </a:p>
          <a:p>
            <a:pPr marL="171360" indent="-17136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I listen to you, I’m hearing…</a:t>
            </a:r>
            <a:endParaRPr b="0" lang="en-US" sz="2000" spc="-1" strike="noStrike">
              <a:solidFill>
                <a:srgbClr val="000000"/>
              </a:solidFill>
              <a:latin typeface="Arial"/>
            </a:endParaRPr>
          </a:p>
          <a:p>
            <a:pPr marL="171360" indent="-17136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you think…</a:t>
            </a:r>
            <a:endParaRPr b="0" lang="en-US" sz="2000" spc="-1" strike="noStrike">
              <a:solidFill>
                <a:srgbClr val="000000"/>
              </a:solidFill>
              <a:latin typeface="Arial"/>
            </a:endParaRPr>
          </a:p>
          <a:p>
            <a:pPr marL="171360" indent="-17136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ounds like you want…</a:t>
            </a:r>
            <a:endParaRPr b="0" lang="en-US" sz="2000" spc="-1" strike="noStrike">
              <a:solidFill>
                <a:srgbClr val="000000"/>
              </a:solidFill>
              <a:latin typeface="Arial"/>
            </a:endParaRPr>
          </a:p>
        </p:txBody>
      </p:sp>
      <p:sp>
        <p:nvSpPr>
          <p:cNvPr id="238" name=""/>
          <p:cNvSpPr/>
          <p:nvPr/>
        </p:nvSpPr>
        <p:spPr>
          <a:xfrm>
            <a:off x="4800600" y="2666880"/>
            <a:ext cx="3962520" cy="3168720"/>
          </a:xfrm>
          <a:prstGeom prst="rect">
            <a:avLst/>
          </a:prstGeom>
          <a:noFill/>
          <a:ln w="0">
            <a:noFill/>
          </a:ln>
        </p:spPr>
        <p:style>
          <a:lnRef idx="0"/>
          <a:fillRef idx="0"/>
          <a:effectRef idx="0"/>
          <a:fontRef idx="minor"/>
        </p:style>
        <p:txBody>
          <a:bodyPr lIns="90000" rIns="90000" tIns="46800" bIns="46800" anchor="t">
            <a:spAutoFit/>
          </a:bodyPr>
          <a:p>
            <a:pPr marL="230040" indent="-23004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ee if I understand…</a:t>
            </a:r>
            <a:endParaRPr b="0" lang="en-US" sz="2000" spc="-1" strike="noStrike">
              <a:solidFill>
                <a:srgbClr val="000000"/>
              </a:solidFill>
              <a:latin typeface="Arial"/>
            </a:endParaRPr>
          </a:p>
          <a:p>
            <a:pPr marL="230040" indent="-23004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what extent…?</a:t>
            </a:r>
            <a:endParaRPr b="0" lang="en-US" sz="2000" spc="-1" strike="noStrike">
              <a:solidFill>
                <a:srgbClr val="000000"/>
              </a:solidFill>
              <a:latin typeface="Arial"/>
            </a:endParaRPr>
          </a:p>
          <a:p>
            <a:pPr marL="230040" indent="-23004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curious to know more    about …</a:t>
            </a:r>
            <a:endParaRPr b="0" lang="en-US" sz="2000" spc="-1" strike="noStrike">
              <a:solidFill>
                <a:srgbClr val="000000"/>
              </a:solidFill>
              <a:latin typeface="Arial"/>
            </a:endParaRPr>
          </a:p>
          <a:p>
            <a:pPr marL="230040" indent="-23004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interested in…</a:t>
            </a:r>
            <a:endParaRPr b="0" lang="en-US" sz="2000" spc="-1" strike="noStrike">
              <a:solidFill>
                <a:srgbClr val="000000"/>
              </a:solidFill>
              <a:latin typeface="Arial"/>
            </a:endParaRPr>
          </a:p>
          <a:p>
            <a:pPr marL="230040" indent="-23004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l me how that idea is like (or  different from)… </a:t>
            </a:r>
            <a:endParaRPr b="0" lang="en-US" sz="2000" spc="-1" strike="noStrike">
              <a:solidFill>
                <a:srgbClr val="000000"/>
              </a:solidFill>
              <a:latin typeface="Arial"/>
            </a:endParaRPr>
          </a:p>
          <a:p>
            <a:pPr marL="230040" indent="-230040">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are you suggesting…?</a:t>
            </a: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5808BCE3-1A70-481C-A0BC-BA01BF3086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9144000" cy="114156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Language of Support</a:t>
            </a:r>
            <a:endParaRPr b="0" lang="en-US" sz="4800" spc="-1" strike="noStrike">
              <a:solidFill>
                <a:srgbClr val="000000"/>
              </a:solidFill>
              <a:latin typeface="Arial"/>
            </a:endParaRPr>
          </a:p>
        </p:txBody>
      </p:sp>
      <p:sp>
        <p:nvSpPr>
          <p:cNvPr id="240" name="PlaceHolder 2"/>
          <p:cNvSpPr>
            <a:spLocks noGrp="1"/>
          </p:cNvSpPr>
          <p:nvPr>
            <p:ph/>
          </p:nvPr>
        </p:nvSpPr>
        <p:spPr>
          <a:xfrm>
            <a:off x="441360" y="1289160"/>
            <a:ext cx="4038480" cy="914400"/>
          </a:xfrm>
          <a:prstGeom prst="rect">
            <a:avLst/>
          </a:prstGeom>
          <a:solidFill>
            <a:srgbClr val="ccffff"/>
          </a:solidFill>
          <a:ln w="25560">
            <a:solidFill>
              <a:srgbClr val="000000"/>
            </a:solidFill>
            <a:prstDash val="sysDot"/>
            <a:miter/>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ating</a:t>
            </a:r>
            <a:endParaRPr b="0" lang="en-US" sz="2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lowing the teacher to reflect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r raise awareness</a:t>
            </a:r>
            <a:endParaRPr b="0" lang="en-US" sz="1800" spc="-1" strike="noStrike">
              <a:solidFill>
                <a:srgbClr val="000000"/>
              </a:solidFill>
              <a:latin typeface="Arial"/>
            </a:endParaRPr>
          </a:p>
        </p:txBody>
      </p:sp>
      <p:sp>
        <p:nvSpPr>
          <p:cNvPr id="241" name="PlaceHolder 3"/>
          <p:cNvSpPr>
            <a:spLocks noGrp="1"/>
          </p:cNvSpPr>
          <p:nvPr>
            <p:ph/>
          </p:nvPr>
        </p:nvSpPr>
        <p:spPr>
          <a:xfrm>
            <a:off x="4648320" y="1274760"/>
            <a:ext cx="4038480" cy="914400"/>
          </a:xfrm>
          <a:prstGeom prst="rect">
            <a:avLst/>
          </a:prstGeom>
          <a:solidFill>
            <a:srgbClr val="ccffff"/>
          </a:solidFill>
          <a:ln w="25560">
            <a:solidFill>
              <a:srgbClr val="000000"/>
            </a:solidFill>
            <a:prstDash val="sysDot"/>
            <a:miter/>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agining</a:t>
            </a:r>
            <a:endParaRPr b="0" lang="en-US" sz="2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elping the teacher to think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bout alternatives.</a:t>
            </a:r>
            <a:endParaRPr b="0" lang="en-US" sz="1800" spc="-1" strike="noStrike">
              <a:solidFill>
                <a:srgbClr val="000000"/>
              </a:solidFill>
              <a:latin typeface="Arial"/>
            </a:endParaRPr>
          </a:p>
        </p:txBody>
      </p:sp>
      <p:sp>
        <p:nvSpPr>
          <p:cNvPr id="242" name=""/>
          <p:cNvSpPr/>
          <p:nvPr/>
        </p:nvSpPr>
        <p:spPr>
          <a:xfrm>
            <a:off x="331920" y="2387520"/>
            <a:ext cx="4133880" cy="409572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another way you might ...?</a:t>
            </a:r>
            <a:endParaRPr b="0" lang="en-US" sz="2000" spc="-1" strike="noStrike">
              <a:solidFill>
                <a:srgbClr val="000000"/>
              </a:solidFill>
              <a:latin typeface="Arial"/>
            </a:endParaRPr>
          </a:p>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riteria do you use …?</a:t>
            </a:r>
            <a:endParaRPr b="0" lang="en-US" sz="2000" spc="-1" strike="noStrike">
              <a:solidFill>
                <a:srgbClr val="000000"/>
              </a:solidFill>
              <a:latin typeface="Arial"/>
            </a:endParaRPr>
          </a:p>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ould it look like if …?</a:t>
            </a:r>
            <a:endParaRPr b="0" lang="en-US" sz="2000" spc="-1" strike="noStrike">
              <a:solidFill>
                <a:srgbClr val="000000"/>
              </a:solidFill>
              <a:latin typeface="Arial"/>
            </a:endParaRPr>
          </a:p>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have you done it like this before …?</a:t>
            </a:r>
            <a:endParaRPr b="0" lang="en-US" sz="2000" spc="-1" strike="noStrike">
              <a:solidFill>
                <a:srgbClr val="000000"/>
              </a:solidFill>
              <a:latin typeface="Arial"/>
            </a:endParaRPr>
          </a:p>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might you see happening if …?</a:t>
            </a:r>
            <a:endParaRPr b="0" lang="en-US" sz="2000" spc="-1" strike="noStrike">
              <a:solidFill>
                <a:srgbClr val="000000"/>
              </a:solidFill>
              <a:latin typeface="Arial"/>
            </a:endParaRPr>
          </a:p>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as …different from …?</a:t>
            </a:r>
            <a:endParaRPr b="0" lang="en-US" sz="2000" spc="-1" strike="noStrike">
              <a:solidFill>
                <a:srgbClr val="000000"/>
              </a:solidFill>
              <a:latin typeface="Arial"/>
            </a:endParaRPr>
          </a:p>
          <a:p>
            <a:pPr marL="230040" indent="-2300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determine …?</a:t>
            </a:r>
            <a:endParaRPr b="0" lang="en-US" sz="2000" spc="-1" strike="noStrike">
              <a:solidFill>
                <a:srgbClr val="000000"/>
              </a:solidFill>
              <a:latin typeface="Arial"/>
            </a:endParaRPr>
          </a:p>
        </p:txBody>
      </p:sp>
      <p:sp>
        <p:nvSpPr>
          <p:cNvPr id="243" name=""/>
          <p:cNvSpPr/>
          <p:nvPr/>
        </p:nvSpPr>
        <p:spPr>
          <a:xfrm>
            <a:off x="4583160" y="2325600"/>
            <a:ext cx="4040280" cy="3936960"/>
          </a:xfrm>
          <a:prstGeom prst="rect">
            <a:avLst/>
          </a:prstGeom>
          <a:noFill/>
          <a:ln w="0">
            <a:noFill/>
          </a:ln>
        </p:spPr>
        <p:style>
          <a:lnRef idx="0"/>
          <a:fillRef idx="0"/>
          <a:effectRef idx="0"/>
          <a:fontRef idx="minor"/>
        </p:style>
        <p:txBody>
          <a:bodyPr lIns="90000" rIns="90000" tIns="46800" bIns="46800" anchor="t">
            <a:spAutoFit/>
          </a:bodyPr>
          <a:p>
            <a:pPr marL="171360" indent="-1713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sometimes useful to …</a:t>
            </a:r>
            <a:endParaRPr b="0" lang="en-US" sz="2000" spc="-1" strike="noStrike">
              <a:solidFill>
                <a:srgbClr val="000000"/>
              </a:solidFill>
              <a:latin typeface="Arial"/>
            </a:endParaRPr>
          </a:p>
          <a:p>
            <a:pPr marL="171360" indent="-1713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uple of things you need to keep in mind …</a:t>
            </a:r>
            <a:endParaRPr b="0" lang="en-US" sz="2000" spc="-1" strike="noStrike">
              <a:solidFill>
                <a:srgbClr val="000000"/>
              </a:solidFill>
              <a:latin typeface="Arial"/>
            </a:endParaRPr>
          </a:p>
          <a:p>
            <a:pPr marL="171360" indent="-1713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you might try considering is …</a:t>
            </a:r>
            <a:endParaRPr b="0" lang="en-US" sz="2000" spc="-1" strike="noStrike">
              <a:solidFill>
                <a:srgbClr val="000000"/>
              </a:solidFill>
              <a:latin typeface="Arial"/>
            </a:endParaRPr>
          </a:p>
          <a:p>
            <a:pPr marL="171360" indent="-1713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what extend might … work in your situation?</a:t>
            </a:r>
            <a:endParaRPr b="0" lang="en-US" sz="2000" spc="-1" strike="noStrike">
              <a:solidFill>
                <a:srgbClr val="000000"/>
              </a:solidFill>
              <a:latin typeface="Arial"/>
            </a:endParaRPr>
          </a:p>
          <a:p>
            <a:pPr marL="171360" indent="-1713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 number of approaches …</a:t>
            </a:r>
            <a:endParaRPr b="0" lang="en-US" sz="2000" spc="-1" strike="noStrike">
              <a:solidFill>
                <a:srgbClr val="000000"/>
              </a:solidFill>
              <a:latin typeface="Arial"/>
            </a:endParaRPr>
          </a:p>
          <a:p>
            <a:pPr marL="171360" indent="-1713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imagine might … ? </a:t>
            </a: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8707499B-FC62-4CF9-8F2E-14216503FD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5685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ole Play:</a:t>
            </a:r>
            <a:br>
              <a:rPr sz="4800"/>
            </a:br>
            <a:r>
              <a:rPr b="1" i="1" lang="en-US" sz="4000" spc="-1" strike="noStrike">
                <a:solidFill>
                  <a:srgbClr val="000000"/>
                </a:solidFill>
                <a:latin typeface="Arial"/>
              </a:rPr>
              <a:t>Modeling the “Language of Support”</a:t>
            </a:r>
            <a:endParaRPr b="0" lang="en-US" sz="4000" spc="-1" strike="noStrike">
              <a:solidFill>
                <a:srgbClr val="000000"/>
              </a:solidFill>
              <a:latin typeface="Arial"/>
            </a:endParaRPr>
          </a:p>
        </p:txBody>
      </p:sp>
      <p:pic>
        <p:nvPicPr>
          <p:cNvPr id="245" name="" descr=""/>
          <p:cNvPicPr/>
          <p:nvPr/>
        </p:nvPicPr>
        <p:blipFill>
          <a:blip r:embed="rId1"/>
          <a:stretch/>
        </p:blipFill>
        <p:spPr>
          <a:xfrm>
            <a:off x="2057400" y="1600200"/>
            <a:ext cx="4800600" cy="4795920"/>
          </a:xfrm>
          <a:prstGeom prst="rect">
            <a:avLst/>
          </a:prstGeom>
          <a:ln w="0">
            <a:noFill/>
          </a:ln>
        </p:spPr>
      </p:pic>
      <p:sp>
        <p:nvSpPr>
          <p:cNvPr id="3" name="PlaceHolder 2"/>
          <p:cNvSpPr>
            <a:spLocks noGrp="1"/>
          </p:cNvSpPr>
          <p:nvPr>
            <p:ph type="sldNum" idx="1"/>
          </p:nvPr>
        </p:nvSpPr>
        <p:spPr/>
        <p:txBody>
          <a:bodyPr/>
          <a:p>
            <a:fld id="{C598E05E-1AF5-42A3-AC65-CEED07D5BE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15685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ole Playing with the </a:t>
            </a:r>
            <a:br>
              <a:rPr sz="4800"/>
            </a:br>
            <a:r>
              <a:rPr b="1" lang="en-US" sz="4800" spc="-1" strike="noStrike">
                <a:solidFill>
                  <a:srgbClr val="000000"/>
                </a:solidFill>
                <a:latin typeface="Arial"/>
              </a:rPr>
              <a:t>“Language of Suppor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47" name="PlaceHolder 2"/>
          <p:cNvSpPr>
            <a:spLocks noGrp="1"/>
          </p:cNvSpPr>
          <p:nvPr>
            <p:ph/>
          </p:nvPr>
        </p:nvSpPr>
        <p:spPr>
          <a:xfrm>
            <a:off x="518760" y="1704960"/>
            <a:ext cx="8077320" cy="28195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nk of a situation you’ve dealt with in school that you would</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ke to discuss with a colleague, or make up a situation.</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ach round, try to use at least one:</a:t>
            </a: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phrasing statement</a:t>
            </a: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ying statement or question</a:t>
            </a: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ational question</a:t>
            </a: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using and silence</a:t>
            </a:r>
            <a:endParaRPr b="0" lang="en-US" sz="2200" spc="-1" strike="noStrike">
              <a:solidFill>
                <a:srgbClr val="000000"/>
              </a:solidFill>
              <a:latin typeface="Arial"/>
            </a:endParaRPr>
          </a:p>
        </p:txBody>
      </p:sp>
      <p:graphicFrame>
        <p:nvGraphicFramePr>
          <p:cNvPr id="248" name=""/>
          <p:cNvGraphicFramePr/>
          <p:nvPr/>
        </p:nvGraphicFramePr>
        <p:xfrm>
          <a:off x="1866960" y="4648320"/>
          <a:ext cx="5410080" cy="1676160"/>
        </p:xfrm>
        <a:graphic>
          <a:graphicData uri="http://schemas.openxmlformats.org/drawingml/2006/table">
            <a:tbl>
              <a:tblPr/>
              <a:tblGrid>
                <a:gridCol w="1352520"/>
                <a:gridCol w="1352520"/>
                <a:gridCol w="1352520"/>
                <a:gridCol w="1352520"/>
              </a:tblGrid>
              <a:tr h="394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e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erv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nd 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 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 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2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nd 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 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 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6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nd 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 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 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 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1"/>
          </p:nvPr>
        </p:nvSpPr>
        <p:spPr/>
        <p:txBody>
          <a:bodyPr/>
          <a:p>
            <a:fld id="{011B73E7-FEA3-4792-9AF2-BCC8914C81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57200" y="457200"/>
            <a:ext cx="8153280" cy="285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Give a man a fish; you have</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ed him for today. Teach a</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n to fish; and you have</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ed him for a lifetime.”</a:t>
            </a:r>
            <a:endParaRPr b="0" lang="en-US" sz="40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ff"/>
                </a:solidFill>
                <a:latin typeface="Arial"/>
              </a:rPr>
              <a:t>Author Unknown</a:t>
            </a:r>
            <a:endParaRPr b="0" lang="en-US" sz="1400" spc="-1" strike="noStrike">
              <a:solidFill>
                <a:srgbClr val="000000"/>
              </a:solidFill>
              <a:latin typeface="Arial"/>
            </a:endParaRPr>
          </a:p>
        </p:txBody>
      </p:sp>
      <p:pic>
        <p:nvPicPr>
          <p:cNvPr id="250" name="" descr=""/>
          <p:cNvPicPr/>
          <p:nvPr/>
        </p:nvPicPr>
        <p:blipFill>
          <a:blip r:embed="rId1"/>
          <a:stretch/>
        </p:blipFill>
        <p:spPr>
          <a:xfrm>
            <a:off x="2486160" y="3063960"/>
            <a:ext cx="4190760" cy="3198600"/>
          </a:xfrm>
          <a:prstGeom prst="rect">
            <a:avLst/>
          </a:prstGeom>
          <a:ln w="0">
            <a:noFill/>
          </a:ln>
        </p:spPr>
      </p:pic>
      <p:sp>
        <p:nvSpPr>
          <p:cNvPr id="2" name="PlaceHolder 1"/>
          <p:cNvSpPr>
            <a:spLocks noGrp="1"/>
          </p:cNvSpPr>
          <p:nvPr>
            <p:ph type="sldNum" idx="1"/>
          </p:nvPr>
        </p:nvSpPr>
        <p:spPr/>
        <p:txBody>
          <a:bodyPr/>
          <a:p>
            <a:fld id="{F366709E-128A-4837-B3FA-EF1DBEF9CA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11574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Four Corners: Question #2</a:t>
            </a:r>
            <a:endParaRPr b="0" lang="en-US" sz="4800" spc="-1" strike="noStrike">
              <a:solidFill>
                <a:srgbClr val="000000"/>
              </a:solidFill>
              <a:latin typeface="Arial"/>
            </a:endParaRPr>
          </a:p>
        </p:txBody>
      </p:sp>
      <p:sp>
        <p:nvSpPr>
          <p:cNvPr id="68" name="PlaceHolder 2"/>
          <p:cNvSpPr>
            <a:spLocks noGrp="1"/>
          </p:cNvSpPr>
          <p:nvPr>
            <p:ph/>
          </p:nvPr>
        </p:nvSpPr>
        <p:spPr>
          <a:xfrm>
            <a:off x="457200" y="1523520"/>
            <a:ext cx="8229600" cy="4800600"/>
          </a:xfrm>
          <a:prstGeom prst="rect">
            <a:avLst/>
          </a:prstGeom>
          <a:noFill/>
          <a:ln w="0">
            <a:noFill/>
          </a:ln>
        </p:spPr>
        <p:txBody>
          <a:bodyPr lIns="90000" rIns="90000" tIns="46800" bIns="46800" anchor="t">
            <a:norm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long has your division had</a:t>
            </a:r>
            <a:endParaRPr b="0" lang="en-US" sz="4000" spc="-1" strike="noStrike">
              <a:solidFill>
                <a:srgbClr val="000000"/>
              </a:solidFill>
              <a:latin typeface="Arial"/>
            </a:endParaRPr>
          </a:p>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formal” mentoring program?</a:t>
            </a:r>
            <a:endParaRPr b="0" lang="en-US" sz="4000" spc="-1" strike="noStrike">
              <a:solidFill>
                <a:srgbClr val="000000"/>
              </a:solidFill>
              <a:latin typeface="Arial"/>
            </a:endParaRPr>
          </a:p>
          <a:p>
            <a:pPr lvl="2" marL="1371600" indent="-457200">
              <a:spcBef>
                <a:spcPts val="1599"/>
              </a:spcBef>
              <a:spcAft>
                <a:spcPts val="15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 left: 0 to 3 years</a:t>
            </a:r>
            <a:endParaRPr b="0" lang="en-US" sz="3200" spc="-1" strike="noStrike">
              <a:solidFill>
                <a:srgbClr val="000000"/>
              </a:solidFill>
              <a:latin typeface="Arial"/>
            </a:endParaRPr>
          </a:p>
          <a:p>
            <a:pPr lvl="2" marL="1371600" indent="-457200">
              <a:spcAft>
                <a:spcPts val="15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 right: 3 to 7 years</a:t>
            </a:r>
            <a:endParaRPr b="0" lang="en-US" sz="3200" spc="-1" strike="noStrike">
              <a:solidFill>
                <a:srgbClr val="000000"/>
              </a:solidFill>
              <a:latin typeface="Arial"/>
            </a:endParaRPr>
          </a:p>
          <a:p>
            <a:pPr lvl="2" marL="1371600" indent="-457200">
              <a:spcAft>
                <a:spcPts val="15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nt left: 7 to 10 years</a:t>
            </a:r>
            <a:endParaRPr b="0" lang="en-US" sz="3200" spc="-1" strike="noStrike">
              <a:solidFill>
                <a:srgbClr val="000000"/>
              </a:solidFill>
              <a:latin typeface="Arial"/>
            </a:endParaRPr>
          </a:p>
          <a:p>
            <a:pPr lvl="2" marL="1371600" indent="-457200">
              <a:spcAft>
                <a:spcPts val="15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nt right:  More than 10 year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E3B38-AE32-4806-8DEF-AF45F2441A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0"/>
            <a:ext cx="9144000" cy="15890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Role of Evidence</a:t>
            </a:r>
            <a:br>
              <a:rPr sz="4800"/>
            </a:br>
            <a:r>
              <a:rPr b="1" lang="en-US" sz="4800" spc="-1" strike="noStrike">
                <a:solidFill>
                  <a:srgbClr val="000000"/>
                </a:solidFill>
                <a:latin typeface="Arial"/>
              </a:rPr>
              <a:t>in Formative Assessment</a:t>
            </a:r>
            <a:endParaRPr b="0" lang="en-US" sz="4800" spc="-1" strike="noStrike">
              <a:solidFill>
                <a:srgbClr val="000000"/>
              </a:solidFill>
              <a:latin typeface="Arial"/>
            </a:endParaRPr>
          </a:p>
        </p:txBody>
      </p:sp>
      <p:sp>
        <p:nvSpPr>
          <p:cNvPr id="252" name="PlaceHolder 2"/>
          <p:cNvSpPr>
            <a:spLocks noGrp="1"/>
          </p:cNvSpPr>
          <p:nvPr>
            <p:ph/>
          </p:nvPr>
        </p:nvSpPr>
        <p:spPr>
          <a:xfrm>
            <a:off x="706320" y="2030400"/>
            <a:ext cx="2579760" cy="19526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ollect evidenc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help the beginning</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 assess hi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her practice --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a:rPr>
              <a:t>formativ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a:rPr>
              <a:t>assessment</a:t>
            </a:r>
            <a:r>
              <a:rPr b="0" lang="en-US" sz="2000" spc="-1" strike="noStrike">
                <a:solidFill>
                  <a:srgbClr val="333399"/>
                </a:solidFill>
                <a:latin typeface="Arial"/>
              </a:rPr>
              <a:t>.</a:t>
            </a:r>
            <a:endParaRPr b="0" lang="en-US" sz="2000" spc="-1" strike="noStrike">
              <a:solidFill>
                <a:srgbClr val="000000"/>
              </a:solidFill>
              <a:latin typeface="Arial"/>
            </a:endParaRPr>
          </a:p>
        </p:txBody>
      </p:sp>
      <p:sp>
        <p:nvSpPr>
          <p:cNvPr id="253" name="PlaceHolder 3"/>
          <p:cNvSpPr>
            <a:spLocks noGrp="1"/>
          </p:cNvSpPr>
          <p:nvPr>
            <p:ph/>
          </p:nvPr>
        </p:nvSpPr>
        <p:spPr>
          <a:xfrm>
            <a:off x="5754600" y="2541600"/>
            <a:ext cx="2960640" cy="2705040"/>
          </a:xfrm>
          <a:prstGeom prst="rect">
            <a:avLst/>
          </a:prstGeom>
          <a:noFill/>
          <a:ln w="0">
            <a:noFill/>
          </a:ln>
        </p:spPr>
        <p:txBody>
          <a:bodyPr lIns="90000" rIns="90000" tIns="46800" bIns="46800" anchor="t">
            <a:normAutofit/>
          </a:bodyPr>
          <a:p>
            <a:pPr marL="343080" indent="0">
              <a:lnSpc>
                <a:spcPct val="6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ff"/>
                </a:solidFill>
                <a:latin typeface="Arial"/>
              </a:rPr>
              <a:t>Formative assessment</a:t>
            </a:r>
            <a:endParaRPr b="0" lang="en-US" sz="2000" spc="-1" strike="noStrike">
              <a:solidFill>
                <a:srgbClr val="000000"/>
              </a:solidFill>
              <a:latin typeface="Arial"/>
            </a:endParaRPr>
          </a:p>
          <a:p>
            <a:pPr marL="343080" indent="0">
              <a:lnSpc>
                <a:spcPct val="6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 exercise of </a:t>
            </a:r>
            <a:endParaRPr b="0" lang="en-US" sz="2000" spc="-1" strike="noStrike">
              <a:solidFill>
                <a:srgbClr val="000000"/>
              </a:solidFill>
              <a:latin typeface="Arial"/>
            </a:endParaRPr>
          </a:p>
          <a:p>
            <a:pPr marL="343080" indent="0">
              <a:lnSpc>
                <a:spcPct val="6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tic professional</a:t>
            </a:r>
            <a:endParaRPr b="0" lang="en-US" sz="2000" spc="-1" strike="noStrike">
              <a:solidFill>
                <a:srgbClr val="000000"/>
              </a:solidFill>
              <a:latin typeface="Arial"/>
            </a:endParaRPr>
          </a:p>
          <a:p>
            <a:pPr marL="343080" indent="0">
              <a:lnSpc>
                <a:spcPct val="6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dgment for the </a:t>
            </a:r>
            <a:endParaRPr b="0" lang="en-US" sz="2000" spc="-1" strike="noStrike">
              <a:solidFill>
                <a:srgbClr val="000000"/>
              </a:solidFill>
              <a:latin typeface="Arial"/>
            </a:endParaRPr>
          </a:p>
          <a:p>
            <a:pPr marL="343080" indent="0">
              <a:lnSpc>
                <a:spcPct val="6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of analyzing</a:t>
            </a:r>
            <a:endParaRPr b="0" lang="en-US" sz="2000" spc="-1" strike="noStrike">
              <a:solidFill>
                <a:srgbClr val="000000"/>
              </a:solidFill>
              <a:latin typeface="Arial"/>
            </a:endParaRPr>
          </a:p>
          <a:p>
            <a:pPr marL="343080" indent="0">
              <a:lnSpc>
                <a:spcPct val="6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and student </a:t>
            </a:r>
            <a:endParaRPr b="0" lang="en-US" sz="2000" spc="-1" strike="noStrike">
              <a:solidFill>
                <a:srgbClr val="000000"/>
              </a:solidFill>
              <a:latin typeface="Arial"/>
            </a:endParaRPr>
          </a:p>
          <a:p>
            <a:pPr marL="343080" indent="0">
              <a:lnSpc>
                <a:spcPct val="6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and of guiding</a:t>
            </a:r>
            <a:endParaRPr b="0" lang="en-US" sz="2000" spc="-1" strike="noStrike">
              <a:solidFill>
                <a:srgbClr val="000000"/>
              </a:solidFill>
              <a:latin typeface="Arial"/>
            </a:endParaRPr>
          </a:p>
          <a:p>
            <a:pPr marL="343080" indent="0">
              <a:lnSpc>
                <a:spcPct val="6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development.</a:t>
            </a:r>
            <a:endParaRPr b="0" lang="en-US" sz="2000" spc="-1" strike="noStrike">
              <a:solidFill>
                <a:srgbClr val="000000"/>
              </a:solidFill>
              <a:latin typeface="Arial"/>
            </a:endParaRPr>
          </a:p>
        </p:txBody>
      </p:sp>
      <p:sp>
        <p:nvSpPr>
          <p:cNvPr id="254" name=""/>
          <p:cNvSpPr/>
          <p:nvPr/>
        </p:nvSpPr>
        <p:spPr>
          <a:xfrm>
            <a:off x="533520" y="5562720"/>
            <a:ext cx="8153280" cy="459720"/>
          </a:xfrm>
          <a:prstGeom prst="rect">
            <a:avLst/>
          </a:prstGeom>
          <a:solidFill>
            <a:srgbClr val="ccffff"/>
          </a:solidFill>
          <a:ln w="25560">
            <a:solidFill>
              <a:srgbClr val="000000"/>
            </a:solidFill>
            <a:prstDash val="sysDot"/>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ormative assessment is </a:t>
            </a:r>
            <a:r>
              <a:rPr b="1" i="1" lang="en-US" sz="2400" spc="-1" strike="noStrike" u="sng">
                <a:solidFill>
                  <a:srgbClr val="000000"/>
                </a:solidFill>
                <a:uFillTx/>
                <a:latin typeface="Arial"/>
              </a:rPr>
              <a:t>free</a:t>
            </a:r>
            <a:r>
              <a:rPr b="1" i="1" lang="en-US" sz="2400" spc="-1" strike="noStrike">
                <a:solidFill>
                  <a:srgbClr val="000000"/>
                </a:solidFill>
                <a:latin typeface="Arial"/>
              </a:rPr>
              <a:t> of any potential </a:t>
            </a:r>
            <a:r>
              <a:rPr b="1" i="1" lang="en-US" sz="2400" spc="-1" strike="noStrike" u="sng">
                <a:solidFill>
                  <a:srgbClr val="000000"/>
                </a:solidFill>
                <a:uFillTx/>
                <a:latin typeface="Arial"/>
              </a:rPr>
              <a:t>penalty</a:t>
            </a:r>
            <a:r>
              <a:rPr b="1" i="1" lang="en-US" sz="2400" spc="-1" strike="noStrike">
                <a:solidFill>
                  <a:srgbClr val="000000"/>
                </a:solidFill>
                <a:latin typeface="Arial"/>
              </a:rPr>
              <a:t>.</a:t>
            </a:r>
            <a:endParaRPr b="0" lang="en-US" sz="2400" spc="-1" strike="noStrike">
              <a:solidFill>
                <a:srgbClr val="000000"/>
              </a:solidFill>
              <a:latin typeface="Arial"/>
            </a:endParaRPr>
          </a:p>
        </p:txBody>
      </p:sp>
      <p:pic>
        <p:nvPicPr>
          <p:cNvPr id="255" name="" descr=""/>
          <p:cNvPicPr/>
          <p:nvPr/>
        </p:nvPicPr>
        <p:blipFill>
          <a:blip r:embed="rId1"/>
          <a:stretch/>
        </p:blipFill>
        <p:spPr>
          <a:xfrm>
            <a:off x="3533760" y="2219400"/>
            <a:ext cx="1984320" cy="2349360"/>
          </a:xfrm>
          <a:prstGeom prst="rect">
            <a:avLst/>
          </a:prstGeom>
          <a:ln w="0">
            <a:noFill/>
          </a:ln>
        </p:spPr>
      </p:pic>
      <p:sp>
        <p:nvSpPr>
          <p:cNvPr id="256" name=""/>
          <p:cNvSpPr/>
          <p:nvPr/>
        </p:nvSpPr>
        <p:spPr>
          <a:xfrm>
            <a:off x="3602160" y="4560840"/>
            <a:ext cx="153324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7C67F7-DD11-4753-B85B-3B947B88D6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703440" y="1463760"/>
            <a:ext cx="7788240" cy="4749840"/>
          </a:xfrm>
          <a:prstGeom prst="rect">
            <a:avLst/>
          </a:prstGeom>
          <a:noFill/>
          <a:ln w="0">
            <a:noFill/>
          </a:ln>
        </p:spPr>
        <p:txBody>
          <a:bodyPr lIns="90000" rIns="90000" tIns="46800" bIns="46800" anchor="t">
            <a:normAutofit fontScale="97000"/>
          </a:bodyPr>
          <a:p>
            <a:pPr marL="389520" indent="-389520">
              <a:spcAft>
                <a:spcPts val="1301"/>
              </a:spcAft>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an ongoing measurement of growth over time</a:t>
            </a:r>
            <a:endParaRPr b="0" lang="en-US" sz="2600" spc="-1" strike="noStrike">
              <a:solidFill>
                <a:srgbClr val="000000"/>
              </a:solidFill>
              <a:latin typeface="Arial"/>
            </a:endParaRPr>
          </a:p>
          <a:p>
            <a:pPr marL="389520" indent="-389520">
              <a:spcAft>
                <a:spcPts val="1301"/>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s evidence of student learning and teacher practice to help identify areas of strength and those that need growth</a:t>
            </a:r>
            <a:endParaRPr b="0" lang="en-US" sz="2600" spc="-1" strike="noStrike">
              <a:solidFill>
                <a:srgbClr val="000000"/>
              </a:solidFill>
              <a:latin typeface="Arial"/>
            </a:endParaRPr>
          </a:p>
          <a:p>
            <a:pPr marL="389520" indent="-389520">
              <a:spcAft>
                <a:spcPts val="1301"/>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objective and data-based</a:t>
            </a:r>
            <a:endParaRPr b="0" lang="en-US" sz="2600" spc="-1" strike="noStrike">
              <a:solidFill>
                <a:srgbClr val="000000"/>
              </a:solidFill>
              <a:latin typeface="Arial"/>
            </a:endParaRPr>
          </a:p>
          <a:p>
            <a:pPr marL="389520" indent="-389520">
              <a:spcAft>
                <a:spcPts val="1301"/>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responsive to the teacher’s developmental needs</a:t>
            </a:r>
            <a:endParaRPr b="0" lang="en-US" sz="2600" spc="-1" strike="noStrike">
              <a:solidFill>
                <a:srgbClr val="000000"/>
              </a:solidFill>
              <a:latin typeface="Arial"/>
            </a:endParaRPr>
          </a:p>
          <a:p>
            <a:pPr marL="389520" indent="-389520">
              <a:spcAft>
                <a:spcPts val="1301"/>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interactive and collaborative</a:t>
            </a:r>
            <a:endParaRPr b="0" lang="en-US" sz="2600" spc="-1" strike="noStrike">
              <a:solidFill>
                <a:srgbClr val="000000"/>
              </a:solidFill>
              <a:latin typeface="Arial"/>
            </a:endParaRPr>
          </a:p>
          <a:p>
            <a:pPr marL="389520" indent="-389520">
              <a:spcAft>
                <a:spcPts val="1301"/>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olves assessment tools that support inquiry and reflection</a:t>
            </a:r>
            <a:endParaRPr b="0" lang="en-US" sz="2600" spc="-1" strike="noStrike">
              <a:solidFill>
                <a:srgbClr val="000000"/>
              </a:solidFill>
              <a:latin typeface="Arial"/>
            </a:endParaRPr>
          </a:p>
        </p:txBody>
      </p:sp>
      <p:sp>
        <p:nvSpPr>
          <p:cNvPr id="258" name="PlaceHolder 2"/>
          <p:cNvSpPr>
            <a:spLocks noGrp="1"/>
          </p:cNvSpPr>
          <p:nvPr>
            <p:ph type="title"/>
          </p:nvPr>
        </p:nvSpPr>
        <p:spPr>
          <a:xfrm>
            <a:off x="0" y="-360"/>
            <a:ext cx="91440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Formative Assessment …</a:t>
            </a:r>
            <a:endParaRPr b="0" lang="en-US" sz="4800" spc="-1" strike="noStrike">
              <a:solidFill>
                <a:srgbClr val="000000"/>
              </a:solidFill>
              <a:latin typeface="Arial"/>
            </a:endParaRPr>
          </a:p>
        </p:txBody>
      </p:sp>
      <p:sp>
        <p:nvSpPr>
          <p:cNvPr id="4" name="PlaceHolder 3"/>
          <p:cNvSpPr>
            <a:spLocks noGrp="1"/>
          </p:cNvSpPr>
          <p:nvPr>
            <p:ph type="sldNum" idx="1"/>
          </p:nvPr>
        </p:nvSpPr>
        <p:spPr/>
        <p:txBody>
          <a:bodyPr/>
          <a:p>
            <a:fld id="{5832092B-1347-4033-807D-BB615341C7EF}" type="slidenum">
              <a:t>41</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969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800" spc="-1" strike="noStrike">
                <a:solidFill>
                  <a:srgbClr val="000000"/>
                </a:solidFill>
                <a:latin typeface="Arial"/>
              </a:rPr>
              <a:t>Evidence vs. Opinion</a:t>
            </a:r>
            <a:br>
              <a:rPr sz="4000"/>
            </a:br>
            <a:endParaRPr b="0" lang="en-US" sz="4800" spc="-1" strike="noStrike">
              <a:solidFill>
                <a:srgbClr val="000000"/>
              </a:solidFill>
              <a:latin typeface="Arial"/>
            </a:endParaRPr>
          </a:p>
        </p:txBody>
      </p:sp>
      <p:sp>
        <p:nvSpPr>
          <p:cNvPr id="260" name="PlaceHolder 2"/>
          <p:cNvSpPr>
            <a:spLocks noGrp="1"/>
          </p:cNvSpPr>
          <p:nvPr>
            <p:ph/>
          </p:nvPr>
        </p:nvSpPr>
        <p:spPr>
          <a:xfrm>
            <a:off x="457200" y="1600200"/>
            <a:ext cx="4495680" cy="4525920"/>
          </a:xfrm>
          <a:prstGeom prst="rect">
            <a:avLst/>
          </a:prstGeom>
          <a:noFill/>
          <a:ln w="0">
            <a:noFill/>
          </a:ln>
        </p:spPr>
        <p:txBody>
          <a:bodyPr lIns="90000" rIns="90000" tIns="46800" bIns="46800" anchor="t">
            <a:normAutofit/>
          </a:bodyPr>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your table groups, use a T-Chart to compare evidence and opinion.  </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definition of “evidence.”</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prepared to report out to the whole group.</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61" name=""/>
          <p:cNvGraphicFramePr/>
          <p:nvPr/>
        </p:nvGraphicFramePr>
        <p:xfrm>
          <a:off x="5638680" y="1600200"/>
          <a:ext cx="2895840" cy="4556160"/>
        </p:xfrm>
        <a:graphic>
          <a:graphicData uri="http://schemas.openxmlformats.org/drawingml/2006/table">
            <a:tbl>
              <a:tblPr/>
              <a:tblGrid>
                <a:gridCol w="1447920"/>
                <a:gridCol w="144792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vide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Opin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11480">
                <a:tc>
                  <a:txBody>
                    <a:bodyPr lIns="90000" rIns="90000" tIns="46800" bIns="46800" anchor="t">
                      <a:no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8496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ummary Statem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62" name=""/>
          <p:cNvSpPr txBox="1"/>
          <p:nvPr/>
        </p:nvSpPr>
        <p:spPr>
          <a:xfrm>
            <a:off x="6019920" y="3200400"/>
            <a:ext cx="184788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Chart</a:t>
            </a:r>
            <a:endParaRPr b="0" lang="en-US" sz="18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1"/>
          </p:nvPr>
        </p:nvSpPr>
        <p:spPr/>
        <p:txBody>
          <a:bodyPr/>
          <a:p>
            <a:fld id="{A0F66C5B-DFEF-40CE-8357-0E24D39285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457200" y="456840"/>
            <a:ext cx="8229600" cy="2057400"/>
          </a:xfrm>
          <a:prstGeom prst="rect">
            <a:avLst/>
          </a:prstGeom>
          <a:solidFill>
            <a:srgbClr val="ffff00"/>
          </a:solidFill>
          <a:ln w="25560">
            <a:solidFill>
              <a:srgbClr val="000000"/>
            </a:solidFill>
            <a:miter/>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Entry: </a:t>
            </a:r>
            <a:r>
              <a:rPr b="1" lang="en-US" sz="3200" spc="-1" strike="noStrike">
                <a:solidFill>
                  <a:srgbClr val="000000"/>
                </a:solidFill>
                <a:latin typeface="Arial"/>
              </a:rPr>
              <a:t>ev·i·dence</a:t>
            </a:r>
            <a:r>
              <a:rPr b="0" lang="en-US" sz="2800" spc="-1" strike="noStrike">
                <a:solidFill>
                  <a:srgbClr val="000000"/>
                </a:solidFill>
                <a:latin typeface="Arial"/>
              </a:rPr>
              <a:t>  </a:t>
            </a:r>
            <a:br>
              <a:rPr sz="2800"/>
            </a:br>
            <a:r>
              <a:rPr b="0" lang="en-US" sz="2800" spc="-1" strike="noStrike">
                <a:solidFill>
                  <a:srgbClr val="000000"/>
                </a:solidFill>
                <a:latin typeface="Arial"/>
              </a:rPr>
              <a:t>Function: </a:t>
            </a:r>
            <a:r>
              <a:rPr b="0" i="1" lang="en-US" sz="2800" spc="-1" strike="noStrike">
                <a:solidFill>
                  <a:srgbClr val="000000"/>
                </a:solidFill>
                <a:latin typeface="Arial"/>
              </a:rPr>
              <a:t>noun</a:t>
            </a:r>
            <a:br>
              <a:rPr sz="2800"/>
            </a:br>
            <a:r>
              <a:rPr b="1" lang="en-US" sz="2800" spc="-1" strike="noStrike">
                <a:solidFill>
                  <a:srgbClr val="000000"/>
                </a:solidFill>
                <a:latin typeface="Arial"/>
              </a:rPr>
              <a:t>a:</a:t>
            </a:r>
            <a:r>
              <a:rPr b="0" lang="en-US" sz="2800" spc="-1" strike="noStrike">
                <a:solidFill>
                  <a:srgbClr val="000000"/>
                </a:solidFill>
                <a:latin typeface="Arial"/>
              </a:rPr>
              <a:t> an outward sign</a:t>
            </a:r>
            <a:r>
              <a:rPr b="1" lang="en-US" sz="2800" spc="-1" strike="noStrike">
                <a:solidFill>
                  <a:srgbClr val="000000"/>
                </a:solidFill>
                <a:latin typeface="Arial"/>
              </a:rPr>
              <a:t>: </a:t>
            </a:r>
            <a:r>
              <a:rPr b="0" lang="en-US" sz="2800" spc="-1" strike="noStrike" u="sng">
                <a:solidFill>
                  <a:srgbClr val="009999"/>
                </a:solidFill>
                <a:uFillTx/>
                <a:latin typeface="Arial"/>
                <a:hlinkClick r:id="rId1"/>
              </a:rPr>
              <a:t>INDICATION</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a:t>
            </a:r>
            <a:r>
              <a:rPr b="0" lang="en-US" sz="2800" spc="-1" strike="noStrike">
                <a:solidFill>
                  <a:srgbClr val="000000"/>
                </a:solidFill>
                <a:latin typeface="Arial"/>
              </a:rPr>
              <a:t> something that furnishes proof </a:t>
            </a:r>
            <a:r>
              <a:rPr b="1" lang="en-US" sz="2800" spc="-1" strike="noStrike">
                <a:solidFill>
                  <a:srgbClr val="000000"/>
                </a:solidFill>
                <a:latin typeface="Arial"/>
              </a:rPr>
              <a:t>: </a:t>
            </a:r>
            <a:r>
              <a:rPr b="0" lang="en-US" sz="2800" spc="-1" strike="noStrike" u="sng">
                <a:solidFill>
                  <a:srgbClr val="009999"/>
                </a:solidFill>
                <a:uFillTx/>
                <a:latin typeface="Arial"/>
                <a:hlinkClick r:id="rId2"/>
              </a:rPr>
              <a:t>TESTIMONY</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ff"/>
                </a:solidFill>
                <a:latin typeface="Arial"/>
              </a:rPr>
              <a:t>http://www.m-w.com/dictionary/evidenc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4" name=""/>
          <p:cNvSpPr/>
          <p:nvPr/>
        </p:nvSpPr>
        <p:spPr>
          <a:xfrm>
            <a:off x="1295280" y="4572000"/>
            <a:ext cx="6782040" cy="1818000"/>
          </a:xfrm>
          <a:prstGeom prst="rect">
            <a:avLst/>
          </a:prstGeom>
          <a:solidFill>
            <a:srgbClr val="ffff00"/>
          </a:solidFill>
          <a:ln w="38160">
            <a:solidFill>
              <a:srgbClr val="000000"/>
            </a:solidFill>
            <a:prstDash val="sysDot"/>
            <a:miter/>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ased on truth</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terial items or assertions of fac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ree from opinion and prejudice</a:t>
            </a:r>
            <a:endParaRPr b="0" lang="en-US" sz="2800" spc="-1" strike="noStrike">
              <a:solidFill>
                <a:srgbClr val="000000"/>
              </a:solidFill>
              <a:latin typeface="Arial"/>
            </a:endParaRPr>
          </a:p>
        </p:txBody>
      </p:sp>
      <p:sp>
        <p:nvSpPr>
          <p:cNvPr id="265" name=""/>
          <p:cNvSpPr/>
          <p:nvPr/>
        </p:nvSpPr>
        <p:spPr>
          <a:xfrm>
            <a:off x="1828800" y="2590920"/>
            <a:ext cx="1219320" cy="1828800"/>
          </a:xfrm>
          <a:prstGeom prst="downArrow">
            <a:avLst>
              <a:gd name="adj1" fmla="val 50000"/>
              <a:gd name="adj2" fmla="val 37496"/>
            </a:avLst>
          </a:prstGeom>
          <a:solidFill>
            <a:srgbClr val="ff99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6" name="" descr=""/>
          <p:cNvPicPr/>
          <p:nvPr/>
        </p:nvPicPr>
        <p:blipFill>
          <a:blip r:embed="rId3"/>
          <a:stretch/>
        </p:blipFill>
        <p:spPr>
          <a:xfrm rot="642000">
            <a:off x="3841920" y="2356920"/>
            <a:ext cx="5257800" cy="3276720"/>
          </a:xfrm>
          <a:prstGeom prst="rect">
            <a:avLst/>
          </a:prstGeom>
          <a:ln w="0">
            <a:noFill/>
          </a:ln>
        </p:spPr>
      </p:pic>
      <p:sp>
        <p:nvSpPr>
          <p:cNvPr id="3" name="PlaceHolder 2"/>
          <p:cNvSpPr>
            <a:spLocks noGrp="1"/>
          </p:cNvSpPr>
          <p:nvPr>
            <p:ph type="sldNum" idx="1"/>
          </p:nvPr>
        </p:nvSpPr>
        <p:spPr/>
        <p:txBody>
          <a:bodyPr/>
          <a:p>
            <a:fld id="{D55242BC-40DE-415B-B59F-A59C111BAE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1732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000000"/>
                </a:solidFill>
                <a:latin typeface="Arial"/>
              </a:rPr>
              <a:t>Evidence or Opinion?</a:t>
            </a:r>
            <a:br>
              <a:rPr sz="4800"/>
            </a:br>
            <a:endParaRPr b="0" lang="en-US" sz="4800" spc="-1" strike="noStrike">
              <a:solidFill>
                <a:srgbClr val="000000"/>
              </a:solidFill>
              <a:latin typeface="Arial"/>
            </a:endParaRPr>
          </a:p>
        </p:txBody>
      </p:sp>
      <p:sp>
        <p:nvSpPr>
          <p:cNvPr id="268" name="PlaceHolder 2"/>
          <p:cNvSpPr>
            <a:spLocks noGrp="1"/>
          </p:cNvSpPr>
          <p:nvPr>
            <p:ph/>
          </p:nvPr>
        </p:nvSpPr>
        <p:spPr>
          <a:xfrm>
            <a:off x="457200" y="1600200"/>
            <a:ext cx="4038480" cy="45259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269" name="" descr=""/>
          <p:cNvPicPr/>
          <p:nvPr/>
        </p:nvPicPr>
        <p:blipFill>
          <a:blip r:embed="rId1"/>
          <a:stretch/>
        </p:blipFill>
        <p:spPr>
          <a:xfrm>
            <a:off x="5638680" y="4724280"/>
            <a:ext cx="1592280" cy="1784520"/>
          </a:xfrm>
          <a:prstGeom prst="rect">
            <a:avLst/>
          </a:prstGeom>
          <a:ln w="0">
            <a:noFill/>
          </a:ln>
        </p:spPr>
      </p:pic>
      <p:sp>
        <p:nvSpPr>
          <p:cNvPr id="270" name=""/>
          <p:cNvSpPr/>
          <p:nvPr/>
        </p:nvSpPr>
        <p:spPr>
          <a:xfrm>
            <a:off x="892080" y="1442880"/>
            <a:ext cx="7718400" cy="3187080"/>
          </a:xfrm>
          <a:prstGeom prst="rect">
            <a:avLst/>
          </a:prstGeom>
          <a:noFill/>
          <a:ln w="0">
            <a:noFill/>
          </a:ln>
        </p:spPr>
        <p:style>
          <a:lnRef idx="0"/>
          <a:fillRef idx="0"/>
          <a:effectRef idx="0"/>
          <a:fontRef idx="minor"/>
        </p:style>
        <p:txBody>
          <a:bodyPr lIns="90000" rIns="90000" tIns="46800" bIns="46800" anchor="t">
            <a:spAutoFit/>
          </a:bodyPr>
          <a:p>
            <a:pPr marL="230040" indent="-230040">
              <a:spcAft>
                <a:spcPts val="1400"/>
              </a:spcAft>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s were excited.</a:t>
            </a:r>
            <a:endParaRPr b="0" lang="en-US" sz="2800" spc="-1" strike="noStrike">
              <a:solidFill>
                <a:srgbClr val="000000"/>
              </a:solidFill>
              <a:latin typeface="Arial"/>
            </a:endParaRPr>
          </a:p>
          <a:p>
            <a:pPr marL="230040" indent="-230040">
              <a:spcAft>
                <a:spcPts val="1400"/>
              </a:spcAft>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ass was out of control.</a:t>
            </a:r>
            <a:endParaRPr b="0" lang="en-US" sz="2800" spc="-1" strike="noStrike">
              <a:solidFill>
                <a:srgbClr val="000000"/>
              </a:solidFill>
              <a:latin typeface="Arial"/>
            </a:endParaRPr>
          </a:p>
          <a:p>
            <a:pPr marL="230040" indent="-230040">
              <a:spcAft>
                <a:spcPts val="1400"/>
              </a:spcAft>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acher said the Vietnam War was a waste of tax-payers’ money and military time.</a:t>
            </a:r>
            <a:endParaRPr b="0" lang="en-US" sz="2800" spc="-1" strike="noStrike">
              <a:solidFill>
                <a:srgbClr val="000000"/>
              </a:solidFill>
              <a:latin typeface="Arial"/>
            </a:endParaRPr>
          </a:p>
          <a:p>
            <a:pPr marL="230040" indent="-230040">
              <a:spcAft>
                <a:spcPts val="1400"/>
              </a:spcAft>
              <a:buClr>
                <a:srgbClr val="0000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students were sleeping throughout the lesson.</a:t>
            </a:r>
            <a:endParaRPr b="0" lang="en-US" sz="2800" spc="-1" strike="noStrike">
              <a:solidFill>
                <a:srgbClr val="000000"/>
              </a:solidFill>
              <a:latin typeface="Arial"/>
            </a:endParaRPr>
          </a:p>
        </p:txBody>
      </p:sp>
      <p:pic>
        <p:nvPicPr>
          <p:cNvPr id="271" name="" descr=""/>
          <p:cNvPicPr/>
          <p:nvPr/>
        </p:nvPicPr>
        <p:blipFill>
          <a:blip r:embed="rId2"/>
          <a:stretch/>
        </p:blipFill>
        <p:spPr>
          <a:xfrm rot="10800000">
            <a:off x="1828440" y="4723920"/>
            <a:ext cx="1592280" cy="1784520"/>
          </a:xfrm>
          <a:prstGeom prst="rect">
            <a:avLst/>
          </a:prstGeom>
          <a:ln w="0">
            <a:noFill/>
          </a:ln>
        </p:spPr>
      </p:pic>
      <p:sp>
        <p:nvSpPr>
          <p:cNvPr id="272" name=""/>
          <p:cNvSpPr/>
          <p:nvPr/>
        </p:nvSpPr>
        <p:spPr>
          <a:xfrm>
            <a:off x="3886200" y="4876920"/>
            <a:ext cx="15238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R</a:t>
            </a:r>
            <a:endParaRPr b="0" lang="en-US" sz="6000" spc="-1" strike="noStrike">
              <a:solidFill>
                <a:srgbClr val="000000"/>
              </a:solidFill>
              <a:latin typeface="Arial"/>
            </a:endParaRPr>
          </a:p>
        </p:txBody>
      </p:sp>
      <p:sp>
        <p:nvSpPr>
          <p:cNvPr id="4" name="PlaceHolder 3"/>
          <p:cNvSpPr>
            <a:spLocks noGrp="1"/>
          </p:cNvSpPr>
          <p:nvPr>
            <p:ph type="sldNum" idx="1"/>
          </p:nvPr>
        </p:nvSpPr>
        <p:spPr/>
        <p:txBody>
          <a:bodyPr/>
          <a:p>
            <a:fld id="{E43BCC2C-2E8C-482E-8DA4-817AFAED88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60"/>
            <a:ext cx="9144000" cy="15764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vidence: </a:t>
            </a:r>
            <a:br>
              <a:rPr sz="4800"/>
            </a:br>
            <a:r>
              <a:rPr b="1" lang="en-US" sz="4000" spc="-1" strike="noStrike">
                <a:solidFill>
                  <a:srgbClr val="000000"/>
                </a:solidFill>
                <a:latin typeface="Arial"/>
              </a:rPr>
              <a:t>“</a:t>
            </a:r>
            <a:r>
              <a:rPr b="1" i="1" lang="en-US" sz="4000" spc="-1" strike="noStrike">
                <a:solidFill>
                  <a:srgbClr val="000000"/>
                </a:solidFill>
                <a:latin typeface="Arial"/>
              </a:rPr>
              <a:t>Just the facts, ma’am!”</a:t>
            </a:r>
            <a:endParaRPr b="0" lang="en-US" sz="4000" spc="-1" strike="noStrike">
              <a:solidFill>
                <a:srgbClr val="000000"/>
              </a:solidFill>
              <a:latin typeface="Arial"/>
            </a:endParaRPr>
          </a:p>
        </p:txBody>
      </p:sp>
      <p:sp>
        <p:nvSpPr>
          <p:cNvPr id="274" name="PlaceHolder 2"/>
          <p:cNvSpPr>
            <a:spLocks noGrp="1"/>
          </p:cNvSpPr>
          <p:nvPr>
            <p:ph/>
          </p:nvPr>
        </p:nvSpPr>
        <p:spPr>
          <a:xfrm>
            <a:off x="412560" y="1684080"/>
            <a:ext cx="8350200" cy="4787640"/>
          </a:xfrm>
          <a:prstGeom prst="rect">
            <a:avLst/>
          </a:prstGeom>
          <a:noFill/>
          <a:ln w="0">
            <a:noFill/>
          </a:ln>
        </p:spPr>
        <p:txBody>
          <a:bodyPr anchor="t">
            <a:normAutofit/>
          </a:bodyPr>
          <a:p>
            <a:pPr marL="230040" indent="0" algn="ctr">
              <a:lnSpc>
                <a:spcPct val="80000"/>
              </a:lnSpc>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vidence can be collected in a</a:t>
            </a:r>
            <a:endParaRPr b="0" lang="en-US" sz="3600" spc="-1" strike="noStrike">
              <a:solidFill>
                <a:srgbClr val="000000"/>
              </a:solidFill>
              <a:latin typeface="Arial"/>
            </a:endParaRPr>
          </a:p>
          <a:p>
            <a:pPr marL="230040" indent="0" algn="ctr">
              <a:lnSpc>
                <a:spcPct val="80000"/>
              </a:lnSpc>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umber of ways:</a:t>
            </a:r>
            <a:endParaRPr b="0" lang="en-US" sz="3600" spc="-1" strike="noStrike">
              <a:solidFill>
                <a:srgbClr val="000000"/>
              </a:solidFill>
              <a:latin typeface="Arial"/>
            </a:endParaRPr>
          </a:p>
          <a:p>
            <a:pPr marL="230040" indent="-230040">
              <a:lnSpc>
                <a:spcPct val="80000"/>
              </a:lnSpc>
              <a:spcAft>
                <a:spcPts val="825"/>
              </a:spcAft>
              <a:buClr>
                <a:srgbClr val="000000"/>
              </a:buClr>
              <a:buSzPct val="13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VERBATIM SCRIPTING</a:t>
            </a:r>
            <a:r>
              <a:rPr b="0" lang="en-US" sz="2200" spc="-1" strike="noStrike">
                <a:solidFill>
                  <a:srgbClr val="000000"/>
                </a:solidFill>
                <a:latin typeface="Arial"/>
              </a:rPr>
              <a:t> of teacher or student comments:</a:t>
            </a:r>
            <a:endParaRPr b="0" lang="en-US" sz="2200" spc="-1" strike="noStrike">
              <a:solidFill>
                <a:srgbClr val="000000"/>
              </a:solidFill>
              <a:latin typeface="Arial"/>
            </a:endParaRPr>
          </a:p>
          <a:p>
            <a:pPr marL="230040" indent="0" algn="ctr">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000" spc="-1" strike="noStrike">
                <a:solidFill>
                  <a:srgbClr val="000000"/>
                </a:solidFill>
                <a:latin typeface="Arial"/>
              </a:rPr>
              <a:t>“</a:t>
            </a:r>
            <a:r>
              <a:rPr b="0" i="1" lang="en-US" sz="2000" spc="-1" strike="noStrike">
                <a:solidFill>
                  <a:srgbClr val="000000"/>
                </a:solidFill>
                <a:latin typeface="Arial"/>
              </a:rPr>
              <a:t>Would one person from each table come to collect the materials?”</a:t>
            </a:r>
            <a:endParaRPr b="0" lang="en-US" sz="2000" spc="-1" strike="noStrike">
              <a:solidFill>
                <a:srgbClr val="000000"/>
              </a:solidFill>
              <a:latin typeface="Arial"/>
            </a:endParaRPr>
          </a:p>
          <a:p>
            <a:pPr marL="230040" indent="-230040">
              <a:lnSpc>
                <a:spcPct val="80000"/>
              </a:lnSpc>
              <a:spcAft>
                <a:spcPts val="825"/>
              </a:spcAft>
              <a:buClr>
                <a:srgbClr val="000000"/>
              </a:buClr>
              <a:buSzPct val="13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NON-EVALUATIVE STATEMENTS</a:t>
            </a:r>
            <a:r>
              <a:rPr b="0" lang="en-US" sz="2200" spc="-1" strike="noStrike">
                <a:solidFill>
                  <a:srgbClr val="000000"/>
                </a:solidFill>
                <a:latin typeface="Arial"/>
              </a:rPr>
              <a:t> of observed teacher or student behavior:</a:t>
            </a:r>
            <a:endParaRPr b="0" lang="en-US" sz="2200" spc="-1" strike="noStrike">
              <a:solidFill>
                <a:srgbClr val="000000"/>
              </a:solidFill>
              <a:latin typeface="Arial"/>
            </a:endParaRPr>
          </a:p>
          <a:p>
            <a:pPr marL="230040" indent="0" algn="ctr">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The teacher stands by the door, greeting students as they enter.”</a:t>
            </a:r>
            <a:endParaRPr b="0" lang="en-US" sz="2000" spc="-1" strike="noStrike">
              <a:solidFill>
                <a:srgbClr val="000000"/>
              </a:solidFill>
              <a:latin typeface="Arial"/>
            </a:endParaRPr>
          </a:p>
          <a:p>
            <a:pPr marL="230040" indent="-230040">
              <a:lnSpc>
                <a:spcPct val="80000"/>
              </a:lnSpc>
              <a:spcAft>
                <a:spcPts val="825"/>
              </a:spcAft>
              <a:buClr>
                <a:srgbClr val="000000"/>
              </a:buClr>
              <a:buSzPct val="13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NUMERIC INFORMATION</a:t>
            </a:r>
            <a:r>
              <a:rPr b="0" lang="en-US" sz="2200" spc="-1" strike="noStrike">
                <a:solidFill>
                  <a:srgbClr val="000000"/>
                </a:solidFill>
                <a:latin typeface="Arial"/>
              </a:rPr>
              <a:t> about time, student participation, resource use, etc.:</a:t>
            </a:r>
            <a:endParaRPr b="0" lang="en-US" sz="2200" spc="-1" strike="noStrike">
              <a:solidFill>
                <a:srgbClr val="000000"/>
              </a:solidFill>
              <a:latin typeface="Arial"/>
            </a:endParaRPr>
          </a:p>
          <a:p>
            <a:pPr marL="230040" indent="0" algn="ctr">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Three students offer nearly all the comments during the discussion.”</a:t>
            </a:r>
            <a:endParaRPr b="0" lang="en-US" sz="2000" spc="-1" strike="noStrike">
              <a:solidFill>
                <a:srgbClr val="000000"/>
              </a:solidFill>
              <a:latin typeface="Arial"/>
            </a:endParaRPr>
          </a:p>
          <a:p>
            <a:pPr marL="230040" indent="-230040">
              <a:lnSpc>
                <a:spcPct val="80000"/>
              </a:lnSpc>
              <a:spcAft>
                <a:spcPts val="825"/>
              </a:spcAft>
              <a:buClr>
                <a:srgbClr val="000000"/>
              </a:buClr>
              <a:buSzPct val="13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t>
            </a:r>
            <a:r>
              <a:rPr b="1" lang="en-US" sz="2200" spc="-1" strike="noStrike">
                <a:solidFill>
                  <a:srgbClr val="3333ff"/>
                </a:solidFill>
                <a:latin typeface="Arial"/>
              </a:rPr>
              <a:t>OBSERVED ASPECT</a:t>
            </a:r>
            <a:r>
              <a:rPr b="0" lang="en-US" sz="2200" spc="-1" strike="noStrike">
                <a:solidFill>
                  <a:srgbClr val="000000"/>
                </a:solidFill>
                <a:latin typeface="Arial"/>
              </a:rPr>
              <a:t> of the environment:</a:t>
            </a:r>
            <a:endParaRPr b="0" lang="en-US" sz="2200" spc="-1" strike="noStrike">
              <a:solidFill>
                <a:srgbClr val="000000"/>
              </a:solidFill>
              <a:latin typeface="Arial"/>
            </a:endParaRPr>
          </a:p>
          <a:p>
            <a:pPr marL="230040" indent="0" algn="ctr">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assignment is on the board for students to do while roll is tak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1F3DF-D3A7-4EC6-B9D9-760660711D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60"/>
            <a:ext cx="9144000" cy="15685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vidence vs. Opinion:</a:t>
            </a:r>
            <a:br>
              <a:rPr sz="4800"/>
            </a:br>
            <a:r>
              <a:rPr b="1" i="1" lang="en-US" sz="4000" spc="-1" strike="noStrike">
                <a:solidFill>
                  <a:srgbClr val="000000"/>
                </a:solidFill>
                <a:latin typeface="Arial"/>
              </a:rPr>
              <a:t>Carousel</a:t>
            </a:r>
            <a:r>
              <a:rPr b="0" i="1" lang="en-US" sz="4000" spc="-1" strike="noStrike">
                <a:solidFill>
                  <a:srgbClr val="000000"/>
                </a:solidFill>
                <a:latin typeface="Arial"/>
              </a:rPr>
              <a:t> </a:t>
            </a:r>
            <a:r>
              <a:rPr b="1" i="1" lang="en-US" sz="4000" spc="-1" strike="noStrike">
                <a:solidFill>
                  <a:srgbClr val="000000"/>
                </a:solidFill>
                <a:latin typeface="Arial"/>
              </a:rPr>
              <a:t>in Teacher Observation</a:t>
            </a:r>
            <a:endParaRPr b="0" lang="en-US" sz="4000" spc="-1" strike="noStrike">
              <a:solidFill>
                <a:srgbClr val="000000"/>
              </a:solidFill>
              <a:latin typeface="Arial"/>
            </a:endParaRPr>
          </a:p>
        </p:txBody>
      </p:sp>
      <p:sp>
        <p:nvSpPr>
          <p:cNvPr id="276" name="PlaceHolder 2"/>
          <p:cNvSpPr>
            <a:spLocks noGrp="1"/>
          </p:cNvSpPr>
          <p:nvPr>
            <p:ph/>
          </p:nvPr>
        </p:nvSpPr>
        <p:spPr>
          <a:xfrm>
            <a:off x="401400" y="1627200"/>
            <a:ext cx="8305560" cy="5029200"/>
          </a:xfrm>
          <a:prstGeom prst="rect">
            <a:avLst/>
          </a:prstGeom>
          <a:noFill/>
          <a:ln w="0">
            <a:noFill/>
          </a:ln>
        </p:spPr>
        <p:txBody>
          <a:bodyPr lIns="90000" rIns="90000" tIns="46800" bIns="46800" anchor="t">
            <a:normAutofit/>
          </a:bodyPr>
          <a:p>
            <a:pPr marL="230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of actual teacher observation are posted along the wall.</a:t>
            </a:r>
            <a:endParaRPr b="0" lang="en-US" sz="2000" spc="-1" strike="noStrike">
              <a:solidFill>
                <a:srgbClr val="000000"/>
              </a:solidFill>
              <a:latin typeface="Arial"/>
            </a:endParaRPr>
          </a:p>
          <a:p>
            <a:pPr marL="230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STEP #1</a:t>
            </a:r>
            <a:endParaRPr b="0" lang="en-US" sz="2000" spc="-1" strike="noStrike">
              <a:solidFill>
                <a:srgbClr val="000000"/>
              </a:solidFill>
              <a:latin typeface="Arial"/>
            </a:endParaRPr>
          </a:p>
          <a:p>
            <a:pPr marL="230040" indent="-230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your table group, go to one that is nearest to you.</a:t>
            </a:r>
            <a:endParaRPr b="0" lang="en-US" sz="2000" spc="-1" strike="noStrike">
              <a:solidFill>
                <a:srgbClr val="000000"/>
              </a:solidFill>
              <a:latin typeface="Arial"/>
            </a:endParaRPr>
          </a:p>
          <a:p>
            <a:pPr marL="230040" indent="-230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a BLUE highlighter, underline all examples of evidence. </a:t>
            </a:r>
            <a:endParaRPr b="0" lang="en-US" sz="2000" spc="-1" strike="noStrike">
              <a:solidFill>
                <a:srgbClr val="000000"/>
              </a:solidFill>
              <a:latin typeface="Arial"/>
            </a:endParaRPr>
          </a:p>
          <a:p>
            <a:pPr marL="230040" indent="-230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a RED marker, underline all examples of opinion.</a:t>
            </a:r>
            <a:endParaRPr b="0" lang="en-US" sz="2000" spc="-1" strike="noStrike">
              <a:solidFill>
                <a:srgbClr val="000000"/>
              </a:solidFill>
              <a:latin typeface="Arial"/>
            </a:endParaRPr>
          </a:p>
          <a:p>
            <a:pPr marL="230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STEP #2</a:t>
            </a:r>
            <a:endParaRPr b="0" lang="en-US" sz="2000" spc="-1" strike="noStrike">
              <a:solidFill>
                <a:srgbClr val="000000"/>
              </a:solidFill>
              <a:latin typeface="Arial"/>
            </a:endParaRPr>
          </a:p>
          <a:p>
            <a:pPr marL="230040" indent="-230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 to the RIGHT.</a:t>
            </a:r>
            <a:endParaRPr b="0" lang="en-US" sz="2000" spc="-1" strike="noStrike">
              <a:solidFill>
                <a:srgbClr val="000000"/>
              </a:solidFill>
              <a:latin typeface="Arial"/>
            </a:endParaRPr>
          </a:p>
          <a:p>
            <a:pPr marL="230040" indent="-230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e whether you agree or disagree with</a:t>
            </a:r>
            <a:endParaRPr b="0" lang="en-US" sz="2000" spc="-1" strike="noStrike">
              <a:solidFill>
                <a:srgbClr val="000000"/>
              </a:solidFill>
              <a:latin typeface="Arial"/>
            </a:endParaRPr>
          </a:p>
          <a:p>
            <a:pPr marL="230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decision of the previous group.</a:t>
            </a:r>
            <a:endParaRPr b="0" lang="en-US" sz="2000" spc="-1" strike="noStrike">
              <a:solidFill>
                <a:srgbClr val="000000"/>
              </a:solidFill>
              <a:latin typeface="Arial"/>
            </a:endParaRPr>
          </a:p>
          <a:p>
            <a:pPr marL="230040" indent="-230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hrase all opinion statements to make</a:t>
            </a:r>
            <a:endParaRPr b="0" lang="en-US" sz="2000" spc="-1" strike="noStrike">
              <a:solidFill>
                <a:srgbClr val="000000"/>
              </a:solidFill>
              <a:latin typeface="Arial"/>
            </a:endParaRPr>
          </a:p>
          <a:p>
            <a:pPr marL="230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m evidence.</a:t>
            </a:r>
            <a:endParaRPr b="0" lang="en-US" sz="2000" spc="-1" strike="noStrike">
              <a:solidFill>
                <a:srgbClr val="000000"/>
              </a:solidFill>
              <a:latin typeface="Arial"/>
            </a:endParaRPr>
          </a:p>
          <a:p>
            <a:pPr marL="230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STEP #3</a:t>
            </a:r>
            <a:endParaRPr b="0" lang="en-US" sz="2000" spc="-1" strike="noStrike">
              <a:solidFill>
                <a:srgbClr val="000000"/>
              </a:solidFill>
              <a:latin typeface="Arial"/>
            </a:endParaRPr>
          </a:p>
          <a:p>
            <a:pPr marL="230040" indent="-230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 RIGHT.</a:t>
            </a:r>
            <a:endParaRPr b="0" lang="en-US" sz="2000" spc="-1" strike="noStrike">
              <a:solidFill>
                <a:srgbClr val="000000"/>
              </a:solidFill>
              <a:latin typeface="Arial"/>
            </a:endParaRPr>
          </a:p>
          <a:p>
            <a:pPr marL="230040" indent="-230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the work of the previous groups.</a:t>
            </a:r>
            <a:endParaRPr b="0" lang="en-US" sz="2000" spc="-1" strike="noStrike">
              <a:solidFill>
                <a:srgbClr val="000000"/>
              </a:solidFill>
              <a:latin typeface="Arial"/>
            </a:endParaRPr>
          </a:p>
          <a:p>
            <a:pPr marL="230040" indent="-230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lect on the activity within your group and be                                                       prepared to report out.</a:t>
            </a:r>
            <a:endParaRPr b="0" lang="en-US" sz="2000" spc="-1" strike="noStrike">
              <a:solidFill>
                <a:srgbClr val="000000"/>
              </a:solidFill>
              <a:latin typeface="Arial"/>
            </a:endParaRPr>
          </a:p>
        </p:txBody>
      </p:sp>
      <p:sp>
        <p:nvSpPr>
          <p:cNvPr id="277" name=""/>
          <p:cNvSpPr/>
          <p:nvPr/>
        </p:nvSpPr>
        <p:spPr>
          <a:xfrm rot="16682400">
            <a:off x="7601760" y="3218040"/>
            <a:ext cx="430200" cy="1613160"/>
          </a:xfrm>
          <a:custGeom>
            <a:avLst/>
            <a:gdLst>
              <a:gd name="textAreaLeft" fmla="*/ 57600 w 430200"/>
              <a:gd name="textAreaRight" fmla="*/ 372600 w 430200"/>
              <a:gd name="textAreaTop" fmla="*/ 282240 h 1613160"/>
              <a:gd name="textAreaBottom" fmla="*/ 1169640 h 1613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rot="1785000">
            <a:off x="8076960" y="4495680"/>
            <a:ext cx="430200" cy="1613160"/>
          </a:xfrm>
          <a:custGeom>
            <a:avLst/>
            <a:gdLst>
              <a:gd name="textAreaLeft" fmla="*/ 57600 w 430200"/>
              <a:gd name="textAreaRight" fmla="*/ 372600 w 430200"/>
              <a:gd name="textAreaTop" fmla="*/ 282240 h 1613160"/>
              <a:gd name="textAreaBottom" fmla="*/ 1169640 h 1613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rot="9657600">
            <a:off x="6705000" y="4266720"/>
            <a:ext cx="430200" cy="1613160"/>
          </a:xfrm>
          <a:custGeom>
            <a:avLst/>
            <a:gdLst>
              <a:gd name="textAreaLeft" fmla="*/ 57600 w 430200"/>
              <a:gd name="textAreaRight" fmla="*/ 372600 w 430200"/>
              <a:gd name="textAreaTop" fmla="*/ 282240 h 1613160"/>
              <a:gd name="textAreaBottom" fmla="*/ 1169640 h 1613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7467480" y="396252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281" name=""/>
          <p:cNvSpPr/>
          <p:nvPr/>
        </p:nvSpPr>
        <p:spPr>
          <a:xfrm>
            <a:off x="7924680" y="49528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282" name=""/>
          <p:cNvSpPr/>
          <p:nvPr/>
        </p:nvSpPr>
        <p:spPr>
          <a:xfrm>
            <a:off x="6781680" y="49528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4F172-1306-4BE8-AA43-FF500789F04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0"/>
            <a:ext cx="9144000" cy="15890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ools for Collecting Evidence</a:t>
            </a:r>
            <a:br>
              <a:rPr sz="4800"/>
            </a:br>
            <a:r>
              <a:rPr b="1" lang="en-US" sz="4800" spc="-1" strike="noStrike">
                <a:solidFill>
                  <a:srgbClr val="000000"/>
                </a:solidFill>
                <a:latin typeface="Arial"/>
              </a:rPr>
              <a:t>for Formative Assessment</a:t>
            </a:r>
            <a:endParaRPr b="0" lang="en-US" sz="4800" spc="-1" strike="noStrike">
              <a:solidFill>
                <a:srgbClr val="000000"/>
              </a:solidFill>
              <a:latin typeface="Arial"/>
            </a:endParaRPr>
          </a:p>
        </p:txBody>
      </p:sp>
      <p:sp>
        <p:nvSpPr>
          <p:cNvPr id="284" name="PlaceHolder 2"/>
          <p:cNvSpPr>
            <a:spLocks noGrp="1"/>
          </p:cNvSpPr>
          <p:nvPr>
            <p:ph/>
          </p:nvPr>
        </p:nvSpPr>
        <p:spPr>
          <a:xfrm>
            <a:off x="550800" y="1846080"/>
            <a:ext cx="3733920" cy="4343400"/>
          </a:xfrm>
          <a:prstGeom prst="rect">
            <a:avLst/>
          </a:prstGeom>
          <a:solidFill>
            <a:srgbClr val="ccffff"/>
          </a:solidFill>
          <a:ln w="9360">
            <a:solidFill>
              <a:srgbClr val="000000"/>
            </a:solidFill>
            <a:miter/>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ripting of a lesson</a:t>
            </a:r>
            <a:endParaRPr b="0" lang="en-US" sz="26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 review (lesson plans, professional growth plan)</a:t>
            </a:r>
            <a:endParaRPr b="0" lang="en-US" sz="26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deotaping</a:t>
            </a:r>
            <a:endParaRPr b="0" lang="en-US" sz="26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ing teacher/pupil talk - dialogue</a:t>
            </a:r>
            <a:endParaRPr b="0" lang="en-US" sz="26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vement patterns</a:t>
            </a:r>
            <a:endParaRPr b="0" lang="en-US" sz="26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alyze student work</a:t>
            </a:r>
            <a:endParaRPr b="0" lang="en-US" sz="2600" spc="-1" strike="noStrike">
              <a:solidFill>
                <a:srgbClr val="000000"/>
              </a:solidFill>
              <a:latin typeface="Arial"/>
            </a:endParaRPr>
          </a:p>
        </p:txBody>
      </p:sp>
      <p:sp>
        <p:nvSpPr>
          <p:cNvPr id="285" name=""/>
          <p:cNvSpPr/>
          <p:nvPr/>
        </p:nvSpPr>
        <p:spPr>
          <a:xfrm>
            <a:off x="5029200" y="1832040"/>
            <a:ext cx="3733920" cy="43434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estioning strategies/question types</a:t>
            </a:r>
            <a:endParaRPr b="0" lang="en-US" sz="2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nerisms</a:t>
            </a:r>
            <a:endParaRPr b="0" lang="en-US" sz="2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dality preference</a:t>
            </a:r>
            <a:endParaRPr b="0" lang="en-US" sz="2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cing</a:t>
            </a:r>
            <a:endParaRPr b="0" lang="en-US" sz="2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verbal feedback</a:t>
            </a:r>
            <a:endParaRPr b="0" lang="en-US" sz="2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ssroom arrangement</a:t>
            </a:r>
            <a:endParaRPr b="0" lang="en-US" sz="2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ponse behaviors</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B296F20-2E36-4EB4-AAE6-9892B33D5C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2666880" y="533520"/>
            <a:ext cx="4038840" cy="5562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666880" y="533520"/>
            <a:ext cx="4033800" cy="5562360"/>
          </a:xfrm>
          <a:prstGeom prst="rect">
            <a:avLst/>
          </a:prstGeom>
          <a:solidFill>
            <a:srgbClr val="fc8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935520" y="5624640"/>
            <a:ext cx="149364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498840" y="822240"/>
            <a:ext cx="2301840" cy="4873680"/>
          </a:xfrm>
          <a:custGeom>
            <a:avLst/>
            <a:gdLst/>
            <a:ahLst/>
            <a:rect l="l" t="t" r="r" b="b"/>
            <a:pathLst>
              <a:path w="1450" h="3070">
                <a:moveTo>
                  <a:pt x="880" y="3058"/>
                </a:moveTo>
                <a:lnTo>
                  <a:pt x="888" y="3058"/>
                </a:lnTo>
                <a:lnTo>
                  <a:pt x="907" y="3058"/>
                </a:lnTo>
                <a:lnTo>
                  <a:pt x="936" y="3055"/>
                </a:lnTo>
                <a:lnTo>
                  <a:pt x="974" y="3044"/>
                </a:lnTo>
                <a:lnTo>
                  <a:pt x="1020" y="3029"/>
                </a:lnTo>
                <a:lnTo>
                  <a:pt x="1071" y="3006"/>
                </a:lnTo>
                <a:lnTo>
                  <a:pt x="1124" y="2969"/>
                </a:lnTo>
                <a:lnTo>
                  <a:pt x="1181" y="2925"/>
                </a:lnTo>
                <a:lnTo>
                  <a:pt x="1235" y="2862"/>
                </a:lnTo>
                <a:lnTo>
                  <a:pt x="1289" y="2787"/>
                </a:lnTo>
                <a:lnTo>
                  <a:pt x="1334" y="2691"/>
                </a:lnTo>
                <a:lnTo>
                  <a:pt x="1377" y="2576"/>
                </a:lnTo>
                <a:lnTo>
                  <a:pt x="1412" y="2442"/>
                </a:lnTo>
                <a:lnTo>
                  <a:pt x="1436" y="2283"/>
                </a:lnTo>
                <a:lnTo>
                  <a:pt x="1450" y="2097"/>
                </a:lnTo>
                <a:lnTo>
                  <a:pt x="1450" y="1886"/>
                </a:lnTo>
                <a:lnTo>
                  <a:pt x="1447" y="1889"/>
                </a:lnTo>
                <a:lnTo>
                  <a:pt x="1445" y="1897"/>
                </a:lnTo>
                <a:lnTo>
                  <a:pt x="1436" y="1911"/>
                </a:lnTo>
                <a:lnTo>
                  <a:pt x="1426" y="1930"/>
                </a:lnTo>
                <a:lnTo>
                  <a:pt x="1412" y="1952"/>
                </a:lnTo>
                <a:lnTo>
                  <a:pt x="1399" y="1975"/>
                </a:lnTo>
                <a:lnTo>
                  <a:pt x="1383" y="2001"/>
                </a:lnTo>
                <a:lnTo>
                  <a:pt x="1367" y="2027"/>
                </a:lnTo>
                <a:lnTo>
                  <a:pt x="1369" y="1993"/>
                </a:lnTo>
                <a:lnTo>
                  <a:pt x="1375" y="1908"/>
                </a:lnTo>
                <a:lnTo>
                  <a:pt x="1377" y="1782"/>
                </a:lnTo>
                <a:lnTo>
                  <a:pt x="1377" y="1637"/>
                </a:lnTo>
                <a:lnTo>
                  <a:pt x="1367" y="1485"/>
                </a:lnTo>
                <a:lnTo>
                  <a:pt x="1345" y="1344"/>
                </a:lnTo>
                <a:lnTo>
                  <a:pt x="1307" y="1229"/>
                </a:lnTo>
                <a:lnTo>
                  <a:pt x="1251" y="1158"/>
                </a:lnTo>
                <a:lnTo>
                  <a:pt x="1251" y="1180"/>
                </a:lnTo>
                <a:lnTo>
                  <a:pt x="1246" y="1240"/>
                </a:lnTo>
                <a:lnTo>
                  <a:pt x="1240" y="1325"/>
                </a:lnTo>
                <a:lnTo>
                  <a:pt x="1232" y="1425"/>
                </a:lnTo>
                <a:lnTo>
                  <a:pt x="1219" y="1525"/>
                </a:lnTo>
                <a:lnTo>
                  <a:pt x="1205" y="1615"/>
                </a:lnTo>
                <a:lnTo>
                  <a:pt x="1186" y="1681"/>
                </a:lnTo>
                <a:lnTo>
                  <a:pt x="1162" y="1715"/>
                </a:lnTo>
                <a:lnTo>
                  <a:pt x="1165" y="1678"/>
                </a:lnTo>
                <a:lnTo>
                  <a:pt x="1170" y="1581"/>
                </a:lnTo>
                <a:lnTo>
                  <a:pt x="1173" y="1436"/>
                </a:lnTo>
                <a:lnTo>
                  <a:pt x="1162" y="1258"/>
                </a:lnTo>
                <a:lnTo>
                  <a:pt x="1138" y="1069"/>
                </a:lnTo>
                <a:lnTo>
                  <a:pt x="1092" y="883"/>
                </a:lnTo>
                <a:lnTo>
                  <a:pt x="1020" y="713"/>
                </a:lnTo>
                <a:lnTo>
                  <a:pt x="912" y="579"/>
                </a:lnTo>
                <a:lnTo>
                  <a:pt x="920" y="642"/>
                </a:lnTo>
                <a:lnTo>
                  <a:pt x="934" y="783"/>
                </a:lnTo>
                <a:lnTo>
                  <a:pt x="944" y="928"/>
                </a:lnTo>
                <a:lnTo>
                  <a:pt x="942" y="1010"/>
                </a:lnTo>
                <a:lnTo>
                  <a:pt x="928" y="972"/>
                </a:lnTo>
                <a:lnTo>
                  <a:pt x="893" y="880"/>
                </a:lnTo>
                <a:lnTo>
                  <a:pt x="845" y="742"/>
                </a:lnTo>
                <a:lnTo>
                  <a:pt x="788" y="579"/>
                </a:lnTo>
                <a:lnTo>
                  <a:pt x="732" y="404"/>
                </a:lnTo>
                <a:lnTo>
                  <a:pt x="681" y="241"/>
                </a:lnTo>
                <a:lnTo>
                  <a:pt x="646" y="100"/>
                </a:lnTo>
                <a:lnTo>
                  <a:pt x="630" y="0"/>
                </a:lnTo>
                <a:lnTo>
                  <a:pt x="624" y="15"/>
                </a:lnTo>
                <a:lnTo>
                  <a:pt x="614" y="52"/>
                </a:lnTo>
                <a:lnTo>
                  <a:pt x="600" y="115"/>
                </a:lnTo>
                <a:lnTo>
                  <a:pt x="587" y="204"/>
                </a:lnTo>
                <a:lnTo>
                  <a:pt x="579" y="319"/>
                </a:lnTo>
                <a:lnTo>
                  <a:pt x="573" y="456"/>
                </a:lnTo>
                <a:lnTo>
                  <a:pt x="581" y="620"/>
                </a:lnTo>
                <a:lnTo>
                  <a:pt x="600" y="802"/>
                </a:lnTo>
                <a:lnTo>
                  <a:pt x="592" y="791"/>
                </a:lnTo>
                <a:lnTo>
                  <a:pt x="573" y="768"/>
                </a:lnTo>
                <a:lnTo>
                  <a:pt x="544" y="731"/>
                </a:lnTo>
                <a:lnTo>
                  <a:pt x="511" y="687"/>
                </a:lnTo>
                <a:lnTo>
                  <a:pt x="471" y="642"/>
                </a:lnTo>
                <a:lnTo>
                  <a:pt x="433" y="601"/>
                </a:lnTo>
                <a:lnTo>
                  <a:pt x="401" y="564"/>
                </a:lnTo>
                <a:lnTo>
                  <a:pt x="372" y="538"/>
                </a:lnTo>
                <a:lnTo>
                  <a:pt x="377" y="568"/>
                </a:lnTo>
                <a:lnTo>
                  <a:pt x="385" y="646"/>
                </a:lnTo>
                <a:lnTo>
                  <a:pt x="398" y="761"/>
                </a:lnTo>
                <a:lnTo>
                  <a:pt x="409" y="898"/>
                </a:lnTo>
                <a:lnTo>
                  <a:pt x="417" y="1047"/>
                </a:lnTo>
                <a:lnTo>
                  <a:pt x="415" y="1191"/>
                </a:lnTo>
                <a:lnTo>
                  <a:pt x="401" y="1325"/>
                </a:lnTo>
                <a:lnTo>
                  <a:pt x="372" y="1425"/>
                </a:lnTo>
                <a:lnTo>
                  <a:pt x="369" y="1410"/>
                </a:lnTo>
                <a:lnTo>
                  <a:pt x="363" y="1377"/>
                </a:lnTo>
                <a:lnTo>
                  <a:pt x="353" y="1325"/>
                </a:lnTo>
                <a:lnTo>
                  <a:pt x="337" y="1262"/>
                </a:lnTo>
                <a:lnTo>
                  <a:pt x="307" y="1203"/>
                </a:lnTo>
                <a:lnTo>
                  <a:pt x="269" y="1143"/>
                </a:lnTo>
                <a:lnTo>
                  <a:pt x="218" y="1102"/>
                </a:lnTo>
                <a:lnTo>
                  <a:pt x="154" y="1076"/>
                </a:lnTo>
                <a:lnTo>
                  <a:pt x="159" y="1087"/>
                </a:lnTo>
                <a:lnTo>
                  <a:pt x="173" y="1125"/>
                </a:lnTo>
                <a:lnTo>
                  <a:pt x="189" y="1184"/>
                </a:lnTo>
                <a:lnTo>
                  <a:pt x="205" y="1269"/>
                </a:lnTo>
                <a:lnTo>
                  <a:pt x="218" y="1384"/>
                </a:lnTo>
                <a:lnTo>
                  <a:pt x="224" y="1529"/>
                </a:lnTo>
                <a:lnTo>
                  <a:pt x="218" y="1704"/>
                </a:lnTo>
                <a:lnTo>
                  <a:pt x="197" y="1911"/>
                </a:lnTo>
                <a:lnTo>
                  <a:pt x="194" y="1900"/>
                </a:lnTo>
                <a:lnTo>
                  <a:pt x="186" y="1871"/>
                </a:lnTo>
                <a:lnTo>
                  <a:pt x="173" y="1826"/>
                </a:lnTo>
                <a:lnTo>
                  <a:pt x="151" y="1778"/>
                </a:lnTo>
                <a:lnTo>
                  <a:pt x="124" y="1733"/>
                </a:lnTo>
                <a:lnTo>
                  <a:pt x="92" y="1696"/>
                </a:lnTo>
                <a:lnTo>
                  <a:pt x="49" y="1670"/>
                </a:lnTo>
                <a:lnTo>
                  <a:pt x="0" y="1670"/>
                </a:lnTo>
                <a:lnTo>
                  <a:pt x="6" y="1685"/>
                </a:lnTo>
                <a:lnTo>
                  <a:pt x="19" y="1718"/>
                </a:lnTo>
                <a:lnTo>
                  <a:pt x="38" y="1774"/>
                </a:lnTo>
                <a:lnTo>
                  <a:pt x="60" y="1845"/>
                </a:lnTo>
                <a:lnTo>
                  <a:pt x="78" y="1926"/>
                </a:lnTo>
                <a:lnTo>
                  <a:pt x="95" y="2012"/>
                </a:lnTo>
                <a:lnTo>
                  <a:pt x="105" y="2101"/>
                </a:lnTo>
                <a:lnTo>
                  <a:pt x="103" y="2186"/>
                </a:lnTo>
                <a:lnTo>
                  <a:pt x="97" y="2283"/>
                </a:lnTo>
                <a:lnTo>
                  <a:pt x="97" y="2398"/>
                </a:lnTo>
                <a:lnTo>
                  <a:pt x="105" y="2524"/>
                </a:lnTo>
                <a:lnTo>
                  <a:pt x="129" y="2654"/>
                </a:lnTo>
                <a:lnTo>
                  <a:pt x="167" y="2776"/>
                </a:lnTo>
                <a:lnTo>
                  <a:pt x="232" y="2884"/>
                </a:lnTo>
                <a:lnTo>
                  <a:pt x="318" y="2966"/>
                </a:lnTo>
                <a:lnTo>
                  <a:pt x="436" y="3018"/>
                </a:lnTo>
                <a:lnTo>
                  <a:pt x="501" y="3032"/>
                </a:lnTo>
                <a:lnTo>
                  <a:pt x="557" y="3044"/>
                </a:lnTo>
                <a:lnTo>
                  <a:pt x="608" y="3055"/>
                </a:lnTo>
                <a:lnTo>
                  <a:pt x="654" y="3062"/>
                </a:lnTo>
                <a:lnTo>
                  <a:pt x="697" y="3066"/>
                </a:lnTo>
                <a:lnTo>
                  <a:pt x="732" y="3070"/>
                </a:lnTo>
                <a:lnTo>
                  <a:pt x="764" y="3070"/>
                </a:lnTo>
                <a:lnTo>
                  <a:pt x="791" y="3070"/>
                </a:lnTo>
                <a:lnTo>
                  <a:pt x="815" y="3070"/>
                </a:lnTo>
                <a:lnTo>
                  <a:pt x="834" y="3070"/>
                </a:lnTo>
                <a:lnTo>
                  <a:pt x="848" y="3066"/>
                </a:lnTo>
                <a:lnTo>
                  <a:pt x="861" y="3066"/>
                </a:lnTo>
                <a:lnTo>
                  <a:pt x="869" y="3062"/>
                </a:lnTo>
                <a:lnTo>
                  <a:pt x="874" y="3062"/>
                </a:lnTo>
                <a:lnTo>
                  <a:pt x="880" y="30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110120" y="3408480"/>
            <a:ext cx="1127160" cy="2151000"/>
          </a:xfrm>
          <a:custGeom>
            <a:avLst/>
            <a:gdLst/>
            <a:ahLst/>
            <a:rect l="l" t="t" r="r" b="b"/>
            <a:pathLst>
              <a:path w="710" h="1355">
                <a:moveTo>
                  <a:pt x="368" y="1337"/>
                </a:moveTo>
                <a:lnTo>
                  <a:pt x="379" y="1326"/>
                </a:lnTo>
                <a:lnTo>
                  <a:pt x="411" y="1288"/>
                </a:lnTo>
                <a:lnTo>
                  <a:pt x="460" y="1229"/>
                </a:lnTo>
                <a:lnTo>
                  <a:pt x="516" y="1151"/>
                </a:lnTo>
                <a:lnTo>
                  <a:pt x="573" y="1055"/>
                </a:lnTo>
                <a:lnTo>
                  <a:pt x="629" y="947"/>
                </a:lnTo>
                <a:lnTo>
                  <a:pt x="678" y="824"/>
                </a:lnTo>
                <a:lnTo>
                  <a:pt x="710" y="695"/>
                </a:lnTo>
                <a:lnTo>
                  <a:pt x="705" y="702"/>
                </a:lnTo>
                <a:lnTo>
                  <a:pt x="688" y="724"/>
                </a:lnTo>
                <a:lnTo>
                  <a:pt x="667" y="750"/>
                </a:lnTo>
                <a:lnTo>
                  <a:pt x="643" y="784"/>
                </a:lnTo>
                <a:lnTo>
                  <a:pt x="616" y="810"/>
                </a:lnTo>
                <a:lnTo>
                  <a:pt x="589" y="836"/>
                </a:lnTo>
                <a:lnTo>
                  <a:pt x="567" y="843"/>
                </a:lnTo>
                <a:lnTo>
                  <a:pt x="551" y="839"/>
                </a:lnTo>
                <a:lnTo>
                  <a:pt x="557" y="832"/>
                </a:lnTo>
                <a:lnTo>
                  <a:pt x="570" y="813"/>
                </a:lnTo>
                <a:lnTo>
                  <a:pt x="589" y="780"/>
                </a:lnTo>
                <a:lnTo>
                  <a:pt x="610" y="735"/>
                </a:lnTo>
                <a:lnTo>
                  <a:pt x="629" y="676"/>
                </a:lnTo>
                <a:lnTo>
                  <a:pt x="645" y="605"/>
                </a:lnTo>
                <a:lnTo>
                  <a:pt x="653" y="520"/>
                </a:lnTo>
                <a:lnTo>
                  <a:pt x="651" y="424"/>
                </a:lnTo>
                <a:lnTo>
                  <a:pt x="643" y="438"/>
                </a:lnTo>
                <a:lnTo>
                  <a:pt x="621" y="476"/>
                </a:lnTo>
                <a:lnTo>
                  <a:pt x="589" y="531"/>
                </a:lnTo>
                <a:lnTo>
                  <a:pt x="551" y="598"/>
                </a:lnTo>
                <a:lnTo>
                  <a:pt x="511" y="661"/>
                </a:lnTo>
                <a:lnTo>
                  <a:pt x="476" y="724"/>
                </a:lnTo>
                <a:lnTo>
                  <a:pt x="444" y="769"/>
                </a:lnTo>
                <a:lnTo>
                  <a:pt x="425" y="795"/>
                </a:lnTo>
                <a:lnTo>
                  <a:pt x="433" y="772"/>
                </a:lnTo>
                <a:lnTo>
                  <a:pt x="449" y="713"/>
                </a:lnTo>
                <a:lnTo>
                  <a:pt x="471" y="624"/>
                </a:lnTo>
                <a:lnTo>
                  <a:pt x="487" y="513"/>
                </a:lnTo>
                <a:lnTo>
                  <a:pt x="495" y="386"/>
                </a:lnTo>
                <a:lnTo>
                  <a:pt x="487" y="253"/>
                </a:lnTo>
                <a:lnTo>
                  <a:pt x="454" y="123"/>
                </a:lnTo>
                <a:lnTo>
                  <a:pt x="393" y="0"/>
                </a:lnTo>
                <a:lnTo>
                  <a:pt x="395" y="19"/>
                </a:lnTo>
                <a:lnTo>
                  <a:pt x="398" y="71"/>
                </a:lnTo>
                <a:lnTo>
                  <a:pt x="403" y="149"/>
                </a:lnTo>
                <a:lnTo>
                  <a:pt x="406" y="242"/>
                </a:lnTo>
                <a:lnTo>
                  <a:pt x="401" y="349"/>
                </a:lnTo>
                <a:lnTo>
                  <a:pt x="390" y="461"/>
                </a:lnTo>
                <a:lnTo>
                  <a:pt x="368" y="572"/>
                </a:lnTo>
                <a:lnTo>
                  <a:pt x="333" y="672"/>
                </a:lnTo>
                <a:lnTo>
                  <a:pt x="328" y="661"/>
                </a:lnTo>
                <a:lnTo>
                  <a:pt x="315" y="639"/>
                </a:lnTo>
                <a:lnTo>
                  <a:pt x="296" y="602"/>
                </a:lnTo>
                <a:lnTo>
                  <a:pt x="272" y="553"/>
                </a:lnTo>
                <a:lnTo>
                  <a:pt x="247" y="505"/>
                </a:lnTo>
                <a:lnTo>
                  <a:pt x="226" y="461"/>
                </a:lnTo>
                <a:lnTo>
                  <a:pt x="210" y="416"/>
                </a:lnTo>
                <a:lnTo>
                  <a:pt x="202" y="383"/>
                </a:lnTo>
                <a:lnTo>
                  <a:pt x="199" y="401"/>
                </a:lnTo>
                <a:lnTo>
                  <a:pt x="191" y="446"/>
                </a:lnTo>
                <a:lnTo>
                  <a:pt x="183" y="513"/>
                </a:lnTo>
                <a:lnTo>
                  <a:pt x="177" y="598"/>
                </a:lnTo>
                <a:lnTo>
                  <a:pt x="177" y="695"/>
                </a:lnTo>
                <a:lnTo>
                  <a:pt x="188" y="791"/>
                </a:lnTo>
                <a:lnTo>
                  <a:pt x="212" y="884"/>
                </a:lnTo>
                <a:lnTo>
                  <a:pt x="255" y="969"/>
                </a:lnTo>
                <a:lnTo>
                  <a:pt x="250" y="969"/>
                </a:lnTo>
                <a:lnTo>
                  <a:pt x="231" y="969"/>
                </a:lnTo>
                <a:lnTo>
                  <a:pt x="207" y="958"/>
                </a:lnTo>
                <a:lnTo>
                  <a:pt x="175" y="936"/>
                </a:lnTo>
                <a:lnTo>
                  <a:pt x="137" y="888"/>
                </a:lnTo>
                <a:lnTo>
                  <a:pt x="97" y="810"/>
                </a:lnTo>
                <a:lnTo>
                  <a:pt x="56" y="698"/>
                </a:lnTo>
                <a:lnTo>
                  <a:pt x="16" y="546"/>
                </a:lnTo>
                <a:lnTo>
                  <a:pt x="11" y="572"/>
                </a:lnTo>
                <a:lnTo>
                  <a:pt x="5" y="643"/>
                </a:lnTo>
                <a:lnTo>
                  <a:pt x="0" y="743"/>
                </a:lnTo>
                <a:lnTo>
                  <a:pt x="5" y="865"/>
                </a:lnTo>
                <a:lnTo>
                  <a:pt x="24" y="995"/>
                </a:lnTo>
                <a:lnTo>
                  <a:pt x="67" y="1125"/>
                </a:lnTo>
                <a:lnTo>
                  <a:pt x="142" y="1240"/>
                </a:lnTo>
                <a:lnTo>
                  <a:pt x="250" y="1329"/>
                </a:lnTo>
                <a:lnTo>
                  <a:pt x="282" y="1344"/>
                </a:lnTo>
                <a:lnTo>
                  <a:pt x="309" y="1352"/>
                </a:lnTo>
                <a:lnTo>
                  <a:pt x="331" y="1355"/>
                </a:lnTo>
                <a:lnTo>
                  <a:pt x="347" y="1352"/>
                </a:lnTo>
                <a:lnTo>
                  <a:pt x="358" y="1348"/>
                </a:lnTo>
                <a:lnTo>
                  <a:pt x="363" y="1344"/>
                </a:lnTo>
                <a:lnTo>
                  <a:pt x="368" y="13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446720" y="5506920"/>
            <a:ext cx="371520" cy="82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92" name=""/>
          <p:cNvSpPr txBox="1"/>
          <p:nvPr/>
        </p:nvSpPr>
        <p:spPr>
          <a:xfrm>
            <a:off x="2819520" y="914400"/>
            <a:ext cx="3733560" cy="17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ffff"/>
                </a:solidFill>
                <a:effectLst>
                  <a:outerShdw dist="17819" dir="2700000" blurRad="0" rotWithShape="0">
                    <a:srgbClr val="990000"/>
                  </a:outerShdw>
                </a:effectLst>
                <a:latin typeface="Arial"/>
              </a:rPr>
              <a:t>Remember</a:t>
            </a:r>
            <a:endParaRPr b="0" lang="en-US" sz="1800" spc="1" strike="noStrike">
              <a:ln w="19080">
                <a:solidFill>
                  <a:srgbClr val="ffffff"/>
                </a:solidFill>
                <a:miter/>
              </a:ln>
              <a:solidFill>
                <a:srgbClr val="ffffff"/>
              </a:solidFill>
              <a:effectLst>
                <a:outerShdw dist="17819" dir="2700000" blurRad="0" rotWithShape="0">
                  <a:srgbClr val="990000"/>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ffff"/>
                </a:solidFill>
                <a:effectLst>
                  <a:outerShdw dist="17819" dir="2700000" blurRad="0" rotWithShape="0">
                    <a:srgbClr val="990000"/>
                  </a:outerShdw>
                </a:effectLst>
                <a:latin typeface="Arial"/>
              </a:rPr>
              <a:t>the</a:t>
            </a:r>
            <a:endParaRPr b="0" lang="en-US" sz="1800" spc="1" strike="noStrike">
              <a:ln w="19080">
                <a:solidFill>
                  <a:srgbClr val="ffffff"/>
                </a:solidFill>
                <a:miter/>
              </a:ln>
              <a:solidFill>
                <a:srgbClr val="ffffff"/>
              </a:solidFill>
              <a:effectLst>
                <a:outerShdw dist="17819" dir="2700000" blurRad="0" rotWithShape="0">
                  <a:srgbClr val="990000"/>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ffff"/>
                </a:solidFill>
                <a:effectLst>
                  <a:outerShdw dist="17819" dir="2700000" blurRad="0" rotWithShape="0">
                    <a:srgbClr val="990000"/>
                  </a:outerShdw>
                </a:effectLst>
                <a:latin typeface="Arial"/>
              </a:rPr>
              <a:t>"Firewall"</a:t>
            </a:r>
            <a:endParaRPr b="0" lang="en-US" sz="1800" spc="1" strike="noStrike">
              <a:ln w="19080">
                <a:solidFill>
                  <a:srgbClr val="ffffff"/>
                </a:solidFill>
                <a:miter/>
              </a:ln>
              <a:solidFill>
                <a:srgbClr val="ffffff"/>
              </a:solidFill>
              <a:effectLst>
                <a:outerShdw dist="17819" dir="2700000" blurRad="0" rotWithShape="0">
                  <a:srgbClr val="990000"/>
                </a:outerShdw>
              </a:effectLst>
              <a:latin typeface="Arial"/>
              <a:ea typeface="Arial"/>
            </a:endParaRPr>
          </a:p>
        </p:txBody>
      </p:sp>
      <p:pic>
        <p:nvPicPr>
          <p:cNvPr id="293" name="" descr=""/>
          <p:cNvPicPr/>
          <p:nvPr/>
        </p:nvPicPr>
        <p:blipFill>
          <a:blip r:embed="rId1"/>
          <a:stretch/>
        </p:blipFill>
        <p:spPr>
          <a:xfrm>
            <a:off x="6705720" y="1752480"/>
            <a:ext cx="2133360" cy="4267440"/>
          </a:xfrm>
          <a:prstGeom prst="rect">
            <a:avLst/>
          </a:prstGeom>
          <a:ln w="0">
            <a:noFill/>
          </a:ln>
        </p:spPr>
      </p:pic>
      <p:pic>
        <p:nvPicPr>
          <p:cNvPr id="294" name="" descr=""/>
          <p:cNvPicPr/>
          <p:nvPr/>
        </p:nvPicPr>
        <p:blipFill>
          <a:blip r:embed="rId2"/>
          <a:stretch/>
        </p:blipFill>
        <p:spPr>
          <a:xfrm>
            <a:off x="685800" y="1752480"/>
            <a:ext cx="1981080" cy="4334040"/>
          </a:xfrm>
          <a:prstGeom prst="rect">
            <a:avLst/>
          </a:prstGeom>
          <a:ln w="0">
            <a:noFill/>
          </a:ln>
        </p:spPr>
      </p:pic>
      <p:sp>
        <p:nvSpPr>
          <p:cNvPr id="2" name="PlaceHolder 1"/>
          <p:cNvSpPr>
            <a:spLocks noGrp="1"/>
          </p:cNvSpPr>
          <p:nvPr>
            <p:ph type="sldNum" idx="1"/>
          </p:nvPr>
        </p:nvSpPr>
        <p:spPr/>
        <p:txBody>
          <a:bodyPr/>
          <a:p>
            <a:fld id="{2F629246-83A4-4BCE-BC77-2D26FEC8C9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533160" y="1494000"/>
            <a:ext cx="739116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ys the group’s goals were m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deas you want to take back to yo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ntoring progra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uestion you still have. </a:t>
            </a:r>
            <a:endParaRPr b="0" lang="en-US" sz="2800" spc="-1" strike="noStrike">
              <a:solidFill>
                <a:srgbClr val="000000"/>
              </a:solidFill>
              <a:latin typeface="Arial"/>
            </a:endParaRPr>
          </a:p>
        </p:txBody>
      </p:sp>
      <p:pic>
        <p:nvPicPr>
          <p:cNvPr id="296" name="" descr=""/>
          <p:cNvPicPr/>
          <p:nvPr/>
        </p:nvPicPr>
        <p:blipFill>
          <a:blip r:embed="rId1"/>
          <a:stretch/>
        </p:blipFill>
        <p:spPr>
          <a:xfrm>
            <a:off x="7162920" y="228600"/>
            <a:ext cx="1850760" cy="3048120"/>
          </a:xfrm>
          <a:prstGeom prst="rect">
            <a:avLst/>
          </a:prstGeom>
          <a:ln w="0">
            <a:noFill/>
          </a:ln>
        </p:spPr>
      </p:pic>
      <p:sp>
        <p:nvSpPr>
          <p:cNvPr id="297" name=""/>
          <p:cNvSpPr txBox="1"/>
          <p:nvPr/>
        </p:nvSpPr>
        <p:spPr>
          <a:xfrm>
            <a:off x="838080" y="2057400"/>
            <a:ext cx="457200" cy="65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ff6600"/>
                  </a:solidFill>
                  <a:miter/>
                </a:ln>
                <a:solidFill>
                  <a:srgbClr val="cc99ff"/>
                </a:solidFill>
                <a:effectLst>
                  <a:outerShdw dist="17819" dir="2700000" blurRad="0" rotWithShape="0">
                    <a:srgbClr val="990000"/>
                  </a:outerShdw>
                </a:effectLst>
                <a:latin typeface="Arial"/>
              </a:rPr>
              <a:t>3</a:t>
            </a:r>
            <a:endParaRPr b="1" lang="en-US" sz="4000" spc="1" strike="noStrike">
              <a:ln w="19080">
                <a:solidFill>
                  <a:srgbClr val="ff6600"/>
                </a:solidFill>
                <a:miter/>
              </a:ln>
              <a:solidFill>
                <a:srgbClr val="cc99ff"/>
              </a:solidFill>
              <a:effectLst>
                <a:outerShdw dist="17819" dir="2700000" blurRad="0" rotWithShape="0">
                  <a:srgbClr val="990000"/>
                </a:outerShdw>
              </a:effectLst>
              <a:latin typeface="Arial"/>
              <a:ea typeface="Arial"/>
            </a:endParaRPr>
          </a:p>
        </p:txBody>
      </p:sp>
      <p:sp>
        <p:nvSpPr>
          <p:cNvPr id="298" name=""/>
          <p:cNvSpPr txBox="1"/>
          <p:nvPr/>
        </p:nvSpPr>
        <p:spPr>
          <a:xfrm>
            <a:off x="855720" y="3308400"/>
            <a:ext cx="457200" cy="65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ff6600"/>
                  </a:solidFill>
                  <a:miter/>
                </a:ln>
                <a:solidFill>
                  <a:srgbClr val="cc99ff"/>
                </a:solidFill>
                <a:effectLst>
                  <a:outerShdw dist="17819" dir="2700000" blurRad="0" rotWithShape="0">
                    <a:srgbClr val="990000"/>
                  </a:outerShdw>
                </a:effectLst>
                <a:latin typeface="Arial"/>
              </a:rPr>
              <a:t>2</a:t>
            </a:r>
            <a:endParaRPr b="1" lang="en-US" sz="4000" spc="1" strike="noStrike">
              <a:ln w="19080">
                <a:solidFill>
                  <a:srgbClr val="ff6600"/>
                </a:solidFill>
                <a:miter/>
              </a:ln>
              <a:solidFill>
                <a:srgbClr val="cc99ff"/>
              </a:solidFill>
              <a:effectLst>
                <a:outerShdw dist="17819" dir="2700000" blurRad="0" rotWithShape="0">
                  <a:srgbClr val="990000"/>
                </a:outerShdw>
              </a:effectLst>
              <a:latin typeface="Arial"/>
              <a:ea typeface="Arial"/>
            </a:endParaRPr>
          </a:p>
        </p:txBody>
      </p:sp>
      <p:sp>
        <p:nvSpPr>
          <p:cNvPr id="299" name=""/>
          <p:cNvSpPr txBox="1"/>
          <p:nvPr/>
        </p:nvSpPr>
        <p:spPr>
          <a:xfrm>
            <a:off x="838080" y="4648320"/>
            <a:ext cx="381240" cy="65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ff6600"/>
                  </a:solidFill>
                  <a:miter/>
                </a:ln>
                <a:solidFill>
                  <a:srgbClr val="cc99ff"/>
                </a:solidFill>
                <a:effectLst>
                  <a:outerShdw dist="17819" dir="2700000" blurRad="0" rotWithShape="0">
                    <a:srgbClr val="990000"/>
                  </a:outerShdw>
                </a:effectLst>
                <a:latin typeface="Arial"/>
              </a:rPr>
              <a:t>1</a:t>
            </a:r>
            <a:endParaRPr b="1" lang="en-US" sz="4000" spc="1" strike="noStrike">
              <a:ln w="19080">
                <a:solidFill>
                  <a:srgbClr val="ff6600"/>
                </a:solidFill>
                <a:miter/>
              </a:ln>
              <a:solidFill>
                <a:srgbClr val="cc99ff"/>
              </a:solidFill>
              <a:effectLst>
                <a:outerShdw dist="17819" dir="2700000" blurRad="0" rotWithShape="0">
                  <a:srgbClr val="990000"/>
                </a:outerShdw>
              </a:effectLst>
              <a:latin typeface="Arial"/>
              <a:ea typeface="Arial"/>
            </a:endParaRPr>
          </a:p>
        </p:txBody>
      </p:sp>
      <p:sp>
        <p:nvSpPr>
          <p:cNvPr id="300" name=""/>
          <p:cNvSpPr txBox="1"/>
          <p:nvPr/>
        </p:nvSpPr>
        <p:spPr>
          <a:xfrm>
            <a:off x="3378240" y="625320"/>
            <a:ext cx="1600200" cy="885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ff6600"/>
                  </a:solidFill>
                  <a:miter/>
                </a:ln>
                <a:solidFill>
                  <a:srgbClr val="cc99ff"/>
                </a:solidFill>
                <a:effectLst>
                  <a:outerShdw dist="17819" dir="2700000" blurRad="0" rotWithShape="0">
                    <a:srgbClr val="990000"/>
                  </a:outerShdw>
                </a:effectLst>
                <a:latin typeface="Arial"/>
              </a:rPr>
              <a:t>3 - </a:t>
            </a:r>
            <a:endParaRPr b="1" lang="en-US" sz="4000" spc="1" strike="noStrike">
              <a:ln w="19080">
                <a:solidFill>
                  <a:srgbClr val="ff6600"/>
                </a:solidFill>
                <a:miter/>
              </a:ln>
              <a:solidFill>
                <a:srgbClr val="cc99ff"/>
              </a:solidFill>
              <a:effectLst>
                <a:outerShdw dist="17819" dir="2700000" blurRad="0" rotWithShape="0">
                  <a:srgbClr val="990000"/>
                </a:outerShdw>
              </a:effectLst>
              <a:latin typeface="Arial"/>
              <a:ea typeface="Arial"/>
            </a:endParaRPr>
          </a:p>
        </p:txBody>
      </p:sp>
      <p:sp>
        <p:nvSpPr>
          <p:cNvPr id="301" name=""/>
          <p:cNvSpPr txBox="1"/>
          <p:nvPr/>
        </p:nvSpPr>
        <p:spPr>
          <a:xfrm>
            <a:off x="5105520" y="609480"/>
            <a:ext cx="1447560" cy="885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ff6600"/>
                  </a:solidFill>
                  <a:miter/>
                </a:ln>
                <a:solidFill>
                  <a:srgbClr val="cc99ff"/>
                </a:solidFill>
                <a:effectLst>
                  <a:outerShdw dist="17819" dir="2700000" blurRad="0" rotWithShape="0">
                    <a:srgbClr val="990000"/>
                  </a:outerShdw>
                </a:effectLst>
                <a:latin typeface="Arial"/>
              </a:rPr>
              <a:t>2 - </a:t>
            </a:r>
            <a:endParaRPr b="1" lang="en-US" sz="4000" spc="1" strike="noStrike">
              <a:ln w="19080">
                <a:solidFill>
                  <a:srgbClr val="ff6600"/>
                </a:solidFill>
                <a:miter/>
              </a:ln>
              <a:solidFill>
                <a:srgbClr val="cc99ff"/>
              </a:solidFill>
              <a:effectLst>
                <a:outerShdw dist="17819" dir="2700000" blurRad="0" rotWithShape="0">
                  <a:srgbClr val="990000"/>
                </a:outerShdw>
              </a:effectLst>
              <a:latin typeface="Arial"/>
              <a:ea typeface="Arial"/>
            </a:endParaRPr>
          </a:p>
        </p:txBody>
      </p:sp>
      <p:sp>
        <p:nvSpPr>
          <p:cNvPr id="302" name=""/>
          <p:cNvSpPr txBox="1"/>
          <p:nvPr/>
        </p:nvSpPr>
        <p:spPr>
          <a:xfrm>
            <a:off x="6324480" y="609480"/>
            <a:ext cx="1143000" cy="885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ff6600"/>
                  </a:solidFill>
                  <a:miter/>
                </a:ln>
                <a:solidFill>
                  <a:srgbClr val="cc99ff"/>
                </a:solidFill>
                <a:effectLst>
                  <a:outerShdw dist="17819" dir="2700000" blurRad="0" rotWithShape="0">
                    <a:srgbClr val="990000"/>
                  </a:outerShdw>
                </a:effectLst>
                <a:latin typeface="Arial"/>
              </a:rPr>
              <a:t>1 </a:t>
            </a:r>
            <a:endParaRPr b="1" lang="en-US" sz="4000" spc="1" strike="noStrike">
              <a:ln w="19080">
                <a:solidFill>
                  <a:srgbClr val="ff6600"/>
                </a:solidFill>
                <a:miter/>
              </a:ln>
              <a:solidFill>
                <a:srgbClr val="cc99ff"/>
              </a:solidFill>
              <a:effectLst>
                <a:outerShdw dist="17819" dir="2700000" blurRad="0" rotWithShape="0">
                  <a:srgbClr val="990000"/>
                </a:outerShdw>
              </a:effectLst>
              <a:latin typeface="Arial"/>
              <a:ea typeface="Arial"/>
            </a:endParaRPr>
          </a:p>
        </p:txBody>
      </p:sp>
      <p:sp>
        <p:nvSpPr>
          <p:cNvPr id="303" name=""/>
          <p:cNvSpPr/>
          <p:nvPr/>
        </p:nvSpPr>
        <p:spPr>
          <a:xfrm>
            <a:off x="5562720" y="4114800"/>
            <a:ext cx="3352680" cy="1556280"/>
          </a:xfrm>
          <a:prstGeom prst="rect">
            <a:avLst/>
          </a:prstGeom>
          <a:solidFill>
            <a:srgbClr val="cc99ff"/>
          </a:solidFill>
          <a:ln w="60480">
            <a:solidFill>
              <a:srgbClr val="ff6600"/>
            </a:solidFill>
            <a:prstDash val="sysDot"/>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summarize what we’ve done in Day 1.</a:t>
            </a:r>
            <a:endParaRPr b="0" lang="en-US" sz="3200" spc="-1" strike="noStrike">
              <a:solidFill>
                <a:srgbClr val="000000"/>
              </a:solidFill>
              <a:latin typeface="Arial"/>
            </a:endParaRPr>
          </a:p>
        </p:txBody>
      </p:sp>
      <p:sp>
        <p:nvSpPr>
          <p:cNvPr id="304" name=""/>
          <p:cNvSpPr txBox="1"/>
          <p:nvPr/>
        </p:nvSpPr>
        <p:spPr>
          <a:xfrm rot="20283000">
            <a:off x="534960" y="641520"/>
            <a:ext cx="2590920" cy="19047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cc99ff"/>
                  </a:solidFill>
                  <a:miter/>
                </a:ln>
                <a:solidFill>
                  <a:srgbClr val="ff6600"/>
                </a:solidFill>
                <a:latin typeface="Arial"/>
              </a:rPr>
              <a:t>Identify</a:t>
            </a:r>
            <a:endParaRPr b="1" lang="en-US" sz="1800" spc="1" strike="noStrike">
              <a:ln w="25560">
                <a:solidFill>
                  <a:srgbClr val="cc99ff"/>
                </a:solidFill>
                <a:miter/>
              </a:ln>
              <a:solidFill>
                <a:srgbClr val="ff6600"/>
              </a:solidFill>
              <a:latin typeface="Arial"/>
              <a:ea typeface="Arial"/>
            </a:endParaRPr>
          </a:p>
        </p:txBody>
      </p:sp>
      <p:pic>
        <p:nvPicPr>
          <p:cNvPr id="305" name="" descr=""/>
          <p:cNvPicPr/>
          <p:nvPr/>
        </p:nvPicPr>
        <p:blipFill>
          <a:blip r:embed="rId2"/>
          <a:stretch/>
        </p:blipFill>
        <p:spPr>
          <a:xfrm rot="1668600">
            <a:off x="4552560" y="5214960"/>
            <a:ext cx="1496880" cy="1600200"/>
          </a:xfrm>
          <a:prstGeom prst="rect">
            <a:avLst/>
          </a:prstGeom>
          <a:ln w="0">
            <a:noFill/>
          </a:ln>
        </p:spPr>
      </p:pic>
      <p:sp>
        <p:nvSpPr>
          <p:cNvPr id="3" name="PlaceHolder 2"/>
          <p:cNvSpPr>
            <a:spLocks noGrp="1"/>
          </p:cNvSpPr>
          <p:nvPr>
            <p:ph type="sldNum" idx="1"/>
          </p:nvPr>
        </p:nvSpPr>
        <p:spPr/>
        <p:txBody>
          <a:bodyPr/>
          <a:p>
            <a:fld id="{34F54D28-331F-4A0A-A295-8CA358043AC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510840" y="592200"/>
            <a:ext cx="8069400" cy="5526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i="1" lang="en-US" sz="3600" spc="-1" strike="noStrike">
                <a:solidFill>
                  <a:srgbClr val="000000"/>
                </a:solidFill>
                <a:latin typeface="Arial"/>
              </a:rPr>
              <a:t>“</a:t>
            </a:r>
            <a:r>
              <a:rPr b="0" i="1" lang="en-US" sz="3600" spc="-1" strike="noStrike">
                <a:solidFill>
                  <a:srgbClr val="000000"/>
                </a:solidFill>
                <a:latin typeface="Arial"/>
              </a:rPr>
              <a:t>Mentor programs help beginning teachers make a successful transition into teaching by relying on the expertise of veterans to provide a clinical, real-world training process.”</a:t>
            </a:r>
            <a:endParaRPr b="0" lang="en-US" sz="3600" spc="-1" strike="noStrike">
              <a:solidFill>
                <a:srgbClr val="000000"/>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Arial"/>
              </a:rPr>
              <a:t>Guidelines for Mentor Teacher Programs</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Arial"/>
              </a:rPr>
              <a:t>for Beginning and Experienced Teachers</a:t>
            </a:r>
            <a:r>
              <a:rPr b="0" lang="en-US" sz="2400" spc="-1" strike="noStrike">
                <a:solidFill>
                  <a:srgbClr val="3333ff"/>
                </a:solidFill>
                <a:latin typeface="Arial"/>
              </a:rPr>
              <a:t> </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	</a:t>
            </a:r>
            <a:r>
              <a:rPr b="0" lang="en-US" sz="2400" spc="-1" strike="noStrike">
                <a:solidFill>
                  <a:srgbClr val="3333ff"/>
                </a:solidFill>
                <a:latin typeface="Arial"/>
              </a:rPr>
              <a:t>June 22, 2000</a:t>
            </a:r>
            <a:endParaRPr b="0" lang="en-US" sz="2400" spc="-1" strike="noStrike">
              <a:solidFill>
                <a:srgbClr val="000000"/>
              </a:solidFill>
              <a:latin typeface="Arial"/>
            </a:endParaRPr>
          </a:p>
        </p:txBody>
      </p:sp>
      <p:pic>
        <p:nvPicPr>
          <p:cNvPr id="70" name="" descr=""/>
          <p:cNvPicPr/>
          <p:nvPr/>
        </p:nvPicPr>
        <p:blipFill>
          <a:blip r:embed="rId1"/>
          <a:stretch/>
        </p:blipFill>
        <p:spPr>
          <a:xfrm rot="18496800">
            <a:off x="696600" y="3951000"/>
            <a:ext cx="2489400" cy="2664000"/>
          </a:xfrm>
          <a:prstGeom prst="rect">
            <a:avLst/>
          </a:prstGeom>
          <a:ln w="0">
            <a:noFill/>
          </a:ln>
        </p:spPr>
      </p:pic>
      <p:sp>
        <p:nvSpPr>
          <p:cNvPr id="3" name="PlaceHolder 2"/>
          <p:cNvSpPr>
            <a:spLocks noGrp="1"/>
          </p:cNvSpPr>
          <p:nvPr>
            <p:ph type="sldNum" idx="1"/>
          </p:nvPr>
        </p:nvSpPr>
        <p:spPr/>
        <p:txBody>
          <a:bodyPr/>
          <a:p>
            <a:fld id="{2EB1F20D-1B80-4F33-BF8E-FC1CEDEE18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genda: Day 2</a:t>
            </a:r>
            <a:endParaRPr b="0" lang="en-US" sz="4800" spc="-1" strike="noStrike">
              <a:solidFill>
                <a:srgbClr val="000000"/>
              </a:solidFill>
              <a:latin typeface="Arial"/>
            </a:endParaRPr>
          </a:p>
        </p:txBody>
      </p:sp>
      <p:sp>
        <p:nvSpPr>
          <p:cNvPr id="307" name="PlaceHolder 2"/>
          <p:cNvSpPr>
            <a:spLocks noGrp="1"/>
          </p:cNvSpPr>
          <p:nvPr>
            <p:ph/>
          </p:nvPr>
        </p:nvSpPr>
        <p:spPr>
          <a:xfrm>
            <a:off x="385920" y="1270080"/>
            <a:ext cx="7984800" cy="49752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flections on Day 1</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aching Cycl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aling with Challenging Situation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endar of Mentoring Activitie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election Proces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Role of the Principal</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countability and Evaluation</a:t>
            </a:r>
            <a:endParaRPr b="0" lang="en-US" sz="3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08" name="" descr=""/>
          <p:cNvPicPr/>
          <p:nvPr/>
        </p:nvPicPr>
        <p:blipFill>
          <a:blip r:embed="rId1"/>
          <a:stretch/>
        </p:blipFill>
        <p:spPr>
          <a:xfrm>
            <a:off x="6838920" y="3433680"/>
            <a:ext cx="2027160" cy="2676600"/>
          </a:xfrm>
          <a:prstGeom prst="rect">
            <a:avLst/>
          </a:prstGeom>
          <a:ln w="0">
            <a:noFill/>
          </a:ln>
        </p:spPr>
      </p:pic>
      <p:sp>
        <p:nvSpPr>
          <p:cNvPr id="4" name="PlaceHolder 3"/>
          <p:cNvSpPr>
            <a:spLocks noGrp="1"/>
          </p:cNvSpPr>
          <p:nvPr>
            <p:ph type="sldNum" idx="1"/>
          </p:nvPr>
        </p:nvSpPr>
        <p:spPr/>
        <p:txBody>
          <a:bodyPr/>
          <a:p>
            <a:fld id="{A32EDA7B-7D7F-4141-8861-3A00D65116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0" y="-360"/>
            <a:ext cx="9144000" cy="11732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 Mentor Acrostic</a:t>
            </a:r>
            <a:endParaRPr b="0" lang="en-US" sz="4800" spc="-1" strike="noStrike">
              <a:solidFill>
                <a:srgbClr val="000000"/>
              </a:solidFill>
              <a:latin typeface="Arial"/>
            </a:endParaRPr>
          </a:p>
        </p:txBody>
      </p:sp>
      <p:sp>
        <p:nvSpPr>
          <p:cNvPr id="310" name="PlaceHolder 2"/>
          <p:cNvSpPr>
            <a:spLocks noGrp="1"/>
          </p:cNvSpPr>
          <p:nvPr>
            <p:ph/>
          </p:nvPr>
        </p:nvSpPr>
        <p:spPr>
          <a:xfrm>
            <a:off x="457200" y="1600200"/>
            <a:ext cx="4038480" cy="4525920"/>
          </a:xfrm>
          <a:prstGeom prst="rect">
            <a:avLst/>
          </a:prstGeom>
          <a:solidFill>
            <a:srgbClr val="ccccff"/>
          </a:solidFill>
          <a:ln w="31680">
            <a:solidFill>
              <a:srgbClr val="000000"/>
            </a:solidFill>
            <a:miter/>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
            </a:r>
            <a:endParaRPr b="0" lang="en-US" sz="4400" spc="-1" strike="noStrike">
              <a:solidFill>
                <a:srgbClr val="000000"/>
              </a:solidFill>
              <a:latin typeface="Arial"/>
            </a:endParaRPr>
          </a:p>
        </p:txBody>
      </p:sp>
      <p:pic>
        <p:nvPicPr>
          <p:cNvPr id="311" name="" descr=""/>
          <p:cNvPicPr/>
          <p:nvPr/>
        </p:nvPicPr>
        <p:blipFill>
          <a:blip r:embed="rId1"/>
          <a:stretch/>
        </p:blipFill>
        <p:spPr>
          <a:xfrm>
            <a:off x="4952880" y="1600200"/>
            <a:ext cx="3521160" cy="3049560"/>
          </a:xfrm>
          <a:prstGeom prst="rect">
            <a:avLst/>
          </a:prstGeom>
          <a:ln w="0">
            <a:noFill/>
          </a:ln>
        </p:spPr>
      </p:pic>
      <p:sp>
        <p:nvSpPr>
          <p:cNvPr id="312" name=""/>
          <p:cNvSpPr/>
          <p:nvPr/>
        </p:nvSpPr>
        <p:spPr>
          <a:xfrm>
            <a:off x="5029200" y="4800600"/>
            <a:ext cx="3429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st your acrosti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n the wall. Be prepared to share with the group.</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2B772-8262-47D0-94AD-E3AD2764A7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Coaching Cycle</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314" name="PlaceHolder 2"/>
          <p:cNvSpPr>
            <a:spLocks noGrp="1"/>
          </p:cNvSpPr>
          <p:nvPr>
            <p:ph/>
          </p:nvPr>
        </p:nvSpPr>
        <p:spPr>
          <a:xfrm>
            <a:off x="1062000" y="1722600"/>
            <a:ext cx="6997680" cy="25905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ge 1:  Pre-Observation</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ge 2:  Observation</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ge 3:  Post-Observation</a:t>
            </a:r>
            <a:endParaRPr b="0" lang="en-US" sz="4400" spc="-1" strike="noStrike">
              <a:solidFill>
                <a:srgbClr val="000000"/>
              </a:solidFill>
              <a:latin typeface="Arial"/>
            </a:endParaRPr>
          </a:p>
        </p:txBody>
      </p:sp>
      <p:pic>
        <p:nvPicPr>
          <p:cNvPr id="315" name="" descr=""/>
          <p:cNvPicPr/>
          <p:nvPr/>
        </p:nvPicPr>
        <p:blipFill>
          <a:blip r:embed="rId1"/>
          <a:stretch/>
        </p:blipFill>
        <p:spPr>
          <a:xfrm>
            <a:off x="3352680" y="4191120"/>
            <a:ext cx="2362320" cy="1874880"/>
          </a:xfrm>
          <a:prstGeom prst="rect">
            <a:avLst/>
          </a:prstGeom>
          <a:ln w="0">
            <a:noFill/>
          </a:ln>
        </p:spPr>
      </p:pic>
      <p:sp>
        <p:nvSpPr>
          <p:cNvPr id="4" name="PlaceHolder 3"/>
          <p:cNvSpPr>
            <a:spLocks noGrp="1"/>
          </p:cNvSpPr>
          <p:nvPr>
            <p:ph type="sldNum" idx="1"/>
          </p:nvPr>
        </p:nvSpPr>
        <p:spPr/>
        <p:txBody>
          <a:bodyPr/>
          <a:p>
            <a:fld id="{1166FE99-361B-4D58-86DB-4EF9FDDE1E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0" y="0"/>
            <a:ext cx="9144000" cy="156528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tage 1:</a:t>
            </a:r>
            <a:r>
              <a:rPr b="0" lang="en-US" sz="4500" spc="-1" strike="noStrike">
                <a:solidFill>
                  <a:srgbClr val="000000"/>
                </a:solidFill>
                <a:latin typeface="Arial"/>
              </a:rPr>
              <a:t> </a:t>
            </a:r>
            <a:br>
              <a:rPr sz="4500"/>
            </a:br>
            <a:r>
              <a:rPr b="1" i="1" lang="en-US" sz="4400" spc="-1" strike="noStrike">
                <a:solidFill>
                  <a:srgbClr val="000000"/>
                </a:solidFill>
                <a:latin typeface="Arial"/>
              </a:rPr>
              <a:t>Pre-Observation Conferenc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17" name="PlaceHolder 2"/>
          <p:cNvSpPr>
            <a:spLocks noGrp="1"/>
          </p:cNvSpPr>
          <p:nvPr>
            <p:ph/>
          </p:nvPr>
        </p:nvSpPr>
        <p:spPr>
          <a:xfrm>
            <a:off x="715680" y="1808280"/>
            <a:ext cx="7761240" cy="2590560"/>
          </a:xfrm>
          <a:prstGeom prst="rect">
            <a:avLst/>
          </a:prstGeom>
          <a:noFill/>
          <a:ln w="0">
            <a:noFill/>
          </a:ln>
        </p:spPr>
        <p:txBody>
          <a:bodyPr lIns="90000" rIns="90000" tIns="46800" bIns="46800" anchor="t">
            <a:normAutofit fontScale="97000"/>
          </a:bodyPr>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ainstorm in your table groups:</a:t>
            </a:r>
            <a:endParaRPr b="0" lang="en-US" sz="2800" spc="-1" strike="noStrike">
              <a:solidFill>
                <a:srgbClr val="000000"/>
              </a:solidFill>
              <a:latin typeface="Arial"/>
            </a:endParaRPr>
          </a:p>
          <a:p>
            <a:pPr marL="332640" indent="-3326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purpose of the pre-observation conference?</a:t>
            </a:r>
            <a:endParaRPr b="0" lang="en-US" sz="2600" spc="-1" strike="noStrike">
              <a:solidFill>
                <a:srgbClr val="000000"/>
              </a:solidFill>
              <a:latin typeface="Arial"/>
            </a:endParaRPr>
          </a:p>
          <a:p>
            <a:pPr marL="332640" indent="-3326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questions should you ask?</a:t>
            </a:r>
            <a:endParaRPr b="0" lang="en-US" sz="2600" spc="-1" strike="noStrike">
              <a:solidFill>
                <a:srgbClr val="000000"/>
              </a:solidFill>
              <a:latin typeface="Arial"/>
            </a:endParaRPr>
          </a:p>
          <a:p>
            <a:pPr marL="332640" indent="-3326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materials will you need to bring?</a:t>
            </a:r>
            <a:endParaRPr b="0" lang="en-US" sz="2600" spc="-1" strike="noStrike">
              <a:solidFill>
                <a:srgbClr val="000000"/>
              </a:solidFill>
              <a:latin typeface="Arial"/>
            </a:endParaRPr>
          </a:p>
          <a:p>
            <a:pPr marL="332640" indent="-33264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sues do you need to be sensitive about?</a:t>
            </a:r>
            <a:endParaRPr b="0" lang="en-US" sz="2600" spc="-1" strike="noStrike">
              <a:solidFill>
                <a:srgbClr val="000000"/>
              </a:solidFill>
              <a:latin typeface="Arial"/>
            </a:endParaRPr>
          </a:p>
        </p:txBody>
      </p:sp>
      <p:pic>
        <p:nvPicPr>
          <p:cNvPr id="318" name="" descr=""/>
          <p:cNvPicPr/>
          <p:nvPr/>
        </p:nvPicPr>
        <p:blipFill>
          <a:blip r:embed="rId1"/>
          <a:stretch/>
        </p:blipFill>
        <p:spPr>
          <a:xfrm>
            <a:off x="304920" y="4719600"/>
            <a:ext cx="1928520" cy="1531800"/>
          </a:xfrm>
          <a:prstGeom prst="rect">
            <a:avLst/>
          </a:prstGeom>
          <a:ln w="0">
            <a:noFill/>
          </a:ln>
        </p:spPr>
      </p:pic>
      <p:sp>
        <p:nvSpPr>
          <p:cNvPr id="319" name=""/>
          <p:cNvSpPr/>
          <p:nvPr/>
        </p:nvSpPr>
        <p:spPr>
          <a:xfrm>
            <a:off x="2419200" y="4724280"/>
            <a:ext cx="60566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 your table groups, develop 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eck-list for a Pre-Observ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nference with a beginning teach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e prepared to report ou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F7C2A-D287-4ADB-8490-0C451AC4F3F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360"/>
            <a:ext cx="9144000" cy="1600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tage 2:</a:t>
            </a:r>
            <a:r>
              <a:rPr b="0" lang="en-US" sz="4800" spc="-1" strike="noStrike">
                <a:solidFill>
                  <a:srgbClr val="000000"/>
                </a:solidFill>
                <a:latin typeface="Arial"/>
              </a:rPr>
              <a:t> </a:t>
            </a:r>
            <a:br>
              <a:rPr sz="4800"/>
            </a:br>
            <a:r>
              <a:rPr b="1" i="1" lang="en-US" sz="4400" spc="-1" strike="noStrike">
                <a:solidFill>
                  <a:srgbClr val="000000"/>
                </a:solidFill>
                <a:latin typeface="Arial"/>
              </a:rPr>
              <a:t>The Observation</a:t>
            </a:r>
            <a:endParaRPr b="0" lang="en-US" sz="4400" spc="-1" strike="noStrike">
              <a:solidFill>
                <a:srgbClr val="000000"/>
              </a:solidFill>
              <a:latin typeface="Arial"/>
            </a:endParaRPr>
          </a:p>
        </p:txBody>
      </p:sp>
      <p:sp>
        <p:nvSpPr>
          <p:cNvPr id="321" name="PlaceHolder 2"/>
          <p:cNvSpPr>
            <a:spLocks noGrp="1"/>
          </p:cNvSpPr>
          <p:nvPr>
            <p:ph/>
          </p:nvPr>
        </p:nvSpPr>
        <p:spPr>
          <a:xfrm>
            <a:off x="428760" y="1851120"/>
            <a:ext cx="8240400" cy="2590560"/>
          </a:xfrm>
          <a:prstGeom prst="rect">
            <a:avLst/>
          </a:prstGeom>
          <a:noFill/>
          <a:ln w="0">
            <a:noFill/>
          </a:ln>
        </p:spPr>
        <p:txBody>
          <a:bodyPr lIns="90000" rIns="90000" tIns="46800" bIns="46800" anchor="t">
            <a:normAutofit fontScale="94000"/>
          </a:bodyPr>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member:</a:t>
            </a:r>
            <a:endParaRPr b="0" lang="en-US" sz="3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are a silent observer.</a:t>
            </a:r>
            <a:endParaRPr b="0" lang="en-US" sz="32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nor the pre-observation Conference decisions/focus.</a:t>
            </a:r>
            <a:endParaRPr b="0" lang="en-US" sz="32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llect evidence! Evidence! Evidence!</a:t>
            </a:r>
            <a:endParaRPr b="0" lang="en-US" sz="3200" spc="-1" strike="noStrike">
              <a:solidFill>
                <a:srgbClr val="000000"/>
              </a:solidFill>
              <a:latin typeface="Arial"/>
            </a:endParaRPr>
          </a:p>
        </p:txBody>
      </p:sp>
      <p:pic>
        <p:nvPicPr>
          <p:cNvPr id="322" name="" descr=""/>
          <p:cNvPicPr/>
          <p:nvPr/>
        </p:nvPicPr>
        <p:blipFill>
          <a:blip r:embed="rId1"/>
          <a:stretch/>
        </p:blipFill>
        <p:spPr>
          <a:xfrm>
            <a:off x="3449520" y="4605480"/>
            <a:ext cx="2195640" cy="1741320"/>
          </a:xfrm>
          <a:prstGeom prst="rect">
            <a:avLst/>
          </a:prstGeom>
          <a:ln w="0">
            <a:noFill/>
          </a:ln>
        </p:spPr>
      </p:pic>
      <p:sp>
        <p:nvSpPr>
          <p:cNvPr id="4" name="PlaceHolder 3"/>
          <p:cNvSpPr>
            <a:spLocks noGrp="1"/>
          </p:cNvSpPr>
          <p:nvPr>
            <p:ph type="sldNum" idx="1"/>
          </p:nvPr>
        </p:nvSpPr>
        <p:spPr/>
        <p:txBody>
          <a:bodyPr/>
          <a:p>
            <a:fld id="{E3EB5729-39AB-4C4F-9509-D0131D589D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360"/>
            <a:ext cx="9144000" cy="16002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tage 3:</a:t>
            </a:r>
            <a:r>
              <a:rPr b="0" lang="en-US" sz="4800" spc="-1" strike="noStrike">
                <a:solidFill>
                  <a:srgbClr val="000000"/>
                </a:solidFill>
                <a:latin typeface="Arial"/>
              </a:rPr>
              <a:t> </a:t>
            </a:r>
            <a:br>
              <a:rPr sz="4800"/>
            </a:br>
            <a:r>
              <a:rPr b="1" i="1" lang="en-US" sz="4400" spc="-1" strike="noStrike">
                <a:solidFill>
                  <a:srgbClr val="000000"/>
                </a:solidFill>
                <a:latin typeface="Arial"/>
              </a:rPr>
              <a:t>Post-Observation Conferenc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24" name="PlaceHolder 2"/>
          <p:cNvSpPr>
            <a:spLocks noGrp="1"/>
          </p:cNvSpPr>
          <p:nvPr>
            <p:ph/>
          </p:nvPr>
        </p:nvSpPr>
        <p:spPr>
          <a:xfrm>
            <a:off x="419040" y="1802880"/>
            <a:ext cx="8275680" cy="3537000"/>
          </a:xfrm>
          <a:prstGeom prst="rect">
            <a:avLst/>
          </a:prstGeom>
          <a:noFill/>
          <a:ln w="0">
            <a:noFill/>
          </a:ln>
        </p:spPr>
        <p:txBody>
          <a:bodyPr lIns="90000" rIns="90000" tIns="46800" bIns="46800" anchor="t">
            <a:normAutofit fontScale="98000"/>
          </a:bodyPr>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t-observation conferences should be:</a:t>
            </a:r>
            <a:endParaRPr b="0" lang="en-US" sz="3200" spc="-1" strike="noStrike">
              <a:solidFill>
                <a:srgbClr val="000000"/>
              </a:solidFill>
              <a:latin typeface="Arial"/>
            </a:endParaRPr>
          </a:p>
          <a:p>
            <a:pPr marL="335880" indent="-3358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ly!</a:t>
            </a:r>
            <a:endParaRPr b="0" lang="en-US" sz="2400" spc="-1" strike="noStrike">
              <a:solidFill>
                <a:srgbClr val="000000"/>
              </a:solidFill>
              <a:latin typeface="Arial"/>
            </a:endParaRPr>
          </a:p>
          <a:p>
            <a:pPr marL="335880" indent="-3358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dential</a:t>
            </a:r>
            <a:endParaRPr b="0" lang="en-US" sz="2400" spc="-1" strike="noStrike">
              <a:solidFill>
                <a:srgbClr val="000000"/>
              </a:solidFill>
              <a:latin typeface="Arial"/>
            </a:endParaRPr>
          </a:p>
          <a:p>
            <a:pPr marL="335880" indent="-3358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ed on evidence collected</a:t>
            </a:r>
            <a:endParaRPr b="0" lang="en-US" sz="2400" spc="-1" strike="noStrike">
              <a:solidFill>
                <a:srgbClr val="000000"/>
              </a:solidFill>
              <a:latin typeface="Arial"/>
            </a:endParaRPr>
          </a:p>
          <a:p>
            <a:pPr marL="335880" indent="-3358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evaluative/non-judgmental</a:t>
            </a:r>
            <a:endParaRPr b="0" lang="en-US" sz="2400" spc="-1" strike="noStrike">
              <a:solidFill>
                <a:srgbClr val="000000"/>
              </a:solidFill>
              <a:latin typeface="Arial"/>
            </a:endParaRPr>
          </a:p>
          <a:p>
            <a:pPr marL="335880" indent="-3358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for the beginning teacher</a:t>
            </a:r>
            <a:endParaRPr b="0" lang="en-US" sz="2400" spc="-1" strike="noStrike">
              <a:solidFill>
                <a:srgbClr val="000000"/>
              </a:solidFill>
              <a:latin typeface="Arial"/>
            </a:endParaRPr>
          </a:p>
          <a:p>
            <a:pPr marL="335880" indent="-335880">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ed to promote growth for the beginning teacher</a:t>
            </a:r>
            <a:endParaRPr b="0" lang="en-US" sz="2400" spc="-1" strike="noStrike">
              <a:solidFill>
                <a:srgbClr val="000000"/>
              </a:solidFill>
              <a:latin typeface="Arial"/>
            </a:endParaRPr>
          </a:p>
        </p:txBody>
      </p:sp>
      <p:pic>
        <p:nvPicPr>
          <p:cNvPr id="325" name="" descr=""/>
          <p:cNvPicPr/>
          <p:nvPr/>
        </p:nvPicPr>
        <p:blipFill>
          <a:blip r:embed="rId1"/>
          <a:stretch/>
        </p:blipFill>
        <p:spPr>
          <a:xfrm>
            <a:off x="3886200" y="5562720"/>
            <a:ext cx="1143000" cy="906480"/>
          </a:xfrm>
          <a:prstGeom prst="rect">
            <a:avLst/>
          </a:prstGeom>
          <a:ln w="0">
            <a:noFill/>
          </a:ln>
        </p:spPr>
      </p:pic>
      <p:sp>
        <p:nvSpPr>
          <p:cNvPr id="4" name="PlaceHolder 3"/>
          <p:cNvSpPr>
            <a:spLocks noGrp="1"/>
          </p:cNvSpPr>
          <p:nvPr>
            <p:ph type="sldNum" idx="1"/>
          </p:nvPr>
        </p:nvSpPr>
        <p:spPr/>
        <p:txBody>
          <a:bodyPr/>
          <a:p>
            <a:fld id="{CCB0DC91-0AAC-4E46-9DC8-C75C1156FB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0" y="-360"/>
            <a:ext cx="9144000" cy="15685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Coaching Cycle:</a:t>
            </a:r>
            <a:br>
              <a:rPr sz="4800"/>
            </a:br>
            <a:r>
              <a:rPr b="1" i="1" lang="en-US" sz="4400" spc="-1" strike="noStrike">
                <a:solidFill>
                  <a:srgbClr val="000000"/>
                </a:solidFill>
                <a:latin typeface="Arial"/>
              </a:rPr>
              <a:t>Putting It All Together</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327" name="PlaceHolder 2"/>
          <p:cNvSpPr>
            <a:spLocks noGrp="1"/>
          </p:cNvSpPr>
          <p:nvPr>
            <p:ph/>
          </p:nvPr>
        </p:nvSpPr>
        <p:spPr>
          <a:xfrm>
            <a:off x="4079880" y="1959120"/>
            <a:ext cx="4160880" cy="23191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 Case Study #1.</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ly analyze th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servation data and, as a tabl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p, generate questions you</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ght ask the beginning teach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post observation</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erence.</a:t>
            </a:r>
            <a:endParaRPr b="0" lang="en-US" sz="2000" spc="-1" strike="noStrike">
              <a:solidFill>
                <a:srgbClr val="000000"/>
              </a:solidFill>
              <a:latin typeface="Arial"/>
            </a:endParaRPr>
          </a:p>
        </p:txBody>
      </p:sp>
      <p:sp>
        <p:nvSpPr>
          <p:cNvPr id="328" name=""/>
          <p:cNvSpPr/>
          <p:nvPr/>
        </p:nvSpPr>
        <p:spPr>
          <a:xfrm rot="20784600">
            <a:off x="577800" y="2003400"/>
            <a:ext cx="3737160" cy="417204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rot="20830200">
            <a:off x="1428480" y="3201840"/>
            <a:ext cx="2465280" cy="2835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Tomaree is a first-year teacher who completed a fifth-year teacher preparation program.  Her background is in secondary social studies education, and she</a:t>
            </a:r>
            <a:r>
              <a:rPr b="0" i="1" lang="en-US" sz="1000" spc="-1" strike="noStrike">
                <a:solidFill>
                  <a:srgbClr val="000000"/>
                </a:solidFill>
                <a:latin typeface="Arial"/>
              </a:rPr>
              <a:t> </a:t>
            </a:r>
            <a:r>
              <a:rPr b="1" i="1" lang="en-US" sz="1000" spc="-1" strike="noStrike">
                <a:solidFill>
                  <a:srgbClr val="000000"/>
                </a:solidFill>
                <a:latin typeface="Arial"/>
              </a:rPr>
              <a:t>hopes to one day be a high school history teacher.  She is teaching in a brand new middle school, recently opened by a</a:t>
            </a:r>
            <a:r>
              <a:rPr b="0" i="1" lang="en-US" sz="1000" spc="-1" strike="noStrike">
                <a:solidFill>
                  <a:srgbClr val="000000"/>
                </a:solidFill>
                <a:latin typeface="Arial"/>
              </a:rPr>
              <a:t> </a:t>
            </a:r>
            <a:r>
              <a:rPr b="1" i="1" lang="en-US" sz="1000" spc="-1" strike="noStrike">
                <a:solidFill>
                  <a:srgbClr val="000000"/>
                </a:solidFill>
                <a:latin typeface="Arial"/>
              </a:rPr>
              <a:t>large suburban school district that serves students from a wide range of socio-economic backgrounds.   At the time of this observation,</a:t>
            </a:r>
            <a:r>
              <a:rPr b="0" i="1" lang="en-US" sz="1000" spc="-1" strike="noStrike">
                <a:solidFill>
                  <a:srgbClr val="000000"/>
                </a:solidFill>
                <a:latin typeface="Arial"/>
              </a:rPr>
              <a:t> </a:t>
            </a:r>
            <a:r>
              <a:rPr b="1" i="1" lang="en-US" sz="1000" spc="-1" strike="noStrike">
                <a:solidFill>
                  <a:srgbClr val="000000"/>
                </a:solidFill>
                <a:latin typeface="Arial"/>
              </a:rPr>
              <a:t>Tomaree has been teaching for approximately three weeks and this is her first formal observation by her mentor.  Her classes meet for 90-minute blocks.  The class . . .</a:t>
            </a:r>
            <a:endParaRPr b="0" lang="en-US" sz="1000" spc="-1" strike="noStrike">
              <a:solidFill>
                <a:srgbClr val="000000"/>
              </a:solidFill>
              <a:latin typeface="Arial"/>
            </a:endParaRPr>
          </a:p>
        </p:txBody>
      </p:sp>
      <p:grpSp>
        <p:nvGrpSpPr>
          <p:cNvPr id="330" name=""/>
          <p:cNvGrpSpPr/>
          <p:nvPr/>
        </p:nvGrpSpPr>
        <p:grpSpPr>
          <a:xfrm>
            <a:off x="1053000" y="2331000"/>
            <a:ext cx="2331000" cy="1032120"/>
            <a:chOff x="1053000" y="2331000"/>
            <a:chExt cx="2331000" cy="1032120"/>
          </a:xfrm>
        </p:grpSpPr>
        <p:sp>
          <p:nvSpPr>
            <p:cNvPr id="331" name=""/>
            <p:cNvSpPr/>
            <p:nvPr/>
          </p:nvSpPr>
          <p:spPr>
            <a:xfrm rot="20816400">
              <a:off x="1083600" y="2580120"/>
              <a:ext cx="2269080" cy="5331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se Study #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ive Scrip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pic>
        <p:nvPicPr>
          <p:cNvPr id="332" name="" descr=""/>
          <p:cNvPicPr/>
          <p:nvPr/>
        </p:nvPicPr>
        <p:blipFill>
          <a:blip r:embed="rId1"/>
          <a:stretch/>
        </p:blipFill>
        <p:spPr>
          <a:xfrm>
            <a:off x="6629400" y="4038480"/>
            <a:ext cx="2190600" cy="1692360"/>
          </a:xfrm>
          <a:prstGeom prst="rect">
            <a:avLst/>
          </a:prstGeom>
          <a:ln w="0">
            <a:noFill/>
          </a:ln>
        </p:spPr>
      </p:pic>
      <p:sp>
        <p:nvSpPr>
          <p:cNvPr id="333" name=""/>
          <p:cNvSpPr/>
          <p:nvPr/>
        </p:nvSpPr>
        <p:spPr>
          <a:xfrm>
            <a:off x="4267080" y="4876920"/>
            <a:ext cx="2362320" cy="533160"/>
          </a:xfrm>
          <a:custGeom>
            <a:avLst/>
            <a:gdLst>
              <a:gd name="textAreaLeft" fmla="*/ 369000 w 2362320"/>
              <a:gd name="textAreaRight" fmla="*/ 2067120 w 236232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B4DCC-7F03-4D7C-B461-9BAB1EE5812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5476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Coaching Cycle: </a:t>
            </a:r>
            <a:br>
              <a:rPr sz="4800"/>
            </a:br>
            <a:r>
              <a:rPr b="1" i="1" lang="en-US" sz="4400" spc="-1" strike="noStrike">
                <a:solidFill>
                  <a:srgbClr val="000000"/>
                </a:solidFill>
                <a:latin typeface="Arial"/>
              </a:rPr>
              <a:t>Putting It All Together</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335" name="PlaceHolder 2"/>
          <p:cNvSpPr>
            <a:spLocks noGrp="1"/>
          </p:cNvSpPr>
          <p:nvPr>
            <p:ph/>
          </p:nvPr>
        </p:nvSpPr>
        <p:spPr>
          <a:xfrm>
            <a:off x="456840" y="1752480"/>
            <a:ext cx="8077320" cy="2819520"/>
          </a:xfrm>
          <a:prstGeom prst="rect">
            <a:avLst/>
          </a:prstGeom>
          <a:noFill/>
          <a:ln w="0">
            <a:noFill/>
          </a:ln>
        </p:spPr>
        <p:txBody>
          <a:bodyPr lIns="90000" rIns="90000" tIns="46800" bIns="46800"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case study provided. Role play a post-</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ation conference based on the information.</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o:</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linguistic skills of mentoring</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the evidence</a:t>
            </a:r>
            <a:endParaRPr b="0" lang="en-US" sz="2400" spc="-1" strike="noStrike">
              <a:solidFill>
                <a:srgbClr val="000000"/>
              </a:solidFill>
              <a:latin typeface="Arial"/>
            </a:endParaRPr>
          </a:p>
          <a:p>
            <a:pPr marL="294840" indent="-294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t least one goal for                          professional growth</a:t>
            </a:r>
            <a:endParaRPr b="0"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336" name=""/>
          <p:cNvGraphicFramePr/>
          <p:nvPr/>
        </p:nvGraphicFramePr>
        <p:xfrm>
          <a:off x="1905120" y="5181480"/>
          <a:ext cx="4647600" cy="1249200"/>
        </p:xfrm>
        <a:graphic>
          <a:graphicData uri="http://schemas.openxmlformats.org/drawingml/2006/table">
            <a:tbl>
              <a:tblPr/>
              <a:tblGrid>
                <a:gridCol w="1549080"/>
                <a:gridCol w="1549440"/>
                <a:gridCol w="1549080"/>
              </a:tblGrid>
              <a:tr h="393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e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87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nd 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 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nd 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 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 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37" name=""/>
          <p:cNvGrpSpPr/>
          <p:nvPr/>
        </p:nvGrpSpPr>
        <p:grpSpPr>
          <a:xfrm>
            <a:off x="6336360" y="2689920"/>
            <a:ext cx="2274480" cy="2366640"/>
            <a:chOff x="6336360" y="2689920"/>
            <a:chExt cx="2274480" cy="2366640"/>
          </a:xfrm>
        </p:grpSpPr>
        <p:sp>
          <p:nvSpPr>
            <p:cNvPr id="338" name="Puzzle3"/>
            <p:cNvSpPr/>
            <p:nvPr/>
          </p:nvSpPr>
          <p:spPr>
            <a:xfrm rot="760800">
              <a:off x="7535880" y="2771280"/>
              <a:ext cx="885960" cy="128340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Puzzle2"/>
            <p:cNvSpPr/>
            <p:nvPr/>
          </p:nvSpPr>
          <p:spPr>
            <a:xfrm rot="760800">
              <a:off x="7085520" y="3686040"/>
              <a:ext cx="1414080" cy="116856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Puzzle4"/>
            <p:cNvSpPr/>
            <p:nvPr/>
          </p:nvSpPr>
          <p:spPr>
            <a:xfrm rot="760800">
              <a:off x="6525720" y="3486600"/>
              <a:ext cx="852480" cy="149436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Puzzle1"/>
            <p:cNvSpPr/>
            <p:nvPr/>
          </p:nvSpPr>
          <p:spPr>
            <a:xfrm rot="760800">
              <a:off x="6416280" y="2973600"/>
              <a:ext cx="1431720" cy="89064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7BC6059E-21CB-48A4-9A9C-311FF1AA4B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60"/>
            <a:ext cx="91440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at if …</a:t>
            </a:r>
            <a:endParaRPr b="0" lang="en-US" sz="4800" spc="-1" strike="noStrike">
              <a:solidFill>
                <a:srgbClr val="000000"/>
              </a:solidFill>
              <a:latin typeface="Arial"/>
            </a:endParaRPr>
          </a:p>
        </p:txBody>
      </p:sp>
      <p:sp>
        <p:nvSpPr>
          <p:cNvPr id="343" name="PlaceHolder 2"/>
          <p:cNvSpPr>
            <a:spLocks noGrp="1"/>
          </p:cNvSpPr>
          <p:nvPr>
            <p:ph/>
          </p:nvPr>
        </p:nvSpPr>
        <p:spPr>
          <a:xfrm>
            <a:off x="247320" y="1456920"/>
            <a:ext cx="8629560" cy="4869000"/>
          </a:xfrm>
          <a:prstGeom prst="rect">
            <a:avLst/>
          </a:prstGeom>
          <a:noFill/>
          <a:ln w="0">
            <a:noFill/>
          </a:ln>
        </p:spPr>
        <p:txBody>
          <a:bodyPr lIns="90000" rIns="90000" tIns="46800" bIns="46800" anchor="t">
            <a:normAutofit fontScale="96000"/>
          </a:bodyPr>
          <a:p>
            <a:pPr marL="329040" indent="-329040">
              <a:spcAft>
                <a:spcPts val="3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your beginning teacher refuses your assistance.</a:t>
            </a:r>
            <a:endParaRPr b="0" lang="en-US" sz="2600" spc="-1" strike="noStrike">
              <a:solidFill>
                <a:srgbClr val="000000"/>
              </a:solidFill>
              <a:latin typeface="Arial"/>
            </a:endParaRPr>
          </a:p>
          <a:p>
            <a:pPr marL="329040" indent="-329040">
              <a:spcAft>
                <a:spcPts val="3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you go to observe and the classroom is totally out of control?</a:t>
            </a:r>
            <a:endParaRPr b="0" lang="en-US" sz="2600" spc="-1" strike="noStrike">
              <a:solidFill>
                <a:srgbClr val="000000"/>
              </a:solidFill>
              <a:latin typeface="Arial"/>
            </a:endParaRPr>
          </a:p>
          <a:p>
            <a:pPr marL="329040" indent="-329040">
              <a:spcAft>
                <a:spcPts val="3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you see no improvement in the beginning teacher’s practice despite repeated discussions?</a:t>
            </a:r>
            <a:endParaRPr b="0" lang="en-US" sz="2600" spc="-1" strike="noStrike">
              <a:solidFill>
                <a:srgbClr val="000000"/>
              </a:solidFill>
              <a:latin typeface="Arial"/>
            </a:endParaRPr>
          </a:p>
          <a:p>
            <a:pPr marL="329040" indent="-329040">
              <a:spcAft>
                <a:spcPts val="3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your beginning teacher is not following school/district policy?</a:t>
            </a:r>
            <a:endParaRPr b="0" lang="en-US" sz="2600" spc="-1" strike="noStrike">
              <a:solidFill>
                <a:srgbClr val="000000"/>
              </a:solidFill>
              <a:latin typeface="Arial"/>
            </a:endParaRPr>
          </a:p>
          <a:p>
            <a:pPr marL="329040" indent="-329040">
              <a:spcAft>
                <a:spcPts val="3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an administrator comes to you and suggests that you work on a particular thing with your beginning teacher?</a:t>
            </a:r>
            <a:endParaRPr b="0" lang="en-US" sz="2600" spc="-1" strike="noStrike">
              <a:solidFill>
                <a:srgbClr val="000000"/>
              </a:solidFill>
              <a:latin typeface="Arial"/>
            </a:endParaRPr>
          </a:p>
          <a:p>
            <a:pPr marL="329040" indent="-329040">
              <a:spcAft>
                <a:spcPts val="32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your beginning teacher is dressing or acting unprofessionally.</a:t>
            </a:r>
            <a:endParaRPr b="0" lang="en-US" sz="2600" spc="-1" strike="noStrike">
              <a:solidFill>
                <a:srgbClr val="000000"/>
              </a:solidFill>
              <a:latin typeface="Arial"/>
            </a:endParaRPr>
          </a:p>
        </p:txBody>
      </p:sp>
      <p:pic>
        <p:nvPicPr>
          <p:cNvPr id="344" name="" descr=""/>
          <p:cNvPicPr/>
          <p:nvPr/>
        </p:nvPicPr>
        <p:blipFill>
          <a:blip r:embed="rId1"/>
          <a:stretch/>
        </p:blipFill>
        <p:spPr>
          <a:xfrm>
            <a:off x="755640" y="316080"/>
            <a:ext cx="1600200" cy="1118880"/>
          </a:xfrm>
          <a:prstGeom prst="rect">
            <a:avLst/>
          </a:prstGeom>
          <a:ln w="0">
            <a:noFill/>
          </a:ln>
        </p:spPr>
      </p:pic>
      <p:sp>
        <p:nvSpPr>
          <p:cNvPr id="4" name="PlaceHolder 3"/>
          <p:cNvSpPr>
            <a:spLocks noGrp="1"/>
          </p:cNvSpPr>
          <p:nvPr>
            <p:ph type="sldNum" idx="1"/>
          </p:nvPr>
        </p:nvSpPr>
        <p:spPr/>
        <p:txBody>
          <a:bodyPr/>
          <a:p>
            <a:fld id="{CE949EBE-0E12-418B-90FE-A031EB7C9E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0" y="-360"/>
            <a:ext cx="9144000" cy="109692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lendar of Mentoring Activities</a:t>
            </a:r>
            <a:endParaRPr b="0" lang="en-US" sz="4400" spc="-1" strike="noStrike">
              <a:solidFill>
                <a:srgbClr val="000000"/>
              </a:solidFill>
              <a:latin typeface="Arial"/>
            </a:endParaRPr>
          </a:p>
        </p:txBody>
      </p:sp>
      <p:graphicFrame>
        <p:nvGraphicFramePr>
          <p:cNvPr id="346" name=""/>
          <p:cNvGraphicFramePr/>
          <p:nvPr/>
        </p:nvGraphicFramePr>
        <p:xfrm>
          <a:off x="533520" y="1600200"/>
          <a:ext cx="8152560" cy="4525920"/>
        </p:xfrm>
        <a:graphic>
          <a:graphicData uri="http://schemas.openxmlformats.org/drawingml/2006/table">
            <a:tbl>
              <a:tblPr/>
              <a:tblGrid>
                <a:gridCol w="2717280"/>
                <a:gridCol w="2718000"/>
                <a:gridCol w="2717280"/>
              </a:tblGrid>
              <a:tr h="11318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ugus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ptemb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ctob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18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Novemb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cemb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Januar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04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ebruar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arc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ri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18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a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Ju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8D502728-62AD-496F-B043-01620F7AD7C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9144000" cy="114156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en-US" sz="4800" spc="-1" strike="noStrike">
                <a:solidFill>
                  <a:srgbClr val="000000"/>
                </a:solidFill>
                <a:latin typeface="Arial"/>
              </a:rPr>
              <a:t>Four Corners: Question #3</a:t>
            </a:r>
            <a:endParaRPr b="0" lang="en-US" sz="4800" spc="-1" strike="noStrike">
              <a:solidFill>
                <a:srgbClr val="000000"/>
              </a:solidFill>
              <a:latin typeface="Arial"/>
            </a:endParaRPr>
          </a:p>
        </p:txBody>
      </p:sp>
      <p:sp>
        <p:nvSpPr>
          <p:cNvPr id="72" name="PlaceHolder 2"/>
          <p:cNvSpPr>
            <a:spLocks noGrp="1"/>
          </p:cNvSpPr>
          <p:nvPr>
            <p:ph/>
          </p:nvPr>
        </p:nvSpPr>
        <p:spPr>
          <a:xfrm>
            <a:off x="837720" y="1523520"/>
            <a:ext cx="7239240" cy="4953240"/>
          </a:xfrm>
          <a:prstGeom prst="rect">
            <a:avLst/>
          </a:prstGeom>
          <a:noFill/>
          <a:ln w="0">
            <a:noFill/>
          </a:ln>
        </p:spPr>
        <p:txBody>
          <a:bodyPr lIns="90000" rIns="90000" tIns="46800" bIns="46800" anchor="t">
            <a:norm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model of mentoring do</a:t>
            </a:r>
            <a:endParaRPr b="0" lang="en-US" sz="4000" spc="-1" strike="noStrike">
              <a:solidFill>
                <a:srgbClr val="000000"/>
              </a:solidFill>
              <a:latin typeface="Arial"/>
            </a:endParaRPr>
          </a:p>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you currently use?</a:t>
            </a:r>
            <a:endParaRPr b="0" lang="en-US" sz="4000" spc="-1" strike="noStrike">
              <a:solidFill>
                <a:srgbClr val="000000"/>
              </a:solidFill>
              <a:latin typeface="Arial"/>
            </a:endParaRPr>
          </a:p>
          <a:p>
            <a:pPr lvl="1" marL="990720" indent="-533520">
              <a:spcAft>
                <a:spcPts val="15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 left: Santa Cruz</a:t>
            </a:r>
            <a:endParaRPr b="0" lang="en-US" sz="3200" spc="-1" strike="noStrike">
              <a:solidFill>
                <a:srgbClr val="000000"/>
              </a:solidFill>
              <a:latin typeface="Arial"/>
            </a:endParaRPr>
          </a:p>
          <a:p>
            <a:pPr lvl="1" marL="990720" indent="-533520">
              <a:spcAft>
                <a:spcPts val="15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 right: Pathwise</a:t>
            </a:r>
            <a:endParaRPr b="0" lang="en-US" sz="3200" spc="-1" strike="noStrike">
              <a:solidFill>
                <a:srgbClr val="000000"/>
              </a:solidFill>
              <a:latin typeface="Arial"/>
            </a:endParaRPr>
          </a:p>
          <a:p>
            <a:pPr lvl="1" marL="990720" indent="-533520">
              <a:spcAft>
                <a:spcPts val="15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nt left: Great Beginnings</a:t>
            </a:r>
            <a:endParaRPr b="0" lang="en-US" sz="3200" spc="-1" strike="noStrike">
              <a:solidFill>
                <a:srgbClr val="000000"/>
              </a:solidFill>
              <a:latin typeface="Arial"/>
            </a:endParaRPr>
          </a:p>
          <a:p>
            <a:pPr lvl="1" marL="990720" indent="-533520">
              <a:spcAft>
                <a:spcPts val="15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nt right: Local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0744B-E7AA-44DB-9D54-901F8A9A2F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0" y="0"/>
            <a:ext cx="9144000" cy="1866960"/>
          </a:xfrm>
          <a:prstGeom prst="rect">
            <a:avLst/>
          </a:prstGeom>
          <a:solidFill>
            <a:srgbClr val="ffff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election Process</a:t>
            </a:r>
            <a:endParaRPr b="0" lang="en-US" sz="4800" spc="-1" strike="noStrike">
              <a:solidFill>
                <a:srgbClr val="000000"/>
              </a:solidFill>
              <a:latin typeface="Arial"/>
            </a:endParaRPr>
          </a:p>
        </p:txBody>
      </p:sp>
      <p:sp>
        <p:nvSpPr>
          <p:cNvPr id="348" name="PlaceHolder 2"/>
          <p:cNvSpPr>
            <a:spLocks noGrp="1"/>
          </p:cNvSpPr>
          <p:nvPr>
            <p:ph/>
          </p:nvPr>
        </p:nvSpPr>
        <p:spPr>
          <a:xfrm>
            <a:off x="304920" y="2057400"/>
            <a:ext cx="8153280" cy="45259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ntor completes and application. Committee interviews and makes selection.</a:t>
            </a:r>
            <a:endParaRPr b="0" lang="en-US" sz="2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ntor is committed to professional growth of self and beginning teachers.</a:t>
            </a:r>
            <a:endParaRPr b="0" lang="en-US" sz="2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ntor is close in proximity to the</a:t>
            </a:r>
            <a:endParaRPr b="0" lang="en-US" sz="2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beginning teacher.</a:t>
            </a:r>
            <a:endParaRPr b="0" lang="en-US" sz="2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ntor teaches same grade</a:t>
            </a:r>
            <a:endParaRPr b="0" lang="en-US" sz="2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level/subject as beginning teacher.</a:t>
            </a:r>
            <a:endParaRPr b="0" lang="en-US" sz="2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ntor has release time to work with</a:t>
            </a:r>
            <a:endParaRPr b="0" lang="en-US" sz="2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the beginning teacher. </a:t>
            </a:r>
            <a:endParaRPr b="0" lang="en-US" sz="2600" spc="-1" strike="noStrike">
              <a:solidFill>
                <a:srgbClr val="000000"/>
              </a:solidFill>
              <a:latin typeface="Arial"/>
            </a:endParaRPr>
          </a:p>
        </p:txBody>
      </p:sp>
      <p:sp>
        <p:nvSpPr>
          <p:cNvPr id="349" name=""/>
          <p:cNvSpPr txBox="1"/>
          <p:nvPr/>
        </p:nvSpPr>
        <p:spPr>
          <a:xfrm>
            <a:off x="401760" y="341280"/>
            <a:ext cx="3133440" cy="132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Arial"/>
              </a:rPr>
              <a:t>IDEAL</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pic>
        <p:nvPicPr>
          <p:cNvPr id="350" name="" descr=""/>
          <p:cNvPicPr/>
          <p:nvPr/>
        </p:nvPicPr>
        <p:blipFill>
          <a:blip r:embed="rId1"/>
          <a:stretch/>
        </p:blipFill>
        <p:spPr>
          <a:xfrm>
            <a:off x="6539040" y="3627360"/>
            <a:ext cx="2319120" cy="2449440"/>
          </a:xfrm>
          <a:prstGeom prst="rect">
            <a:avLst/>
          </a:prstGeom>
          <a:ln w="0">
            <a:noFill/>
          </a:ln>
        </p:spPr>
      </p:pic>
      <p:sp>
        <p:nvSpPr>
          <p:cNvPr id="4" name="PlaceHolder 3"/>
          <p:cNvSpPr>
            <a:spLocks noGrp="1"/>
          </p:cNvSpPr>
          <p:nvPr>
            <p:ph type="sldNum" idx="1"/>
          </p:nvPr>
        </p:nvSpPr>
        <p:spPr/>
        <p:txBody>
          <a:bodyPr/>
          <a:p>
            <a:fld id="{920F0FF1-550D-46D8-AD5D-784CB681EF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0" y="0"/>
            <a:ext cx="9144000" cy="1866960"/>
          </a:xfrm>
          <a:prstGeom prst="rect">
            <a:avLst/>
          </a:prstGeom>
          <a:solidFill>
            <a:srgbClr val="ffff00"/>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a:rPr>
              <a:t>Selection Process</a:t>
            </a:r>
            <a:endParaRPr b="0" lang="en-US" sz="4600" spc="-1" strike="noStrike">
              <a:solidFill>
                <a:srgbClr val="000000"/>
              </a:solidFill>
              <a:latin typeface="Arial"/>
            </a:endParaRPr>
          </a:p>
        </p:txBody>
      </p:sp>
      <p:sp>
        <p:nvSpPr>
          <p:cNvPr id="352" name="PlaceHolder 2"/>
          <p:cNvSpPr>
            <a:spLocks noGrp="1"/>
          </p:cNvSpPr>
          <p:nvPr>
            <p:ph/>
          </p:nvPr>
        </p:nvSpPr>
        <p:spPr>
          <a:xfrm>
            <a:off x="324000" y="2152440"/>
            <a:ext cx="8153280" cy="3943080"/>
          </a:xfrm>
          <a:prstGeom prst="rect">
            <a:avLst/>
          </a:prstGeom>
          <a:noFill/>
          <a:ln w="0">
            <a:noFill/>
          </a:ln>
        </p:spPr>
        <p:txBody>
          <a:bodyPr lIns="90000" rIns="90000" tIns="46800" bIns="46800" anchor="t">
            <a:normAutofit fontScale="99000"/>
          </a:bodyPr>
          <a:p>
            <a:pPr marL="227520" indent="-22752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ntors are chosen by principals at random. </a:t>
            </a:r>
            <a:endParaRPr b="0" lang="en-US" sz="2800" spc="-1" strike="noStrike">
              <a:solidFill>
                <a:srgbClr val="000000"/>
              </a:solidFill>
              <a:latin typeface="Arial"/>
            </a:endParaRPr>
          </a:p>
          <a:p>
            <a:pPr marL="227520" indent="-22752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ntors accept the responsibility for pay or points only.</a:t>
            </a:r>
            <a:endParaRPr b="0" lang="en-US" sz="2800" spc="-1" strike="noStrike">
              <a:solidFill>
                <a:srgbClr val="000000"/>
              </a:solidFill>
              <a:latin typeface="Arial"/>
            </a:endParaRPr>
          </a:p>
          <a:p>
            <a:pPr marL="227520" indent="-22752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ntors may or may not teach the </a:t>
            </a:r>
            <a:endParaRPr b="0" lang="en-US" sz="2800" spc="-1" strike="noStrike">
              <a:solidFill>
                <a:srgbClr val="000000"/>
              </a:solidFill>
              <a:latin typeface="Arial"/>
            </a:endParaRPr>
          </a:p>
          <a:p>
            <a:pPr marL="227520"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me subject/grade level.</a:t>
            </a:r>
            <a:endParaRPr b="0" lang="en-US" sz="2800" spc="-1" strike="noStrike">
              <a:solidFill>
                <a:srgbClr val="000000"/>
              </a:solidFill>
              <a:latin typeface="Arial"/>
            </a:endParaRPr>
          </a:p>
          <a:p>
            <a:pPr marL="227520" indent="-227520">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ttle or no time is provided for </a:t>
            </a:r>
            <a:endParaRPr b="0" lang="en-US" sz="2800" spc="-1" strike="noStrike">
              <a:solidFill>
                <a:srgbClr val="000000"/>
              </a:solidFill>
              <a:latin typeface="Arial"/>
            </a:endParaRPr>
          </a:p>
          <a:p>
            <a:pPr marL="227520"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mentoring process.</a:t>
            </a:r>
            <a:endParaRPr b="0" lang="en-US" sz="2800" spc="-1" strike="noStrike">
              <a:solidFill>
                <a:srgbClr val="000000"/>
              </a:solidFill>
              <a:latin typeface="Arial"/>
            </a:endParaRPr>
          </a:p>
        </p:txBody>
      </p:sp>
      <p:sp>
        <p:nvSpPr>
          <p:cNvPr id="353" name=""/>
          <p:cNvSpPr txBox="1"/>
          <p:nvPr/>
        </p:nvSpPr>
        <p:spPr>
          <a:xfrm>
            <a:off x="404640" y="382680"/>
            <a:ext cx="3467160" cy="12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Arial"/>
              </a:rPr>
              <a:t>REALITY</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pic>
        <p:nvPicPr>
          <p:cNvPr id="354" name="" descr=""/>
          <p:cNvPicPr/>
          <p:nvPr/>
        </p:nvPicPr>
        <p:blipFill>
          <a:blip r:embed="rId1"/>
          <a:stretch/>
        </p:blipFill>
        <p:spPr>
          <a:xfrm>
            <a:off x="6438960" y="3467160"/>
            <a:ext cx="2060640" cy="3016080"/>
          </a:xfrm>
          <a:prstGeom prst="rect">
            <a:avLst/>
          </a:prstGeom>
          <a:ln w="0">
            <a:noFill/>
          </a:ln>
        </p:spPr>
      </p:pic>
      <p:sp>
        <p:nvSpPr>
          <p:cNvPr id="4" name="PlaceHolder 3"/>
          <p:cNvSpPr>
            <a:spLocks noGrp="1"/>
          </p:cNvSpPr>
          <p:nvPr>
            <p:ph type="sldNum" idx="1"/>
          </p:nvPr>
        </p:nvSpPr>
        <p:spPr/>
        <p:txBody>
          <a:bodyPr/>
          <a:p>
            <a:fld id="{1B691280-85E0-4657-B45E-65D1395D89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0" y="-360"/>
            <a:ext cx="91440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on-Negotiables</a:t>
            </a:r>
            <a:endParaRPr b="0" lang="en-US" sz="4800" spc="-1" strike="noStrike">
              <a:solidFill>
                <a:srgbClr val="000000"/>
              </a:solidFill>
              <a:latin typeface="Arial"/>
            </a:endParaRPr>
          </a:p>
        </p:txBody>
      </p:sp>
      <p:sp>
        <p:nvSpPr>
          <p:cNvPr id="356" name="PlaceHolder 2"/>
          <p:cNvSpPr>
            <a:spLocks noGrp="1"/>
          </p:cNvSpPr>
          <p:nvPr>
            <p:ph/>
          </p:nvPr>
        </p:nvSpPr>
        <p:spPr>
          <a:xfrm>
            <a:off x="419040" y="2209680"/>
            <a:ext cx="8305920" cy="289584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ithin your table group</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evelop a list of</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non-negotiables.</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 name="PlaceHolder 3"/>
          <p:cNvSpPr>
            <a:spLocks noGrp="1"/>
          </p:cNvSpPr>
          <p:nvPr>
            <p:ph type="sldNum" idx="1"/>
          </p:nvPr>
        </p:nvSpPr>
        <p:spPr/>
        <p:txBody>
          <a:bodyPr/>
          <a:p>
            <a:fld id="{F6C77565-316A-45AA-A0F4-C83A04FDB0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0" y="-360"/>
            <a:ext cx="91440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Bottom Line!</a:t>
            </a:r>
            <a:endParaRPr b="0" lang="en-US" sz="4800" spc="-1" strike="noStrike">
              <a:solidFill>
                <a:srgbClr val="000000"/>
              </a:solidFill>
              <a:latin typeface="Arial"/>
            </a:endParaRPr>
          </a:p>
        </p:txBody>
      </p:sp>
      <p:sp>
        <p:nvSpPr>
          <p:cNvPr id="358" name="PlaceHolder 2"/>
          <p:cNvSpPr>
            <a:spLocks noGrp="1"/>
          </p:cNvSpPr>
          <p:nvPr>
            <p:ph/>
          </p:nvPr>
        </p:nvSpPr>
        <p:spPr>
          <a:xfrm>
            <a:off x="380520" y="1523880"/>
            <a:ext cx="815364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400" spc="-1" strike="noStrike">
                <a:solidFill>
                  <a:srgbClr val="000000"/>
                </a:solidFill>
                <a:latin typeface="Arial"/>
              </a:rPr>
              <a:t>You are wasting your </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and  </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ithout an effective mentor selection process.</a:t>
            </a:r>
            <a:endParaRPr b="0" lang="en-US" sz="4400" spc="-1" strike="noStrike">
              <a:solidFill>
                <a:srgbClr val="000000"/>
              </a:solidFill>
              <a:latin typeface="Arial"/>
            </a:endParaRPr>
          </a:p>
        </p:txBody>
      </p:sp>
      <p:sp>
        <p:nvSpPr>
          <p:cNvPr id="359" name=""/>
          <p:cNvSpPr txBox="1"/>
          <p:nvPr/>
        </p:nvSpPr>
        <p:spPr>
          <a:xfrm>
            <a:off x="857160" y="2305080"/>
            <a:ext cx="2971800" cy="90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0000"/>
                  </a:solidFill>
                  <a:miter/>
                </a:ln>
                <a:solidFill>
                  <a:srgbClr val="008000"/>
                </a:solidFill>
                <a:effectLst>
                  <a:outerShdw dist="17819" dir="2700000" blurRad="0" rotWithShape="0">
                    <a:srgbClr val="990000"/>
                  </a:outerShdw>
                </a:effectLst>
                <a:latin typeface="Times New Roman"/>
              </a:rPr>
              <a:t>TIME</a:t>
            </a:r>
            <a:endParaRPr b="1" lang="en-US" sz="1800" spc="1" strike="noStrike">
              <a:ln w="19080">
                <a:solidFill>
                  <a:srgbClr val="000000"/>
                </a:solidFill>
                <a:miter/>
              </a:ln>
              <a:solidFill>
                <a:srgbClr val="008000"/>
              </a:solidFill>
              <a:effectLst>
                <a:outerShdw dist="17819" dir="2700000" blurRad="0" rotWithShape="0">
                  <a:srgbClr val="990000"/>
                </a:outerShdw>
              </a:effectLst>
              <a:latin typeface="Times New Roman"/>
              <a:ea typeface="Times New Roman"/>
            </a:endParaRPr>
          </a:p>
        </p:txBody>
      </p:sp>
      <p:sp>
        <p:nvSpPr>
          <p:cNvPr id="360" name=""/>
          <p:cNvSpPr txBox="1"/>
          <p:nvPr/>
        </p:nvSpPr>
        <p:spPr>
          <a:xfrm>
            <a:off x="5391000" y="2286000"/>
            <a:ext cx="3048120" cy="90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000000"/>
                  </a:solidFill>
                  <a:miter/>
                </a:ln>
                <a:solidFill>
                  <a:srgbClr val="008000"/>
                </a:solidFill>
                <a:effectLst>
                  <a:outerShdw dist="17819" dir="2700000" blurRad="0" rotWithShape="0">
                    <a:srgbClr val="990000"/>
                  </a:outerShdw>
                </a:effectLst>
                <a:latin typeface="Times New Roman"/>
              </a:rPr>
              <a:t>MONEY</a:t>
            </a:r>
            <a:endParaRPr b="1" lang="en-US" sz="1800" spc="1" strike="noStrike">
              <a:ln w="19080">
                <a:solidFill>
                  <a:srgbClr val="000000"/>
                </a:solidFill>
                <a:miter/>
              </a:ln>
              <a:solidFill>
                <a:srgbClr val="008000"/>
              </a:solidFill>
              <a:effectLst>
                <a:outerShdw dist="17819" dir="2700000" blurRad="0" rotWithShape="0">
                  <a:srgbClr val="990000"/>
                </a:outerShdw>
              </a:effectLst>
              <a:latin typeface="Times New Roman"/>
              <a:ea typeface="Times New Roman"/>
            </a:endParaRPr>
          </a:p>
        </p:txBody>
      </p:sp>
      <p:pic>
        <p:nvPicPr>
          <p:cNvPr id="361" name="" descr=""/>
          <p:cNvPicPr/>
          <p:nvPr/>
        </p:nvPicPr>
        <p:blipFill>
          <a:blip r:embed="rId1"/>
          <a:stretch/>
        </p:blipFill>
        <p:spPr>
          <a:xfrm>
            <a:off x="1428840" y="4645080"/>
            <a:ext cx="2555640" cy="1525680"/>
          </a:xfrm>
          <a:prstGeom prst="rect">
            <a:avLst/>
          </a:prstGeom>
          <a:ln w="0">
            <a:noFill/>
          </a:ln>
        </p:spPr>
      </p:pic>
      <p:pic>
        <p:nvPicPr>
          <p:cNvPr id="362" name="" descr=""/>
          <p:cNvPicPr/>
          <p:nvPr/>
        </p:nvPicPr>
        <p:blipFill>
          <a:blip r:embed="rId2"/>
          <a:stretch/>
        </p:blipFill>
        <p:spPr>
          <a:xfrm>
            <a:off x="5883120" y="4551480"/>
            <a:ext cx="1884600" cy="1619280"/>
          </a:xfrm>
          <a:prstGeom prst="rect">
            <a:avLst/>
          </a:prstGeom>
          <a:ln w="0">
            <a:noFill/>
          </a:ln>
        </p:spPr>
      </p:pic>
      <p:sp>
        <p:nvSpPr>
          <p:cNvPr id="4" name="PlaceHolder 3"/>
          <p:cNvSpPr>
            <a:spLocks noGrp="1"/>
          </p:cNvSpPr>
          <p:nvPr>
            <p:ph type="sldNum" idx="1"/>
          </p:nvPr>
        </p:nvSpPr>
        <p:spPr/>
        <p:txBody>
          <a:bodyPr/>
          <a:p>
            <a:fld id="{A681B01E-A96C-4A36-A9F6-BF5EA5CCF9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0" y="-360"/>
            <a:ext cx="91440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ole of the Principal</a:t>
            </a:r>
            <a:endParaRPr b="0" lang="en-US" sz="4800" spc="-1" strike="noStrike">
              <a:solidFill>
                <a:srgbClr val="000000"/>
              </a:solidFill>
              <a:latin typeface="Arial"/>
            </a:endParaRPr>
          </a:p>
        </p:txBody>
      </p:sp>
      <p:sp>
        <p:nvSpPr>
          <p:cNvPr id="364" name="PlaceHolder 2"/>
          <p:cNvSpPr>
            <a:spLocks noGrp="1"/>
          </p:cNvSpPr>
          <p:nvPr>
            <p:ph/>
          </p:nvPr>
        </p:nvSpPr>
        <p:spPr>
          <a:xfrm>
            <a:off x="476280" y="1447560"/>
            <a:ext cx="8191440" cy="4964040"/>
          </a:xfrm>
          <a:prstGeom prst="rect">
            <a:avLst/>
          </a:prstGeom>
          <a:noFill/>
          <a:ln w="0">
            <a:noFill/>
          </a:ln>
        </p:spPr>
        <p:txBody>
          <a:bodyPr lIns="90000" rIns="90000" tIns="46800" bIns="46800" anchor="t">
            <a:normAutofit/>
          </a:bodyPr>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ognize the needs of the beginning teacher -- keep a pulse on the developmental levels and stages of beginning teachers in the school.</a:t>
            </a:r>
            <a:endParaRPr b="0" lang="en-US" sz="36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 aware and supportive of the goals of the mentoring program.</a:t>
            </a:r>
            <a:endParaRPr b="0" lang="en-US" sz="3600" spc="-1" strike="noStrike">
              <a:solidFill>
                <a:srgbClr val="000000"/>
              </a:solidFill>
              <a:latin typeface="Arial"/>
            </a:endParaRPr>
          </a:p>
          <a:p>
            <a:pPr marL="343080" indent="-3430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low for space/time considerations for mentoring.</a:t>
            </a:r>
            <a:endParaRPr b="0" lang="en-US" sz="3600" spc="-1" strike="noStrike">
              <a:solidFill>
                <a:srgbClr val="000000"/>
              </a:solidFill>
              <a:latin typeface="Arial"/>
            </a:endParaRPr>
          </a:p>
        </p:txBody>
      </p:sp>
      <p:sp>
        <p:nvSpPr>
          <p:cNvPr id="4" name="PlaceHolder 3"/>
          <p:cNvSpPr>
            <a:spLocks noGrp="1"/>
          </p:cNvSpPr>
          <p:nvPr>
            <p:ph type="sldNum" idx="1"/>
          </p:nvPr>
        </p:nvSpPr>
        <p:spPr/>
        <p:txBody>
          <a:bodyPr/>
          <a:p>
            <a:fld id="{04E59163-25BA-41F1-ACD0-1F0CEDD5E2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304560" y="1409400"/>
            <a:ext cx="8553240" cy="4895640"/>
          </a:xfrm>
          <a:prstGeom prst="rect">
            <a:avLst/>
          </a:prstGeom>
          <a:noFill/>
          <a:ln w="0">
            <a:noFill/>
          </a:ln>
        </p:spPr>
        <p:txBody>
          <a:bodyPr lIns="90000" rIns="90000" tIns="46800" bIns="46800" anchor="t">
            <a:normAutofit fontScale="99000"/>
          </a:bodyPr>
          <a:p>
            <a:pPr marL="339480" indent="-3394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nor issues of confidentiality between mentor and beginning teacher (fire wall!).</a:t>
            </a:r>
            <a:endParaRPr b="0" lang="en-US" sz="3600" spc="-1" strike="noStrike">
              <a:solidFill>
                <a:srgbClr val="000000"/>
              </a:solidFill>
              <a:latin typeface="Arial"/>
            </a:endParaRPr>
          </a:p>
          <a:p>
            <a:pPr marL="339480" indent="-3394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nsure that beginning teachers and mentors benefit from the mentoring process.</a:t>
            </a:r>
            <a:endParaRPr b="0" lang="en-US" sz="3600" spc="-1" strike="noStrike">
              <a:solidFill>
                <a:srgbClr val="000000"/>
              </a:solidFill>
              <a:latin typeface="Arial"/>
            </a:endParaRPr>
          </a:p>
          <a:p>
            <a:pPr marL="339480" indent="-339480">
              <a:spcAft>
                <a:spcPts val="18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knowledge and accept the role of the principal as a new teacher mentor.</a:t>
            </a:r>
            <a:endParaRPr b="0" lang="en-US" sz="3600" spc="-1" strike="noStrike">
              <a:solidFill>
                <a:srgbClr val="000000"/>
              </a:solidFill>
              <a:latin typeface="Arial"/>
            </a:endParaRPr>
          </a:p>
        </p:txBody>
      </p:sp>
      <p:sp>
        <p:nvSpPr>
          <p:cNvPr id="366" name=""/>
          <p:cNvSpPr/>
          <p:nvPr/>
        </p:nvSpPr>
        <p:spPr>
          <a:xfrm>
            <a:off x="0" y="0"/>
            <a:ext cx="914400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ole of the Principal</a:t>
            </a:r>
            <a:br>
              <a:rPr sz="4400"/>
            </a:br>
            <a:r>
              <a:rPr b="1" i="1" lang="en-US" sz="2400" spc="-1" strike="noStrike">
                <a:solidFill>
                  <a:srgbClr val="000000"/>
                </a:solidFill>
                <a:latin typeface="Arial"/>
              </a:rPr>
              <a:t>(cont.)</a:t>
            </a: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19A51616-881F-4825-895F-3CA0EE120D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60"/>
            <a:ext cx="9144000" cy="14828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Building in Accountability</a:t>
            </a:r>
            <a:br>
              <a:rPr sz="4800"/>
            </a:br>
            <a:r>
              <a:rPr b="1" lang="en-US" sz="4800" spc="-1" strike="noStrike">
                <a:solidFill>
                  <a:srgbClr val="000000"/>
                </a:solidFill>
                <a:latin typeface="Arial"/>
              </a:rPr>
              <a:t>and Program Evaluation</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368" name="PlaceHolder 2"/>
          <p:cNvSpPr>
            <a:spLocks noGrp="1"/>
          </p:cNvSpPr>
          <p:nvPr>
            <p:ph/>
          </p:nvPr>
        </p:nvSpPr>
        <p:spPr>
          <a:xfrm>
            <a:off x="552240" y="1771560"/>
            <a:ext cx="3981240" cy="4191120"/>
          </a:xfrm>
          <a:prstGeom prst="rect">
            <a:avLst/>
          </a:prstGeom>
          <a:solidFill>
            <a:srgbClr val="ccffff"/>
          </a:solid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Post Survey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ct Log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hly Reports (to principal and/or mentor coordinator)</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rterly Benchmark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ine Discussion Group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hly Meetings</a:t>
            </a:r>
            <a:endParaRPr b="0" lang="en-US" sz="2400" spc="-1" strike="noStrike">
              <a:solidFill>
                <a:srgbClr val="000000"/>
              </a:solidFill>
              <a:latin typeface="Arial"/>
            </a:endParaRPr>
          </a:p>
        </p:txBody>
      </p:sp>
      <p:sp>
        <p:nvSpPr>
          <p:cNvPr id="369" name="PlaceHolder 3"/>
          <p:cNvSpPr>
            <a:spLocks noGrp="1"/>
          </p:cNvSpPr>
          <p:nvPr>
            <p:ph/>
          </p:nvPr>
        </p:nvSpPr>
        <p:spPr>
          <a:xfrm>
            <a:off x="5105520" y="1790640"/>
            <a:ext cx="3752640" cy="4286160"/>
          </a:xfrm>
          <a:prstGeom prst="rect">
            <a:avLst/>
          </a:prstGeom>
          <a:solidFill>
            <a:srgbClr val="ccffff"/>
          </a:solid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ct Log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 Retention Data</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Achievement Data</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vey Data</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ual Reports</a:t>
            </a:r>
            <a:endParaRPr b="0" lang="en-US" sz="2400" spc="-1" strike="noStrike">
              <a:solidFill>
                <a:srgbClr val="000000"/>
              </a:solidFill>
              <a:latin typeface="Arial"/>
            </a:endParaRPr>
          </a:p>
        </p:txBody>
      </p:sp>
      <p:sp>
        <p:nvSpPr>
          <p:cNvPr id="370" name=""/>
          <p:cNvSpPr txBox="1"/>
          <p:nvPr/>
        </p:nvSpPr>
        <p:spPr>
          <a:xfrm>
            <a:off x="5772240" y="1962000"/>
            <a:ext cx="22096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Arial"/>
              </a:rPr>
              <a:t>SUMMATIVE</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
        <p:nvSpPr>
          <p:cNvPr id="371" name=""/>
          <p:cNvSpPr txBox="1"/>
          <p:nvPr/>
        </p:nvSpPr>
        <p:spPr>
          <a:xfrm>
            <a:off x="1542960" y="1943280"/>
            <a:ext cx="2057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Arial"/>
              </a:rPr>
              <a:t>FORMATIVE</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Arial"/>
              <a:ea typeface="Arial"/>
            </a:endParaRPr>
          </a:p>
        </p:txBody>
      </p:sp>
      <p:sp>
        <p:nvSpPr>
          <p:cNvPr id="372" name=""/>
          <p:cNvSpPr/>
          <p:nvPr/>
        </p:nvSpPr>
        <p:spPr>
          <a:xfrm>
            <a:off x="4381560" y="1924200"/>
            <a:ext cx="685800" cy="533160"/>
          </a:xfrm>
          <a:prstGeom prst="leftRightArrow">
            <a:avLst>
              <a:gd name="adj1" fmla="val 50000"/>
              <a:gd name="adj2" fmla="val 25607"/>
            </a:avLst>
          </a:prstGeom>
          <a:solidFill>
            <a:srgbClr val="3333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4038480" y="5791320"/>
            <a:ext cx="13716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3886200" y="5562720"/>
            <a:ext cx="17524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3657600" y="5410080"/>
            <a:ext cx="2057400" cy="940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376" name="" descr=""/>
          <p:cNvPicPr/>
          <p:nvPr/>
        </p:nvPicPr>
        <p:blipFill>
          <a:blip r:embed="rId1"/>
          <a:stretch/>
        </p:blipFill>
        <p:spPr>
          <a:xfrm>
            <a:off x="3886200" y="5486400"/>
            <a:ext cx="1676520" cy="1041480"/>
          </a:xfrm>
          <a:prstGeom prst="rect">
            <a:avLst/>
          </a:prstGeom>
          <a:ln w="0">
            <a:noFill/>
          </a:ln>
        </p:spPr>
      </p:pic>
      <p:sp>
        <p:nvSpPr>
          <p:cNvPr id="5" name="PlaceHolder 4"/>
          <p:cNvSpPr>
            <a:spLocks noGrp="1"/>
          </p:cNvSpPr>
          <p:nvPr>
            <p:ph type="sldNum" idx="1"/>
          </p:nvPr>
        </p:nvSpPr>
        <p:spPr/>
        <p:txBody>
          <a:bodyPr/>
          <a:p>
            <a:fld id="{F2ABB812-F159-4C1D-AA88-5460AEFD454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838080" y="271440"/>
            <a:ext cx="7086600" cy="631512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878040" y="271440"/>
            <a:ext cx="7041960" cy="6315120"/>
          </a:xfrm>
          <a:prstGeom prst="rect">
            <a:avLst/>
          </a:pr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878040" y="1193760"/>
            <a:ext cx="7016760" cy="4849920"/>
          </a:xfrm>
          <a:custGeom>
            <a:avLst/>
            <a:gdLst/>
            <a:ahLst/>
            <a:rect l="l" t="t" r="r" b="b"/>
            <a:pathLst>
              <a:path w="4420" h="3055">
                <a:moveTo>
                  <a:pt x="4420" y="284"/>
                </a:moveTo>
                <a:lnTo>
                  <a:pt x="4395" y="36"/>
                </a:lnTo>
                <a:lnTo>
                  <a:pt x="4056" y="0"/>
                </a:lnTo>
                <a:lnTo>
                  <a:pt x="4001" y="16"/>
                </a:lnTo>
                <a:lnTo>
                  <a:pt x="3948" y="30"/>
                </a:lnTo>
                <a:lnTo>
                  <a:pt x="3904" y="42"/>
                </a:lnTo>
                <a:lnTo>
                  <a:pt x="3860" y="54"/>
                </a:lnTo>
                <a:lnTo>
                  <a:pt x="3824" y="66"/>
                </a:lnTo>
                <a:lnTo>
                  <a:pt x="3788" y="78"/>
                </a:lnTo>
                <a:lnTo>
                  <a:pt x="3758" y="88"/>
                </a:lnTo>
                <a:lnTo>
                  <a:pt x="3730" y="98"/>
                </a:lnTo>
                <a:lnTo>
                  <a:pt x="3706" y="110"/>
                </a:lnTo>
                <a:lnTo>
                  <a:pt x="3681" y="122"/>
                </a:lnTo>
                <a:lnTo>
                  <a:pt x="3656" y="134"/>
                </a:lnTo>
                <a:lnTo>
                  <a:pt x="3634" y="148"/>
                </a:lnTo>
                <a:lnTo>
                  <a:pt x="3612" y="162"/>
                </a:lnTo>
                <a:lnTo>
                  <a:pt x="3590" y="178"/>
                </a:lnTo>
                <a:lnTo>
                  <a:pt x="3568" y="194"/>
                </a:lnTo>
                <a:lnTo>
                  <a:pt x="3546" y="214"/>
                </a:lnTo>
                <a:lnTo>
                  <a:pt x="3253" y="338"/>
                </a:lnTo>
                <a:lnTo>
                  <a:pt x="3229" y="480"/>
                </a:lnTo>
                <a:lnTo>
                  <a:pt x="3253" y="604"/>
                </a:lnTo>
                <a:lnTo>
                  <a:pt x="3179" y="588"/>
                </a:lnTo>
                <a:lnTo>
                  <a:pt x="3058" y="640"/>
                </a:lnTo>
                <a:lnTo>
                  <a:pt x="2793" y="658"/>
                </a:lnTo>
                <a:lnTo>
                  <a:pt x="2696" y="616"/>
                </a:lnTo>
                <a:lnTo>
                  <a:pt x="2603" y="582"/>
                </a:lnTo>
                <a:lnTo>
                  <a:pt x="2514" y="556"/>
                </a:lnTo>
                <a:lnTo>
                  <a:pt x="2432" y="536"/>
                </a:lnTo>
                <a:lnTo>
                  <a:pt x="2352" y="526"/>
                </a:lnTo>
                <a:lnTo>
                  <a:pt x="2277" y="526"/>
                </a:lnTo>
                <a:lnTo>
                  <a:pt x="2208" y="532"/>
                </a:lnTo>
                <a:lnTo>
                  <a:pt x="2148" y="546"/>
                </a:lnTo>
                <a:lnTo>
                  <a:pt x="2090" y="570"/>
                </a:lnTo>
                <a:lnTo>
                  <a:pt x="2040" y="602"/>
                </a:lnTo>
                <a:lnTo>
                  <a:pt x="1996" y="642"/>
                </a:lnTo>
                <a:lnTo>
                  <a:pt x="1960" y="692"/>
                </a:lnTo>
                <a:lnTo>
                  <a:pt x="1933" y="750"/>
                </a:lnTo>
                <a:lnTo>
                  <a:pt x="1911" y="816"/>
                </a:lnTo>
                <a:lnTo>
                  <a:pt x="1900" y="892"/>
                </a:lnTo>
                <a:lnTo>
                  <a:pt x="1894" y="977"/>
                </a:lnTo>
                <a:lnTo>
                  <a:pt x="1480" y="1209"/>
                </a:lnTo>
                <a:lnTo>
                  <a:pt x="1409" y="1135"/>
                </a:lnTo>
                <a:lnTo>
                  <a:pt x="1348" y="1079"/>
                </a:lnTo>
                <a:lnTo>
                  <a:pt x="1296" y="1045"/>
                </a:lnTo>
                <a:lnTo>
                  <a:pt x="1254" y="1033"/>
                </a:lnTo>
                <a:lnTo>
                  <a:pt x="1219" y="1043"/>
                </a:lnTo>
                <a:lnTo>
                  <a:pt x="1188" y="1079"/>
                </a:lnTo>
                <a:lnTo>
                  <a:pt x="1163" y="1139"/>
                </a:lnTo>
                <a:lnTo>
                  <a:pt x="1141" y="1227"/>
                </a:lnTo>
                <a:lnTo>
                  <a:pt x="995" y="1333"/>
                </a:lnTo>
                <a:lnTo>
                  <a:pt x="1067" y="1279"/>
                </a:lnTo>
                <a:lnTo>
                  <a:pt x="1152" y="1201"/>
                </a:lnTo>
                <a:lnTo>
                  <a:pt x="1210" y="1131"/>
                </a:lnTo>
                <a:lnTo>
                  <a:pt x="1243" y="1073"/>
                </a:lnTo>
                <a:lnTo>
                  <a:pt x="1252" y="1023"/>
                </a:lnTo>
                <a:lnTo>
                  <a:pt x="1238" y="981"/>
                </a:lnTo>
                <a:lnTo>
                  <a:pt x="1205" y="947"/>
                </a:lnTo>
                <a:lnTo>
                  <a:pt x="1152" y="921"/>
                </a:lnTo>
                <a:lnTo>
                  <a:pt x="1086" y="900"/>
                </a:lnTo>
                <a:lnTo>
                  <a:pt x="1006" y="886"/>
                </a:lnTo>
                <a:lnTo>
                  <a:pt x="912" y="876"/>
                </a:lnTo>
                <a:lnTo>
                  <a:pt x="810" y="870"/>
                </a:lnTo>
                <a:lnTo>
                  <a:pt x="700" y="870"/>
                </a:lnTo>
                <a:lnTo>
                  <a:pt x="582" y="872"/>
                </a:lnTo>
                <a:lnTo>
                  <a:pt x="463" y="876"/>
                </a:lnTo>
                <a:lnTo>
                  <a:pt x="339" y="882"/>
                </a:lnTo>
                <a:lnTo>
                  <a:pt x="218" y="890"/>
                </a:lnTo>
                <a:lnTo>
                  <a:pt x="72" y="1119"/>
                </a:lnTo>
                <a:lnTo>
                  <a:pt x="0" y="1209"/>
                </a:lnTo>
                <a:lnTo>
                  <a:pt x="0" y="1387"/>
                </a:lnTo>
                <a:lnTo>
                  <a:pt x="0" y="2380"/>
                </a:lnTo>
                <a:lnTo>
                  <a:pt x="314" y="2540"/>
                </a:lnTo>
                <a:lnTo>
                  <a:pt x="653" y="2432"/>
                </a:lnTo>
                <a:lnTo>
                  <a:pt x="946" y="2506"/>
                </a:lnTo>
                <a:lnTo>
                  <a:pt x="946" y="2648"/>
                </a:lnTo>
                <a:lnTo>
                  <a:pt x="970" y="2826"/>
                </a:lnTo>
                <a:lnTo>
                  <a:pt x="1673" y="3055"/>
                </a:lnTo>
                <a:lnTo>
                  <a:pt x="1916" y="2985"/>
                </a:lnTo>
                <a:lnTo>
                  <a:pt x="1935" y="2896"/>
                </a:lnTo>
                <a:lnTo>
                  <a:pt x="1968" y="2808"/>
                </a:lnTo>
                <a:lnTo>
                  <a:pt x="2013" y="2726"/>
                </a:lnTo>
                <a:lnTo>
                  <a:pt x="2068" y="2648"/>
                </a:lnTo>
                <a:lnTo>
                  <a:pt x="2131" y="2574"/>
                </a:lnTo>
                <a:lnTo>
                  <a:pt x="2200" y="2508"/>
                </a:lnTo>
                <a:lnTo>
                  <a:pt x="2275" y="2450"/>
                </a:lnTo>
                <a:lnTo>
                  <a:pt x="2355" y="2400"/>
                </a:lnTo>
                <a:lnTo>
                  <a:pt x="2432" y="2358"/>
                </a:lnTo>
                <a:lnTo>
                  <a:pt x="2509" y="2328"/>
                </a:lnTo>
                <a:lnTo>
                  <a:pt x="2586" y="2310"/>
                </a:lnTo>
                <a:lnTo>
                  <a:pt x="2658" y="2302"/>
                </a:lnTo>
                <a:lnTo>
                  <a:pt x="2721" y="2308"/>
                </a:lnTo>
                <a:lnTo>
                  <a:pt x="2779" y="2330"/>
                </a:lnTo>
                <a:lnTo>
                  <a:pt x="2829" y="2364"/>
                </a:lnTo>
                <a:lnTo>
                  <a:pt x="2865" y="2416"/>
                </a:lnTo>
                <a:lnTo>
                  <a:pt x="3446" y="2238"/>
                </a:lnTo>
                <a:lnTo>
                  <a:pt x="3739" y="2380"/>
                </a:lnTo>
                <a:lnTo>
                  <a:pt x="3956" y="2398"/>
                </a:lnTo>
                <a:lnTo>
                  <a:pt x="4420" y="2452"/>
                </a:lnTo>
                <a:lnTo>
                  <a:pt x="4420" y="284"/>
                </a:ln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873000" y="1228680"/>
            <a:ext cx="7021800" cy="4767480"/>
          </a:xfrm>
          <a:custGeom>
            <a:avLst/>
            <a:gdLst/>
            <a:ahLst/>
            <a:rect l="l" t="t" r="r" b="b"/>
            <a:pathLst>
              <a:path w="4423" h="3003">
                <a:moveTo>
                  <a:pt x="4423" y="290"/>
                </a:moveTo>
                <a:lnTo>
                  <a:pt x="4417" y="228"/>
                </a:lnTo>
                <a:lnTo>
                  <a:pt x="4412" y="168"/>
                </a:lnTo>
                <a:lnTo>
                  <a:pt x="4406" y="108"/>
                </a:lnTo>
                <a:lnTo>
                  <a:pt x="4398" y="46"/>
                </a:lnTo>
                <a:lnTo>
                  <a:pt x="4357" y="40"/>
                </a:lnTo>
                <a:lnTo>
                  <a:pt x="4312" y="36"/>
                </a:lnTo>
                <a:lnTo>
                  <a:pt x="4271" y="30"/>
                </a:lnTo>
                <a:lnTo>
                  <a:pt x="4230" y="24"/>
                </a:lnTo>
                <a:lnTo>
                  <a:pt x="4186" y="18"/>
                </a:lnTo>
                <a:lnTo>
                  <a:pt x="4144" y="12"/>
                </a:lnTo>
                <a:lnTo>
                  <a:pt x="4100" y="6"/>
                </a:lnTo>
                <a:lnTo>
                  <a:pt x="4059" y="0"/>
                </a:lnTo>
                <a:lnTo>
                  <a:pt x="4004" y="16"/>
                </a:lnTo>
                <a:lnTo>
                  <a:pt x="3954" y="30"/>
                </a:lnTo>
                <a:lnTo>
                  <a:pt x="3907" y="44"/>
                </a:lnTo>
                <a:lnTo>
                  <a:pt x="3866" y="56"/>
                </a:lnTo>
                <a:lnTo>
                  <a:pt x="3830" y="68"/>
                </a:lnTo>
                <a:lnTo>
                  <a:pt x="3794" y="82"/>
                </a:lnTo>
                <a:lnTo>
                  <a:pt x="3764" y="94"/>
                </a:lnTo>
                <a:lnTo>
                  <a:pt x="3736" y="106"/>
                </a:lnTo>
                <a:lnTo>
                  <a:pt x="3709" y="120"/>
                </a:lnTo>
                <a:lnTo>
                  <a:pt x="3687" y="132"/>
                </a:lnTo>
                <a:lnTo>
                  <a:pt x="3662" y="148"/>
                </a:lnTo>
                <a:lnTo>
                  <a:pt x="3640" y="162"/>
                </a:lnTo>
                <a:lnTo>
                  <a:pt x="3620" y="180"/>
                </a:lnTo>
                <a:lnTo>
                  <a:pt x="3598" y="198"/>
                </a:lnTo>
                <a:lnTo>
                  <a:pt x="3579" y="216"/>
                </a:lnTo>
                <a:lnTo>
                  <a:pt x="3557" y="238"/>
                </a:lnTo>
                <a:lnTo>
                  <a:pt x="3524" y="254"/>
                </a:lnTo>
                <a:lnTo>
                  <a:pt x="3488" y="270"/>
                </a:lnTo>
                <a:lnTo>
                  <a:pt x="3455" y="286"/>
                </a:lnTo>
                <a:lnTo>
                  <a:pt x="3422" y="300"/>
                </a:lnTo>
                <a:lnTo>
                  <a:pt x="3389" y="316"/>
                </a:lnTo>
                <a:lnTo>
                  <a:pt x="3356" y="332"/>
                </a:lnTo>
                <a:lnTo>
                  <a:pt x="3323" y="348"/>
                </a:lnTo>
                <a:lnTo>
                  <a:pt x="3289" y="364"/>
                </a:lnTo>
                <a:lnTo>
                  <a:pt x="3278" y="396"/>
                </a:lnTo>
                <a:lnTo>
                  <a:pt x="3270" y="426"/>
                </a:lnTo>
                <a:lnTo>
                  <a:pt x="3259" y="456"/>
                </a:lnTo>
                <a:lnTo>
                  <a:pt x="3248" y="488"/>
                </a:lnTo>
                <a:lnTo>
                  <a:pt x="3251" y="516"/>
                </a:lnTo>
                <a:lnTo>
                  <a:pt x="3254" y="546"/>
                </a:lnTo>
                <a:lnTo>
                  <a:pt x="3254" y="576"/>
                </a:lnTo>
                <a:lnTo>
                  <a:pt x="3256" y="606"/>
                </a:lnTo>
                <a:lnTo>
                  <a:pt x="3240" y="604"/>
                </a:lnTo>
                <a:lnTo>
                  <a:pt x="3223" y="602"/>
                </a:lnTo>
                <a:lnTo>
                  <a:pt x="3207" y="600"/>
                </a:lnTo>
                <a:lnTo>
                  <a:pt x="3190" y="598"/>
                </a:lnTo>
                <a:lnTo>
                  <a:pt x="3174" y="606"/>
                </a:lnTo>
                <a:lnTo>
                  <a:pt x="3160" y="616"/>
                </a:lnTo>
                <a:lnTo>
                  <a:pt x="3143" y="624"/>
                </a:lnTo>
                <a:lnTo>
                  <a:pt x="3130" y="632"/>
                </a:lnTo>
                <a:lnTo>
                  <a:pt x="3113" y="642"/>
                </a:lnTo>
                <a:lnTo>
                  <a:pt x="3096" y="650"/>
                </a:lnTo>
                <a:lnTo>
                  <a:pt x="3083" y="658"/>
                </a:lnTo>
                <a:lnTo>
                  <a:pt x="3066" y="666"/>
                </a:lnTo>
                <a:lnTo>
                  <a:pt x="3033" y="666"/>
                </a:lnTo>
                <a:lnTo>
                  <a:pt x="2997" y="664"/>
                </a:lnTo>
                <a:lnTo>
                  <a:pt x="2964" y="664"/>
                </a:lnTo>
                <a:lnTo>
                  <a:pt x="2931" y="662"/>
                </a:lnTo>
                <a:lnTo>
                  <a:pt x="2895" y="660"/>
                </a:lnTo>
                <a:lnTo>
                  <a:pt x="2862" y="660"/>
                </a:lnTo>
                <a:lnTo>
                  <a:pt x="2829" y="658"/>
                </a:lnTo>
                <a:lnTo>
                  <a:pt x="2796" y="658"/>
                </a:lnTo>
                <a:lnTo>
                  <a:pt x="2699" y="616"/>
                </a:lnTo>
                <a:lnTo>
                  <a:pt x="2606" y="582"/>
                </a:lnTo>
                <a:lnTo>
                  <a:pt x="2517" y="556"/>
                </a:lnTo>
                <a:lnTo>
                  <a:pt x="2435" y="538"/>
                </a:lnTo>
                <a:lnTo>
                  <a:pt x="2355" y="528"/>
                </a:lnTo>
                <a:lnTo>
                  <a:pt x="2280" y="526"/>
                </a:lnTo>
                <a:lnTo>
                  <a:pt x="2211" y="532"/>
                </a:lnTo>
                <a:lnTo>
                  <a:pt x="2151" y="548"/>
                </a:lnTo>
                <a:lnTo>
                  <a:pt x="2093" y="570"/>
                </a:lnTo>
                <a:lnTo>
                  <a:pt x="2043" y="602"/>
                </a:lnTo>
                <a:lnTo>
                  <a:pt x="1999" y="642"/>
                </a:lnTo>
                <a:lnTo>
                  <a:pt x="1963" y="692"/>
                </a:lnTo>
                <a:lnTo>
                  <a:pt x="1936" y="750"/>
                </a:lnTo>
                <a:lnTo>
                  <a:pt x="1914" y="818"/>
                </a:lnTo>
                <a:lnTo>
                  <a:pt x="1903" y="891"/>
                </a:lnTo>
                <a:lnTo>
                  <a:pt x="1897" y="977"/>
                </a:lnTo>
                <a:lnTo>
                  <a:pt x="1845" y="1007"/>
                </a:lnTo>
                <a:lnTo>
                  <a:pt x="1795" y="1035"/>
                </a:lnTo>
                <a:lnTo>
                  <a:pt x="1743" y="1065"/>
                </a:lnTo>
                <a:lnTo>
                  <a:pt x="1690" y="1093"/>
                </a:lnTo>
                <a:lnTo>
                  <a:pt x="1638" y="1121"/>
                </a:lnTo>
                <a:lnTo>
                  <a:pt x="1588" y="1151"/>
                </a:lnTo>
                <a:lnTo>
                  <a:pt x="1536" y="1179"/>
                </a:lnTo>
                <a:lnTo>
                  <a:pt x="1483" y="1209"/>
                </a:lnTo>
                <a:lnTo>
                  <a:pt x="1412" y="1139"/>
                </a:lnTo>
                <a:lnTo>
                  <a:pt x="1351" y="1089"/>
                </a:lnTo>
                <a:lnTo>
                  <a:pt x="1299" y="1061"/>
                </a:lnTo>
                <a:lnTo>
                  <a:pt x="1257" y="1055"/>
                </a:lnTo>
                <a:lnTo>
                  <a:pt x="1222" y="1071"/>
                </a:lnTo>
                <a:lnTo>
                  <a:pt x="1194" y="1109"/>
                </a:lnTo>
                <a:lnTo>
                  <a:pt x="1172" y="1171"/>
                </a:lnTo>
                <a:lnTo>
                  <a:pt x="1153" y="1255"/>
                </a:lnTo>
                <a:lnTo>
                  <a:pt x="1133" y="1267"/>
                </a:lnTo>
                <a:lnTo>
                  <a:pt x="1111" y="1279"/>
                </a:lnTo>
                <a:lnTo>
                  <a:pt x="1092" y="1291"/>
                </a:lnTo>
                <a:lnTo>
                  <a:pt x="1070" y="1303"/>
                </a:lnTo>
                <a:lnTo>
                  <a:pt x="1051" y="1315"/>
                </a:lnTo>
                <a:lnTo>
                  <a:pt x="1029" y="1327"/>
                </a:lnTo>
                <a:lnTo>
                  <a:pt x="1009" y="1341"/>
                </a:lnTo>
                <a:lnTo>
                  <a:pt x="990" y="1353"/>
                </a:lnTo>
                <a:lnTo>
                  <a:pt x="1001" y="1335"/>
                </a:lnTo>
                <a:lnTo>
                  <a:pt x="1012" y="1317"/>
                </a:lnTo>
                <a:lnTo>
                  <a:pt x="1026" y="1299"/>
                </a:lnTo>
                <a:lnTo>
                  <a:pt x="1037" y="1281"/>
                </a:lnTo>
                <a:lnTo>
                  <a:pt x="1120" y="1201"/>
                </a:lnTo>
                <a:lnTo>
                  <a:pt x="1175" y="1133"/>
                </a:lnTo>
                <a:lnTo>
                  <a:pt x="1205" y="1073"/>
                </a:lnTo>
                <a:lnTo>
                  <a:pt x="1213" y="1023"/>
                </a:lnTo>
                <a:lnTo>
                  <a:pt x="1202" y="981"/>
                </a:lnTo>
                <a:lnTo>
                  <a:pt x="1172" y="947"/>
                </a:lnTo>
                <a:lnTo>
                  <a:pt x="1122" y="921"/>
                </a:lnTo>
                <a:lnTo>
                  <a:pt x="1059" y="899"/>
                </a:lnTo>
                <a:lnTo>
                  <a:pt x="984" y="886"/>
                </a:lnTo>
                <a:lnTo>
                  <a:pt x="896" y="876"/>
                </a:lnTo>
                <a:lnTo>
                  <a:pt x="797" y="870"/>
                </a:lnTo>
                <a:lnTo>
                  <a:pt x="689" y="870"/>
                </a:lnTo>
                <a:lnTo>
                  <a:pt x="579" y="872"/>
                </a:lnTo>
                <a:lnTo>
                  <a:pt x="461" y="876"/>
                </a:lnTo>
                <a:lnTo>
                  <a:pt x="342" y="882"/>
                </a:lnTo>
                <a:lnTo>
                  <a:pt x="221" y="889"/>
                </a:lnTo>
                <a:lnTo>
                  <a:pt x="201" y="917"/>
                </a:lnTo>
                <a:lnTo>
                  <a:pt x="185" y="947"/>
                </a:lnTo>
                <a:lnTo>
                  <a:pt x="165" y="975"/>
                </a:lnTo>
                <a:lnTo>
                  <a:pt x="149" y="1005"/>
                </a:lnTo>
                <a:lnTo>
                  <a:pt x="130" y="1033"/>
                </a:lnTo>
                <a:lnTo>
                  <a:pt x="113" y="1063"/>
                </a:lnTo>
                <a:lnTo>
                  <a:pt x="94" y="1091"/>
                </a:lnTo>
                <a:lnTo>
                  <a:pt x="75" y="1121"/>
                </a:lnTo>
                <a:lnTo>
                  <a:pt x="61" y="1143"/>
                </a:lnTo>
                <a:lnTo>
                  <a:pt x="50" y="1167"/>
                </a:lnTo>
                <a:lnTo>
                  <a:pt x="36" y="1191"/>
                </a:lnTo>
                <a:lnTo>
                  <a:pt x="22" y="1213"/>
                </a:lnTo>
                <a:lnTo>
                  <a:pt x="17" y="1257"/>
                </a:lnTo>
                <a:lnTo>
                  <a:pt x="14" y="1299"/>
                </a:lnTo>
                <a:lnTo>
                  <a:pt x="8" y="1343"/>
                </a:lnTo>
                <a:lnTo>
                  <a:pt x="3" y="1387"/>
                </a:lnTo>
                <a:lnTo>
                  <a:pt x="0" y="1625"/>
                </a:lnTo>
                <a:lnTo>
                  <a:pt x="0" y="1863"/>
                </a:lnTo>
                <a:lnTo>
                  <a:pt x="0" y="2102"/>
                </a:lnTo>
                <a:lnTo>
                  <a:pt x="0" y="2340"/>
                </a:lnTo>
                <a:lnTo>
                  <a:pt x="39" y="2360"/>
                </a:lnTo>
                <a:lnTo>
                  <a:pt x="80" y="2380"/>
                </a:lnTo>
                <a:lnTo>
                  <a:pt x="119" y="2400"/>
                </a:lnTo>
                <a:lnTo>
                  <a:pt x="160" y="2420"/>
                </a:lnTo>
                <a:lnTo>
                  <a:pt x="199" y="2440"/>
                </a:lnTo>
                <a:lnTo>
                  <a:pt x="237" y="2460"/>
                </a:lnTo>
                <a:lnTo>
                  <a:pt x="279" y="2480"/>
                </a:lnTo>
                <a:lnTo>
                  <a:pt x="317" y="2500"/>
                </a:lnTo>
                <a:lnTo>
                  <a:pt x="359" y="2488"/>
                </a:lnTo>
                <a:lnTo>
                  <a:pt x="403" y="2474"/>
                </a:lnTo>
                <a:lnTo>
                  <a:pt x="444" y="2462"/>
                </a:lnTo>
                <a:lnTo>
                  <a:pt x="488" y="2448"/>
                </a:lnTo>
                <a:lnTo>
                  <a:pt x="529" y="2434"/>
                </a:lnTo>
                <a:lnTo>
                  <a:pt x="574" y="2420"/>
                </a:lnTo>
                <a:lnTo>
                  <a:pt x="615" y="2408"/>
                </a:lnTo>
                <a:lnTo>
                  <a:pt x="659" y="2394"/>
                </a:lnTo>
                <a:lnTo>
                  <a:pt x="698" y="2402"/>
                </a:lnTo>
                <a:lnTo>
                  <a:pt x="733" y="2410"/>
                </a:lnTo>
                <a:lnTo>
                  <a:pt x="772" y="2418"/>
                </a:lnTo>
                <a:lnTo>
                  <a:pt x="811" y="2426"/>
                </a:lnTo>
                <a:lnTo>
                  <a:pt x="847" y="2434"/>
                </a:lnTo>
                <a:lnTo>
                  <a:pt x="885" y="2442"/>
                </a:lnTo>
                <a:lnTo>
                  <a:pt x="924" y="2450"/>
                </a:lnTo>
                <a:lnTo>
                  <a:pt x="962" y="2458"/>
                </a:lnTo>
                <a:lnTo>
                  <a:pt x="962" y="2494"/>
                </a:lnTo>
                <a:lnTo>
                  <a:pt x="962" y="2530"/>
                </a:lnTo>
                <a:lnTo>
                  <a:pt x="962" y="2566"/>
                </a:lnTo>
                <a:lnTo>
                  <a:pt x="962" y="2602"/>
                </a:lnTo>
                <a:lnTo>
                  <a:pt x="968" y="2646"/>
                </a:lnTo>
                <a:lnTo>
                  <a:pt x="976" y="2690"/>
                </a:lnTo>
                <a:lnTo>
                  <a:pt x="982" y="2734"/>
                </a:lnTo>
                <a:lnTo>
                  <a:pt x="987" y="2778"/>
                </a:lnTo>
                <a:lnTo>
                  <a:pt x="1031" y="2792"/>
                </a:lnTo>
                <a:lnTo>
                  <a:pt x="1073" y="2806"/>
                </a:lnTo>
                <a:lnTo>
                  <a:pt x="1117" y="2820"/>
                </a:lnTo>
                <a:lnTo>
                  <a:pt x="1158" y="2834"/>
                </a:lnTo>
                <a:lnTo>
                  <a:pt x="1202" y="2848"/>
                </a:lnTo>
                <a:lnTo>
                  <a:pt x="1246" y="2862"/>
                </a:lnTo>
                <a:lnTo>
                  <a:pt x="1288" y="2876"/>
                </a:lnTo>
                <a:lnTo>
                  <a:pt x="1332" y="2889"/>
                </a:lnTo>
                <a:lnTo>
                  <a:pt x="1376" y="2905"/>
                </a:lnTo>
                <a:lnTo>
                  <a:pt x="1417" y="2919"/>
                </a:lnTo>
                <a:lnTo>
                  <a:pt x="1461" y="2933"/>
                </a:lnTo>
                <a:lnTo>
                  <a:pt x="1506" y="2947"/>
                </a:lnTo>
                <a:lnTo>
                  <a:pt x="1547" y="2961"/>
                </a:lnTo>
                <a:lnTo>
                  <a:pt x="1591" y="2975"/>
                </a:lnTo>
                <a:lnTo>
                  <a:pt x="1632" y="2989"/>
                </a:lnTo>
                <a:lnTo>
                  <a:pt x="1676" y="3003"/>
                </a:lnTo>
                <a:lnTo>
                  <a:pt x="1707" y="2993"/>
                </a:lnTo>
                <a:lnTo>
                  <a:pt x="1737" y="2985"/>
                </a:lnTo>
                <a:lnTo>
                  <a:pt x="1767" y="2975"/>
                </a:lnTo>
                <a:lnTo>
                  <a:pt x="1798" y="2967"/>
                </a:lnTo>
                <a:lnTo>
                  <a:pt x="1828" y="2957"/>
                </a:lnTo>
                <a:lnTo>
                  <a:pt x="1858" y="2949"/>
                </a:lnTo>
                <a:lnTo>
                  <a:pt x="1889" y="2939"/>
                </a:lnTo>
                <a:lnTo>
                  <a:pt x="1919" y="2931"/>
                </a:lnTo>
                <a:lnTo>
                  <a:pt x="1938" y="2842"/>
                </a:lnTo>
                <a:lnTo>
                  <a:pt x="1971" y="2756"/>
                </a:lnTo>
                <a:lnTo>
                  <a:pt x="2018" y="2672"/>
                </a:lnTo>
                <a:lnTo>
                  <a:pt x="2074" y="2594"/>
                </a:lnTo>
                <a:lnTo>
                  <a:pt x="2137" y="2520"/>
                </a:lnTo>
                <a:lnTo>
                  <a:pt x="2209" y="2454"/>
                </a:lnTo>
                <a:lnTo>
                  <a:pt x="2286" y="2394"/>
                </a:lnTo>
                <a:lnTo>
                  <a:pt x="2363" y="2344"/>
                </a:lnTo>
                <a:lnTo>
                  <a:pt x="2443" y="2304"/>
                </a:lnTo>
                <a:lnTo>
                  <a:pt x="2523" y="2272"/>
                </a:lnTo>
                <a:lnTo>
                  <a:pt x="2600" y="2252"/>
                </a:lnTo>
                <a:lnTo>
                  <a:pt x="2672" y="2246"/>
                </a:lnTo>
                <a:lnTo>
                  <a:pt x="2738" y="2252"/>
                </a:lnTo>
                <a:lnTo>
                  <a:pt x="2799" y="2272"/>
                </a:lnTo>
                <a:lnTo>
                  <a:pt x="2846" y="2306"/>
                </a:lnTo>
                <a:lnTo>
                  <a:pt x="2884" y="2358"/>
                </a:lnTo>
                <a:lnTo>
                  <a:pt x="2920" y="2346"/>
                </a:lnTo>
                <a:lnTo>
                  <a:pt x="2956" y="2336"/>
                </a:lnTo>
                <a:lnTo>
                  <a:pt x="2989" y="2324"/>
                </a:lnTo>
                <a:lnTo>
                  <a:pt x="3025" y="2312"/>
                </a:lnTo>
                <a:lnTo>
                  <a:pt x="3061" y="2302"/>
                </a:lnTo>
                <a:lnTo>
                  <a:pt x="3096" y="2290"/>
                </a:lnTo>
                <a:lnTo>
                  <a:pt x="3132" y="2278"/>
                </a:lnTo>
                <a:lnTo>
                  <a:pt x="3168" y="2266"/>
                </a:lnTo>
                <a:lnTo>
                  <a:pt x="3201" y="2256"/>
                </a:lnTo>
                <a:lnTo>
                  <a:pt x="3237" y="2244"/>
                </a:lnTo>
                <a:lnTo>
                  <a:pt x="3273" y="2232"/>
                </a:lnTo>
                <a:lnTo>
                  <a:pt x="3309" y="2220"/>
                </a:lnTo>
                <a:lnTo>
                  <a:pt x="3345" y="2208"/>
                </a:lnTo>
                <a:lnTo>
                  <a:pt x="3378" y="2198"/>
                </a:lnTo>
                <a:lnTo>
                  <a:pt x="3414" y="2186"/>
                </a:lnTo>
                <a:lnTo>
                  <a:pt x="3449" y="2174"/>
                </a:lnTo>
                <a:lnTo>
                  <a:pt x="3488" y="2190"/>
                </a:lnTo>
                <a:lnTo>
                  <a:pt x="3527" y="2206"/>
                </a:lnTo>
                <a:lnTo>
                  <a:pt x="3565" y="2220"/>
                </a:lnTo>
                <a:lnTo>
                  <a:pt x="3604" y="2236"/>
                </a:lnTo>
                <a:lnTo>
                  <a:pt x="3640" y="2252"/>
                </a:lnTo>
                <a:lnTo>
                  <a:pt x="3678" y="2266"/>
                </a:lnTo>
                <a:lnTo>
                  <a:pt x="3717" y="2282"/>
                </a:lnTo>
                <a:lnTo>
                  <a:pt x="3755" y="2298"/>
                </a:lnTo>
                <a:lnTo>
                  <a:pt x="3780" y="2302"/>
                </a:lnTo>
                <a:lnTo>
                  <a:pt x="3808" y="2306"/>
                </a:lnTo>
                <a:lnTo>
                  <a:pt x="3833" y="2312"/>
                </a:lnTo>
                <a:lnTo>
                  <a:pt x="3857" y="2316"/>
                </a:lnTo>
                <a:lnTo>
                  <a:pt x="3882" y="2320"/>
                </a:lnTo>
                <a:lnTo>
                  <a:pt x="3907" y="2324"/>
                </a:lnTo>
                <a:lnTo>
                  <a:pt x="3935" y="2328"/>
                </a:lnTo>
                <a:lnTo>
                  <a:pt x="3959" y="2332"/>
                </a:lnTo>
                <a:lnTo>
                  <a:pt x="3990" y="2336"/>
                </a:lnTo>
                <a:lnTo>
                  <a:pt x="4017" y="2340"/>
                </a:lnTo>
                <a:lnTo>
                  <a:pt x="4048" y="2344"/>
                </a:lnTo>
                <a:lnTo>
                  <a:pt x="4075" y="2346"/>
                </a:lnTo>
                <a:lnTo>
                  <a:pt x="4106" y="2350"/>
                </a:lnTo>
                <a:lnTo>
                  <a:pt x="4133" y="2354"/>
                </a:lnTo>
                <a:lnTo>
                  <a:pt x="4164" y="2358"/>
                </a:lnTo>
                <a:lnTo>
                  <a:pt x="4191" y="2360"/>
                </a:lnTo>
                <a:lnTo>
                  <a:pt x="4221" y="2364"/>
                </a:lnTo>
                <a:lnTo>
                  <a:pt x="4249" y="2368"/>
                </a:lnTo>
                <a:lnTo>
                  <a:pt x="4279" y="2372"/>
                </a:lnTo>
                <a:lnTo>
                  <a:pt x="4307" y="2374"/>
                </a:lnTo>
                <a:lnTo>
                  <a:pt x="4337" y="2378"/>
                </a:lnTo>
                <a:lnTo>
                  <a:pt x="4365" y="2382"/>
                </a:lnTo>
                <a:lnTo>
                  <a:pt x="4395" y="2384"/>
                </a:lnTo>
                <a:lnTo>
                  <a:pt x="4423" y="2388"/>
                </a:lnTo>
                <a:lnTo>
                  <a:pt x="4423" y="1863"/>
                </a:lnTo>
                <a:lnTo>
                  <a:pt x="4423" y="1339"/>
                </a:lnTo>
                <a:lnTo>
                  <a:pt x="4423" y="814"/>
                </a:lnTo>
                <a:lnTo>
                  <a:pt x="4423" y="290"/>
                </a:lnTo>
                <a:close/>
              </a:path>
            </a:pathLst>
          </a:custGeom>
          <a:solidFill>
            <a:srgbClr val="44a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868320" y="1266840"/>
            <a:ext cx="7026480" cy="4678200"/>
          </a:xfrm>
          <a:custGeom>
            <a:avLst/>
            <a:gdLst/>
            <a:ahLst/>
            <a:rect l="l" t="t" r="r" b="b"/>
            <a:pathLst>
              <a:path w="4426" h="2947">
                <a:moveTo>
                  <a:pt x="4426" y="294"/>
                </a:moveTo>
                <a:lnTo>
                  <a:pt x="4420" y="234"/>
                </a:lnTo>
                <a:lnTo>
                  <a:pt x="4415" y="174"/>
                </a:lnTo>
                <a:lnTo>
                  <a:pt x="4409" y="114"/>
                </a:lnTo>
                <a:lnTo>
                  <a:pt x="4401" y="54"/>
                </a:lnTo>
                <a:lnTo>
                  <a:pt x="4360" y="48"/>
                </a:lnTo>
                <a:lnTo>
                  <a:pt x="4315" y="40"/>
                </a:lnTo>
                <a:lnTo>
                  <a:pt x="4274" y="34"/>
                </a:lnTo>
                <a:lnTo>
                  <a:pt x="4233" y="26"/>
                </a:lnTo>
                <a:lnTo>
                  <a:pt x="4189" y="20"/>
                </a:lnTo>
                <a:lnTo>
                  <a:pt x="4147" y="14"/>
                </a:lnTo>
                <a:lnTo>
                  <a:pt x="4103" y="6"/>
                </a:lnTo>
                <a:lnTo>
                  <a:pt x="4062" y="0"/>
                </a:lnTo>
                <a:lnTo>
                  <a:pt x="4007" y="16"/>
                </a:lnTo>
                <a:lnTo>
                  <a:pt x="3957" y="30"/>
                </a:lnTo>
                <a:lnTo>
                  <a:pt x="3913" y="44"/>
                </a:lnTo>
                <a:lnTo>
                  <a:pt x="3871" y="58"/>
                </a:lnTo>
                <a:lnTo>
                  <a:pt x="3833" y="72"/>
                </a:lnTo>
                <a:lnTo>
                  <a:pt x="3800" y="86"/>
                </a:lnTo>
                <a:lnTo>
                  <a:pt x="3769" y="100"/>
                </a:lnTo>
                <a:lnTo>
                  <a:pt x="3742" y="114"/>
                </a:lnTo>
                <a:lnTo>
                  <a:pt x="3714" y="128"/>
                </a:lnTo>
                <a:lnTo>
                  <a:pt x="3690" y="144"/>
                </a:lnTo>
                <a:lnTo>
                  <a:pt x="3667" y="160"/>
                </a:lnTo>
                <a:lnTo>
                  <a:pt x="3648" y="178"/>
                </a:lnTo>
                <a:lnTo>
                  <a:pt x="3626" y="196"/>
                </a:lnTo>
                <a:lnTo>
                  <a:pt x="3607" y="216"/>
                </a:lnTo>
                <a:lnTo>
                  <a:pt x="3587" y="238"/>
                </a:lnTo>
                <a:lnTo>
                  <a:pt x="3568" y="262"/>
                </a:lnTo>
                <a:lnTo>
                  <a:pt x="3538" y="278"/>
                </a:lnTo>
                <a:lnTo>
                  <a:pt x="3508" y="294"/>
                </a:lnTo>
                <a:lnTo>
                  <a:pt x="3477" y="310"/>
                </a:lnTo>
                <a:lnTo>
                  <a:pt x="3447" y="326"/>
                </a:lnTo>
                <a:lnTo>
                  <a:pt x="3417" y="342"/>
                </a:lnTo>
                <a:lnTo>
                  <a:pt x="3386" y="358"/>
                </a:lnTo>
                <a:lnTo>
                  <a:pt x="3356" y="374"/>
                </a:lnTo>
                <a:lnTo>
                  <a:pt x="3326" y="390"/>
                </a:lnTo>
                <a:lnTo>
                  <a:pt x="3312" y="416"/>
                </a:lnTo>
                <a:lnTo>
                  <a:pt x="3298" y="440"/>
                </a:lnTo>
                <a:lnTo>
                  <a:pt x="3284" y="466"/>
                </a:lnTo>
                <a:lnTo>
                  <a:pt x="3270" y="492"/>
                </a:lnTo>
                <a:lnTo>
                  <a:pt x="3268" y="520"/>
                </a:lnTo>
                <a:lnTo>
                  <a:pt x="3265" y="548"/>
                </a:lnTo>
                <a:lnTo>
                  <a:pt x="3262" y="576"/>
                </a:lnTo>
                <a:lnTo>
                  <a:pt x="3259" y="604"/>
                </a:lnTo>
                <a:lnTo>
                  <a:pt x="3246" y="606"/>
                </a:lnTo>
                <a:lnTo>
                  <a:pt x="3229" y="606"/>
                </a:lnTo>
                <a:lnTo>
                  <a:pt x="3213" y="608"/>
                </a:lnTo>
                <a:lnTo>
                  <a:pt x="3199" y="608"/>
                </a:lnTo>
                <a:lnTo>
                  <a:pt x="3182" y="618"/>
                </a:lnTo>
                <a:lnTo>
                  <a:pt x="3168" y="628"/>
                </a:lnTo>
                <a:lnTo>
                  <a:pt x="3152" y="638"/>
                </a:lnTo>
                <a:lnTo>
                  <a:pt x="3138" y="648"/>
                </a:lnTo>
                <a:lnTo>
                  <a:pt x="3122" y="658"/>
                </a:lnTo>
                <a:lnTo>
                  <a:pt x="3105" y="668"/>
                </a:lnTo>
                <a:lnTo>
                  <a:pt x="3091" y="678"/>
                </a:lnTo>
                <a:lnTo>
                  <a:pt x="3075" y="688"/>
                </a:lnTo>
                <a:lnTo>
                  <a:pt x="3039" y="684"/>
                </a:lnTo>
                <a:lnTo>
                  <a:pt x="3006" y="680"/>
                </a:lnTo>
                <a:lnTo>
                  <a:pt x="2970" y="676"/>
                </a:lnTo>
                <a:lnTo>
                  <a:pt x="2937" y="672"/>
                </a:lnTo>
                <a:lnTo>
                  <a:pt x="2901" y="670"/>
                </a:lnTo>
                <a:lnTo>
                  <a:pt x="2868" y="666"/>
                </a:lnTo>
                <a:lnTo>
                  <a:pt x="2832" y="662"/>
                </a:lnTo>
                <a:lnTo>
                  <a:pt x="2799" y="658"/>
                </a:lnTo>
                <a:lnTo>
                  <a:pt x="2702" y="616"/>
                </a:lnTo>
                <a:lnTo>
                  <a:pt x="2609" y="582"/>
                </a:lnTo>
                <a:lnTo>
                  <a:pt x="2520" y="556"/>
                </a:lnTo>
                <a:lnTo>
                  <a:pt x="2438" y="536"/>
                </a:lnTo>
                <a:lnTo>
                  <a:pt x="2358" y="526"/>
                </a:lnTo>
                <a:lnTo>
                  <a:pt x="2283" y="524"/>
                </a:lnTo>
                <a:lnTo>
                  <a:pt x="2214" y="530"/>
                </a:lnTo>
                <a:lnTo>
                  <a:pt x="2154" y="546"/>
                </a:lnTo>
                <a:lnTo>
                  <a:pt x="2096" y="570"/>
                </a:lnTo>
                <a:lnTo>
                  <a:pt x="2046" y="600"/>
                </a:lnTo>
                <a:lnTo>
                  <a:pt x="2002" y="642"/>
                </a:lnTo>
                <a:lnTo>
                  <a:pt x="1966" y="690"/>
                </a:lnTo>
                <a:lnTo>
                  <a:pt x="1939" y="750"/>
                </a:lnTo>
                <a:lnTo>
                  <a:pt x="1917" y="816"/>
                </a:lnTo>
                <a:lnTo>
                  <a:pt x="1906" y="891"/>
                </a:lnTo>
                <a:lnTo>
                  <a:pt x="1900" y="977"/>
                </a:lnTo>
                <a:lnTo>
                  <a:pt x="1848" y="1005"/>
                </a:lnTo>
                <a:lnTo>
                  <a:pt x="1798" y="1035"/>
                </a:lnTo>
                <a:lnTo>
                  <a:pt x="1746" y="1063"/>
                </a:lnTo>
                <a:lnTo>
                  <a:pt x="1693" y="1091"/>
                </a:lnTo>
                <a:lnTo>
                  <a:pt x="1641" y="1121"/>
                </a:lnTo>
                <a:lnTo>
                  <a:pt x="1591" y="1149"/>
                </a:lnTo>
                <a:lnTo>
                  <a:pt x="1539" y="1179"/>
                </a:lnTo>
                <a:lnTo>
                  <a:pt x="1486" y="1207"/>
                </a:lnTo>
                <a:lnTo>
                  <a:pt x="1415" y="1141"/>
                </a:lnTo>
                <a:lnTo>
                  <a:pt x="1354" y="1097"/>
                </a:lnTo>
                <a:lnTo>
                  <a:pt x="1304" y="1075"/>
                </a:lnTo>
                <a:lnTo>
                  <a:pt x="1263" y="1075"/>
                </a:lnTo>
                <a:lnTo>
                  <a:pt x="1227" y="1097"/>
                </a:lnTo>
                <a:lnTo>
                  <a:pt x="1202" y="1137"/>
                </a:lnTo>
                <a:lnTo>
                  <a:pt x="1180" y="1199"/>
                </a:lnTo>
                <a:lnTo>
                  <a:pt x="1164" y="1281"/>
                </a:lnTo>
                <a:lnTo>
                  <a:pt x="1142" y="1291"/>
                </a:lnTo>
                <a:lnTo>
                  <a:pt x="1120" y="1303"/>
                </a:lnTo>
                <a:lnTo>
                  <a:pt x="1095" y="1313"/>
                </a:lnTo>
                <a:lnTo>
                  <a:pt x="1073" y="1325"/>
                </a:lnTo>
                <a:lnTo>
                  <a:pt x="1051" y="1337"/>
                </a:lnTo>
                <a:lnTo>
                  <a:pt x="1029" y="1349"/>
                </a:lnTo>
                <a:lnTo>
                  <a:pt x="1004" y="1359"/>
                </a:lnTo>
                <a:lnTo>
                  <a:pt x="982" y="1371"/>
                </a:lnTo>
                <a:lnTo>
                  <a:pt x="987" y="1347"/>
                </a:lnTo>
                <a:lnTo>
                  <a:pt x="996" y="1325"/>
                </a:lnTo>
                <a:lnTo>
                  <a:pt x="1001" y="1301"/>
                </a:lnTo>
                <a:lnTo>
                  <a:pt x="1007" y="1279"/>
                </a:lnTo>
                <a:lnTo>
                  <a:pt x="1084" y="1201"/>
                </a:lnTo>
                <a:lnTo>
                  <a:pt x="1136" y="1131"/>
                </a:lnTo>
                <a:lnTo>
                  <a:pt x="1167" y="1073"/>
                </a:lnTo>
                <a:lnTo>
                  <a:pt x="1175" y="1023"/>
                </a:lnTo>
                <a:lnTo>
                  <a:pt x="1167" y="981"/>
                </a:lnTo>
                <a:lnTo>
                  <a:pt x="1136" y="947"/>
                </a:lnTo>
                <a:lnTo>
                  <a:pt x="1092" y="919"/>
                </a:lnTo>
                <a:lnTo>
                  <a:pt x="1034" y="899"/>
                </a:lnTo>
                <a:lnTo>
                  <a:pt x="960" y="885"/>
                </a:lnTo>
                <a:lnTo>
                  <a:pt x="877" y="875"/>
                </a:lnTo>
                <a:lnTo>
                  <a:pt x="783" y="869"/>
                </a:lnTo>
                <a:lnTo>
                  <a:pt x="681" y="867"/>
                </a:lnTo>
                <a:lnTo>
                  <a:pt x="574" y="869"/>
                </a:lnTo>
                <a:lnTo>
                  <a:pt x="458" y="873"/>
                </a:lnTo>
                <a:lnTo>
                  <a:pt x="342" y="879"/>
                </a:lnTo>
                <a:lnTo>
                  <a:pt x="224" y="887"/>
                </a:lnTo>
                <a:lnTo>
                  <a:pt x="204" y="917"/>
                </a:lnTo>
                <a:lnTo>
                  <a:pt x="188" y="945"/>
                </a:lnTo>
                <a:lnTo>
                  <a:pt x="168" y="975"/>
                </a:lnTo>
                <a:lnTo>
                  <a:pt x="152" y="1003"/>
                </a:lnTo>
                <a:lnTo>
                  <a:pt x="133" y="1031"/>
                </a:lnTo>
                <a:lnTo>
                  <a:pt x="116" y="1061"/>
                </a:lnTo>
                <a:lnTo>
                  <a:pt x="97" y="1089"/>
                </a:lnTo>
                <a:lnTo>
                  <a:pt x="78" y="1119"/>
                </a:lnTo>
                <a:lnTo>
                  <a:pt x="69" y="1143"/>
                </a:lnTo>
                <a:lnTo>
                  <a:pt x="61" y="1167"/>
                </a:lnTo>
                <a:lnTo>
                  <a:pt x="53" y="1193"/>
                </a:lnTo>
                <a:lnTo>
                  <a:pt x="44" y="1217"/>
                </a:lnTo>
                <a:lnTo>
                  <a:pt x="33" y="1259"/>
                </a:lnTo>
                <a:lnTo>
                  <a:pt x="25" y="1301"/>
                </a:lnTo>
                <a:lnTo>
                  <a:pt x="17" y="1343"/>
                </a:lnTo>
                <a:lnTo>
                  <a:pt x="6" y="1385"/>
                </a:lnTo>
                <a:lnTo>
                  <a:pt x="3" y="1613"/>
                </a:lnTo>
                <a:lnTo>
                  <a:pt x="3" y="1841"/>
                </a:lnTo>
                <a:lnTo>
                  <a:pt x="3" y="2068"/>
                </a:lnTo>
                <a:lnTo>
                  <a:pt x="0" y="2296"/>
                </a:lnTo>
                <a:lnTo>
                  <a:pt x="42" y="2316"/>
                </a:lnTo>
                <a:lnTo>
                  <a:pt x="80" y="2336"/>
                </a:lnTo>
                <a:lnTo>
                  <a:pt x="122" y="2356"/>
                </a:lnTo>
                <a:lnTo>
                  <a:pt x="160" y="2378"/>
                </a:lnTo>
                <a:lnTo>
                  <a:pt x="199" y="2398"/>
                </a:lnTo>
                <a:lnTo>
                  <a:pt x="240" y="2418"/>
                </a:lnTo>
                <a:lnTo>
                  <a:pt x="279" y="2440"/>
                </a:lnTo>
                <a:lnTo>
                  <a:pt x="320" y="2460"/>
                </a:lnTo>
                <a:lnTo>
                  <a:pt x="362" y="2446"/>
                </a:lnTo>
                <a:lnTo>
                  <a:pt x="406" y="2432"/>
                </a:lnTo>
                <a:lnTo>
                  <a:pt x="447" y="2418"/>
                </a:lnTo>
                <a:lnTo>
                  <a:pt x="491" y="2406"/>
                </a:lnTo>
                <a:lnTo>
                  <a:pt x="532" y="2392"/>
                </a:lnTo>
                <a:lnTo>
                  <a:pt x="577" y="2378"/>
                </a:lnTo>
                <a:lnTo>
                  <a:pt x="618" y="2364"/>
                </a:lnTo>
                <a:lnTo>
                  <a:pt x="662" y="2352"/>
                </a:lnTo>
                <a:lnTo>
                  <a:pt x="701" y="2360"/>
                </a:lnTo>
                <a:lnTo>
                  <a:pt x="742" y="2366"/>
                </a:lnTo>
                <a:lnTo>
                  <a:pt x="781" y="2374"/>
                </a:lnTo>
                <a:lnTo>
                  <a:pt x="819" y="2382"/>
                </a:lnTo>
                <a:lnTo>
                  <a:pt x="858" y="2390"/>
                </a:lnTo>
                <a:lnTo>
                  <a:pt x="899" y="2396"/>
                </a:lnTo>
                <a:lnTo>
                  <a:pt x="938" y="2404"/>
                </a:lnTo>
                <a:lnTo>
                  <a:pt x="979" y="2410"/>
                </a:lnTo>
                <a:lnTo>
                  <a:pt x="979" y="2446"/>
                </a:lnTo>
                <a:lnTo>
                  <a:pt x="979" y="2482"/>
                </a:lnTo>
                <a:lnTo>
                  <a:pt x="979" y="2518"/>
                </a:lnTo>
                <a:lnTo>
                  <a:pt x="979" y="2552"/>
                </a:lnTo>
                <a:lnTo>
                  <a:pt x="985" y="2596"/>
                </a:lnTo>
                <a:lnTo>
                  <a:pt x="993" y="2642"/>
                </a:lnTo>
                <a:lnTo>
                  <a:pt x="998" y="2686"/>
                </a:lnTo>
                <a:lnTo>
                  <a:pt x="1004" y="2730"/>
                </a:lnTo>
                <a:lnTo>
                  <a:pt x="1045" y="2744"/>
                </a:lnTo>
                <a:lnTo>
                  <a:pt x="1089" y="2758"/>
                </a:lnTo>
                <a:lnTo>
                  <a:pt x="1131" y="2770"/>
                </a:lnTo>
                <a:lnTo>
                  <a:pt x="1172" y="2784"/>
                </a:lnTo>
                <a:lnTo>
                  <a:pt x="1216" y="2798"/>
                </a:lnTo>
                <a:lnTo>
                  <a:pt x="1258" y="2812"/>
                </a:lnTo>
                <a:lnTo>
                  <a:pt x="1299" y="2826"/>
                </a:lnTo>
                <a:lnTo>
                  <a:pt x="1343" y="2838"/>
                </a:lnTo>
                <a:lnTo>
                  <a:pt x="1384" y="2852"/>
                </a:lnTo>
                <a:lnTo>
                  <a:pt x="1426" y="2865"/>
                </a:lnTo>
                <a:lnTo>
                  <a:pt x="1467" y="2879"/>
                </a:lnTo>
                <a:lnTo>
                  <a:pt x="1511" y="2893"/>
                </a:lnTo>
                <a:lnTo>
                  <a:pt x="1553" y="2907"/>
                </a:lnTo>
                <a:lnTo>
                  <a:pt x="1594" y="2919"/>
                </a:lnTo>
                <a:lnTo>
                  <a:pt x="1638" y="2933"/>
                </a:lnTo>
                <a:lnTo>
                  <a:pt x="1679" y="2947"/>
                </a:lnTo>
                <a:lnTo>
                  <a:pt x="1710" y="2939"/>
                </a:lnTo>
                <a:lnTo>
                  <a:pt x="1740" y="2931"/>
                </a:lnTo>
                <a:lnTo>
                  <a:pt x="1770" y="2921"/>
                </a:lnTo>
                <a:lnTo>
                  <a:pt x="1801" y="2913"/>
                </a:lnTo>
                <a:lnTo>
                  <a:pt x="1831" y="2903"/>
                </a:lnTo>
                <a:lnTo>
                  <a:pt x="1861" y="2895"/>
                </a:lnTo>
                <a:lnTo>
                  <a:pt x="1892" y="2885"/>
                </a:lnTo>
                <a:lnTo>
                  <a:pt x="1922" y="2877"/>
                </a:lnTo>
                <a:lnTo>
                  <a:pt x="1941" y="2788"/>
                </a:lnTo>
                <a:lnTo>
                  <a:pt x="1974" y="2700"/>
                </a:lnTo>
                <a:lnTo>
                  <a:pt x="2021" y="2616"/>
                </a:lnTo>
                <a:lnTo>
                  <a:pt x="2079" y="2538"/>
                </a:lnTo>
                <a:lnTo>
                  <a:pt x="2145" y="2464"/>
                </a:lnTo>
                <a:lnTo>
                  <a:pt x="2217" y="2398"/>
                </a:lnTo>
                <a:lnTo>
                  <a:pt x="2294" y="2338"/>
                </a:lnTo>
                <a:lnTo>
                  <a:pt x="2374" y="2286"/>
                </a:lnTo>
                <a:lnTo>
                  <a:pt x="2457" y="2246"/>
                </a:lnTo>
                <a:lnTo>
                  <a:pt x="2537" y="2214"/>
                </a:lnTo>
                <a:lnTo>
                  <a:pt x="2614" y="2194"/>
                </a:lnTo>
                <a:lnTo>
                  <a:pt x="2689" y="2186"/>
                </a:lnTo>
                <a:lnTo>
                  <a:pt x="2755" y="2192"/>
                </a:lnTo>
                <a:lnTo>
                  <a:pt x="2815" y="2214"/>
                </a:lnTo>
                <a:lnTo>
                  <a:pt x="2865" y="2248"/>
                </a:lnTo>
                <a:lnTo>
                  <a:pt x="2901" y="2300"/>
                </a:lnTo>
                <a:lnTo>
                  <a:pt x="2937" y="2288"/>
                </a:lnTo>
                <a:lnTo>
                  <a:pt x="2970" y="2276"/>
                </a:lnTo>
                <a:lnTo>
                  <a:pt x="3006" y="2264"/>
                </a:lnTo>
                <a:lnTo>
                  <a:pt x="3039" y="2252"/>
                </a:lnTo>
                <a:lnTo>
                  <a:pt x="3075" y="2240"/>
                </a:lnTo>
                <a:lnTo>
                  <a:pt x="3108" y="2228"/>
                </a:lnTo>
                <a:lnTo>
                  <a:pt x="3144" y="2216"/>
                </a:lnTo>
                <a:lnTo>
                  <a:pt x="3177" y="2204"/>
                </a:lnTo>
                <a:lnTo>
                  <a:pt x="3213" y="2192"/>
                </a:lnTo>
                <a:lnTo>
                  <a:pt x="3246" y="2180"/>
                </a:lnTo>
                <a:lnTo>
                  <a:pt x="3281" y="2168"/>
                </a:lnTo>
                <a:lnTo>
                  <a:pt x="3315" y="2156"/>
                </a:lnTo>
                <a:lnTo>
                  <a:pt x="3350" y="2144"/>
                </a:lnTo>
                <a:lnTo>
                  <a:pt x="3383" y="2132"/>
                </a:lnTo>
                <a:lnTo>
                  <a:pt x="3419" y="2120"/>
                </a:lnTo>
                <a:lnTo>
                  <a:pt x="3452" y="2108"/>
                </a:lnTo>
                <a:lnTo>
                  <a:pt x="3494" y="2120"/>
                </a:lnTo>
                <a:lnTo>
                  <a:pt x="3532" y="2134"/>
                </a:lnTo>
                <a:lnTo>
                  <a:pt x="3574" y="2146"/>
                </a:lnTo>
                <a:lnTo>
                  <a:pt x="3612" y="2160"/>
                </a:lnTo>
                <a:lnTo>
                  <a:pt x="3651" y="2174"/>
                </a:lnTo>
                <a:lnTo>
                  <a:pt x="3692" y="2186"/>
                </a:lnTo>
                <a:lnTo>
                  <a:pt x="3731" y="2200"/>
                </a:lnTo>
                <a:lnTo>
                  <a:pt x="3772" y="2212"/>
                </a:lnTo>
                <a:lnTo>
                  <a:pt x="3797" y="2218"/>
                </a:lnTo>
                <a:lnTo>
                  <a:pt x="3822" y="2226"/>
                </a:lnTo>
                <a:lnTo>
                  <a:pt x="3844" y="2232"/>
                </a:lnTo>
                <a:lnTo>
                  <a:pt x="3869" y="2240"/>
                </a:lnTo>
                <a:lnTo>
                  <a:pt x="3891" y="2248"/>
                </a:lnTo>
                <a:lnTo>
                  <a:pt x="3916" y="2254"/>
                </a:lnTo>
                <a:lnTo>
                  <a:pt x="3938" y="2262"/>
                </a:lnTo>
                <a:lnTo>
                  <a:pt x="3962" y="2268"/>
                </a:lnTo>
                <a:lnTo>
                  <a:pt x="3993" y="2272"/>
                </a:lnTo>
                <a:lnTo>
                  <a:pt x="4020" y="2274"/>
                </a:lnTo>
                <a:lnTo>
                  <a:pt x="4051" y="2278"/>
                </a:lnTo>
                <a:lnTo>
                  <a:pt x="4078" y="2282"/>
                </a:lnTo>
                <a:lnTo>
                  <a:pt x="4109" y="2284"/>
                </a:lnTo>
                <a:lnTo>
                  <a:pt x="4136" y="2288"/>
                </a:lnTo>
                <a:lnTo>
                  <a:pt x="4167" y="2292"/>
                </a:lnTo>
                <a:lnTo>
                  <a:pt x="4194" y="2294"/>
                </a:lnTo>
                <a:lnTo>
                  <a:pt x="4224" y="2298"/>
                </a:lnTo>
                <a:lnTo>
                  <a:pt x="4252" y="2302"/>
                </a:lnTo>
                <a:lnTo>
                  <a:pt x="4282" y="2306"/>
                </a:lnTo>
                <a:lnTo>
                  <a:pt x="4310" y="2308"/>
                </a:lnTo>
                <a:lnTo>
                  <a:pt x="4340" y="2312"/>
                </a:lnTo>
                <a:lnTo>
                  <a:pt x="4368" y="2316"/>
                </a:lnTo>
                <a:lnTo>
                  <a:pt x="4398" y="2318"/>
                </a:lnTo>
                <a:lnTo>
                  <a:pt x="4426" y="2322"/>
                </a:lnTo>
                <a:lnTo>
                  <a:pt x="4426" y="1815"/>
                </a:lnTo>
                <a:lnTo>
                  <a:pt x="4426" y="1307"/>
                </a:lnTo>
                <a:lnTo>
                  <a:pt x="4426" y="802"/>
                </a:lnTo>
                <a:lnTo>
                  <a:pt x="4426" y="294"/>
                </a:lnTo>
                <a:close/>
              </a:path>
            </a:pathLst>
          </a:custGeom>
          <a:solidFill>
            <a:srgbClr val="59b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865080" y="1301760"/>
            <a:ext cx="7029720" cy="4595760"/>
          </a:xfrm>
          <a:custGeom>
            <a:avLst/>
            <a:gdLst/>
            <a:ahLst/>
            <a:rect l="l" t="t" r="r" b="b"/>
            <a:pathLst>
              <a:path w="4428" h="2895">
                <a:moveTo>
                  <a:pt x="4428" y="300"/>
                </a:moveTo>
                <a:lnTo>
                  <a:pt x="4422" y="242"/>
                </a:lnTo>
                <a:lnTo>
                  <a:pt x="4417" y="182"/>
                </a:lnTo>
                <a:lnTo>
                  <a:pt x="4411" y="122"/>
                </a:lnTo>
                <a:lnTo>
                  <a:pt x="4403" y="64"/>
                </a:lnTo>
                <a:lnTo>
                  <a:pt x="4362" y="56"/>
                </a:lnTo>
                <a:lnTo>
                  <a:pt x="4317" y="48"/>
                </a:lnTo>
                <a:lnTo>
                  <a:pt x="4276" y="40"/>
                </a:lnTo>
                <a:lnTo>
                  <a:pt x="4235" y="32"/>
                </a:lnTo>
                <a:lnTo>
                  <a:pt x="4191" y="24"/>
                </a:lnTo>
                <a:lnTo>
                  <a:pt x="4149" y="16"/>
                </a:lnTo>
                <a:lnTo>
                  <a:pt x="4105" y="8"/>
                </a:lnTo>
                <a:lnTo>
                  <a:pt x="4064" y="0"/>
                </a:lnTo>
                <a:lnTo>
                  <a:pt x="4011" y="16"/>
                </a:lnTo>
                <a:lnTo>
                  <a:pt x="3962" y="32"/>
                </a:lnTo>
                <a:lnTo>
                  <a:pt x="3918" y="46"/>
                </a:lnTo>
                <a:lnTo>
                  <a:pt x="3876" y="60"/>
                </a:lnTo>
                <a:lnTo>
                  <a:pt x="3838" y="76"/>
                </a:lnTo>
                <a:lnTo>
                  <a:pt x="3805" y="90"/>
                </a:lnTo>
                <a:lnTo>
                  <a:pt x="3774" y="106"/>
                </a:lnTo>
                <a:lnTo>
                  <a:pt x="3747" y="122"/>
                </a:lnTo>
                <a:lnTo>
                  <a:pt x="3719" y="138"/>
                </a:lnTo>
                <a:lnTo>
                  <a:pt x="3697" y="154"/>
                </a:lnTo>
                <a:lnTo>
                  <a:pt x="3675" y="174"/>
                </a:lnTo>
                <a:lnTo>
                  <a:pt x="3653" y="192"/>
                </a:lnTo>
                <a:lnTo>
                  <a:pt x="3634" y="214"/>
                </a:lnTo>
                <a:lnTo>
                  <a:pt x="3614" y="236"/>
                </a:lnTo>
                <a:lnTo>
                  <a:pt x="3598" y="260"/>
                </a:lnTo>
                <a:lnTo>
                  <a:pt x="3578" y="286"/>
                </a:lnTo>
                <a:lnTo>
                  <a:pt x="3551" y="302"/>
                </a:lnTo>
                <a:lnTo>
                  <a:pt x="3523" y="318"/>
                </a:lnTo>
                <a:lnTo>
                  <a:pt x="3496" y="334"/>
                </a:lnTo>
                <a:lnTo>
                  <a:pt x="3471" y="350"/>
                </a:lnTo>
                <a:lnTo>
                  <a:pt x="3443" y="368"/>
                </a:lnTo>
                <a:lnTo>
                  <a:pt x="3416" y="384"/>
                </a:lnTo>
                <a:lnTo>
                  <a:pt x="3388" y="400"/>
                </a:lnTo>
                <a:lnTo>
                  <a:pt x="3361" y="416"/>
                </a:lnTo>
                <a:lnTo>
                  <a:pt x="3341" y="436"/>
                </a:lnTo>
                <a:lnTo>
                  <a:pt x="3325" y="458"/>
                </a:lnTo>
                <a:lnTo>
                  <a:pt x="3308" y="478"/>
                </a:lnTo>
                <a:lnTo>
                  <a:pt x="3289" y="500"/>
                </a:lnTo>
                <a:lnTo>
                  <a:pt x="3283" y="526"/>
                </a:lnTo>
                <a:lnTo>
                  <a:pt x="3275" y="552"/>
                </a:lnTo>
                <a:lnTo>
                  <a:pt x="3267" y="578"/>
                </a:lnTo>
                <a:lnTo>
                  <a:pt x="3261" y="604"/>
                </a:lnTo>
                <a:lnTo>
                  <a:pt x="3248" y="608"/>
                </a:lnTo>
                <a:lnTo>
                  <a:pt x="3234" y="612"/>
                </a:lnTo>
                <a:lnTo>
                  <a:pt x="3223" y="616"/>
                </a:lnTo>
                <a:lnTo>
                  <a:pt x="3209" y="620"/>
                </a:lnTo>
                <a:lnTo>
                  <a:pt x="3192" y="632"/>
                </a:lnTo>
                <a:lnTo>
                  <a:pt x="3176" y="644"/>
                </a:lnTo>
                <a:lnTo>
                  <a:pt x="3159" y="656"/>
                </a:lnTo>
                <a:lnTo>
                  <a:pt x="3146" y="666"/>
                </a:lnTo>
                <a:lnTo>
                  <a:pt x="3129" y="678"/>
                </a:lnTo>
                <a:lnTo>
                  <a:pt x="3112" y="690"/>
                </a:lnTo>
                <a:lnTo>
                  <a:pt x="3096" y="700"/>
                </a:lnTo>
                <a:lnTo>
                  <a:pt x="3079" y="712"/>
                </a:lnTo>
                <a:lnTo>
                  <a:pt x="3044" y="706"/>
                </a:lnTo>
                <a:lnTo>
                  <a:pt x="3010" y="698"/>
                </a:lnTo>
                <a:lnTo>
                  <a:pt x="2975" y="692"/>
                </a:lnTo>
                <a:lnTo>
                  <a:pt x="2939" y="684"/>
                </a:lnTo>
                <a:lnTo>
                  <a:pt x="2903" y="678"/>
                </a:lnTo>
                <a:lnTo>
                  <a:pt x="2870" y="672"/>
                </a:lnTo>
                <a:lnTo>
                  <a:pt x="2834" y="664"/>
                </a:lnTo>
                <a:lnTo>
                  <a:pt x="2801" y="658"/>
                </a:lnTo>
                <a:lnTo>
                  <a:pt x="2704" y="616"/>
                </a:lnTo>
                <a:lnTo>
                  <a:pt x="2611" y="582"/>
                </a:lnTo>
                <a:lnTo>
                  <a:pt x="2522" y="556"/>
                </a:lnTo>
                <a:lnTo>
                  <a:pt x="2440" y="536"/>
                </a:lnTo>
                <a:lnTo>
                  <a:pt x="2360" y="526"/>
                </a:lnTo>
                <a:lnTo>
                  <a:pt x="2285" y="526"/>
                </a:lnTo>
                <a:lnTo>
                  <a:pt x="2216" y="532"/>
                </a:lnTo>
                <a:lnTo>
                  <a:pt x="2156" y="546"/>
                </a:lnTo>
                <a:lnTo>
                  <a:pt x="2098" y="570"/>
                </a:lnTo>
                <a:lnTo>
                  <a:pt x="2048" y="602"/>
                </a:lnTo>
                <a:lnTo>
                  <a:pt x="2004" y="642"/>
                </a:lnTo>
                <a:lnTo>
                  <a:pt x="1968" y="692"/>
                </a:lnTo>
                <a:lnTo>
                  <a:pt x="1941" y="750"/>
                </a:lnTo>
                <a:lnTo>
                  <a:pt x="1919" y="816"/>
                </a:lnTo>
                <a:lnTo>
                  <a:pt x="1908" y="891"/>
                </a:lnTo>
                <a:lnTo>
                  <a:pt x="1902" y="977"/>
                </a:lnTo>
                <a:lnTo>
                  <a:pt x="1850" y="1007"/>
                </a:lnTo>
                <a:lnTo>
                  <a:pt x="1800" y="1035"/>
                </a:lnTo>
                <a:lnTo>
                  <a:pt x="1748" y="1065"/>
                </a:lnTo>
                <a:lnTo>
                  <a:pt x="1695" y="1093"/>
                </a:lnTo>
                <a:lnTo>
                  <a:pt x="1643" y="1121"/>
                </a:lnTo>
                <a:lnTo>
                  <a:pt x="1593" y="1151"/>
                </a:lnTo>
                <a:lnTo>
                  <a:pt x="1541" y="1179"/>
                </a:lnTo>
                <a:lnTo>
                  <a:pt x="1488" y="1209"/>
                </a:lnTo>
                <a:lnTo>
                  <a:pt x="1417" y="1147"/>
                </a:lnTo>
                <a:lnTo>
                  <a:pt x="1356" y="1107"/>
                </a:lnTo>
                <a:lnTo>
                  <a:pt x="1306" y="1091"/>
                </a:lnTo>
                <a:lnTo>
                  <a:pt x="1265" y="1097"/>
                </a:lnTo>
                <a:lnTo>
                  <a:pt x="1232" y="1123"/>
                </a:lnTo>
                <a:lnTo>
                  <a:pt x="1204" y="1167"/>
                </a:lnTo>
                <a:lnTo>
                  <a:pt x="1188" y="1229"/>
                </a:lnTo>
                <a:lnTo>
                  <a:pt x="1174" y="1309"/>
                </a:lnTo>
                <a:lnTo>
                  <a:pt x="1149" y="1319"/>
                </a:lnTo>
                <a:lnTo>
                  <a:pt x="1125" y="1329"/>
                </a:lnTo>
                <a:lnTo>
                  <a:pt x="1100" y="1339"/>
                </a:lnTo>
                <a:lnTo>
                  <a:pt x="1075" y="1349"/>
                </a:lnTo>
                <a:lnTo>
                  <a:pt x="1050" y="1359"/>
                </a:lnTo>
                <a:lnTo>
                  <a:pt x="1025" y="1371"/>
                </a:lnTo>
                <a:lnTo>
                  <a:pt x="1000" y="1381"/>
                </a:lnTo>
                <a:lnTo>
                  <a:pt x="976" y="1391"/>
                </a:lnTo>
                <a:lnTo>
                  <a:pt x="976" y="1363"/>
                </a:lnTo>
                <a:lnTo>
                  <a:pt x="976" y="1335"/>
                </a:lnTo>
                <a:lnTo>
                  <a:pt x="976" y="1307"/>
                </a:lnTo>
                <a:lnTo>
                  <a:pt x="976" y="1279"/>
                </a:lnTo>
                <a:lnTo>
                  <a:pt x="1047" y="1201"/>
                </a:lnTo>
                <a:lnTo>
                  <a:pt x="1097" y="1131"/>
                </a:lnTo>
                <a:lnTo>
                  <a:pt x="1127" y="1073"/>
                </a:lnTo>
                <a:lnTo>
                  <a:pt x="1136" y="1023"/>
                </a:lnTo>
                <a:lnTo>
                  <a:pt x="1127" y="981"/>
                </a:lnTo>
                <a:lnTo>
                  <a:pt x="1102" y="947"/>
                </a:lnTo>
                <a:lnTo>
                  <a:pt x="1061" y="921"/>
                </a:lnTo>
                <a:lnTo>
                  <a:pt x="1006" y="899"/>
                </a:lnTo>
                <a:lnTo>
                  <a:pt x="937" y="885"/>
                </a:lnTo>
                <a:lnTo>
                  <a:pt x="857" y="875"/>
                </a:lnTo>
                <a:lnTo>
                  <a:pt x="769" y="869"/>
                </a:lnTo>
                <a:lnTo>
                  <a:pt x="672" y="869"/>
                </a:lnTo>
                <a:lnTo>
                  <a:pt x="568" y="871"/>
                </a:lnTo>
                <a:lnTo>
                  <a:pt x="457" y="875"/>
                </a:lnTo>
                <a:lnTo>
                  <a:pt x="341" y="881"/>
                </a:lnTo>
                <a:lnTo>
                  <a:pt x="226" y="889"/>
                </a:lnTo>
                <a:lnTo>
                  <a:pt x="206" y="917"/>
                </a:lnTo>
                <a:lnTo>
                  <a:pt x="190" y="947"/>
                </a:lnTo>
                <a:lnTo>
                  <a:pt x="170" y="975"/>
                </a:lnTo>
                <a:lnTo>
                  <a:pt x="154" y="1003"/>
                </a:lnTo>
                <a:lnTo>
                  <a:pt x="135" y="1033"/>
                </a:lnTo>
                <a:lnTo>
                  <a:pt x="118" y="1061"/>
                </a:lnTo>
                <a:lnTo>
                  <a:pt x="99" y="1089"/>
                </a:lnTo>
                <a:lnTo>
                  <a:pt x="80" y="1117"/>
                </a:lnTo>
                <a:lnTo>
                  <a:pt x="77" y="1143"/>
                </a:lnTo>
                <a:lnTo>
                  <a:pt x="74" y="1171"/>
                </a:lnTo>
                <a:lnTo>
                  <a:pt x="68" y="1197"/>
                </a:lnTo>
                <a:lnTo>
                  <a:pt x="66" y="1223"/>
                </a:lnTo>
                <a:lnTo>
                  <a:pt x="52" y="1263"/>
                </a:lnTo>
                <a:lnTo>
                  <a:pt x="38" y="1303"/>
                </a:lnTo>
                <a:lnTo>
                  <a:pt x="22" y="1345"/>
                </a:lnTo>
                <a:lnTo>
                  <a:pt x="8" y="1385"/>
                </a:lnTo>
                <a:lnTo>
                  <a:pt x="5" y="1603"/>
                </a:lnTo>
                <a:lnTo>
                  <a:pt x="5" y="1819"/>
                </a:lnTo>
                <a:lnTo>
                  <a:pt x="2" y="2036"/>
                </a:lnTo>
                <a:lnTo>
                  <a:pt x="0" y="2254"/>
                </a:lnTo>
                <a:lnTo>
                  <a:pt x="41" y="2274"/>
                </a:lnTo>
                <a:lnTo>
                  <a:pt x="80" y="2296"/>
                </a:lnTo>
                <a:lnTo>
                  <a:pt x="121" y="2316"/>
                </a:lnTo>
                <a:lnTo>
                  <a:pt x="162" y="2336"/>
                </a:lnTo>
                <a:lnTo>
                  <a:pt x="201" y="2358"/>
                </a:lnTo>
                <a:lnTo>
                  <a:pt x="242" y="2378"/>
                </a:lnTo>
                <a:lnTo>
                  <a:pt x="281" y="2400"/>
                </a:lnTo>
                <a:lnTo>
                  <a:pt x="322" y="2420"/>
                </a:lnTo>
                <a:lnTo>
                  <a:pt x="364" y="2406"/>
                </a:lnTo>
                <a:lnTo>
                  <a:pt x="408" y="2392"/>
                </a:lnTo>
                <a:lnTo>
                  <a:pt x="449" y="2380"/>
                </a:lnTo>
                <a:lnTo>
                  <a:pt x="493" y="2366"/>
                </a:lnTo>
                <a:lnTo>
                  <a:pt x="534" y="2352"/>
                </a:lnTo>
                <a:lnTo>
                  <a:pt x="579" y="2338"/>
                </a:lnTo>
                <a:lnTo>
                  <a:pt x="620" y="2326"/>
                </a:lnTo>
                <a:lnTo>
                  <a:pt x="664" y="2312"/>
                </a:lnTo>
                <a:lnTo>
                  <a:pt x="705" y="2318"/>
                </a:lnTo>
                <a:lnTo>
                  <a:pt x="747" y="2326"/>
                </a:lnTo>
                <a:lnTo>
                  <a:pt x="788" y="2332"/>
                </a:lnTo>
                <a:lnTo>
                  <a:pt x="829" y="2338"/>
                </a:lnTo>
                <a:lnTo>
                  <a:pt x="871" y="2346"/>
                </a:lnTo>
                <a:lnTo>
                  <a:pt x="912" y="2352"/>
                </a:lnTo>
                <a:lnTo>
                  <a:pt x="954" y="2358"/>
                </a:lnTo>
                <a:lnTo>
                  <a:pt x="995" y="2364"/>
                </a:lnTo>
                <a:lnTo>
                  <a:pt x="995" y="2400"/>
                </a:lnTo>
                <a:lnTo>
                  <a:pt x="995" y="2436"/>
                </a:lnTo>
                <a:lnTo>
                  <a:pt x="995" y="2472"/>
                </a:lnTo>
                <a:lnTo>
                  <a:pt x="995" y="2506"/>
                </a:lnTo>
                <a:lnTo>
                  <a:pt x="1000" y="2550"/>
                </a:lnTo>
                <a:lnTo>
                  <a:pt x="1006" y="2596"/>
                </a:lnTo>
                <a:lnTo>
                  <a:pt x="1011" y="2640"/>
                </a:lnTo>
                <a:lnTo>
                  <a:pt x="1017" y="2684"/>
                </a:lnTo>
                <a:lnTo>
                  <a:pt x="1058" y="2698"/>
                </a:lnTo>
                <a:lnTo>
                  <a:pt x="1100" y="2710"/>
                </a:lnTo>
                <a:lnTo>
                  <a:pt x="1141" y="2724"/>
                </a:lnTo>
                <a:lnTo>
                  <a:pt x="1185" y="2738"/>
                </a:lnTo>
                <a:lnTo>
                  <a:pt x="1227" y="2750"/>
                </a:lnTo>
                <a:lnTo>
                  <a:pt x="1268" y="2764"/>
                </a:lnTo>
                <a:lnTo>
                  <a:pt x="1309" y="2778"/>
                </a:lnTo>
                <a:lnTo>
                  <a:pt x="1351" y="2790"/>
                </a:lnTo>
                <a:lnTo>
                  <a:pt x="1392" y="2804"/>
                </a:lnTo>
                <a:lnTo>
                  <a:pt x="1433" y="2818"/>
                </a:lnTo>
                <a:lnTo>
                  <a:pt x="1475" y="2830"/>
                </a:lnTo>
                <a:lnTo>
                  <a:pt x="1516" y="2843"/>
                </a:lnTo>
                <a:lnTo>
                  <a:pt x="1557" y="2855"/>
                </a:lnTo>
                <a:lnTo>
                  <a:pt x="1599" y="2869"/>
                </a:lnTo>
                <a:lnTo>
                  <a:pt x="1640" y="2881"/>
                </a:lnTo>
                <a:lnTo>
                  <a:pt x="1681" y="2895"/>
                </a:lnTo>
                <a:lnTo>
                  <a:pt x="1712" y="2885"/>
                </a:lnTo>
                <a:lnTo>
                  <a:pt x="1742" y="2877"/>
                </a:lnTo>
                <a:lnTo>
                  <a:pt x="1772" y="2867"/>
                </a:lnTo>
                <a:lnTo>
                  <a:pt x="1803" y="2859"/>
                </a:lnTo>
                <a:lnTo>
                  <a:pt x="1833" y="2849"/>
                </a:lnTo>
                <a:lnTo>
                  <a:pt x="1863" y="2841"/>
                </a:lnTo>
                <a:lnTo>
                  <a:pt x="1894" y="2833"/>
                </a:lnTo>
                <a:lnTo>
                  <a:pt x="1924" y="2826"/>
                </a:lnTo>
                <a:lnTo>
                  <a:pt x="1943" y="2736"/>
                </a:lnTo>
                <a:lnTo>
                  <a:pt x="1979" y="2648"/>
                </a:lnTo>
                <a:lnTo>
                  <a:pt x="2026" y="2564"/>
                </a:lnTo>
                <a:lnTo>
                  <a:pt x="2084" y="2484"/>
                </a:lnTo>
                <a:lnTo>
                  <a:pt x="2150" y="2410"/>
                </a:lnTo>
                <a:lnTo>
                  <a:pt x="2225" y="2344"/>
                </a:lnTo>
                <a:lnTo>
                  <a:pt x="2302" y="2284"/>
                </a:lnTo>
                <a:lnTo>
                  <a:pt x="2385" y="2232"/>
                </a:lnTo>
                <a:lnTo>
                  <a:pt x="2467" y="2190"/>
                </a:lnTo>
                <a:lnTo>
                  <a:pt x="2547" y="2158"/>
                </a:lnTo>
                <a:lnTo>
                  <a:pt x="2627" y="2138"/>
                </a:lnTo>
                <a:lnTo>
                  <a:pt x="2704" y="2130"/>
                </a:lnTo>
                <a:lnTo>
                  <a:pt x="2771" y="2136"/>
                </a:lnTo>
                <a:lnTo>
                  <a:pt x="2831" y="2156"/>
                </a:lnTo>
                <a:lnTo>
                  <a:pt x="2881" y="2190"/>
                </a:lnTo>
                <a:lnTo>
                  <a:pt x="2919" y="2242"/>
                </a:lnTo>
                <a:lnTo>
                  <a:pt x="2953" y="2230"/>
                </a:lnTo>
                <a:lnTo>
                  <a:pt x="2986" y="2218"/>
                </a:lnTo>
                <a:lnTo>
                  <a:pt x="3021" y="2204"/>
                </a:lnTo>
                <a:lnTo>
                  <a:pt x="3055" y="2192"/>
                </a:lnTo>
                <a:lnTo>
                  <a:pt x="3088" y="2180"/>
                </a:lnTo>
                <a:lnTo>
                  <a:pt x="3121" y="2168"/>
                </a:lnTo>
                <a:lnTo>
                  <a:pt x="3154" y="2156"/>
                </a:lnTo>
                <a:lnTo>
                  <a:pt x="3187" y="2142"/>
                </a:lnTo>
                <a:lnTo>
                  <a:pt x="3223" y="2130"/>
                </a:lnTo>
                <a:lnTo>
                  <a:pt x="3256" y="2118"/>
                </a:lnTo>
                <a:lnTo>
                  <a:pt x="3289" y="2106"/>
                </a:lnTo>
                <a:lnTo>
                  <a:pt x="3322" y="2094"/>
                </a:lnTo>
                <a:lnTo>
                  <a:pt x="3355" y="2082"/>
                </a:lnTo>
                <a:lnTo>
                  <a:pt x="3388" y="2068"/>
                </a:lnTo>
                <a:lnTo>
                  <a:pt x="3421" y="2056"/>
                </a:lnTo>
                <a:lnTo>
                  <a:pt x="3454" y="2044"/>
                </a:lnTo>
                <a:lnTo>
                  <a:pt x="3496" y="2054"/>
                </a:lnTo>
                <a:lnTo>
                  <a:pt x="3537" y="2064"/>
                </a:lnTo>
                <a:lnTo>
                  <a:pt x="3578" y="2076"/>
                </a:lnTo>
                <a:lnTo>
                  <a:pt x="3620" y="2086"/>
                </a:lnTo>
                <a:lnTo>
                  <a:pt x="3661" y="2096"/>
                </a:lnTo>
                <a:lnTo>
                  <a:pt x="3703" y="2106"/>
                </a:lnTo>
                <a:lnTo>
                  <a:pt x="3744" y="2118"/>
                </a:lnTo>
                <a:lnTo>
                  <a:pt x="3785" y="2128"/>
                </a:lnTo>
                <a:lnTo>
                  <a:pt x="3807" y="2138"/>
                </a:lnTo>
                <a:lnTo>
                  <a:pt x="3829" y="2148"/>
                </a:lnTo>
                <a:lnTo>
                  <a:pt x="3854" y="2158"/>
                </a:lnTo>
                <a:lnTo>
                  <a:pt x="3876" y="2166"/>
                </a:lnTo>
                <a:lnTo>
                  <a:pt x="3898" y="2176"/>
                </a:lnTo>
                <a:lnTo>
                  <a:pt x="3920" y="2186"/>
                </a:lnTo>
                <a:lnTo>
                  <a:pt x="3942" y="2194"/>
                </a:lnTo>
                <a:lnTo>
                  <a:pt x="3964" y="2204"/>
                </a:lnTo>
                <a:lnTo>
                  <a:pt x="3995" y="2208"/>
                </a:lnTo>
                <a:lnTo>
                  <a:pt x="4022" y="2210"/>
                </a:lnTo>
                <a:lnTo>
                  <a:pt x="4053" y="2214"/>
                </a:lnTo>
                <a:lnTo>
                  <a:pt x="4080" y="2218"/>
                </a:lnTo>
                <a:lnTo>
                  <a:pt x="4111" y="2220"/>
                </a:lnTo>
                <a:lnTo>
                  <a:pt x="4138" y="2224"/>
                </a:lnTo>
                <a:lnTo>
                  <a:pt x="4169" y="2228"/>
                </a:lnTo>
                <a:lnTo>
                  <a:pt x="4196" y="2230"/>
                </a:lnTo>
                <a:lnTo>
                  <a:pt x="4226" y="2234"/>
                </a:lnTo>
                <a:lnTo>
                  <a:pt x="4254" y="2238"/>
                </a:lnTo>
                <a:lnTo>
                  <a:pt x="4284" y="2242"/>
                </a:lnTo>
                <a:lnTo>
                  <a:pt x="4312" y="2244"/>
                </a:lnTo>
                <a:lnTo>
                  <a:pt x="4342" y="2248"/>
                </a:lnTo>
                <a:lnTo>
                  <a:pt x="4370" y="2252"/>
                </a:lnTo>
                <a:lnTo>
                  <a:pt x="4400" y="2254"/>
                </a:lnTo>
                <a:lnTo>
                  <a:pt x="4428" y="2258"/>
                </a:lnTo>
                <a:lnTo>
                  <a:pt x="4428" y="1769"/>
                </a:lnTo>
                <a:lnTo>
                  <a:pt x="4428" y="1279"/>
                </a:lnTo>
                <a:lnTo>
                  <a:pt x="4428" y="790"/>
                </a:lnTo>
                <a:lnTo>
                  <a:pt x="4428" y="300"/>
                </a:lnTo>
                <a:close/>
              </a:path>
            </a:pathLst>
          </a:custGeom>
          <a:solidFill>
            <a:srgbClr val="6b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860400" y="1336680"/>
            <a:ext cx="7034400" cy="4510080"/>
          </a:xfrm>
          <a:custGeom>
            <a:avLst/>
            <a:gdLst/>
            <a:ahLst/>
            <a:rect l="l" t="t" r="r" b="b"/>
            <a:pathLst>
              <a:path w="4431" h="2841">
                <a:moveTo>
                  <a:pt x="4431" y="304"/>
                </a:moveTo>
                <a:lnTo>
                  <a:pt x="4425" y="246"/>
                </a:lnTo>
                <a:lnTo>
                  <a:pt x="4420" y="190"/>
                </a:lnTo>
                <a:lnTo>
                  <a:pt x="4414" y="132"/>
                </a:lnTo>
                <a:lnTo>
                  <a:pt x="4406" y="76"/>
                </a:lnTo>
                <a:lnTo>
                  <a:pt x="4365" y="66"/>
                </a:lnTo>
                <a:lnTo>
                  <a:pt x="4320" y="56"/>
                </a:lnTo>
                <a:lnTo>
                  <a:pt x="4279" y="48"/>
                </a:lnTo>
                <a:lnTo>
                  <a:pt x="4238" y="38"/>
                </a:lnTo>
                <a:lnTo>
                  <a:pt x="4194" y="28"/>
                </a:lnTo>
                <a:lnTo>
                  <a:pt x="4152" y="20"/>
                </a:lnTo>
                <a:lnTo>
                  <a:pt x="4108" y="10"/>
                </a:lnTo>
                <a:lnTo>
                  <a:pt x="4067" y="0"/>
                </a:lnTo>
                <a:lnTo>
                  <a:pt x="4014" y="16"/>
                </a:lnTo>
                <a:lnTo>
                  <a:pt x="3965" y="32"/>
                </a:lnTo>
                <a:lnTo>
                  <a:pt x="3921" y="48"/>
                </a:lnTo>
                <a:lnTo>
                  <a:pt x="3882" y="62"/>
                </a:lnTo>
                <a:lnTo>
                  <a:pt x="3843" y="78"/>
                </a:lnTo>
                <a:lnTo>
                  <a:pt x="3810" y="94"/>
                </a:lnTo>
                <a:lnTo>
                  <a:pt x="3780" y="112"/>
                </a:lnTo>
                <a:lnTo>
                  <a:pt x="3750" y="128"/>
                </a:lnTo>
                <a:lnTo>
                  <a:pt x="3725" y="148"/>
                </a:lnTo>
                <a:lnTo>
                  <a:pt x="3700" y="166"/>
                </a:lnTo>
                <a:lnTo>
                  <a:pt x="3681" y="186"/>
                </a:lnTo>
                <a:lnTo>
                  <a:pt x="3659" y="208"/>
                </a:lnTo>
                <a:lnTo>
                  <a:pt x="3639" y="232"/>
                </a:lnTo>
                <a:lnTo>
                  <a:pt x="3623" y="256"/>
                </a:lnTo>
                <a:lnTo>
                  <a:pt x="3606" y="284"/>
                </a:lnTo>
                <a:lnTo>
                  <a:pt x="3590" y="312"/>
                </a:lnTo>
                <a:lnTo>
                  <a:pt x="3565" y="328"/>
                </a:lnTo>
                <a:lnTo>
                  <a:pt x="3543" y="342"/>
                </a:lnTo>
                <a:lnTo>
                  <a:pt x="3518" y="360"/>
                </a:lnTo>
                <a:lnTo>
                  <a:pt x="3493" y="376"/>
                </a:lnTo>
                <a:lnTo>
                  <a:pt x="3468" y="392"/>
                </a:lnTo>
                <a:lnTo>
                  <a:pt x="3444" y="408"/>
                </a:lnTo>
                <a:lnTo>
                  <a:pt x="3422" y="426"/>
                </a:lnTo>
                <a:lnTo>
                  <a:pt x="3397" y="442"/>
                </a:lnTo>
                <a:lnTo>
                  <a:pt x="3386" y="450"/>
                </a:lnTo>
                <a:lnTo>
                  <a:pt x="3375" y="458"/>
                </a:lnTo>
                <a:lnTo>
                  <a:pt x="3364" y="466"/>
                </a:lnTo>
                <a:lnTo>
                  <a:pt x="3355" y="474"/>
                </a:lnTo>
                <a:lnTo>
                  <a:pt x="3344" y="482"/>
                </a:lnTo>
                <a:lnTo>
                  <a:pt x="3333" y="490"/>
                </a:lnTo>
                <a:lnTo>
                  <a:pt x="3322" y="498"/>
                </a:lnTo>
                <a:lnTo>
                  <a:pt x="3311" y="506"/>
                </a:lnTo>
                <a:lnTo>
                  <a:pt x="3300" y="532"/>
                </a:lnTo>
                <a:lnTo>
                  <a:pt x="3289" y="556"/>
                </a:lnTo>
                <a:lnTo>
                  <a:pt x="3275" y="580"/>
                </a:lnTo>
                <a:lnTo>
                  <a:pt x="3264" y="606"/>
                </a:lnTo>
                <a:lnTo>
                  <a:pt x="3253" y="612"/>
                </a:lnTo>
                <a:lnTo>
                  <a:pt x="3242" y="618"/>
                </a:lnTo>
                <a:lnTo>
                  <a:pt x="3229" y="626"/>
                </a:lnTo>
                <a:lnTo>
                  <a:pt x="3218" y="632"/>
                </a:lnTo>
                <a:lnTo>
                  <a:pt x="3201" y="646"/>
                </a:lnTo>
                <a:lnTo>
                  <a:pt x="3184" y="658"/>
                </a:lnTo>
                <a:lnTo>
                  <a:pt x="3168" y="672"/>
                </a:lnTo>
                <a:lnTo>
                  <a:pt x="3154" y="684"/>
                </a:lnTo>
                <a:lnTo>
                  <a:pt x="3138" y="698"/>
                </a:lnTo>
                <a:lnTo>
                  <a:pt x="3121" y="712"/>
                </a:lnTo>
                <a:lnTo>
                  <a:pt x="3104" y="724"/>
                </a:lnTo>
                <a:lnTo>
                  <a:pt x="3088" y="738"/>
                </a:lnTo>
                <a:lnTo>
                  <a:pt x="3052" y="728"/>
                </a:lnTo>
                <a:lnTo>
                  <a:pt x="3016" y="718"/>
                </a:lnTo>
                <a:lnTo>
                  <a:pt x="2980" y="708"/>
                </a:lnTo>
                <a:lnTo>
                  <a:pt x="2945" y="698"/>
                </a:lnTo>
                <a:lnTo>
                  <a:pt x="2909" y="688"/>
                </a:lnTo>
                <a:lnTo>
                  <a:pt x="2876" y="678"/>
                </a:lnTo>
                <a:lnTo>
                  <a:pt x="2840" y="668"/>
                </a:lnTo>
                <a:lnTo>
                  <a:pt x="2804" y="658"/>
                </a:lnTo>
                <a:lnTo>
                  <a:pt x="2707" y="616"/>
                </a:lnTo>
                <a:lnTo>
                  <a:pt x="2614" y="582"/>
                </a:lnTo>
                <a:lnTo>
                  <a:pt x="2525" y="556"/>
                </a:lnTo>
                <a:lnTo>
                  <a:pt x="2443" y="538"/>
                </a:lnTo>
                <a:lnTo>
                  <a:pt x="2363" y="528"/>
                </a:lnTo>
                <a:lnTo>
                  <a:pt x="2288" y="526"/>
                </a:lnTo>
                <a:lnTo>
                  <a:pt x="2219" y="532"/>
                </a:lnTo>
                <a:lnTo>
                  <a:pt x="2159" y="548"/>
                </a:lnTo>
                <a:lnTo>
                  <a:pt x="2101" y="570"/>
                </a:lnTo>
                <a:lnTo>
                  <a:pt x="2051" y="602"/>
                </a:lnTo>
                <a:lnTo>
                  <a:pt x="2007" y="642"/>
                </a:lnTo>
                <a:lnTo>
                  <a:pt x="1971" y="692"/>
                </a:lnTo>
                <a:lnTo>
                  <a:pt x="1944" y="750"/>
                </a:lnTo>
                <a:lnTo>
                  <a:pt x="1922" y="818"/>
                </a:lnTo>
                <a:lnTo>
                  <a:pt x="1911" y="891"/>
                </a:lnTo>
                <a:lnTo>
                  <a:pt x="1905" y="977"/>
                </a:lnTo>
                <a:lnTo>
                  <a:pt x="1853" y="1007"/>
                </a:lnTo>
                <a:lnTo>
                  <a:pt x="1803" y="1035"/>
                </a:lnTo>
                <a:lnTo>
                  <a:pt x="1751" y="1065"/>
                </a:lnTo>
                <a:lnTo>
                  <a:pt x="1698" y="1093"/>
                </a:lnTo>
                <a:lnTo>
                  <a:pt x="1646" y="1121"/>
                </a:lnTo>
                <a:lnTo>
                  <a:pt x="1596" y="1151"/>
                </a:lnTo>
                <a:lnTo>
                  <a:pt x="1544" y="1179"/>
                </a:lnTo>
                <a:lnTo>
                  <a:pt x="1491" y="1209"/>
                </a:lnTo>
                <a:lnTo>
                  <a:pt x="1420" y="1149"/>
                </a:lnTo>
                <a:lnTo>
                  <a:pt x="1359" y="1117"/>
                </a:lnTo>
                <a:lnTo>
                  <a:pt x="1309" y="1107"/>
                </a:lnTo>
                <a:lnTo>
                  <a:pt x="1268" y="1119"/>
                </a:lnTo>
                <a:lnTo>
                  <a:pt x="1235" y="1149"/>
                </a:lnTo>
                <a:lnTo>
                  <a:pt x="1213" y="1197"/>
                </a:lnTo>
                <a:lnTo>
                  <a:pt x="1196" y="1261"/>
                </a:lnTo>
                <a:lnTo>
                  <a:pt x="1185" y="1337"/>
                </a:lnTo>
                <a:lnTo>
                  <a:pt x="1158" y="1347"/>
                </a:lnTo>
                <a:lnTo>
                  <a:pt x="1133" y="1355"/>
                </a:lnTo>
                <a:lnTo>
                  <a:pt x="1105" y="1365"/>
                </a:lnTo>
                <a:lnTo>
                  <a:pt x="1078" y="1373"/>
                </a:lnTo>
                <a:lnTo>
                  <a:pt x="1050" y="1383"/>
                </a:lnTo>
                <a:lnTo>
                  <a:pt x="1025" y="1393"/>
                </a:lnTo>
                <a:lnTo>
                  <a:pt x="998" y="1401"/>
                </a:lnTo>
                <a:lnTo>
                  <a:pt x="970" y="1411"/>
                </a:lnTo>
                <a:lnTo>
                  <a:pt x="965" y="1377"/>
                </a:lnTo>
                <a:lnTo>
                  <a:pt x="959" y="1345"/>
                </a:lnTo>
                <a:lnTo>
                  <a:pt x="951" y="1311"/>
                </a:lnTo>
                <a:lnTo>
                  <a:pt x="946" y="1279"/>
                </a:lnTo>
                <a:lnTo>
                  <a:pt x="1014" y="1201"/>
                </a:lnTo>
                <a:lnTo>
                  <a:pt x="1061" y="1133"/>
                </a:lnTo>
                <a:lnTo>
                  <a:pt x="1089" y="1073"/>
                </a:lnTo>
                <a:lnTo>
                  <a:pt x="1100" y="1023"/>
                </a:lnTo>
                <a:lnTo>
                  <a:pt x="1092" y="983"/>
                </a:lnTo>
                <a:lnTo>
                  <a:pt x="1067" y="949"/>
                </a:lnTo>
                <a:lnTo>
                  <a:pt x="1028" y="921"/>
                </a:lnTo>
                <a:lnTo>
                  <a:pt x="979" y="901"/>
                </a:lnTo>
                <a:lnTo>
                  <a:pt x="915" y="885"/>
                </a:lnTo>
                <a:lnTo>
                  <a:pt x="838" y="875"/>
                </a:lnTo>
                <a:lnTo>
                  <a:pt x="755" y="871"/>
                </a:lnTo>
                <a:lnTo>
                  <a:pt x="662" y="869"/>
                </a:lnTo>
                <a:lnTo>
                  <a:pt x="562" y="871"/>
                </a:lnTo>
                <a:lnTo>
                  <a:pt x="455" y="875"/>
                </a:lnTo>
                <a:lnTo>
                  <a:pt x="344" y="881"/>
                </a:lnTo>
                <a:lnTo>
                  <a:pt x="229" y="889"/>
                </a:lnTo>
                <a:lnTo>
                  <a:pt x="209" y="917"/>
                </a:lnTo>
                <a:lnTo>
                  <a:pt x="193" y="947"/>
                </a:lnTo>
                <a:lnTo>
                  <a:pt x="173" y="975"/>
                </a:lnTo>
                <a:lnTo>
                  <a:pt x="157" y="1003"/>
                </a:lnTo>
                <a:lnTo>
                  <a:pt x="138" y="1033"/>
                </a:lnTo>
                <a:lnTo>
                  <a:pt x="121" y="1061"/>
                </a:lnTo>
                <a:lnTo>
                  <a:pt x="102" y="1091"/>
                </a:lnTo>
                <a:lnTo>
                  <a:pt x="83" y="1119"/>
                </a:lnTo>
                <a:lnTo>
                  <a:pt x="85" y="1147"/>
                </a:lnTo>
                <a:lnTo>
                  <a:pt x="88" y="1175"/>
                </a:lnTo>
                <a:lnTo>
                  <a:pt x="88" y="1201"/>
                </a:lnTo>
                <a:lnTo>
                  <a:pt x="91" y="1229"/>
                </a:lnTo>
                <a:lnTo>
                  <a:pt x="71" y="1269"/>
                </a:lnTo>
                <a:lnTo>
                  <a:pt x="49" y="1307"/>
                </a:lnTo>
                <a:lnTo>
                  <a:pt x="30" y="1347"/>
                </a:lnTo>
                <a:lnTo>
                  <a:pt x="11" y="1387"/>
                </a:lnTo>
                <a:lnTo>
                  <a:pt x="8" y="1593"/>
                </a:lnTo>
                <a:lnTo>
                  <a:pt x="5" y="1801"/>
                </a:lnTo>
                <a:lnTo>
                  <a:pt x="3" y="2006"/>
                </a:lnTo>
                <a:lnTo>
                  <a:pt x="0" y="2214"/>
                </a:lnTo>
                <a:lnTo>
                  <a:pt x="41" y="2234"/>
                </a:lnTo>
                <a:lnTo>
                  <a:pt x="83" y="2254"/>
                </a:lnTo>
                <a:lnTo>
                  <a:pt x="124" y="2276"/>
                </a:lnTo>
                <a:lnTo>
                  <a:pt x="162" y="2296"/>
                </a:lnTo>
                <a:lnTo>
                  <a:pt x="204" y="2318"/>
                </a:lnTo>
                <a:lnTo>
                  <a:pt x="245" y="2338"/>
                </a:lnTo>
                <a:lnTo>
                  <a:pt x="284" y="2360"/>
                </a:lnTo>
                <a:lnTo>
                  <a:pt x="325" y="2380"/>
                </a:lnTo>
                <a:lnTo>
                  <a:pt x="367" y="2366"/>
                </a:lnTo>
                <a:lnTo>
                  <a:pt x="411" y="2352"/>
                </a:lnTo>
                <a:lnTo>
                  <a:pt x="452" y="2338"/>
                </a:lnTo>
                <a:lnTo>
                  <a:pt x="496" y="2326"/>
                </a:lnTo>
                <a:lnTo>
                  <a:pt x="537" y="2312"/>
                </a:lnTo>
                <a:lnTo>
                  <a:pt x="582" y="2298"/>
                </a:lnTo>
                <a:lnTo>
                  <a:pt x="623" y="2286"/>
                </a:lnTo>
                <a:lnTo>
                  <a:pt x="667" y="2272"/>
                </a:lnTo>
                <a:lnTo>
                  <a:pt x="708" y="2278"/>
                </a:lnTo>
                <a:lnTo>
                  <a:pt x="753" y="2284"/>
                </a:lnTo>
                <a:lnTo>
                  <a:pt x="794" y="2290"/>
                </a:lnTo>
                <a:lnTo>
                  <a:pt x="838" y="2296"/>
                </a:lnTo>
                <a:lnTo>
                  <a:pt x="882" y="2302"/>
                </a:lnTo>
                <a:lnTo>
                  <a:pt x="923" y="2308"/>
                </a:lnTo>
                <a:lnTo>
                  <a:pt x="968" y="2312"/>
                </a:lnTo>
                <a:lnTo>
                  <a:pt x="1009" y="2318"/>
                </a:lnTo>
                <a:lnTo>
                  <a:pt x="1009" y="2354"/>
                </a:lnTo>
                <a:lnTo>
                  <a:pt x="1009" y="2390"/>
                </a:lnTo>
                <a:lnTo>
                  <a:pt x="1009" y="2426"/>
                </a:lnTo>
                <a:lnTo>
                  <a:pt x="1009" y="2460"/>
                </a:lnTo>
                <a:lnTo>
                  <a:pt x="1014" y="2504"/>
                </a:lnTo>
                <a:lnTo>
                  <a:pt x="1023" y="2548"/>
                </a:lnTo>
                <a:lnTo>
                  <a:pt x="1028" y="2594"/>
                </a:lnTo>
                <a:lnTo>
                  <a:pt x="1034" y="2638"/>
                </a:lnTo>
                <a:lnTo>
                  <a:pt x="1075" y="2650"/>
                </a:lnTo>
                <a:lnTo>
                  <a:pt x="1116" y="2664"/>
                </a:lnTo>
                <a:lnTo>
                  <a:pt x="1155" y="2676"/>
                </a:lnTo>
                <a:lnTo>
                  <a:pt x="1196" y="2690"/>
                </a:lnTo>
                <a:lnTo>
                  <a:pt x="1238" y="2702"/>
                </a:lnTo>
                <a:lnTo>
                  <a:pt x="1279" y="2716"/>
                </a:lnTo>
                <a:lnTo>
                  <a:pt x="1321" y="2728"/>
                </a:lnTo>
                <a:lnTo>
                  <a:pt x="1359" y="2740"/>
                </a:lnTo>
                <a:lnTo>
                  <a:pt x="1400" y="2754"/>
                </a:lnTo>
                <a:lnTo>
                  <a:pt x="1442" y="2766"/>
                </a:lnTo>
                <a:lnTo>
                  <a:pt x="1483" y="2780"/>
                </a:lnTo>
                <a:lnTo>
                  <a:pt x="1522" y="2792"/>
                </a:lnTo>
                <a:lnTo>
                  <a:pt x="1563" y="2804"/>
                </a:lnTo>
                <a:lnTo>
                  <a:pt x="1605" y="2817"/>
                </a:lnTo>
                <a:lnTo>
                  <a:pt x="1643" y="2829"/>
                </a:lnTo>
                <a:lnTo>
                  <a:pt x="1684" y="2841"/>
                </a:lnTo>
                <a:lnTo>
                  <a:pt x="1715" y="2833"/>
                </a:lnTo>
                <a:lnTo>
                  <a:pt x="1745" y="2825"/>
                </a:lnTo>
                <a:lnTo>
                  <a:pt x="1775" y="2815"/>
                </a:lnTo>
                <a:lnTo>
                  <a:pt x="1806" y="2808"/>
                </a:lnTo>
                <a:lnTo>
                  <a:pt x="1836" y="2798"/>
                </a:lnTo>
                <a:lnTo>
                  <a:pt x="1866" y="2790"/>
                </a:lnTo>
                <a:lnTo>
                  <a:pt x="1897" y="2780"/>
                </a:lnTo>
                <a:lnTo>
                  <a:pt x="1927" y="2772"/>
                </a:lnTo>
                <a:lnTo>
                  <a:pt x="1946" y="2682"/>
                </a:lnTo>
                <a:lnTo>
                  <a:pt x="1982" y="2594"/>
                </a:lnTo>
                <a:lnTo>
                  <a:pt x="2029" y="2510"/>
                </a:lnTo>
                <a:lnTo>
                  <a:pt x="2090" y="2430"/>
                </a:lnTo>
                <a:lnTo>
                  <a:pt x="2156" y="2356"/>
                </a:lnTo>
                <a:lnTo>
                  <a:pt x="2230" y="2288"/>
                </a:lnTo>
                <a:lnTo>
                  <a:pt x="2310" y="2228"/>
                </a:lnTo>
                <a:lnTo>
                  <a:pt x="2396" y="2176"/>
                </a:lnTo>
                <a:lnTo>
                  <a:pt x="2479" y="2134"/>
                </a:lnTo>
                <a:lnTo>
                  <a:pt x="2561" y="2102"/>
                </a:lnTo>
                <a:lnTo>
                  <a:pt x="2644" y="2082"/>
                </a:lnTo>
                <a:lnTo>
                  <a:pt x="2718" y="2072"/>
                </a:lnTo>
                <a:lnTo>
                  <a:pt x="2787" y="2078"/>
                </a:lnTo>
                <a:lnTo>
                  <a:pt x="2848" y="2098"/>
                </a:lnTo>
                <a:lnTo>
                  <a:pt x="2898" y="2132"/>
                </a:lnTo>
                <a:lnTo>
                  <a:pt x="2936" y="2184"/>
                </a:lnTo>
                <a:lnTo>
                  <a:pt x="2969" y="2172"/>
                </a:lnTo>
                <a:lnTo>
                  <a:pt x="3002" y="2158"/>
                </a:lnTo>
                <a:lnTo>
                  <a:pt x="3033" y="2146"/>
                </a:lnTo>
                <a:lnTo>
                  <a:pt x="3066" y="2132"/>
                </a:lnTo>
                <a:lnTo>
                  <a:pt x="3099" y="2120"/>
                </a:lnTo>
                <a:lnTo>
                  <a:pt x="3132" y="2108"/>
                </a:lnTo>
                <a:lnTo>
                  <a:pt x="3165" y="2094"/>
                </a:lnTo>
                <a:lnTo>
                  <a:pt x="3198" y="2082"/>
                </a:lnTo>
                <a:lnTo>
                  <a:pt x="3229" y="2070"/>
                </a:lnTo>
                <a:lnTo>
                  <a:pt x="3262" y="2056"/>
                </a:lnTo>
                <a:lnTo>
                  <a:pt x="3295" y="2044"/>
                </a:lnTo>
                <a:lnTo>
                  <a:pt x="3328" y="2030"/>
                </a:lnTo>
                <a:lnTo>
                  <a:pt x="3361" y="2018"/>
                </a:lnTo>
                <a:lnTo>
                  <a:pt x="3391" y="2006"/>
                </a:lnTo>
                <a:lnTo>
                  <a:pt x="3424" y="1992"/>
                </a:lnTo>
                <a:lnTo>
                  <a:pt x="3457" y="1980"/>
                </a:lnTo>
                <a:lnTo>
                  <a:pt x="3502" y="1988"/>
                </a:lnTo>
                <a:lnTo>
                  <a:pt x="3543" y="1996"/>
                </a:lnTo>
                <a:lnTo>
                  <a:pt x="3587" y="2004"/>
                </a:lnTo>
                <a:lnTo>
                  <a:pt x="3631" y="2012"/>
                </a:lnTo>
                <a:lnTo>
                  <a:pt x="3675" y="2022"/>
                </a:lnTo>
                <a:lnTo>
                  <a:pt x="3717" y="2030"/>
                </a:lnTo>
                <a:lnTo>
                  <a:pt x="3761" y="2038"/>
                </a:lnTo>
                <a:lnTo>
                  <a:pt x="3802" y="2046"/>
                </a:lnTo>
                <a:lnTo>
                  <a:pt x="3824" y="2058"/>
                </a:lnTo>
                <a:lnTo>
                  <a:pt x="3843" y="2068"/>
                </a:lnTo>
                <a:lnTo>
                  <a:pt x="3865" y="2080"/>
                </a:lnTo>
                <a:lnTo>
                  <a:pt x="3885" y="2092"/>
                </a:lnTo>
                <a:lnTo>
                  <a:pt x="3907" y="2104"/>
                </a:lnTo>
                <a:lnTo>
                  <a:pt x="3926" y="2116"/>
                </a:lnTo>
                <a:lnTo>
                  <a:pt x="3948" y="2128"/>
                </a:lnTo>
                <a:lnTo>
                  <a:pt x="3967" y="2140"/>
                </a:lnTo>
                <a:lnTo>
                  <a:pt x="3998" y="2144"/>
                </a:lnTo>
                <a:lnTo>
                  <a:pt x="4025" y="2146"/>
                </a:lnTo>
                <a:lnTo>
                  <a:pt x="4056" y="2150"/>
                </a:lnTo>
                <a:lnTo>
                  <a:pt x="4083" y="2154"/>
                </a:lnTo>
                <a:lnTo>
                  <a:pt x="4114" y="2156"/>
                </a:lnTo>
                <a:lnTo>
                  <a:pt x="4141" y="2160"/>
                </a:lnTo>
                <a:lnTo>
                  <a:pt x="4172" y="2164"/>
                </a:lnTo>
                <a:lnTo>
                  <a:pt x="4199" y="2166"/>
                </a:lnTo>
                <a:lnTo>
                  <a:pt x="4229" y="2170"/>
                </a:lnTo>
                <a:lnTo>
                  <a:pt x="4257" y="2174"/>
                </a:lnTo>
                <a:lnTo>
                  <a:pt x="4287" y="2178"/>
                </a:lnTo>
                <a:lnTo>
                  <a:pt x="4315" y="2180"/>
                </a:lnTo>
                <a:lnTo>
                  <a:pt x="4345" y="2184"/>
                </a:lnTo>
                <a:lnTo>
                  <a:pt x="4373" y="2188"/>
                </a:lnTo>
                <a:lnTo>
                  <a:pt x="4403" y="2190"/>
                </a:lnTo>
                <a:lnTo>
                  <a:pt x="4431" y="2194"/>
                </a:lnTo>
                <a:lnTo>
                  <a:pt x="4431" y="1723"/>
                </a:lnTo>
                <a:lnTo>
                  <a:pt x="4431" y="1249"/>
                </a:lnTo>
                <a:lnTo>
                  <a:pt x="4431" y="778"/>
                </a:lnTo>
                <a:lnTo>
                  <a:pt x="4431" y="304"/>
                </a:lnTo>
                <a:close/>
              </a:path>
            </a:pathLst>
          </a:custGeom>
          <a:solidFill>
            <a:srgbClr val="7cc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860400" y="1374840"/>
            <a:ext cx="7034400" cy="4424400"/>
          </a:xfrm>
          <a:custGeom>
            <a:avLst/>
            <a:gdLst/>
            <a:ahLst/>
            <a:rect l="l" t="t" r="r" b="b"/>
            <a:pathLst>
              <a:path w="4431" h="2787">
                <a:moveTo>
                  <a:pt x="4431" y="308"/>
                </a:moveTo>
                <a:lnTo>
                  <a:pt x="4425" y="252"/>
                </a:lnTo>
                <a:lnTo>
                  <a:pt x="4420" y="196"/>
                </a:lnTo>
                <a:lnTo>
                  <a:pt x="4414" y="140"/>
                </a:lnTo>
                <a:lnTo>
                  <a:pt x="4406" y="84"/>
                </a:lnTo>
                <a:lnTo>
                  <a:pt x="4365" y="74"/>
                </a:lnTo>
                <a:lnTo>
                  <a:pt x="4320" y="62"/>
                </a:lnTo>
                <a:lnTo>
                  <a:pt x="4279" y="52"/>
                </a:lnTo>
                <a:lnTo>
                  <a:pt x="4238" y="42"/>
                </a:lnTo>
                <a:lnTo>
                  <a:pt x="4194" y="32"/>
                </a:lnTo>
                <a:lnTo>
                  <a:pt x="4152" y="20"/>
                </a:lnTo>
                <a:lnTo>
                  <a:pt x="4108" y="10"/>
                </a:lnTo>
                <a:lnTo>
                  <a:pt x="4067" y="0"/>
                </a:lnTo>
                <a:lnTo>
                  <a:pt x="4014" y="16"/>
                </a:lnTo>
                <a:lnTo>
                  <a:pt x="3967" y="32"/>
                </a:lnTo>
                <a:lnTo>
                  <a:pt x="3923" y="48"/>
                </a:lnTo>
                <a:lnTo>
                  <a:pt x="3882" y="64"/>
                </a:lnTo>
                <a:lnTo>
                  <a:pt x="3846" y="82"/>
                </a:lnTo>
                <a:lnTo>
                  <a:pt x="3813" y="98"/>
                </a:lnTo>
                <a:lnTo>
                  <a:pt x="3780" y="116"/>
                </a:lnTo>
                <a:lnTo>
                  <a:pt x="3752" y="136"/>
                </a:lnTo>
                <a:lnTo>
                  <a:pt x="3728" y="156"/>
                </a:lnTo>
                <a:lnTo>
                  <a:pt x="3703" y="176"/>
                </a:lnTo>
                <a:lnTo>
                  <a:pt x="3683" y="198"/>
                </a:lnTo>
                <a:lnTo>
                  <a:pt x="3664" y="222"/>
                </a:lnTo>
                <a:lnTo>
                  <a:pt x="3645" y="248"/>
                </a:lnTo>
                <a:lnTo>
                  <a:pt x="3628" y="274"/>
                </a:lnTo>
                <a:lnTo>
                  <a:pt x="3615" y="304"/>
                </a:lnTo>
                <a:lnTo>
                  <a:pt x="3601" y="334"/>
                </a:lnTo>
                <a:lnTo>
                  <a:pt x="3579" y="350"/>
                </a:lnTo>
                <a:lnTo>
                  <a:pt x="3557" y="366"/>
                </a:lnTo>
                <a:lnTo>
                  <a:pt x="3537" y="384"/>
                </a:lnTo>
                <a:lnTo>
                  <a:pt x="3515" y="400"/>
                </a:lnTo>
                <a:lnTo>
                  <a:pt x="3493" y="416"/>
                </a:lnTo>
                <a:lnTo>
                  <a:pt x="3474" y="432"/>
                </a:lnTo>
                <a:lnTo>
                  <a:pt x="3452" y="450"/>
                </a:lnTo>
                <a:lnTo>
                  <a:pt x="3430" y="466"/>
                </a:lnTo>
                <a:lnTo>
                  <a:pt x="3416" y="472"/>
                </a:lnTo>
                <a:lnTo>
                  <a:pt x="3405" y="478"/>
                </a:lnTo>
                <a:lnTo>
                  <a:pt x="3391" y="484"/>
                </a:lnTo>
                <a:lnTo>
                  <a:pt x="3380" y="488"/>
                </a:lnTo>
                <a:lnTo>
                  <a:pt x="3366" y="494"/>
                </a:lnTo>
                <a:lnTo>
                  <a:pt x="3353" y="500"/>
                </a:lnTo>
                <a:lnTo>
                  <a:pt x="3342" y="506"/>
                </a:lnTo>
                <a:lnTo>
                  <a:pt x="3328" y="512"/>
                </a:lnTo>
                <a:lnTo>
                  <a:pt x="3311" y="534"/>
                </a:lnTo>
                <a:lnTo>
                  <a:pt x="3297" y="558"/>
                </a:lnTo>
                <a:lnTo>
                  <a:pt x="3281" y="582"/>
                </a:lnTo>
                <a:lnTo>
                  <a:pt x="3264" y="604"/>
                </a:lnTo>
                <a:lnTo>
                  <a:pt x="3253" y="614"/>
                </a:lnTo>
                <a:lnTo>
                  <a:pt x="3245" y="622"/>
                </a:lnTo>
                <a:lnTo>
                  <a:pt x="3234" y="632"/>
                </a:lnTo>
                <a:lnTo>
                  <a:pt x="3223" y="642"/>
                </a:lnTo>
                <a:lnTo>
                  <a:pt x="3206" y="656"/>
                </a:lnTo>
                <a:lnTo>
                  <a:pt x="3190" y="672"/>
                </a:lnTo>
                <a:lnTo>
                  <a:pt x="3173" y="686"/>
                </a:lnTo>
                <a:lnTo>
                  <a:pt x="3157" y="702"/>
                </a:lnTo>
                <a:lnTo>
                  <a:pt x="3140" y="716"/>
                </a:lnTo>
                <a:lnTo>
                  <a:pt x="3124" y="732"/>
                </a:lnTo>
                <a:lnTo>
                  <a:pt x="3107" y="746"/>
                </a:lnTo>
                <a:lnTo>
                  <a:pt x="3091" y="760"/>
                </a:lnTo>
                <a:lnTo>
                  <a:pt x="3055" y="748"/>
                </a:lnTo>
                <a:lnTo>
                  <a:pt x="3019" y="734"/>
                </a:lnTo>
                <a:lnTo>
                  <a:pt x="2983" y="722"/>
                </a:lnTo>
                <a:lnTo>
                  <a:pt x="2947" y="708"/>
                </a:lnTo>
                <a:lnTo>
                  <a:pt x="2911" y="696"/>
                </a:lnTo>
                <a:lnTo>
                  <a:pt x="2876" y="682"/>
                </a:lnTo>
                <a:lnTo>
                  <a:pt x="2840" y="670"/>
                </a:lnTo>
                <a:lnTo>
                  <a:pt x="2804" y="656"/>
                </a:lnTo>
                <a:lnTo>
                  <a:pt x="2707" y="614"/>
                </a:lnTo>
                <a:lnTo>
                  <a:pt x="2614" y="580"/>
                </a:lnTo>
                <a:lnTo>
                  <a:pt x="2525" y="554"/>
                </a:lnTo>
                <a:lnTo>
                  <a:pt x="2443" y="536"/>
                </a:lnTo>
                <a:lnTo>
                  <a:pt x="2363" y="526"/>
                </a:lnTo>
                <a:lnTo>
                  <a:pt x="2288" y="524"/>
                </a:lnTo>
                <a:lnTo>
                  <a:pt x="2219" y="530"/>
                </a:lnTo>
                <a:lnTo>
                  <a:pt x="2159" y="546"/>
                </a:lnTo>
                <a:lnTo>
                  <a:pt x="2101" y="568"/>
                </a:lnTo>
                <a:lnTo>
                  <a:pt x="2051" y="600"/>
                </a:lnTo>
                <a:lnTo>
                  <a:pt x="2007" y="642"/>
                </a:lnTo>
                <a:lnTo>
                  <a:pt x="1971" y="690"/>
                </a:lnTo>
                <a:lnTo>
                  <a:pt x="1944" y="750"/>
                </a:lnTo>
                <a:lnTo>
                  <a:pt x="1922" y="815"/>
                </a:lnTo>
                <a:lnTo>
                  <a:pt x="1911" y="891"/>
                </a:lnTo>
                <a:lnTo>
                  <a:pt x="1905" y="977"/>
                </a:lnTo>
                <a:lnTo>
                  <a:pt x="1853" y="1005"/>
                </a:lnTo>
                <a:lnTo>
                  <a:pt x="1803" y="1035"/>
                </a:lnTo>
                <a:lnTo>
                  <a:pt x="1751" y="1063"/>
                </a:lnTo>
                <a:lnTo>
                  <a:pt x="1698" y="1091"/>
                </a:lnTo>
                <a:lnTo>
                  <a:pt x="1646" y="1121"/>
                </a:lnTo>
                <a:lnTo>
                  <a:pt x="1596" y="1149"/>
                </a:lnTo>
                <a:lnTo>
                  <a:pt x="1544" y="1179"/>
                </a:lnTo>
                <a:lnTo>
                  <a:pt x="1491" y="1207"/>
                </a:lnTo>
                <a:lnTo>
                  <a:pt x="1420" y="1153"/>
                </a:lnTo>
                <a:lnTo>
                  <a:pt x="1359" y="1125"/>
                </a:lnTo>
                <a:lnTo>
                  <a:pt x="1309" y="1121"/>
                </a:lnTo>
                <a:lnTo>
                  <a:pt x="1268" y="1139"/>
                </a:lnTo>
                <a:lnTo>
                  <a:pt x="1238" y="1175"/>
                </a:lnTo>
                <a:lnTo>
                  <a:pt x="1216" y="1225"/>
                </a:lnTo>
                <a:lnTo>
                  <a:pt x="1202" y="1289"/>
                </a:lnTo>
                <a:lnTo>
                  <a:pt x="1196" y="1363"/>
                </a:lnTo>
                <a:lnTo>
                  <a:pt x="1166" y="1371"/>
                </a:lnTo>
                <a:lnTo>
                  <a:pt x="1136" y="1379"/>
                </a:lnTo>
                <a:lnTo>
                  <a:pt x="1108" y="1387"/>
                </a:lnTo>
                <a:lnTo>
                  <a:pt x="1078" y="1395"/>
                </a:lnTo>
                <a:lnTo>
                  <a:pt x="1050" y="1403"/>
                </a:lnTo>
                <a:lnTo>
                  <a:pt x="1020" y="1411"/>
                </a:lnTo>
                <a:lnTo>
                  <a:pt x="992" y="1421"/>
                </a:lnTo>
                <a:lnTo>
                  <a:pt x="962" y="1429"/>
                </a:lnTo>
                <a:lnTo>
                  <a:pt x="951" y="1391"/>
                </a:lnTo>
                <a:lnTo>
                  <a:pt x="937" y="1353"/>
                </a:lnTo>
                <a:lnTo>
                  <a:pt x="926" y="1315"/>
                </a:lnTo>
                <a:lnTo>
                  <a:pt x="912" y="1279"/>
                </a:lnTo>
                <a:lnTo>
                  <a:pt x="976" y="1201"/>
                </a:lnTo>
                <a:lnTo>
                  <a:pt x="1023" y="1131"/>
                </a:lnTo>
                <a:lnTo>
                  <a:pt x="1048" y="1073"/>
                </a:lnTo>
                <a:lnTo>
                  <a:pt x="1059" y="1023"/>
                </a:lnTo>
                <a:lnTo>
                  <a:pt x="1053" y="981"/>
                </a:lnTo>
                <a:lnTo>
                  <a:pt x="1031" y="947"/>
                </a:lnTo>
                <a:lnTo>
                  <a:pt x="998" y="919"/>
                </a:lnTo>
                <a:lnTo>
                  <a:pt x="948" y="899"/>
                </a:lnTo>
                <a:lnTo>
                  <a:pt x="890" y="885"/>
                </a:lnTo>
                <a:lnTo>
                  <a:pt x="819" y="875"/>
                </a:lnTo>
                <a:lnTo>
                  <a:pt x="739" y="869"/>
                </a:lnTo>
                <a:lnTo>
                  <a:pt x="650" y="867"/>
                </a:lnTo>
                <a:lnTo>
                  <a:pt x="554" y="869"/>
                </a:lnTo>
                <a:lnTo>
                  <a:pt x="452" y="873"/>
                </a:lnTo>
                <a:lnTo>
                  <a:pt x="342" y="879"/>
                </a:lnTo>
                <a:lnTo>
                  <a:pt x="229" y="887"/>
                </a:lnTo>
                <a:lnTo>
                  <a:pt x="209" y="917"/>
                </a:lnTo>
                <a:lnTo>
                  <a:pt x="193" y="945"/>
                </a:lnTo>
                <a:lnTo>
                  <a:pt x="173" y="975"/>
                </a:lnTo>
                <a:lnTo>
                  <a:pt x="157" y="1003"/>
                </a:lnTo>
                <a:lnTo>
                  <a:pt x="138" y="1031"/>
                </a:lnTo>
                <a:lnTo>
                  <a:pt x="121" y="1061"/>
                </a:lnTo>
                <a:lnTo>
                  <a:pt x="102" y="1089"/>
                </a:lnTo>
                <a:lnTo>
                  <a:pt x="83" y="1119"/>
                </a:lnTo>
                <a:lnTo>
                  <a:pt x="88" y="1147"/>
                </a:lnTo>
                <a:lnTo>
                  <a:pt x="96" y="1175"/>
                </a:lnTo>
                <a:lnTo>
                  <a:pt x="105" y="1203"/>
                </a:lnTo>
                <a:lnTo>
                  <a:pt x="110" y="1231"/>
                </a:lnTo>
                <a:lnTo>
                  <a:pt x="99" y="1251"/>
                </a:lnTo>
                <a:lnTo>
                  <a:pt x="85" y="1269"/>
                </a:lnTo>
                <a:lnTo>
                  <a:pt x="74" y="1289"/>
                </a:lnTo>
                <a:lnTo>
                  <a:pt x="60" y="1309"/>
                </a:lnTo>
                <a:lnTo>
                  <a:pt x="49" y="1329"/>
                </a:lnTo>
                <a:lnTo>
                  <a:pt x="36" y="1347"/>
                </a:lnTo>
                <a:lnTo>
                  <a:pt x="25" y="1367"/>
                </a:lnTo>
                <a:lnTo>
                  <a:pt x="11" y="1385"/>
                </a:lnTo>
                <a:lnTo>
                  <a:pt x="8" y="1581"/>
                </a:lnTo>
                <a:lnTo>
                  <a:pt x="5" y="1777"/>
                </a:lnTo>
                <a:lnTo>
                  <a:pt x="3" y="1974"/>
                </a:lnTo>
                <a:lnTo>
                  <a:pt x="0" y="2170"/>
                </a:lnTo>
                <a:lnTo>
                  <a:pt x="41" y="2190"/>
                </a:lnTo>
                <a:lnTo>
                  <a:pt x="80" y="2212"/>
                </a:lnTo>
                <a:lnTo>
                  <a:pt x="121" y="2232"/>
                </a:lnTo>
                <a:lnTo>
                  <a:pt x="162" y="2254"/>
                </a:lnTo>
                <a:lnTo>
                  <a:pt x="204" y="2274"/>
                </a:lnTo>
                <a:lnTo>
                  <a:pt x="245" y="2296"/>
                </a:lnTo>
                <a:lnTo>
                  <a:pt x="284" y="2316"/>
                </a:lnTo>
                <a:lnTo>
                  <a:pt x="325" y="2338"/>
                </a:lnTo>
                <a:lnTo>
                  <a:pt x="367" y="2324"/>
                </a:lnTo>
                <a:lnTo>
                  <a:pt x="411" y="2312"/>
                </a:lnTo>
                <a:lnTo>
                  <a:pt x="452" y="2298"/>
                </a:lnTo>
                <a:lnTo>
                  <a:pt x="496" y="2284"/>
                </a:lnTo>
                <a:lnTo>
                  <a:pt x="537" y="2270"/>
                </a:lnTo>
                <a:lnTo>
                  <a:pt x="582" y="2258"/>
                </a:lnTo>
                <a:lnTo>
                  <a:pt x="623" y="2244"/>
                </a:lnTo>
                <a:lnTo>
                  <a:pt x="667" y="2232"/>
                </a:lnTo>
                <a:lnTo>
                  <a:pt x="711" y="2236"/>
                </a:lnTo>
                <a:lnTo>
                  <a:pt x="755" y="2242"/>
                </a:lnTo>
                <a:lnTo>
                  <a:pt x="799" y="2246"/>
                </a:lnTo>
                <a:lnTo>
                  <a:pt x="846" y="2250"/>
                </a:lnTo>
                <a:lnTo>
                  <a:pt x="890" y="2256"/>
                </a:lnTo>
                <a:lnTo>
                  <a:pt x="934" y="2260"/>
                </a:lnTo>
                <a:lnTo>
                  <a:pt x="979" y="2266"/>
                </a:lnTo>
                <a:lnTo>
                  <a:pt x="1023" y="2270"/>
                </a:lnTo>
                <a:lnTo>
                  <a:pt x="1023" y="2306"/>
                </a:lnTo>
                <a:lnTo>
                  <a:pt x="1023" y="2340"/>
                </a:lnTo>
                <a:lnTo>
                  <a:pt x="1023" y="2376"/>
                </a:lnTo>
                <a:lnTo>
                  <a:pt x="1023" y="2412"/>
                </a:lnTo>
                <a:lnTo>
                  <a:pt x="1028" y="2456"/>
                </a:lnTo>
                <a:lnTo>
                  <a:pt x="1037" y="2500"/>
                </a:lnTo>
                <a:lnTo>
                  <a:pt x="1042" y="2546"/>
                </a:lnTo>
                <a:lnTo>
                  <a:pt x="1048" y="2590"/>
                </a:lnTo>
                <a:lnTo>
                  <a:pt x="1086" y="2602"/>
                </a:lnTo>
                <a:lnTo>
                  <a:pt x="1128" y="2614"/>
                </a:lnTo>
                <a:lnTo>
                  <a:pt x="1166" y="2626"/>
                </a:lnTo>
                <a:lnTo>
                  <a:pt x="1207" y="2638"/>
                </a:lnTo>
                <a:lnTo>
                  <a:pt x="1246" y="2650"/>
                </a:lnTo>
                <a:lnTo>
                  <a:pt x="1287" y="2664"/>
                </a:lnTo>
                <a:lnTo>
                  <a:pt x="1326" y="2676"/>
                </a:lnTo>
                <a:lnTo>
                  <a:pt x="1367" y="2688"/>
                </a:lnTo>
                <a:lnTo>
                  <a:pt x="1406" y="2700"/>
                </a:lnTo>
                <a:lnTo>
                  <a:pt x="1445" y="2714"/>
                </a:lnTo>
                <a:lnTo>
                  <a:pt x="1486" y="2726"/>
                </a:lnTo>
                <a:lnTo>
                  <a:pt x="1525" y="2738"/>
                </a:lnTo>
                <a:lnTo>
                  <a:pt x="1566" y="2750"/>
                </a:lnTo>
                <a:lnTo>
                  <a:pt x="1605" y="2764"/>
                </a:lnTo>
                <a:lnTo>
                  <a:pt x="1646" y="2776"/>
                </a:lnTo>
                <a:lnTo>
                  <a:pt x="1684" y="2787"/>
                </a:lnTo>
                <a:lnTo>
                  <a:pt x="1715" y="2780"/>
                </a:lnTo>
                <a:lnTo>
                  <a:pt x="1745" y="2770"/>
                </a:lnTo>
                <a:lnTo>
                  <a:pt x="1775" y="2762"/>
                </a:lnTo>
                <a:lnTo>
                  <a:pt x="1806" y="2752"/>
                </a:lnTo>
                <a:lnTo>
                  <a:pt x="1836" y="2744"/>
                </a:lnTo>
                <a:lnTo>
                  <a:pt x="1866" y="2736"/>
                </a:lnTo>
                <a:lnTo>
                  <a:pt x="1897" y="2726"/>
                </a:lnTo>
                <a:lnTo>
                  <a:pt x="1927" y="2718"/>
                </a:lnTo>
                <a:lnTo>
                  <a:pt x="1946" y="2628"/>
                </a:lnTo>
                <a:lnTo>
                  <a:pt x="1982" y="2540"/>
                </a:lnTo>
                <a:lnTo>
                  <a:pt x="2032" y="2456"/>
                </a:lnTo>
                <a:lnTo>
                  <a:pt x="2093" y="2376"/>
                </a:lnTo>
                <a:lnTo>
                  <a:pt x="2161" y="2300"/>
                </a:lnTo>
                <a:lnTo>
                  <a:pt x="2236" y="2232"/>
                </a:lnTo>
                <a:lnTo>
                  <a:pt x="2319" y="2172"/>
                </a:lnTo>
                <a:lnTo>
                  <a:pt x="2404" y="2120"/>
                </a:lnTo>
                <a:lnTo>
                  <a:pt x="2490" y="2076"/>
                </a:lnTo>
                <a:lnTo>
                  <a:pt x="2572" y="2044"/>
                </a:lnTo>
                <a:lnTo>
                  <a:pt x="2655" y="2022"/>
                </a:lnTo>
                <a:lnTo>
                  <a:pt x="2732" y="2014"/>
                </a:lnTo>
                <a:lnTo>
                  <a:pt x="2804" y="2020"/>
                </a:lnTo>
                <a:lnTo>
                  <a:pt x="2865" y="2038"/>
                </a:lnTo>
                <a:lnTo>
                  <a:pt x="2914" y="2072"/>
                </a:lnTo>
                <a:lnTo>
                  <a:pt x="2953" y="2124"/>
                </a:lnTo>
                <a:lnTo>
                  <a:pt x="2983" y="2110"/>
                </a:lnTo>
                <a:lnTo>
                  <a:pt x="3016" y="2098"/>
                </a:lnTo>
                <a:lnTo>
                  <a:pt x="3047" y="2084"/>
                </a:lnTo>
                <a:lnTo>
                  <a:pt x="3080" y="2072"/>
                </a:lnTo>
                <a:lnTo>
                  <a:pt x="3110" y="2058"/>
                </a:lnTo>
                <a:lnTo>
                  <a:pt x="3143" y="2046"/>
                </a:lnTo>
                <a:lnTo>
                  <a:pt x="3173" y="2032"/>
                </a:lnTo>
                <a:lnTo>
                  <a:pt x="3206" y="2018"/>
                </a:lnTo>
                <a:lnTo>
                  <a:pt x="3237" y="2006"/>
                </a:lnTo>
                <a:lnTo>
                  <a:pt x="3267" y="1992"/>
                </a:lnTo>
                <a:lnTo>
                  <a:pt x="3300" y="1980"/>
                </a:lnTo>
                <a:lnTo>
                  <a:pt x="3331" y="1966"/>
                </a:lnTo>
                <a:lnTo>
                  <a:pt x="3364" y="1954"/>
                </a:lnTo>
                <a:lnTo>
                  <a:pt x="3394" y="1940"/>
                </a:lnTo>
                <a:lnTo>
                  <a:pt x="3427" y="1928"/>
                </a:lnTo>
                <a:lnTo>
                  <a:pt x="3457" y="1914"/>
                </a:lnTo>
                <a:lnTo>
                  <a:pt x="3502" y="1920"/>
                </a:lnTo>
                <a:lnTo>
                  <a:pt x="3548" y="1926"/>
                </a:lnTo>
                <a:lnTo>
                  <a:pt x="3592" y="1932"/>
                </a:lnTo>
                <a:lnTo>
                  <a:pt x="3637" y="1936"/>
                </a:lnTo>
                <a:lnTo>
                  <a:pt x="3683" y="1942"/>
                </a:lnTo>
                <a:lnTo>
                  <a:pt x="3728" y="1948"/>
                </a:lnTo>
                <a:lnTo>
                  <a:pt x="3772" y="1954"/>
                </a:lnTo>
                <a:lnTo>
                  <a:pt x="3816" y="1960"/>
                </a:lnTo>
                <a:lnTo>
                  <a:pt x="3835" y="1974"/>
                </a:lnTo>
                <a:lnTo>
                  <a:pt x="3854" y="1988"/>
                </a:lnTo>
                <a:lnTo>
                  <a:pt x="3874" y="2002"/>
                </a:lnTo>
                <a:lnTo>
                  <a:pt x="3893" y="2016"/>
                </a:lnTo>
                <a:lnTo>
                  <a:pt x="3910" y="2032"/>
                </a:lnTo>
                <a:lnTo>
                  <a:pt x="3929" y="2046"/>
                </a:lnTo>
                <a:lnTo>
                  <a:pt x="3948" y="2060"/>
                </a:lnTo>
                <a:lnTo>
                  <a:pt x="3967" y="2074"/>
                </a:lnTo>
                <a:lnTo>
                  <a:pt x="3998" y="2078"/>
                </a:lnTo>
                <a:lnTo>
                  <a:pt x="4025" y="2080"/>
                </a:lnTo>
                <a:lnTo>
                  <a:pt x="4056" y="2084"/>
                </a:lnTo>
                <a:lnTo>
                  <a:pt x="4083" y="2088"/>
                </a:lnTo>
                <a:lnTo>
                  <a:pt x="4114" y="2090"/>
                </a:lnTo>
                <a:lnTo>
                  <a:pt x="4141" y="2094"/>
                </a:lnTo>
                <a:lnTo>
                  <a:pt x="4172" y="2098"/>
                </a:lnTo>
                <a:lnTo>
                  <a:pt x="4199" y="2100"/>
                </a:lnTo>
                <a:lnTo>
                  <a:pt x="4229" y="2104"/>
                </a:lnTo>
                <a:lnTo>
                  <a:pt x="4257" y="2108"/>
                </a:lnTo>
                <a:lnTo>
                  <a:pt x="4287" y="2112"/>
                </a:lnTo>
                <a:lnTo>
                  <a:pt x="4315" y="2114"/>
                </a:lnTo>
                <a:lnTo>
                  <a:pt x="4345" y="2118"/>
                </a:lnTo>
                <a:lnTo>
                  <a:pt x="4373" y="2122"/>
                </a:lnTo>
                <a:lnTo>
                  <a:pt x="4403" y="2124"/>
                </a:lnTo>
                <a:lnTo>
                  <a:pt x="4431" y="2128"/>
                </a:lnTo>
                <a:lnTo>
                  <a:pt x="4431" y="1673"/>
                </a:lnTo>
                <a:lnTo>
                  <a:pt x="4431" y="1217"/>
                </a:lnTo>
                <a:lnTo>
                  <a:pt x="4431" y="764"/>
                </a:lnTo>
                <a:lnTo>
                  <a:pt x="4431" y="308"/>
                </a:lnTo>
                <a:close/>
              </a:path>
            </a:pathLst>
          </a:custGeom>
          <a:solidFill>
            <a:srgbClr val="8ec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855720" y="1409760"/>
            <a:ext cx="7039080" cy="4343400"/>
          </a:xfrm>
          <a:custGeom>
            <a:avLst/>
            <a:gdLst/>
            <a:ahLst/>
            <a:rect l="l" t="t" r="r" b="b"/>
            <a:pathLst>
              <a:path w="4434" h="2736">
                <a:moveTo>
                  <a:pt x="4434" y="314"/>
                </a:moveTo>
                <a:lnTo>
                  <a:pt x="4428" y="258"/>
                </a:lnTo>
                <a:lnTo>
                  <a:pt x="4423" y="204"/>
                </a:lnTo>
                <a:lnTo>
                  <a:pt x="4417" y="150"/>
                </a:lnTo>
                <a:lnTo>
                  <a:pt x="4409" y="94"/>
                </a:lnTo>
                <a:lnTo>
                  <a:pt x="4368" y="82"/>
                </a:lnTo>
                <a:lnTo>
                  <a:pt x="4323" y="70"/>
                </a:lnTo>
                <a:lnTo>
                  <a:pt x="4282" y="58"/>
                </a:lnTo>
                <a:lnTo>
                  <a:pt x="4241" y="46"/>
                </a:lnTo>
                <a:lnTo>
                  <a:pt x="4197" y="36"/>
                </a:lnTo>
                <a:lnTo>
                  <a:pt x="4155" y="24"/>
                </a:lnTo>
                <a:lnTo>
                  <a:pt x="4111" y="12"/>
                </a:lnTo>
                <a:lnTo>
                  <a:pt x="4070" y="0"/>
                </a:lnTo>
                <a:lnTo>
                  <a:pt x="4020" y="16"/>
                </a:lnTo>
                <a:lnTo>
                  <a:pt x="3970" y="32"/>
                </a:lnTo>
                <a:lnTo>
                  <a:pt x="3929" y="50"/>
                </a:lnTo>
                <a:lnTo>
                  <a:pt x="3888" y="66"/>
                </a:lnTo>
                <a:lnTo>
                  <a:pt x="3852" y="84"/>
                </a:lnTo>
                <a:lnTo>
                  <a:pt x="3816" y="104"/>
                </a:lnTo>
                <a:lnTo>
                  <a:pt x="3786" y="122"/>
                </a:lnTo>
                <a:lnTo>
                  <a:pt x="3758" y="142"/>
                </a:lnTo>
                <a:lnTo>
                  <a:pt x="3733" y="164"/>
                </a:lnTo>
                <a:lnTo>
                  <a:pt x="3709" y="188"/>
                </a:lnTo>
                <a:lnTo>
                  <a:pt x="3689" y="212"/>
                </a:lnTo>
                <a:lnTo>
                  <a:pt x="3670" y="238"/>
                </a:lnTo>
                <a:lnTo>
                  <a:pt x="3653" y="264"/>
                </a:lnTo>
                <a:lnTo>
                  <a:pt x="3637" y="294"/>
                </a:lnTo>
                <a:lnTo>
                  <a:pt x="3623" y="324"/>
                </a:lnTo>
                <a:lnTo>
                  <a:pt x="3612" y="358"/>
                </a:lnTo>
                <a:lnTo>
                  <a:pt x="3593" y="376"/>
                </a:lnTo>
                <a:lnTo>
                  <a:pt x="3576" y="392"/>
                </a:lnTo>
                <a:lnTo>
                  <a:pt x="3557" y="410"/>
                </a:lnTo>
                <a:lnTo>
                  <a:pt x="3540" y="426"/>
                </a:lnTo>
                <a:lnTo>
                  <a:pt x="3521" y="442"/>
                </a:lnTo>
                <a:lnTo>
                  <a:pt x="3502" y="460"/>
                </a:lnTo>
                <a:lnTo>
                  <a:pt x="3485" y="476"/>
                </a:lnTo>
                <a:lnTo>
                  <a:pt x="3466" y="494"/>
                </a:lnTo>
                <a:lnTo>
                  <a:pt x="3452" y="496"/>
                </a:lnTo>
                <a:lnTo>
                  <a:pt x="3438" y="500"/>
                </a:lnTo>
                <a:lnTo>
                  <a:pt x="3422" y="502"/>
                </a:lnTo>
                <a:lnTo>
                  <a:pt x="3408" y="506"/>
                </a:lnTo>
                <a:lnTo>
                  <a:pt x="3394" y="508"/>
                </a:lnTo>
                <a:lnTo>
                  <a:pt x="3380" y="512"/>
                </a:lnTo>
                <a:lnTo>
                  <a:pt x="3364" y="514"/>
                </a:lnTo>
                <a:lnTo>
                  <a:pt x="3350" y="518"/>
                </a:lnTo>
                <a:lnTo>
                  <a:pt x="3339" y="530"/>
                </a:lnTo>
                <a:lnTo>
                  <a:pt x="3331" y="540"/>
                </a:lnTo>
                <a:lnTo>
                  <a:pt x="3320" y="552"/>
                </a:lnTo>
                <a:lnTo>
                  <a:pt x="3309" y="562"/>
                </a:lnTo>
                <a:lnTo>
                  <a:pt x="3298" y="572"/>
                </a:lnTo>
                <a:lnTo>
                  <a:pt x="3289" y="582"/>
                </a:lnTo>
                <a:lnTo>
                  <a:pt x="3278" y="594"/>
                </a:lnTo>
                <a:lnTo>
                  <a:pt x="3267" y="604"/>
                </a:lnTo>
                <a:lnTo>
                  <a:pt x="3259" y="618"/>
                </a:lnTo>
                <a:lnTo>
                  <a:pt x="3251" y="630"/>
                </a:lnTo>
                <a:lnTo>
                  <a:pt x="3243" y="642"/>
                </a:lnTo>
                <a:lnTo>
                  <a:pt x="3234" y="654"/>
                </a:lnTo>
                <a:lnTo>
                  <a:pt x="3218" y="670"/>
                </a:lnTo>
                <a:lnTo>
                  <a:pt x="3201" y="686"/>
                </a:lnTo>
                <a:lnTo>
                  <a:pt x="3185" y="704"/>
                </a:lnTo>
                <a:lnTo>
                  <a:pt x="3168" y="720"/>
                </a:lnTo>
                <a:lnTo>
                  <a:pt x="3149" y="736"/>
                </a:lnTo>
                <a:lnTo>
                  <a:pt x="3132" y="752"/>
                </a:lnTo>
                <a:lnTo>
                  <a:pt x="3116" y="770"/>
                </a:lnTo>
                <a:lnTo>
                  <a:pt x="3099" y="785"/>
                </a:lnTo>
                <a:lnTo>
                  <a:pt x="3063" y="770"/>
                </a:lnTo>
                <a:lnTo>
                  <a:pt x="3027" y="754"/>
                </a:lnTo>
                <a:lnTo>
                  <a:pt x="2989" y="738"/>
                </a:lnTo>
                <a:lnTo>
                  <a:pt x="2953" y="722"/>
                </a:lnTo>
                <a:lnTo>
                  <a:pt x="2917" y="706"/>
                </a:lnTo>
                <a:lnTo>
                  <a:pt x="2879" y="690"/>
                </a:lnTo>
                <a:lnTo>
                  <a:pt x="2843" y="674"/>
                </a:lnTo>
                <a:lnTo>
                  <a:pt x="2807" y="658"/>
                </a:lnTo>
                <a:lnTo>
                  <a:pt x="2710" y="616"/>
                </a:lnTo>
                <a:lnTo>
                  <a:pt x="2617" y="582"/>
                </a:lnTo>
                <a:lnTo>
                  <a:pt x="2528" y="556"/>
                </a:lnTo>
                <a:lnTo>
                  <a:pt x="2446" y="536"/>
                </a:lnTo>
                <a:lnTo>
                  <a:pt x="2366" y="526"/>
                </a:lnTo>
                <a:lnTo>
                  <a:pt x="2291" y="526"/>
                </a:lnTo>
                <a:lnTo>
                  <a:pt x="2222" y="532"/>
                </a:lnTo>
                <a:lnTo>
                  <a:pt x="2162" y="546"/>
                </a:lnTo>
                <a:lnTo>
                  <a:pt x="2104" y="570"/>
                </a:lnTo>
                <a:lnTo>
                  <a:pt x="2054" y="602"/>
                </a:lnTo>
                <a:lnTo>
                  <a:pt x="2010" y="642"/>
                </a:lnTo>
                <a:lnTo>
                  <a:pt x="1974" y="692"/>
                </a:lnTo>
                <a:lnTo>
                  <a:pt x="1947" y="750"/>
                </a:lnTo>
                <a:lnTo>
                  <a:pt x="1925" y="815"/>
                </a:lnTo>
                <a:lnTo>
                  <a:pt x="1914" y="891"/>
                </a:lnTo>
                <a:lnTo>
                  <a:pt x="1908" y="977"/>
                </a:lnTo>
                <a:lnTo>
                  <a:pt x="1856" y="1005"/>
                </a:lnTo>
                <a:lnTo>
                  <a:pt x="1806" y="1035"/>
                </a:lnTo>
                <a:lnTo>
                  <a:pt x="1754" y="1063"/>
                </a:lnTo>
                <a:lnTo>
                  <a:pt x="1701" y="1093"/>
                </a:lnTo>
                <a:lnTo>
                  <a:pt x="1649" y="1121"/>
                </a:lnTo>
                <a:lnTo>
                  <a:pt x="1599" y="1151"/>
                </a:lnTo>
                <a:lnTo>
                  <a:pt x="1547" y="1179"/>
                </a:lnTo>
                <a:lnTo>
                  <a:pt x="1494" y="1209"/>
                </a:lnTo>
                <a:lnTo>
                  <a:pt x="1423" y="1159"/>
                </a:lnTo>
                <a:lnTo>
                  <a:pt x="1362" y="1137"/>
                </a:lnTo>
                <a:lnTo>
                  <a:pt x="1312" y="1139"/>
                </a:lnTo>
                <a:lnTo>
                  <a:pt x="1274" y="1161"/>
                </a:lnTo>
                <a:lnTo>
                  <a:pt x="1244" y="1203"/>
                </a:lnTo>
                <a:lnTo>
                  <a:pt x="1221" y="1257"/>
                </a:lnTo>
                <a:lnTo>
                  <a:pt x="1210" y="1321"/>
                </a:lnTo>
                <a:lnTo>
                  <a:pt x="1208" y="1391"/>
                </a:lnTo>
                <a:lnTo>
                  <a:pt x="1175" y="1399"/>
                </a:lnTo>
                <a:lnTo>
                  <a:pt x="1144" y="1405"/>
                </a:lnTo>
                <a:lnTo>
                  <a:pt x="1111" y="1413"/>
                </a:lnTo>
                <a:lnTo>
                  <a:pt x="1081" y="1419"/>
                </a:lnTo>
                <a:lnTo>
                  <a:pt x="1051" y="1427"/>
                </a:lnTo>
                <a:lnTo>
                  <a:pt x="1020" y="1435"/>
                </a:lnTo>
                <a:lnTo>
                  <a:pt x="987" y="1441"/>
                </a:lnTo>
                <a:lnTo>
                  <a:pt x="957" y="1449"/>
                </a:lnTo>
                <a:lnTo>
                  <a:pt x="937" y="1407"/>
                </a:lnTo>
                <a:lnTo>
                  <a:pt x="921" y="1363"/>
                </a:lnTo>
                <a:lnTo>
                  <a:pt x="902" y="1321"/>
                </a:lnTo>
                <a:lnTo>
                  <a:pt x="882" y="1279"/>
                </a:lnTo>
                <a:lnTo>
                  <a:pt x="943" y="1201"/>
                </a:lnTo>
                <a:lnTo>
                  <a:pt x="984" y="1131"/>
                </a:lnTo>
                <a:lnTo>
                  <a:pt x="1012" y="1073"/>
                </a:lnTo>
                <a:lnTo>
                  <a:pt x="1020" y="1023"/>
                </a:lnTo>
                <a:lnTo>
                  <a:pt x="1017" y="981"/>
                </a:lnTo>
                <a:lnTo>
                  <a:pt x="998" y="947"/>
                </a:lnTo>
                <a:lnTo>
                  <a:pt x="968" y="921"/>
                </a:lnTo>
                <a:lnTo>
                  <a:pt x="924" y="899"/>
                </a:lnTo>
                <a:lnTo>
                  <a:pt x="869" y="885"/>
                </a:lnTo>
                <a:lnTo>
                  <a:pt x="802" y="875"/>
                </a:lnTo>
                <a:lnTo>
                  <a:pt x="725" y="869"/>
                </a:lnTo>
                <a:lnTo>
                  <a:pt x="642" y="869"/>
                </a:lnTo>
                <a:lnTo>
                  <a:pt x="549" y="871"/>
                </a:lnTo>
                <a:lnTo>
                  <a:pt x="449" y="875"/>
                </a:lnTo>
                <a:lnTo>
                  <a:pt x="345" y="881"/>
                </a:lnTo>
                <a:lnTo>
                  <a:pt x="232" y="889"/>
                </a:lnTo>
                <a:lnTo>
                  <a:pt x="212" y="917"/>
                </a:lnTo>
                <a:lnTo>
                  <a:pt x="196" y="947"/>
                </a:lnTo>
                <a:lnTo>
                  <a:pt x="176" y="975"/>
                </a:lnTo>
                <a:lnTo>
                  <a:pt x="160" y="1003"/>
                </a:lnTo>
                <a:lnTo>
                  <a:pt x="141" y="1033"/>
                </a:lnTo>
                <a:lnTo>
                  <a:pt x="124" y="1061"/>
                </a:lnTo>
                <a:lnTo>
                  <a:pt x="105" y="1091"/>
                </a:lnTo>
                <a:lnTo>
                  <a:pt x="86" y="1119"/>
                </a:lnTo>
                <a:lnTo>
                  <a:pt x="97" y="1149"/>
                </a:lnTo>
                <a:lnTo>
                  <a:pt x="110" y="1177"/>
                </a:lnTo>
                <a:lnTo>
                  <a:pt x="121" y="1207"/>
                </a:lnTo>
                <a:lnTo>
                  <a:pt x="132" y="1237"/>
                </a:lnTo>
                <a:lnTo>
                  <a:pt x="119" y="1255"/>
                </a:lnTo>
                <a:lnTo>
                  <a:pt x="102" y="1275"/>
                </a:lnTo>
                <a:lnTo>
                  <a:pt x="88" y="1293"/>
                </a:lnTo>
                <a:lnTo>
                  <a:pt x="74" y="1311"/>
                </a:lnTo>
                <a:lnTo>
                  <a:pt x="58" y="1329"/>
                </a:lnTo>
                <a:lnTo>
                  <a:pt x="44" y="1347"/>
                </a:lnTo>
                <a:lnTo>
                  <a:pt x="28" y="1365"/>
                </a:lnTo>
                <a:lnTo>
                  <a:pt x="14" y="1383"/>
                </a:lnTo>
                <a:lnTo>
                  <a:pt x="11" y="1571"/>
                </a:lnTo>
                <a:lnTo>
                  <a:pt x="8" y="1757"/>
                </a:lnTo>
                <a:lnTo>
                  <a:pt x="3" y="1942"/>
                </a:lnTo>
                <a:lnTo>
                  <a:pt x="0" y="2128"/>
                </a:lnTo>
                <a:lnTo>
                  <a:pt x="41" y="2150"/>
                </a:lnTo>
                <a:lnTo>
                  <a:pt x="83" y="2170"/>
                </a:lnTo>
                <a:lnTo>
                  <a:pt x="124" y="2192"/>
                </a:lnTo>
                <a:lnTo>
                  <a:pt x="165" y="2212"/>
                </a:lnTo>
                <a:lnTo>
                  <a:pt x="204" y="2234"/>
                </a:lnTo>
                <a:lnTo>
                  <a:pt x="245" y="2254"/>
                </a:lnTo>
                <a:lnTo>
                  <a:pt x="287" y="2276"/>
                </a:lnTo>
                <a:lnTo>
                  <a:pt x="328" y="2296"/>
                </a:lnTo>
                <a:lnTo>
                  <a:pt x="370" y="2284"/>
                </a:lnTo>
                <a:lnTo>
                  <a:pt x="414" y="2270"/>
                </a:lnTo>
                <a:lnTo>
                  <a:pt x="455" y="2258"/>
                </a:lnTo>
                <a:lnTo>
                  <a:pt x="499" y="2244"/>
                </a:lnTo>
                <a:lnTo>
                  <a:pt x="540" y="2230"/>
                </a:lnTo>
                <a:lnTo>
                  <a:pt x="585" y="2218"/>
                </a:lnTo>
                <a:lnTo>
                  <a:pt x="626" y="2204"/>
                </a:lnTo>
                <a:lnTo>
                  <a:pt x="670" y="2192"/>
                </a:lnTo>
                <a:lnTo>
                  <a:pt x="717" y="2196"/>
                </a:lnTo>
                <a:lnTo>
                  <a:pt x="761" y="2200"/>
                </a:lnTo>
                <a:lnTo>
                  <a:pt x="808" y="2204"/>
                </a:lnTo>
                <a:lnTo>
                  <a:pt x="855" y="2208"/>
                </a:lnTo>
                <a:lnTo>
                  <a:pt x="899" y="2212"/>
                </a:lnTo>
                <a:lnTo>
                  <a:pt x="946" y="2216"/>
                </a:lnTo>
                <a:lnTo>
                  <a:pt x="993" y="2220"/>
                </a:lnTo>
                <a:lnTo>
                  <a:pt x="1040" y="2224"/>
                </a:lnTo>
                <a:lnTo>
                  <a:pt x="1040" y="2260"/>
                </a:lnTo>
                <a:lnTo>
                  <a:pt x="1040" y="2294"/>
                </a:lnTo>
                <a:lnTo>
                  <a:pt x="1040" y="2330"/>
                </a:lnTo>
                <a:lnTo>
                  <a:pt x="1040" y="2366"/>
                </a:lnTo>
                <a:lnTo>
                  <a:pt x="1045" y="2410"/>
                </a:lnTo>
                <a:lnTo>
                  <a:pt x="1053" y="2454"/>
                </a:lnTo>
                <a:lnTo>
                  <a:pt x="1059" y="2500"/>
                </a:lnTo>
                <a:lnTo>
                  <a:pt x="1064" y="2544"/>
                </a:lnTo>
                <a:lnTo>
                  <a:pt x="1103" y="2556"/>
                </a:lnTo>
                <a:lnTo>
                  <a:pt x="1142" y="2568"/>
                </a:lnTo>
                <a:lnTo>
                  <a:pt x="1180" y="2580"/>
                </a:lnTo>
                <a:lnTo>
                  <a:pt x="1219" y="2592"/>
                </a:lnTo>
                <a:lnTo>
                  <a:pt x="1260" y="2604"/>
                </a:lnTo>
                <a:lnTo>
                  <a:pt x="1299" y="2616"/>
                </a:lnTo>
                <a:lnTo>
                  <a:pt x="1337" y="2628"/>
                </a:lnTo>
                <a:lnTo>
                  <a:pt x="1376" y="2640"/>
                </a:lnTo>
                <a:lnTo>
                  <a:pt x="1415" y="2652"/>
                </a:lnTo>
                <a:lnTo>
                  <a:pt x="1453" y="2664"/>
                </a:lnTo>
                <a:lnTo>
                  <a:pt x="1492" y="2676"/>
                </a:lnTo>
                <a:lnTo>
                  <a:pt x="1533" y="2688"/>
                </a:lnTo>
                <a:lnTo>
                  <a:pt x="1572" y="2700"/>
                </a:lnTo>
                <a:lnTo>
                  <a:pt x="1610" y="2712"/>
                </a:lnTo>
                <a:lnTo>
                  <a:pt x="1649" y="2724"/>
                </a:lnTo>
                <a:lnTo>
                  <a:pt x="1687" y="2736"/>
                </a:lnTo>
                <a:lnTo>
                  <a:pt x="1718" y="2726"/>
                </a:lnTo>
                <a:lnTo>
                  <a:pt x="1748" y="2718"/>
                </a:lnTo>
                <a:lnTo>
                  <a:pt x="1778" y="2708"/>
                </a:lnTo>
                <a:lnTo>
                  <a:pt x="1809" y="2700"/>
                </a:lnTo>
                <a:lnTo>
                  <a:pt x="1839" y="2690"/>
                </a:lnTo>
                <a:lnTo>
                  <a:pt x="1869" y="2682"/>
                </a:lnTo>
                <a:lnTo>
                  <a:pt x="1900" y="2672"/>
                </a:lnTo>
                <a:lnTo>
                  <a:pt x="1930" y="2664"/>
                </a:lnTo>
                <a:lnTo>
                  <a:pt x="1949" y="2574"/>
                </a:lnTo>
                <a:lnTo>
                  <a:pt x="1985" y="2486"/>
                </a:lnTo>
                <a:lnTo>
                  <a:pt x="2035" y="2402"/>
                </a:lnTo>
                <a:lnTo>
                  <a:pt x="2096" y="2322"/>
                </a:lnTo>
                <a:lnTo>
                  <a:pt x="2167" y="2246"/>
                </a:lnTo>
                <a:lnTo>
                  <a:pt x="2244" y="2178"/>
                </a:lnTo>
                <a:lnTo>
                  <a:pt x="2327" y="2118"/>
                </a:lnTo>
                <a:lnTo>
                  <a:pt x="2413" y="2064"/>
                </a:lnTo>
                <a:lnTo>
                  <a:pt x="2501" y="2020"/>
                </a:lnTo>
                <a:lnTo>
                  <a:pt x="2586" y="1988"/>
                </a:lnTo>
                <a:lnTo>
                  <a:pt x="2669" y="1966"/>
                </a:lnTo>
                <a:lnTo>
                  <a:pt x="2749" y="1958"/>
                </a:lnTo>
                <a:lnTo>
                  <a:pt x="2821" y="1962"/>
                </a:lnTo>
                <a:lnTo>
                  <a:pt x="2881" y="1980"/>
                </a:lnTo>
                <a:lnTo>
                  <a:pt x="2934" y="2014"/>
                </a:lnTo>
                <a:lnTo>
                  <a:pt x="2972" y="2066"/>
                </a:lnTo>
                <a:lnTo>
                  <a:pt x="3003" y="2052"/>
                </a:lnTo>
                <a:lnTo>
                  <a:pt x="3033" y="2038"/>
                </a:lnTo>
                <a:lnTo>
                  <a:pt x="3063" y="2026"/>
                </a:lnTo>
                <a:lnTo>
                  <a:pt x="3094" y="2012"/>
                </a:lnTo>
                <a:lnTo>
                  <a:pt x="3124" y="1998"/>
                </a:lnTo>
                <a:lnTo>
                  <a:pt x="3154" y="1984"/>
                </a:lnTo>
                <a:lnTo>
                  <a:pt x="3185" y="1972"/>
                </a:lnTo>
                <a:lnTo>
                  <a:pt x="3218" y="1958"/>
                </a:lnTo>
                <a:lnTo>
                  <a:pt x="3248" y="1944"/>
                </a:lnTo>
                <a:lnTo>
                  <a:pt x="3278" y="1930"/>
                </a:lnTo>
                <a:lnTo>
                  <a:pt x="3309" y="1918"/>
                </a:lnTo>
                <a:lnTo>
                  <a:pt x="3339" y="1904"/>
                </a:lnTo>
                <a:lnTo>
                  <a:pt x="3369" y="1890"/>
                </a:lnTo>
                <a:lnTo>
                  <a:pt x="3400" y="1876"/>
                </a:lnTo>
                <a:lnTo>
                  <a:pt x="3430" y="1864"/>
                </a:lnTo>
                <a:lnTo>
                  <a:pt x="3460" y="1850"/>
                </a:lnTo>
                <a:lnTo>
                  <a:pt x="3507" y="1854"/>
                </a:lnTo>
                <a:lnTo>
                  <a:pt x="3554" y="1856"/>
                </a:lnTo>
                <a:lnTo>
                  <a:pt x="3601" y="1860"/>
                </a:lnTo>
                <a:lnTo>
                  <a:pt x="3648" y="1862"/>
                </a:lnTo>
                <a:lnTo>
                  <a:pt x="3692" y="1866"/>
                </a:lnTo>
                <a:lnTo>
                  <a:pt x="3739" y="1870"/>
                </a:lnTo>
                <a:lnTo>
                  <a:pt x="3786" y="1872"/>
                </a:lnTo>
                <a:lnTo>
                  <a:pt x="3833" y="1876"/>
                </a:lnTo>
                <a:lnTo>
                  <a:pt x="3849" y="1892"/>
                </a:lnTo>
                <a:lnTo>
                  <a:pt x="3868" y="1910"/>
                </a:lnTo>
                <a:lnTo>
                  <a:pt x="3885" y="1926"/>
                </a:lnTo>
                <a:lnTo>
                  <a:pt x="3902" y="1942"/>
                </a:lnTo>
                <a:lnTo>
                  <a:pt x="3921" y="1960"/>
                </a:lnTo>
                <a:lnTo>
                  <a:pt x="3937" y="1976"/>
                </a:lnTo>
                <a:lnTo>
                  <a:pt x="3954" y="1994"/>
                </a:lnTo>
                <a:lnTo>
                  <a:pt x="3970" y="2010"/>
                </a:lnTo>
                <a:lnTo>
                  <a:pt x="4001" y="2014"/>
                </a:lnTo>
                <a:lnTo>
                  <a:pt x="4028" y="2016"/>
                </a:lnTo>
                <a:lnTo>
                  <a:pt x="4059" y="2020"/>
                </a:lnTo>
                <a:lnTo>
                  <a:pt x="4086" y="2024"/>
                </a:lnTo>
                <a:lnTo>
                  <a:pt x="4117" y="2026"/>
                </a:lnTo>
                <a:lnTo>
                  <a:pt x="4144" y="2030"/>
                </a:lnTo>
                <a:lnTo>
                  <a:pt x="4175" y="2034"/>
                </a:lnTo>
                <a:lnTo>
                  <a:pt x="4202" y="2036"/>
                </a:lnTo>
                <a:lnTo>
                  <a:pt x="4232" y="2040"/>
                </a:lnTo>
                <a:lnTo>
                  <a:pt x="4260" y="2044"/>
                </a:lnTo>
                <a:lnTo>
                  <a:pt x="4290" y="2048"/>
                </a:lnTo>
                <a:lnTo>
                  <a:pt x="4318" y="2050"/>
                </a:lnTo>
                <a:lnTo>
                  <a:pt x="4348" y="2054"/>
                </a:lnTo>
                <a:lnTo>
                  <a:pt x="4376" y="2058"/>
                </a:lnTo>
                <a:lnTo>
                  <a:pt x="4406" y="2060"/>
                </a:lnTo>
                <a:lnTo>
                  <a:pt x="4434" y="2064"/>
                </a:lnTo>
                <a:lnTo>
                  <a:pt x="4434" y="1627"/>
                </a:lnTo>
                <a:lnTo>
                  <a:pt x="4434" y="1189"/>
                </a:lnTo>
                <a:lnTo>
                  <a:pt x="4434" y="752"/>
                </a:lnTo>
                <a:lnTo>
                  <a:pt x="4434" y="314"/>
                </a:lnTo>
                <a:close/>
              </a:path>
            </a:pathLst>
          </a:custGeom>
          <a:solidFill>
            <a:srgbClr val="a3d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838080" y="1447920"/>
            <a:ext cx="7043760" cy="4260600"/>
          </a:xfrm>
          <a:custGeom>
            <a:avLst/>
            <a:gdLst/>
            <a:ahLst/>
            <a:rect l="l" t="t" r="r" b="b"/>
            <a:pathLst>
              <a:path w="4437" h="2684">
                <a:moveTo>
                  <a:pt x="4437" y="320"/>
                </a:moveTo>
                <a:lnTo>
                  <a:pt x="4431" y="266"/>
                </a:lnTo>
                <a:lnTo>
                  <a:pt x="4426" y="212"/>
                </a:lnTo>
                <a:lnTo>
                  <a:pt x="4420" y="158"/>
                </a:lnTo>
                <a:lnTo>
                  <a:pt x="4412" y="104"/>
                </a:lnTo>
                <a:lnTo>
                  <a:pt x="4371" y="92"/>
                </a:lnTo>
                <a:lnTo>
                  <a:pt x="4326" y="78"/>
                </a:lnTo>
                <a:lnTo>
                  <a:pt x="4285" y="66"/>
                </a:lnTo>
                <a:lnTo>
                  <a:pt x="4244" y="52"/>
                </a:lnTo>
                <a:lnTo>
                  <a:pt x="4200" y="38"/>
                </a:lnTo>
                <a:lnTo>
                  <a:pt x="4158" y="26"/>
                </a:lnTo>
                <a:lnTo>
                  <a:pt x="4114" y="12"/>
                </a:lnTo>
                <a:lnTo>
                  <a:pt x="4073" y="0"/>
                </a:lnTo>
                <a:lnTo>
                  <a:pt x="4023" y="16"/>
                </a:lnTo>
                <a:lnTo>
                  <a:pt x="3976" y="34"/>
                </a:lnTo>
                <a:lnTo>
                  <a:pt x="3932" y="50"/>
                </a:lnTo>
                <a:lnTo>
                  <a:pt x="3894" y="68"/>
                </a:lnTo>
                <a:lnTo>
                  <a:pt x="3858" y="88"/>
                </a:lnTo>
                <a:lnTo>
                  <a:pt x="3822" y="108"/>
                </a:lnTo>
                <a:lnTo>
                  <a:pt x="3792" y="128"/>
                </a:lnTo>
                <a:lnTo>
                  <a:pt x="3764" y="150"/>
                </a:lnTo>
                <a:lnTo>
                  <a:pt x="3739" y="174"/>
                </a:lnTo>
                <a:lnTo>
                  <a:pt x="3717" y="200"/>
                </a:lnTo>
                <a:lnTo>
                  <a:pt x="3695" y="226"/>
                </a:lnTo>
                <a:lnTo>
                  <a:pt x="3676" y="254"/>
                </a:lnTo>
                <a:lnTo>
                  <a:pt x="3662" y="284"/>
                </a:lnTo>
                <a:lnTo>
                  <a:pt x="3645" y="314"/>
                </a:lnTo>
                <a:lnTo>
                  <a:pt x="3634" y="348"/>
                </a:lnTo>
                <a:lnTo>
                  <a:pt x="3623" y="384"/>
                </a:lnTo>
                <a:lnTo>
                  <a:pt x="3607" y="402"/>
                </a:lnTo>
                <a:lnTo>
                  <a:pt x="3593" y="418"/>
                </a:lnTo>
                <a:lnTo>
                  <a:pt x="3576" y="436"/>
                </a:lnTo>
                <a:lnTo>
                  <a:pt x="3563" y="452"/>
                </a:lnTo>
                <a:lnTo>
                  <a:pt x="3549" y="468"/>
                </a:lnTo>
                <a:lnTo>
                  <a:pt x="3532" y="486"/>
                </a:lnTo>
                <a:lnTo>
                  <a:pt x="3519" y="502"/>
                </a:lnTo>
                <a:lnTo>
                  <a:pt x="3502" y="520"/>
                </a:lnTo>
                <a:lnTo>
                  <a:pt x="3485" y="520"/>
                </a:lnTo>
                <a:lnTo>
                  <a:pt x="3469" y="522"/>
                </a:lnTo>
                <a:lnTo>
                  <a:pt x="3452" y="522"/>
                </a:lnTo>
                <a:lnTo>
                  <a:pt x="3436" y="522"/>
                </a:lnTo>
                <a:lnTo>
                  <a:pt x="3419" y="524"/>
                </a:lnTo>
                <a:lnTo>
                  <a:pt x="3403" y="524"/>
                </a:lnTo>
                <a:lnTo>
                  <a:pt x="3386" y="526"/>
                </a:lnTo>
                <a:lnTo>
                  <a:pt x="3370" y="526"/>
                </a:lnTo>
                <a:lnTo>
                  <a:pt x="3359" y="536"/>
                </a:lnTo>
                <a:lnTo>
                  <a:pt x="3345" y="546"/>
                </a:lnTo>
                <a:lnTo>
                  <a:pt x="3334" y="556"/>
                </a:lnTo>
                <a:lnTo>
                  <a:pt x="3320" y="566"/>
                </a:lnTo>
                <a:lnTo>
                  <a:pt x="3309" y="576"/>
                </a:lnTo>
                <a:lnTo>
                  <a:pt x="3295" y="586"/>
                </a:lnTo>
                <a:lnTo>
                  <a:pt x="3284" y="596"/>
                </a:lnTo>
                <a:lnTo>
                  <a:pt x="3270" y="606"/>
                </a:lnTo>
                <a:lnTo>
                  <a:pt x="3265" y="620"/>
                </a:lnTo>
                <a:lnTo>
                  <a:pt x="3257" y="636"/>
                </a:lnTo>
                <a:lnTo>
                  <a:pt x="3248" y="650"/>
                </a:lnTo>
                <a:lnTo>
                  <a:pt x="3243" y="666"/>
                </a:lnTo>
                <a:lnTo>
                  <a:pt x="3226" y="684"/>
                </a:lnTo>
                <a:lnTo>
                  <a:pt x="3210" y="702"/>
                </a:lnTo>
                <a:lnTo>
                  <a:pt x="3193" y="720"/>
                </a:lnTo>
                <a:lnTo>
                  <a:pt x="3177" y="738"/>
                </a:lnTo>
                <a:lnTo>
                  <a:pt x="3157" y="755"/>
                </a:lnTo>
                <a:lnTo>
                  <a:pt x="3141" y="773"/>
                </a:lnTo>
                <a:lnTo>
                  <a:pt x="3124" y="791"/>
                </a:lnTo>
                <a:lnTo>
                  <a:pt x="3108" y="809"/>
                </a:lnTo>
                <a:lnTo>
                  <a:pt x="3072" y="791"/>
                </a:lnTo>
                <a:lnTo>
                  <a:pt x="3033" y="771"/>
                </a:lnTo>
                <a:lnTo>
                  <a:pt x="2997" y="753"/>
                </a:lnTo>
                <a:lnTo>
                  <a:pt x="2959" y="734"/>
                </a:lnTo>
                <a:lnTo>
                  <a:pt x="2923" y="716"/>
                </a:lnTo>
                <a:lnTo>
                  <a:pt x="2884" y="696"/>
                </a:lnTo>
                <a:lnTo>
                  <a:pt x="2849" y="678"/>
                </a:lnTo>
                <a:lnTo>
                  <a:pt x="2810" y="658"/>
                </a:lnTo>
                <a:lnTo>
                  <a:pt x="2713" y="616"/>
                </a:lnTo>
                <a:lnTo>
                  <a:pt x="2620" y="582"/>
                </a:lnTo>
                <a:lnTo>
                  <a:pt x="2531" y="556"/>
                </a:lnTo>
                <a:lnTo>
                  <a:pt x="2449" y="538"/>
                </a:lnTo>
                <a:lnTo>
                  <a:pt x="2369" y="528"/>
                </a:lnTo>
                <a:lnTo>
                  <a:pt x="2294" y="526"/>
                </a:lnTo>
                <a:lnTo>
                  <a:pt x="2225" y="532"/>
                </a:lnTo>
                <a:lnTo>
                  <a:pt x="2165" y="548"/>
                </a:lnTo>
                <a:lnTo>
                  <a:pt x="2107" y="570"/>
                </a:lnTo>
                <a:lnTo>
                  <a:pt x="2057" y="602"/>
                </a:lnTo>
                <a:lnTo>
                  <a:pt x="2013" y="642"/>
                </a:lnTo>
                <a:lnTo>
                  <a:pt x="1977" y="692"/>
                </a:lnTo>
                <a:lnTo>
                  <a:pt x="1950" y="750"/>
                </a:lnTo>
                <a:lnTo>
                  <a:pt x="1928" y="817"/>
                </a:lnTo>
                <a:lnTo>
                  <a:pt x="1917" y="891"/>
                </a:lnTo>
                <a:lnTo>
                  <a:pt x="1911" y="977"/>
                </a:lnTo>
                <a:lnTo>
                  <a:pt x="1859" y="1007"/>
                </a:lnTo>
                <a:lnTo>
                  <a:pt x="1809" y="1035"/>
                </a:lnTo>
                <a:lnTo>
                  <a:pt x="1757" y="1065"/>
                </a:lnTo>
                <a:lnTo>
                  <a:pt x="1704" y="1093"/>
                </a:lnTo>
                <a:lnTo>
                  <a:pt x="1652" y="1121"/>
                </a:lnTo>
                <a:lnTo>
                  <a:pt x="1602" y="1151"/>
                </a:lnTo>
                <a:lnTo>
                  <a:pt x="1550" y="1179"/>
                </a:lnTo>
                <a:lnTo>
                  <a:pt x="1497" y="1209"/>
                </a:lnTo>
                <a:lnTo>
                  <a:pt x="1426" y="1163"/>
                </a:lnTo>
                <a:lnTo>
                  <a:pt x="1365" y="1147"/>
                </a:lnTo>
                <a:lnTo>
                  <a:pt x="1315" y="1155"/>
                </a:lnTo>
                <a:lnTo>
                  <a:pt x="1277" y="1185"/>
                </a:lnTo>
                <a:lnTo>
                  <a:pt x="1247" y="1229"/>
                </a:lnTo>
                <a:lnTo>
                  <a:pt x="1227" y="1287"/>
                </a:lnTo>
                <a:lnTo>
                  <a:pt x="1219" y="1351"/>
                </a:lnTo>
                <a:lnTo>
                  <a:pt x="1219" y="1419"/>
                </a:lnTo>
                <a:lnTo>
                  <a:pt x="1186" y="1425"/>
                </a:lnTo>
                <a:lnTo>
                  <a:pt x="1153" y="1431"/>
                </a:lnTo>
                <a:lnTo>
                  <a:pt x="1120" y="1437"/>
                </a:lnTo>
                <a:lnTo>
                  <a:pt x="1084" y="1443"/>
                </a:lnTo>
                <a:lnTo>
                  <a:pt x="1051" y="1451"/>
                </a:lnTo>
                <a:lnTo>
                  <a:pt x="1018" y="1457"/>
                </a:lnTo>
                <a:lnTo>
                  <a:pt x="982" y="1463"/>
                </a:lnTo>
                <a:lnTo>
                  <a:pt x="949" y="1469"/>
                </a:lnTo>
                <a:lnTo>
                  <a:pt x="938" y="1445"/>
                </a:lnTo>
                <a:lnTo>
                  <a:pt x="927" y="1421"/>
                </a:lnTo>
                <a:lnTo>
                  <a:pt x="913" y="1397"/>
                </a:lnTo>
                <a:lnTo>
                  <a:pt x="902" y="1373"/>
                </a:lnTo>
                <a:lnTo>
                  <a:pt x="888" y="1349"/>
                </a:lnTo>
                <a:lnTo>
                  <a:pt x="877" y="1325"/>
                </a:lnTo>
                <a:lnTo>
                  <a:pt x="863" y="1301"/>
                </a:lnTo>
                <a:lnTo>
                  <a:pt x="852" y="1277"/>
                </a:lnTo>
                <a:lnTo>
                  <a:pt x="907" y="1199"/>
                </a:lnTo>
                <a:lnTo>
                  <a:pt x="946" y="1131"/>
                </a:lnTo>
                <a:lnTo>
                  <a:pt x="971" y="1073"/>
                </a:lnTo>
                <a:lnTo>
                  <a:pt x="982" y="1023"/>
                </a:lnTo>
                <a:lnTo>
                  <a:pt x="979" y="981"/>
                </a:lnTo>
                <a:lnTo>
                  <a:pt x="963" y="947"/>
                </a:lnTo>
                <a:lnTo>
                  <a:pt x="935" y="921"/>
                </a:lnTo>
                <a:lnTo>
                  <a:pt x="896" y="899"/>
                </a:lnTo>
                <a:lnTo>
                  <a:pt x="844" y="885"/>
                </a:lnTo>
                <a:lnTo>
                  <a:pt x="783" y="875"/>
                </a:lnTo>
                <a:lnTo>
                  <a:pt x="712" y="871"/>
                </a:lnTo>
                <a:lnTo>
                  <a:pt x="632" y="869"/>
                </a:lnTo>
                <a:lnTo>
                  <a:pt x="543" y="871"/>
                </a:lnTo>
                <a:lnTo>
                  <a:pt x="447" y="875"/>
                </a:lnTo>
                <a:lnTo>
                  <a:pt x="345" y="881"/>
                </a:lnTo>
                <a:lnTo>
                  <a:pt x="235" y="889"/>
                </a:lnTo>
                <a:lnTo>
                  <a:pt x="215" y="917"/>
                </a:lnTo>
                <a:lnTo>
                  <a:pt x="199" y="947"/>
                </a:lnTo>
                <a:lnTo>
                  <a:pt x="179" y="975"/>
                </a:lnTo>
                <a:lnTo>
                  <a:pt x="163" y="1003"/>
                </a:lnTo>
                <a:lnTo>
                  <a:pt x="144" y="1033"/>
                </a:lnTo>
                <a:lnTo>
                  <a:pt x="127" y="1061"/>
                </a:lnTo>
                <a:lnTo>
                  <a:pt x="108" y="1091"/>
                </a:lnTo>
                <a:lnTo>
                  <a:pt x="89" y="1119"/>
                </a:lnTo>
                <a:lnTo>
                  <a:pt x="105" y="1151"/>
                </a:lnTo>
                <a:lnTo>
                  <a:pt x="122" y="1181"/>
                </a:lnTo>
                <a:lnTo>
                  <a:pt x="138" y="1211"/>
                </a:lnTo>
                <a:lnTo>
                  <a:pt x="155" y="1243"/>
                </a:lnTo>
                <a:lnTo>
                  <a:pt x="138" y="1261"/>
                </a:lnTo>
                <a:lnTo>
                  <a:pt x="119" y="1279"/>
                </a:lnTo>
                <a:lnTo>
                  <a:pt x="102" y="1297"/>
                </a:lnTo>
                <a:lnTo>
                  <a:pt x="86" y="1315"/>
                </a:lnTo>
                <a:lnTo>
                  <a:pt x="69" y="1333"/>
                </a:lnTo>
                <a:lnTo>
                  <a:pt x="53" y="1351"/>
                </a:lnTo>
                <a:lnTo>
                  <a:pt x="33" y="1369"/>
                </a:lnTo>
                <a:lnTo>
                  <a:pt x="17" y="1387"/>
                </a:lnTo>
                <a:lnTo>
                  <a:pt x="14" y="1563"/>
                </a:lnTo>
                <a:lnTo>
                  <a:pt x="9" y="1737"/>
                </a:lnTo>
                <a:lnTo>
                  <a:pt x="6" y="1912"/>
                </a:lnTo>
                <a:lnTo>
                  <a:pt x="0" y="2086"/>
                </a:lnTo>
                <a:lnTo>
                  <a:pt x="42" y="2108"/>
                </a:lnTo>
                <a:lnTo>
                  <a:pt x="83" y="2130"/>
                </a:lnTo>
                <a:lnTo>
                  <a:pt x="124" y="2152"/>
                </a:lnTo>
                <a:lnTo>
                  <a:pt x="166" y="2172"/>
                </a:lnTo>
                <a:lnTo>
                  <a:pt x="207" y="2194"/>
                </a:lnTo>
                <a:lnTo>
                  <a:pt x="248" y="2216"/>
                </a:lnTo>
                <a:lnTo>
                  <a:pt x="290" y="2236"/>
                </a:lnTo>
                <a:lnTo>
                  <a:pt x="331" y="2258"/>
                </a:lnTo>
                <a:lnTo>
                  <a:pt x="373" y="2244"/>
                </a:lnTo>
                <a:lnTo>
                  <a:pt x="417" y="2232"/>
                </a:lnTo>
                <a:lnTo>
                  <a:pt x="458" y="2218"/>
                </a:lnTo>
                <a:lnTo>
                  <a:pt x="502" y="2204"/>
                </a:lnTo>
                <a:lnTo>
                  <a:pt x="543" y="2192"/>
                </a:lnTo>
                <a:lnTo>
                  <a:pt x="588" y="2178"/>
                </a:lnTo>
                <a:lnTo>
                  <a:pt x="629" y="2166"/>
                </a:lnTo>
                <a:lnTo>
                  <a:pt x="673" y="2152"/>
                </a:lnTo>
                <a:lnTo>
                  <a:pt x="720" y="2156"/>
                </a:lnTo>
                <a:lnTo>
                  <a:pt x="770" y="2158"/>
                </a:lnTo>
                <a:lnTo>
                  <a:pt x="816" y="2162"/>
                </a:lnTo>
                <a:lnTo>
                  <a:pt x="863" y="2164"/>
                </a:lnTo>
                <a:lnTo>
                  <a:pt x="910" y="2168"/>
                </a:lnTo>
                <a:lnTo>
                  <a:pt x="960" y="2170"/>
                </a:lnTo>
                <a:lnTo>
                  <a:pt x="1007" y="2174"/>
                </a:lnTo>
                <a:lnTo>
                  <a:pt x="1056" y="2178"/>
                </a:lnTo>
                <a:lnTo>
                  <a:pt x="1056" y="2212"/>
                </a:lnTo>
                <a:lnTo>
                  <a:pt x="1056" y="2248"/>
                </a:lnTo>
                <a:lnTo>
                  <a:pt x="1056" y="2284"/>
                </a:lnTo>
                <a:lnTo>
                  <a:pt x="1056" y="2320"/>
                </a:lnTo>
                <a:lnTo>
                  <a:pt x="1062" y="2364"/>
                </a:lnTo>
                <a:lnTo>
                  <a:pt x="1070" y="2408"/>
                </a:lnTo>
                <a:lnTo>
                  <a:pt x="1076" y="2454"/>
                </a:lnTo>
                <a:lnTo>
                  <a:pt x="1081" y="2498"/>
                </a:lnTo>
                <a:lnTo>
                  <a:pt x="1120" y="2510"/>
                </a:lnTo>
                <a:lnTo>
                  <a:pt x="1158" y="2522"/>
                </a:lnTo>
                <a:lnTo>
                  <a:pt x="1197" y="2532"/>
                </a:lnTo>
                <a:lnTo>
                  <a:pt x="1233" y="2544"/>
                </a:lnTo>
                <a:lnTo>
                  <a:pt x="1271" y="2556"/>
                </a:lnTo>
                <a:lnTo>
                  <a:pt x="1310" y="2568"/>
                </a:lnTo>
                <a:lnTo>
                  <a:pt x="1349" y="2580"/>
                </a:lnTo>
                <a:lnTo>
                  <a:pt x="1387" y="2590"/>
                </a:lnTo>
                <a:lnTo>
                  <a:pt x="1423" y="2602"/>
                </a:lnTo>
                <a:lnTo>
                  <a:pt x="1462" y="2614"/>
                </a:lnTo>
                <a:lnTo>
                  <a:pt x="1500" y="2626"/>
                </a:lnTo>
                <a:lnTo>
                  <a:pt x="1539" y="2638"/>
                </a:lnTo>
                <a:lnTo>
                  <a:pt x="1575" y="2650"/>
                </a:lnTo>
                <a:lnTo>
                  <a:pt x="1613" y="2660"/>
                </a:lnTo>
                <a:lnTo>
                  <a:pt x="1652" y="2672"/>
                </a:lnTo>
                <a:lnTo>
                  <a:pt x="1690" y="2684"/>
                </a:lnTo>
                <a:lnTo>
                  <a:pt x="1721" y="2674"/>
                </a:lnTo>
                <a:lnTo>
                  <a:pt x="1751" y="2666"/>
                </a:lnTo>
                <a:lnTo>
                  <a:pt x="1781" y="2656"/>
                </a:lnTo>
                <a:lnTo>
                  <a:pt x="1812" y="2648"/>
                </a:lnTo>
                <a:lnTo>
                  <a:pt x="1842" y="2638"/>
                </a:lnTo>
                <a:lnTo>
                  <a:pt x="1872" y="2630"/>
                </a:lnTo>
                <a:lnTo>
                  <a:pt x="1903" y="2620"/>
                </a:lnTo>
                <a:lnTo>
                  <a:pt x="1933" y="2610"/>
                </a:lnTo>
                <a:lnTo>
                  <a:pt x="1952" y="2520"/>
                </a:lnTo>
                <a:lnTo>
                  <a:pt x="1991" y="2432"/>
                </a:lnTo>
                <a:lnTo>
                  <a:pt x="2041" y="2348"/>
                </a:lnTo>
                <a:lnTo>
                  <a:pt x="2101" y="2268"/>
                </a:lnTo>
                <a:lnTo>
                  <a:pt x="2173" y="2192"/>
                </a:lnTo>
                <a:lnTo>
                  <a:pt x="2253" y="2124"/>
                </a:lnTo>
                <a:lnTo>
                  <a:pt x="2336" y="2062"/>
                </a:lnTo>
                <a:lnTo>
                  <a:pt x="2424" y="2010"/>
                </a:lnTo>
                <a:lnTo>
                  <a:pt x="2512" y="1966"/>
                </a:lnTo>
                <a:lnTo>
                  <a:pt x="2600" y="1932"/>
                </a:lnTo>
                <a:lnTo>
                  <a:pt x="2686" y="1910"/>
                </a:lnTo>
                <a:lnTo>
                  <a:pt x="2766" y="1900"/>
                </a:lnTo>
                <a:lnTo>
                  <a:pt x="2837" y="1906"/>
                </a:lnTo>
                <a:lnTo>
                  <a:pt x="2901" y="1924"/>
                </a:lnTo>
                <a:lnTo>
                  <a:pt x="2951" y="1958"/>
                </a:lnTo>
                <a:lnTo>
                  <a:pt x="2989" y="2010"/>
                </a:lnTo>
                <a:lnTo>
                  <a:pt x="3019" y="1996"/>
                </a:lnTo>
                <a:lnTo>
                  <a:pt x="3050" y="1982"/>
                </a:lnTo>
                <a:lnTo>
                  <a:pt x="3080" y="1968"/>
                </a:lnTo>
                <a:lnTo>
                  <a:pt x="3108" y="1954"/>
                </a:lnTo>
                <a:lnTo>
                  <a:pt x="3138" y="1940"/>
                </a:lnTo>
                <a:lnTo>
                  <a:pt x="3168" y="1926"/>
                </a:lnTo>
                <a:lnTo>
                  <a:pt x="3199" y="1912"/>
                </a:lnTo>
                <a:lnTo>
                  <a:pt x="3226" y="1898"/>
                </a:lnTo>
                <a:lnTo>
                  <a:pt x="3257" y="1884"/>
                </a:lnTo>
                <a:lnTo>
                  <a:pt x="3287" y="1870"/>
                </a:lnTo>
                <a:lnTo>
                  <a:pt x="3317" y="1856"/>
                </a:lnTo>
                <a:lnTo>
                  <a:pt x="3345" y="1842"/>
                </a:lnTo>
                <a:lnTo>
                  <a:pt x="3375" y="1828"/>
                </a:lnTo>
                <a:lnTo>
                  <a:pt x="3405" y="1814"/>
                </a:lnTo>
                <a:lnTo>
                  <a:pt x="3433" y="1800"/>
                </a:lnTo>
                <a:lnTo>
                  <a:pt x="3463" y="1786"/>
                </a:lnTo>
                <a:lnTo>
                  <a:pt x="3513" y="1786"/>
                </a:lnTo>
                <a:lnTo>
                  <a:pt x="3560" y="1788"/>
                </a:lnTo>
                <a:lnTo>
                  <a:pt x="3610" y="1788"/>
                </a:lnTo>
                <a:lnTo>
                  <a:pt x="3656" y="1788"/>
                </a:lnTo>
                <a:lnTo>
                  <a:pt x="3703" y="1790"/>
                </a:lnTo>
                <a:lnTo>
                  <a:pt x="3753" y="1790"/>
                </a:lnTo>
                <a:lnTo>
                  <a:pt x="3800" y="1792"/>
                </a:lnTo>
                <a:lnTo>
                  <a:pt x="3849" y="1792"/>
                </a:lnTo>
                <a:lnTo>
                  <a:pt x="3866" y="1812"/>
                </a:lnTo>
                <a:lnTo>
                  <a:pt x="3880" y="1830"/>
                </a:lnTo>
                <a:lnTo>
                  <a:pt x="3896" y="1850"/>
                </a:lnTo>
                <a:lnTo>
                  <a:pt x="3913" y="1870"/>
                </a:lnTo>
                <a:lnTo>
                  <a:pt x="3927" y="1888"/>
                </a:lnTo>
                <a:lnTo>
                  <a:pt x="3943" y="1908"/>
                </a:lnTo>
                <a:lnTo>
                  <a:pt x="3957" y="1926"/>
                </a:lnTo>
                <a:lnTo>
                  <a:pt x="3973" y="1944"/>
                </a:lnTo>
                <a:lnTo>
                  <a:pt x="4004" y="1948"/>
                </a:lnTo>
                <a:lnTo>
                  <a:pt x="4031" y="1952"/>
                </a:lnTo>
                <a:lnTo>
                  <a:pt x="4062" y="1956"/>
                </a:lnTo>
                <a:lnTo>
                  <a:pt x="4089" y="1958"/>
                </a:lnTo>
                <a:lnTo>
                  <a:pt x="4120" y="1962"/>
                </a:lnTo>
                <a:lnTo>
                  <a:pt x="4147" y="1966"/>
                </a:lnTo>
                <a:lnTo>
                  <a:pt x="4178" y="1970"/>
                </a:lnTo>
                <a:lnTo>
                  <a:pt x="4205" y="1972"/>
                </a:lnTo>
                <a:lnTo>
                  <a:pt x="4235" y="1976"/>
                </a:lnTo>
                <a:lnTo>
                  <a:pt x="4263" y="1980"/>
                </a:lnTo>
                <a:lnTo>
                  <a:pt x="4293" y="1984"/>
                </a:lnTo>
                <a:lnTo>
                  <a:pt x="4321" y="1986"/>
                </a:lnTo>
                <a:lnTo>
                  <a:pt x="4351" y="1990"/>
                </a:lnTo>
                <a:lnTo>
                  <a:pt x="4379" y="1994"/>
                </a:lnTo>
                <a:lnTo>
                  <a:pt x="4409" y="1996"/>
                </a:lnTo>
                <a:lnTo>
                  <a:pt x="4437" y="2000"/>
                </a:lnTo>
                <a:lnTo>
                  <a:pt x="4437" y="1579"/>
                </a:lnTo>
                <a:lnTo>
                  <a:pt x="4437" y="1159"/>
                </a:lnTo>
                <a:lnTo>
                  <a:pt x="4437" y="740"/>
                </a:lnTo>
                <a:lnTo>
                  <a:pt x="4437" y="320"/>
                </a:lnTo>
                <a:close/>
              </a:path>
            </a:pathLst>
          </a:custGeom>
          <a:solidFill>
            <a:srgbClr val="b5e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847800" y="1482840"/>
            <a:ext cx="7047000" cy="4171680"/>
          </a:xfrm>
          <a:custGeom>
            <a:avLst/>
            <a:gdLst/>
            <a:ahLst/>
            <a:rect l="l" t="t" r="r" b="b"/>
            <a:pathLst>
              <a:path w="4439" h="2628">
                <a:moveTo>
                  <a:pt x="4439" y="322"/>
                </a:moveTo>
                <a:lnTo>
                  <a:pt x="4433" y="270"/>
                </a:lnTo>
                <a:lnTo>
                  <a:pt x="4428" y="216"/>
                </a:lnTo>
                <a:lnTo>
                  <a:pt x="4422" y="164"/>
                </a:lnTo>
                <a:lnTo>
                  <a:pt x="4414" y="112"/>
                </a:lnTo>
                <a:lnTo>
                  <a:pt x="4373" y="98"/>
                </a:lnTo>
                <a:lnTo>
                  <a:pt x="4328" y="84"/>
                </a:lnTo>
                <a:lnTo>
                  <a:pt x="4287" y="70"/>
                </a:lnTo>
                <a:lnTo>
                  <a:pt x="4246" y="56"/>
                </a:lnTo>
                <a:lnTo>
                  <a:pt x="4202" y="42"/>
                </a:lnTo>
                <a:lnTo>
                  <a:pt x="4160" y="28"/>
                </a:lnTo>
                <a:lnTo>
                  <a:pt x="4116" y="14"/>
                </a:lnTo>
                <a:lnTo>
                  <a:pt x="4075" y="0"/>
                </a:lnTo>
                <a:lnTo>
                  <a:pt x="4025" y="16"/>
                </a:lnTo>
                <a:lnTo>
                  <a:pt x="3981" y="34"/>
                </a:lnTo>
                <a:lnTo>
                  <a:pt x="3937" y="50"/>
                </a:lnTo>
                <a:lnTo>
                  <a:pt x="3898" y="70"/>
                </a:lnTo>
                <a:lnTo>
                  <a:pt x="3860" y="90"/>
                </a:lnTo>
                <a:lnTo>
                  <a:pt x="3827" y="110"/>
                </a:lnTo>
                <a:lnTo>
                  <a:pt x="3796" y="132"/>
                </a:lnTo>
                <a:lnTo>
                  <a:pt x="3769" y="156"/>
                </a:lnTo>
                <a:lnTo>
                  <a:pt x="3744" y="182"/>
                </a:lnTo>
                <a:lnTo>
                  <a:pt x="3719" y="208"/>
                </a:lnTo>
                <a:lnTo>
                  <a:pt x="3700" y="236"/>
                </a:lnTo>
                <a:lnTo>
                  <a:pt x="3683" y="266"/>
                </a:lnTo>
                <a:lnTo>
                  <a:pt x="3667" y="298"/>
                </a:lnTo>
                <a:lnTo>
                  <a:pt x="3653" y="332"/>
                </a:lnTo>
                <a:lnTo>
                  <a:pt x="3642" y="368"/>
                </a:lnTo>
                <a:lnTo>
                  <a:pt x="3634" y="406"/>
                </a:lnTo>
                <a:lnTo>
                  <a:pt x="3623" y="424"/>
                </a:lnTo>
                <a:lnTo>
                  <a:pt x="3609" y="440"/>
                </a:lnTo>
                <a:lnTo>
                  <a:pt x="3598" y="458"/>
                </a:lnTo>
                <a:lnTo>
                  <a:pt x="3587" y="474"/>
                </a:lnTo>
                <a:lnTo>
                  <a:pt x="3573" y="492"/>
                </a:lnTo>
                <a:lnTo>
                  <a:pt x="3562" y="510"/>
                </a:lnTo>
                <a:lnTo>
                  <a:pt x="3548" y="526"/>
                </a:lnTo>
                <a:lnTo>
                  <a:pt x="3537" y="544"/>
                </a:lnTo>
                <a:lnTo>
                  <a:pt x="3518" y="542"/>
                </a:lnTo>
                <a:lnTo>
                  <a:pt x="3501" y="540"/>
                </a:lnTo>
                <a:lnTo>
                  <a:pt x="3482" y="540"/>
                </a:lnTo>
                <a:lnTo>
                  <a:pt x="3463" y="538"/>
                </a:lnTo>
                <a:lnTo>
                  <a:pt x="3443" y="536"/>
                </a:lnTo>
                <a:lnTo>
                  <a:pt x="3427" y="534"/>
                </a:lnTo>
                <a:lnTo>
                  <a:pt x="3407" y="534"/>
                </a:lnTo>
                <a:lnTo>
                  <a:pt x="3388" y="532"/>
                </a:lnTo>
                <a:lnTo>
                  <a:pt x="3374" y="540"/>
                </a:lnTo>
                <a:lnTo>
                  <a:pt x="3361" y="550"/>
                </a:lnTo>
                <a:lnTo>
                  <a:pt x="3344" y="558"/>
                </a:lnTo>
                <a:lnTo>
                  <a:pt x="3330" y="568"/>
                </a:lnTo>
                <a:lnTo>
                  <a:pt x="3316" y="576"/>
                </a:lnTo>
                <a:lnTo>
                  <a:pt x="3303" y="586"/>
                </a:lnTo>
                <a:lnTo>
                  <a:pt x="3286" y="594"/>
                </a:lnTo>
                <a:lnTo>
                  <a:pt x="3272" y="604"/>
                </a:lnTo>
                <a:lnTo>
                  <a:pt x="3267" y="622"/>
                </a:lnTo>
                <a:lnTo>
                  <a:pt x="3261" y="640"/>
                </a:lnTo>
                <a:lnTo>
                  <a:pt x="3259" y="658"/>
                </a:lnTo>
                <a:lnTo>
                  <a:pt x="3253" y="674"/>
                </a:lnTo>
                <a:lnTo>
                  <a:pt x="3237" y="694"/>
                </a:lnTo>
                <a:lnTo>
                  <a:pt x="3217" y="714"/>
                </a:lnTo>
                <a:lnTo>
                  <a:pt x="3201" y="733"/>
                </a:lnTo>
                <a:lnTo>
                  <a:pt x="3184" y="753"/>
                </a:lnTo>
                <a:lnTo>
                  <a:pt x="3165" y="773"/>
                </a:lnTo>
                <a:lnTo>
                  <a:pt x="3148" y="793"/>
                </a:lnTo>
                <a:lnTo>
                  <a:pt x="3129" y="813"/>
                </a:lnTo>
                <a:lnTo>
                  <a:pt x="3112" y="833"/>
                </a:lnTo>
                <a:lnTo>
                  <a:pt x="3074" y="811"/>
                </a:lnTo>
                <a:lnTo>
                  <a:pt x="3038" y="789"/>
                </a:lnTo>
                <a:lnTo>
                  <a:pt x="2999" y="767"/>
                </a:lnTo>
                <a:lnTo>
                  <a:pt x="2964" y="745"/>
                </a:lnTo>
                <a:lnTo>
                  <a:pt x="2925" y="724"/>
                </a:lnTo>
                <a:lnTo>
                  <a:pt x="2886" y="702"/>
                </a:lnTo>
                <a:lnTo>
                  <a:pt x="2851" y="680"/>
                </a:lnTo>
                <a:lnTo>
                  <a:pt x="2812" y="658"/>
                </a:lnTo>
                <a:lnTo>
                  <a:pt x="2715" y="616"/>
                </a:lnTo>
                <a:lnTo>
                  <a:pt x="2622" y="582"/>
                </a:lnTo>
                <a:lnTo>
                  <a:pt x="2533" y="556"/>
                </a:lnTo>
                <a:lnTo>
                  <a:pt x="2451" y="536"/>
                </a:lnTo>
                <a:lnTo>
                  <a:pt x="2371" y="526"/>
                </a:lnTo>
                <a:lnTo>
                  <a:pt x="2296" y="524"/>
                </a:lnTo>
                <a:lnTo>
                  <a:pt x="2227" y="530"/>
                </a:lnTo>
                <a:lnTo>
                  <a:pt x="2167" y="546"/>
                </a:lnTo>
                <a:lnTo>
                  <a:pt x="2109" y="570"/>
                </a:lnTo>
                <a:lnTo>
                  <a:pt x="2059" y="600"/>
                </a:lnTo>
                <a:lnTo>
                  <a:pt x="2015" y="642"/>
                </a:lnTo>
                <a:lnTo>
                  <a:pt x="1979" y="690"/>
                </a:lnTo>
                <a:lnTo>
                  <a:pt x="1952" y="749"/>
                </a:lnTo>
                <a:lnTo>
                  <a:pt x="1930" y="815"/>
                </a:lnTo>
                <a:lnTo>
                  <a:pt x="1919" y="891"/>
                </a:lnTo>
                <a:lnTo>
                  <a:pt x="1913" y="977"/>
                </a:lnTo>
                <a:lnTo>
                  <a:pt x="1861" y="1005"/>
                </a:lnTo>
                <a:lnTo>
                  <a:pt x="1811" y="1035"/>
                </a:lnTo>
                <a:lnTo>
                  <a:pt x="1759" y="1063"/>
                </a:lnTo>
                <a:lnTo>
                  <a:pt x="1706" y="1091"/>
                </a:lnTo>
                <a:lnTo>
                  <a:pt x="1654" y="1121"/>
                </a:lnTo>
                <a:lnTo>
                  <a:pt x="1604" y="1149"/>
                </a:lnTo>
                <a:lnTo>
                  <a:pt x="1552" y="1179"/>
                </a:lnTo>
                <a:lnTo>
                  <a:pt x="1499" y="1207"/>
                </a:lnTo>
                <a:lnTo>
                  <a:pt x="1428" y="1165"/>
                </a:lnTo>
                <a:lnTo>
                  <a:pt x="1367" y="1155"/>
                </a:lnTo>
                <a:lnTo>
                  <a:pt x="1317" y="1169"/>
                </a:lnTo>
                <a:lnTo>
                  <a:pt x="1279" y="1205"/>
                </a:lnTo>
                <a:lnTo>
                  <a:pt x="1251" y="1255"/>
                </a:lnTo>
                <a:lnTo>
                  <a:pt x="1235" y="1315"/>
                </a:lnTo>
                <a:lnTo>
                  <a:pt x="1226" y="1381"/>
                </a:lnTo>
                <a:lnTo>
                  <a:pt x="1229" y="1445"/>
                </a:lnTo>
                <a:lnTo>
                  <a:pt x="1193" y="1451"/>
                </a:lnTo>
                <a:lnTo>
                  <a:pt x="1158" y="1455"/>
                </a:lnTo>
                <a:lnTo>
                  <a:pt x="1122" y="1461"/>
                </a:lnTo>
                <a:lnTo>
                  <a:pt x="1086" y="1465"/>
                </a:lnTo>
                <a:lnTo>
                  <a:pt x="1050" y="1471"/>
                </a:lnTo>
                <a:lnTo>
                  <a:pt x="1014" y="1477"/>
                </a:lnTo>
                <a:lnTo>
                  <a:pt x="978" y="1481"/>
                </a:lnTo>
                <a:lnTo>
                  <a:pt x="942" y="1487"/>
                </a:lnTo>
                <a:lnTo>
                  <a:pt x="929" y="1461"/>
                </a:lnTo>
                <a:lnTo>
                  <a:pt x="912" y="1435"/>
                </a:lnTo>
                <a:lnTo>
                  <a:pt x="898" y="1409"/>
                </a:lnTo>
                <a:lnTo>
                  <a:pt x="882" y="1383"/>
                </a:lnTo>
                <a:lnTo>
                  <a:pt x="868" y="1357"/>
                </a:lnTo>
                <a:lnTo>
                  <a:pt x="852" y="1331"/>
                </a:lnTo>
                <a:lnTo>
                  <a:pt x="838" y="1305"/>
                </a:lnTo>
                <a:lnTo>
                  <a:pt x="821" y="1279"/>
                </a:lnTo>
                <a:lnTo>
                  <a:pt x="871" y="1201"/>
                </a:lnTo>
                <a:lnTo>
                  <a:pt x="909" y="1131"/>
                </a:lnTo>
                <a:lnTo>
                  <a:pt x="934" y="1073"/>
                </a:lnTo>
                <a:lnTo>
                  <a:pt x="945" y="1023"/>
                </a:lnTo>
                <a:lnTo>
                  <a:pt x="942" y="981"/>
                </a:lnTo>
                <a:lnTo>
                  <a:pt x="929" y="947"/>
                </a:lnTo>
                <a:lnTo>
                  <a:pt x="904" y="919"/>
                </a:lnTo>
                <a:lnTo>
                  <a:pt x="868" y="899"/>
                </a:lnTo>
                <a:lnTo>
                  <a:pt x="821" y="885"/>
                </a:lnTo>
                <a:lnTo>
                  <a:pt x="766" y="875"/>
                </a:lnTo>
                <a:lnTo>
                  <a:pt x="697" y="869"/>
                </a:lnTo>
                <a:lnTo>
                  <a:pt x="623" y="867"/>
                </a:lnTo>
                <a:lnTo>
                  <a:pt x="537" y="869"/>
                </a:lnTo>
                <a:lnTo>
                  <a:pt x="446" y="873"/>
                </a:lnTo>
                <a:lnTo>
                  <a:pt x="344" y="879"/>
                </a:lnTo>
                <a:lnTo>
                  <a:pt x="237" y="887"/>
                </a:lnTo>
                <a:lnTo>
                  <a:pt x="217" y="917"/>
                </a:lnTo>
                <a:lnTo>
                  <a:pt x="201" y="945"/>
                </a:lnTo>
                <a:lnTo>
                  <a:pt x="181" y="975"/>
                </a:lnTo>
                <a:lnTo>
                  <a:pt x="165" y="1003"/>
                </a:lnTo>
                <a:lnTo>
                  <a:pt x="146" y="1031"/>
                </a:lnTo>
                <a:lnTo>
                  <a:pt x="129" y="1061"/>
                </a:lnTo>
                <a:lnTo>
                  <a:pt x="110" y="1089"/>
                </a:lnTo>
                <a:lnTo>
                  <a:pt x="91" y="1119"/>
                </a:lnTo>
                <a:lnTo>
                  <a:pt x="102" y="1135"/>
                </a:lnTo>
                <a:lnTo>
                  <a:pt x="113" y="1151"/>
                </a:lnTo>
                <a:lnTo>
                  <a:pt x="124" y="1167"/>
                </a:lnTo>
                <a:lnTo>
                  <a:pt x="135" y="1183"/>
                </a:lnTo>
                <a:lnTo>
                  <a:pt x="146" y="1199"/>
                </a:lnTo>
                <a:lnTo>
                  <a:pt x="154" y="1215"/>
                </a:lnTo>
                <a:lnTo>
                  <a:pt x="165" y="1231"/>
                </a:lnTo>
                <a:lnTo>
                  <a:pt x="176" y="1247"/>
                </a:lnTo>
                <a:lnTo>
                  <a:pt x="157" y="1265"/>
                </a:lnTo>
                <a:lnTo>
                  <a:pt x="137" y="1281"/>
                </a:lnTo>
                <a:lnTo>
                  <a:pt x="118" y="1299"/>
                </a:lnTo>
                <a:lnTo>
                  <a:pt x="99" y="1315"/>
                </a:lnTo>
                <a:lnTo>
                  <a:pt x="77" y="1333"/>
                </a:lnTo>
                <a:lnTo>
                  <a:pt x="57" y="1349"/>
                </a:lnTo>
                <a:lnTo>
                  <a:pt x="38" y="1367"/>
                </a:lnTo>
                <a:lnTo>
                  <a:pt x="19" y="1385"/>
                </a:lnTo>
                <a:lnTo>
                  <a:pt x="13" y="1549"/>
                </a:lnTo>
                <a:lnTo>
                  <a:pt x="11" y="1715"/>
                </a:lnTo>
                <a:lnTo>
                  <a:pt x="5" y="1878"/>
                </a:lnTo>
                <a:lnTo>
                  <a:pt x="0" y="2044"/>
                </a:lnTo>
                <a:lnTo>
                  <a:pt x="44" y="2066"/>
                </a:lnTo>
                <a:lnTo>
                  <a:pt x="85" y="2088"/>
                </a:lnTo>
                <a:lnTo>
                  <a:pt x="126" y="2108"/>
                </a:lnTo>
                <a:lnTo>
                  <a:pt x="168" y="2130"/>
                </a:lnTo>
                <a:lnTo>
                  <a:pt x="209" y="2152"/>
                </a:lnTo>
                <a:lnTo>
                  <a:pt x="250" y="2172"/>
                </a:lnTo>
                <a:lnTo>
                  <a:pt x="292" y="2194"/>
                </a:lnTo>
                <a:lnTo>
                  <a:pt x="333" y="2216"/>
                </a:lnTo>
                <a:lnTo>
                  <a:pt x="375" y="2202"/>
                </a:lnTo>
                <a:lnTo>
                  <a:pt x="419" y="2190"/>
                </a:lnTo>
                <a:lnTo>
                  <a:pt x="460" y="2176"/>
                </a:lnTo>
                <a:lnTo>
                  <a:pt x="504" y="2162"/>
                </a:lnTo>
                <a:lnTo>
                  <a:pt x="545" y="2150"/>
                </a:lnTo>
                <a:lnTo>
                  <a:pt x="590" y="2136"/>
                </a:lnTo>
                <a:lnTo>
                  <a:pt x="631" y="2124"/>
                </a:lnTo>
                <a:lnTo>
                  <a:pt x="675" y="2110"/>
                </a:lnTo>
                <a:lnTo>
                  <a:pt x="725" y="2112"/>
                </a:lnTo>
                <a:lnTo>
                  <a:pt x="774" y="2114"/>
                </a:lnTo>
                <a:lnTo>
                  <a:pt x="824" y="2116"/>
                </a:lnTo>
                <a:lnTo>
                  <a:pt x="874" y="2120"/>
                </a:lnTo>
                <a:lnTo>
                  <a:pt x="923" y="2122"/>
                </a:lnTo>
                <a:lnTo>
                  <a:pt x="973" y="2124"/>
                </a:lnTo>
                <a:lnTo>
                  <a:pt x="1022" y="2128"/>
                </a:lnTo>
                <a:lnTo>
                  <a:pt x="1072" y="2130"/>
                </a:lnTo>
                <a:lnTo>
                  <a:pt x="1072" y="2164"/>
                </a:lnTo>
                <a:lnTo>
                  <a:pt x="1072" y="2200"/>
                </a:lnTo>
                <a:lnTo>
                  <a:pt x="1072" y="2236"/>
                </a:lnTo>
                <a:lnTo>
                  <a:pt x="1072" y="2272"/>
                </a:lnTo>
                <a:lnTo>
                  <a:pt x="1078" y="2316"/>
                </a:lnTo>
                <a:lnTo>
                  <a:pt x="1083" y="2360"/>
                </a:lnTo>
                <a:lnTo>
                  <a:pt x="1089" y="2406"/>
                </a:lnTo>
                <a:lnTo>
                  <a:pt x="1094" y="2450"/>
                </a:lnTo>
                <a:lnTo>
                  <a:pt x="1133" y="2460"/>
                </a:lnTo>
                <a:lnTo>
                  <a:pt x="1169" y="2472"/>
                </a:lnTo>
                <a:lnTo>
                  <a:pt x="1207" y="2482"/>
                </a:lnTo>
                <a:lnTo>
                  <a:pt x="1246" y="2494"/>
                </a:lnTo>
                <a:lnTo>
                  <a:pt x="1282" y="2504"/>
                </a:lnTo>
                <a:lnTo>
                  <a:pt x="1320" y="2516"/>
                </a:lnTo>
                <a:lnTo>
                  <a:pt x="1356" y="2528"/>
                </a:lnTo>
                <a:lnTo>
                  <a:pt x="1395" y="2538"/>
                </a:lnTo>
                <a:lnTo>
                  <a:pt x="1431" y="2550"/>
                </a:lnTo>
                <a:lnTo>
                  <a:pt x="1469" y="2560"/>
                </a:lnTo>
                <a:lnTo>
                  <a:pt x="1505" y="2572"/>
                </a:lnTo>
                <a:lnTo>
                  <a:pt x="1544" y="2584"/>
                </a:lnTo>
                <a:lnTo>
                  <a:pt x="1579" y="2594"/>
                </a:lnTo>
                <a:lnTo>
                  <a:pt x="1618" y="2606"/>
                </a:lnTo>
                <a:lnTo>
                  <a:pt x="1654" y="2616"/>
                </a:lnTo>
                <a:lnTo>
                  <a:pt x="1692" y="2628"/>
                </a:lnTo>
                <a:lnTo>
                  <a:pt x="1723" y="2620"/>
                </a:lnTo>
                <a:lnTo>
                  <a:pt x="1753" y="2610"/>
                </a:lnTo>
                <a:lnTo>
                  <a:pt x="1783" y="2602"/>
                </a:lnTo>
                <a:lnTo>
                  <a:pt x="1814" y="2592"/>
                </a:lnTo>
                <a:lnTo>
                  <a:pt x="1844" y="2584"/>
                </a:lnTo>
                <a:lnTo>
                  <a:pt x="1874" y="2576"/>
                </a:lnTo>
                <a:lnTo>
                  <a:pt x="1905" y="2566"/>
                </a:lnTo>
                <a:lnTo>
                  <a:pt x="1935" y="2558"/>
                </a:lnTo>
                <a:lnTo>
                  <a:pt x="1957" y="2468"/>
                </a:lnTo>
                <a:lnTo>
                  <a:pt x="1993" y="2380"/>
                </a:lnTo>
                <a:lnTo>
                  <a:pt x="2043" y="2294"/>
                </a:lnTo>
                <a:lnTo>
                  <a:pt x="2106" y="2212"/>
                </a:lnTo>
                <a:lnTo>
                  <a:pt x="2181" y="2138"/>
                </a:lnTo>
                <a:lnTo>
                  <a:pt x="2260" y="2068"/>
                </a:lnTo>
                <a:lnTo>
                  <a:pt x="2346" y="2006"/>
                </a:lnTo>
                <a:lnTo>
                  <a:pt x="2434" y="1952"/>
                </a:lnTo>
                <a:lnTo>
                  <a:pt x="2525" y="1908"/>
                </a:lnTo>
                <a:lnTo>
                  <a:pt x="2613" y="1874"/>
                </a:lnTo>
                <a:lnTo>
                  <a:pt x="2699" y="1852"/>
                </a:lnTo>
                <a:lnTo>
                  <a:pt x="2782" y="1842"/>
                </a:lnTo>
                <a:lnTo>
                  <a:pt x="2853" y="1846"/>
                </a:lnTo>
                <a:lnTo>
                  <a:pt x="2917" y="1864"/>
                </a:lnTo>
                <a:lnTo>
                  <a:pt x="2969" y="1898"/>
                </a:lnTo>
                <a:lnTo>
                  <a:pt x="3008" y="1950"/>
                </a:lnTo>
                <a:lnTo>
                  <a:pt x="3035" y="1936"/>
                </a:lnTo>
                <a:lnTo>
                  <a:pt x="3066" y="1922"/>
                </a:lnTo>
                <a:lnTo>
                  <a:pt x="3093" y="1908"/>
                </a:lnTo>
                <a:lnTo>
                  <a:pt x="3121" y="1892"/>
                </a:lnTo>
                <a:lnTo>
                  <a:pt x="3151" y="1878"/>
                </a:lnTo>
                <a:lnTo>
                  <a:pt x="3179" y="1864"/>
                </a:lnTo>
                <a:lnTo>
                  <a:pt x="3209" y="1850"/>
                </a:lnTo>
                <a:lnTo>
                  <a:pt x="3237" y="1834"/>
                </a:lnTo>
                <a:lnTo>
                  <a:pt x="3264" y="1820"/>
                </a:lnTo>
                <a:lnTo>
                  <a:pt x="3294" y="1806"/>
                </a:lnTo>
                <a:lnTo>
                  <a:pt x="3322" y="1792"/>
                </a:lnTo>
                <a:lnTo>
                  <a:pt x="3352" y="1778"/>
                </a:lnTo>
                <a:lnTo>
                  <a:pt x="3380" y="1762"/>
                </a:lnTo>
                <a:lnTo>
                  <a:pt x="3407" y="1748"/>
                </a:lnTo>
                <a:lnTo>
                  <a:pt x="3438" y="1734"/>
                </a:lnTo>
                <a:lnTo>
                  <a:pt x="3465" y="1721"/>
                </a:lnTo>
                <a:lnTo>
                  <a:pt x="3515" y="1719"/>
                </a:lnTo>
                <a:lnTo>
                  <a:pt x="3565" y="1717"/>
                </a:lnTo>
                <a:lnTo>
                  <a:pt x="3614" y="1717"/>
                </a:lnTo>
                <a:lnTo>
                  <a:pt x="3664" y="1715"/>
                </a:lnTo>
                <a:lnTo>
                  <a:pt x="3714" y="1713"/>
                </a:lnTo>
                <a:lnTo>
                  <a:pt x="3763" y="1711"/>
                </a:lnTo>
                <a:lnTo>
                  <a:pt x="3813" y="1711"/>
                </a:lnTo>
                <a:lnTo>
                  <a:pt x="3862" y="1709"/>
                </a:lnTo>
                <a:lnTo>
                  <a:pt x="3876" y="1730"/>
                </a:lnTo>
                <a:lnTo>
                  <a:pt x="3890" y="1752"/>
                </a:lnTo>
                <a:lnTo>
                  <a:pt x="3907" y="1772"/>
                </a:lnTo>
                <a:lnTo>
                  <a:pt x="3920" y="1794"/>
                </a:lnTo>
                <a:lnTo>
                  <a:pt x="3934" y="1816"/>
                </a:lnTo>
                <a:lnTo>
                  <a:pt x="3948" y="1836"/>
                </a:lnTo>
                <a:lnTo>
                  <a:pt x="3962" y="1858"/>
                </a:lnTo>
                <a:lnTo>
                  <a:pt x="3975" y="1880"/>
                </a:lnTo>
                <a:lnTo>
                  <a:pt x="4006" y="1884"/>
                </a:lnTo>
                <a:lnTo>
                  <a:pt x="4033" y="1886"/>
                </a:lnTo>
                <a:lnTo>
                  <a:pt x="4064" y="1890"/>
                </a:lnTo>
                <a:lnTo>
                  <a:pt x="4091" y="1894"/>
                </a:lnTo>
                <a:lnTo>
                  <a:pt x="4122" y="1896"/>
                </a:lnTo>
                <a:lnTo>
                  <a:pt x="4149" y="1900"/>
                </a:lnTo>
                <a:lnTo>
                  <a:pt x="4180" y="1904"/>
                </a:lnTo>
                <a:lnTo>
                  <a:pt x="4207" y="1906"/>
                </a:lnTo>
                <a:lnTo>
                  <a:pt x="4237" y="1910"/>
                </a:lnTo>
                <a:lnTo>
                  <a:pt x="4265" y="1914"/>
                </a:lnTo>
                <a:lnTo>
                  <a:pt x="4295" y="1918"/>
                </a:lnTo>
                <a:lnTo>
                  <a:pt x="4323" y="1920"/>
                </a:lnTo>
                <a:lnTo>
                  <a:pt x="4353" y="1924"/>
                </a:lnTo>
                <a:lnTo>
                  <a:pt x="4381" y="1928"/>
                </a:lnTo>
                <a:lnTo>
                  <a:pt x="4411" y="1930"/>
                </a:lnTo>
                <a:lnTo>
                  <a:pt x="4439" y="1934"/>
                </a:lnTo>
                <a:lnTo>
                  <a:pt x="4439" y="1531"/>
                </a:lnTo>
                <a:lnTo>
                  <a:pt x="4439" y="1127"/>
                </a:lnTo>
                <a:lnTo>
                  <a:pt x="4439" y="726"/>
                </a:lnTo>
                <a:lnTo>
                  <a:pt x="4439" y="322"/>
                </a:lnTo>
                <a:close/>
              </a:path>
            </a:pathLst>
          </a:custGeom>
          <a:solidFill>
            <a:srgbClr val="c6e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847800" y="1517760"/>
            <a:ext cx="7047000" cy="4089240"/>
          </a:xfrm>
          <a:custGeom>
            <a:avLst/>
            <a:gdLst/>
            <a:ahLst/>
            <a:rect l="l" t="t" r="r" b="b"/>
            <a:pathLst>
              <a:path w="4439" h="2576">
                <a:moveTo>
                  <a:pt x="4439" y="328"/>
                </a:moveTo>
                <a:lnTo>
                  <a:pt x="4433" y="276"/>
                </a:lnTo>
                <a:lnTo>
                  <a:pt x="4428" y="226"/>
                </a:lnTo>
                <a:lnTo>
                  <a:pt x="4422" y="174"/>
                </a:lnTo>
                <a:lnTo>
                  <a:pt x="4414" y="122"/>
                </a:lnTo>
                <a:lnTo>
                  <a:pt x="4373" y="106"/>
                </a:lnTo>
                <a:lnTo>
                  <a:pt x="4328" y="92"/>
                </a:lnTo>
                <a:lnTo>
                  <a:pt x="4287" y="76"/>
                </a:lnTo>
                <a:lnTo>
                  <a:pt x="4246" y="60"/>
                </a:lnTo>
                <a:lnTo>
                  <a:pt x="4202" y="46"/>
                </a:lnTo>
                <a:lnTo>
                  <a:pt x="4160" y="30"/>
                </a:lnTo>
                <a:lnTo>
                  <a:pt x="4116" y="16"/>
                </a:lnTo>
                <a:lnTo>
                  <a:pt x="4075" y="0"/>
                </a:lnTo>
                <a:lnTo>
                  <a:pt x="3981" y="34"/>
                </a:lnTo>
                <a:lnTo>
                  <a:pt x="3901" y="72"/>
                </a:lnTo>
                <a:lnTo>
                  <a:pt x="3829" y="116"/>
                </a:lnTo>
                <a:lnTo>
                  <a:pt x="3771" y="164"/>
                </a:lnTo>
                <a:lnTo>
                  <a:pt x="3722" y="220"/>
                </a:lnTo>
                <a:lnTo>
                  <a:pt x="3686" y="282"/>
                </a:lnTo>
                <a:lnTo>
                  <a:pt x="3658" y="354"/>
                </a:lnTo>
                <a:lnTo>
                  <a:pt x="3642" y="432"/>
                </a:lnTo>
                <a:lnTo>
                  <a:pt x="3625" y="466"/>
                </a:lnTo>
                <a:lnTo>
                  <a:pt x="3606" y="500"/>
                </a:lnTo>
                <a:lnTo>
                  <a:pt x="3589" y="536"/>
                </a:lnTo>
                <a:lnTo>
                  <a:pt x="3570" y="570"/>
                </a:lnTo>
                <a:lnTo>
                  <a:pt x="3551" y="566"/>
                </a:lnTo>
                <a:lnTo>
                  <a:pt x="3529" y="562"/>
                </a:lnTo>
                <a:lnTo>
                  <a:pt x="3510" y="558"/>
                </a:lnTo>
                <a:lnTo>
                  <a:pt x="3487" y="554"/>
                </a:lnTo>
                <a:lnTo>
                  <a:pt x="3468" y="550"/>
                </a:lnTo>
                <a:lnTo>
                  <a:pt x="3446" y="546"/>
                </a:lnTo>
                <a:lnTo>
                  <a:pt x="3427" y="542"/>
                </a:lnTo>
                <a:lnTo>
                  <a:pt x="3407" y="538"/>
                </a:lnTo>
                <a:lnTo>
                  <a:pt x="3391" y="546"/>
                </a:lnTo>
                <a:lnTo>
                  <a:pt x="3372" y="554"/>
                </a:lnTo>
                <a:lnTo>
                  <a:pt x="3355" y="562"/>
                </a:lnTo>
                <a:lnTo>
                  <a:pt x="3339" y="570"/>
                </a:lnTo>
                <a:lnTo>
                  <a:pt x="3322" y="580"/>
                </a:lnTo>
                <a:lnTo>
                  <a:pt x="3305" y="588"/>
                </a:lnTo>
                <a:lnTo>
                  <a:pt x="3289" y="596"/>
                </a:lnTo>
                <a:lnTo>
                  <a:pt x="3272" y="604"/>
                </a:lnTo>
                <a:lnTo>
                  <a:pt x="3270" y="624"/>
                </a:lnTo>
                <a:lnTo>
                  <a:pt x="3267" y="646"/>
                </a:lnTo>
                <a:lnTo>
                  <a:pt x="3261" y="666"/>
                </a:lnTo>
                <a:lnTo>
                  <a:pt x="3259" y="688"/>
                </a:lnTo>
                <a:lnTo>
                  <a:pt x="3242" y="709"/>
                </a:lnTo>
                <a:lnTo>
                  <a:pt x="3223" y="731"/>
                </a:lnTo>
                <a:lnTo>
                  <a:pt x="3206" y="751"/>
                </a:lnTo>
                <a:lnTo>
                  <a:pt x="3190" y="773"/>
                </a:lnTo>
                <a:lnTo>
                  <a:pt x="3170" y="793"/>
                </a:lnTo>
                <a:lnTo>
                  <a:pt x="3154" y="815"/>
                </a:lnTo>
                <a:lnTo>
                  <a:pt x="3135" y="835"/>
                </a:lnTo>
                <a:lnTo>
                  <a:pt x="3118" y="857"/>
                </a:lnTo>
                <a:lnTo>
                  <a:pt x="3079" y="833"/>
                </a:lnTo>
                <a:lnTo>
                  <a:pt x="3041" y="807"/>
                </a:lnTo>
                <a:lnTo>
                  <a:pt x="3002" y="783"/>
                </a:lnTo>
                <a:lnTo>
                  <a:pt x="2966" y="757"/>
                </a:lnTo>
                <a:lnTo>
                  <a:pt x="2928" y="731"/>
                </a:lnTo>
                <a:lnTo>
                  <a:pt x="2889" y="707"/>
                </a:lnTo>
                <a:lnTo>
                  <a:pt x="2851" y="682"/>
                </a:lnTo>
                <a:lnTo>
                  <a:pt x="2812" y="658"/>
                </a:lnTo>
                <a:lnTo>
                  <a:pt x="2715" y="616"/>
                </a:lnTo>
                <a:lnTo>
                  <a:pt x="2622" y="582"/>
                </a:lnTo>
                <a:lnTo>
                  <a:pt x="2533" y="556"/>
                </a:lnTo>
                <a:lnTo>
                  <a:pt x="2451" y="536"/>
                </a:lnTo>
                <a:lnTo>
                  <a:pt x="2371" y="526"/>
                </a:lnTo>
                <a:lnTo>
                  <a:pt x="2296" y="526"/>
                </a:lnTo>
                <a:lnTo>
                  <a:pt x="2227" y="532"/>
                </a:lnTo>
                <a:lnTo>
                  <a:pt x="2167" y="546"/>
                </a:lnTo>
                <a:lnTo>
                  <a:pt x="2109" y="570"/>
                </a:lnTo>
                <a:lnTo>
                  <a:pt x="2059" y="602"/>
                </a:lnTo>
                <a:lnTo>
                  <a:pt x="2015" y="642"/>
                </a:lnTo>
                <a:lnTo>
                  <a:pt x="1979" y="692"/>
                </a:lnTo>
                <a:lnTo>
                  <a:pt x="1952" y="749"/>
                </a:lnTo>
                <a:lnTo>
                  <a:pt x="1930" y="815"/>
                </a:lnTo>
                <a:lnTo>
                  <a:pt x="1919" y="891"/>
                </a:lnTo>
                <a:lnTo>
                  <a:pt x="1913" y="977"/>
                </a:lnTo>
                <a:lnTo>
                  <a:pt x="1861" y="1005"/>
                </a:lnTo>
                <a:lnTo>
                  <a:pt x="1811" y="1035"/>
                </a:lnTo>
                <a:lnTo>
                  <a:pt x="1759" y="1063"/>
                </a:lnTo>
                <a:lnTo>
                  <a:pt x="1706" y="1091"/>
                </a:lnTo>
                <a:lnTo>
                  <a:pt x="1654" y="1121"/>
                </a:lnTo>
                <a:lnTo>
                  <a:pt x="1604" y="1149"/>
                </a:lnTo>
                <a:lnTo>
                  <a:pt x="1552" y="1179"/>
                </a:lnTo>
                <a:lnTo>
                  <a:pt x="1499" y="1207"/>
                </a:lnTo>
                <a:lnTo>
                  <a:pt x="1428" y="1169"/>
                </a:lnTo>
                <a:lnTo>
                  <a:pt x="1370" y="1163"/>
                </a:lnTo>
                <a:lnTo>
                  <a:pt x="1320" y="1185"/>
                </a:lnTo>
                <a:lnTo>
                  <a:pt x="1282" y="1227"/>
                </a:lnTo>
                <a:lnTo>
                  <a:pt x="1254" y="1283"/>
                </a:lnTo>
                <a:lnTo>
                  <a:pt x="1238" y="1347"/>
                </a:lnTo>
                <a:lnTo>
                  <a:pt x="1232" y="1411"/>
                </a:lnTo>
                <a:lnTo>
                  <a:pt x="1238" y="1473"/>
                </a:lnTo>
                <a:lnTo>
                  <a:pt x="1199" y="1477"/>
                </a:lnTo>
                <a:lnTo>
                  <a:pt x="1163" y="1481"/>
                </a:lnTo>
                <a:lnTo>
                  <a:pt x="1124" y="1485"/>
                </a:lnTo>
                <a:lnTo>
                  <a:pt x="1086" y="1489"/>
                </a:lnTo>
                <a:lnTo>
                  <a:pt x="1050" y="1495"/>
                </a:lnTo>
                <a:lnTo>
                  <a:pt x="1011" y="1499"/>
                </a:lnTo>
                <a:lnTo>
                  <a:pt x="973" y="1503"/>
                </a:lnTo>
                <a:lnTo>
                  <a:pt x="934" y="1507"/>
                </a:lnTo>
                <a:lnTo>
                  <a:pt x="915" y="1479"/>
                </a:lnTo>
                <a:lnTo>
                  <a:pt x="898" y="1449"/>
                </a:lnTo>
                <a:lnTo>
                  <a:pt x="879" y="1421"/>
                </a:lnTo>
                <a:lnTo>
                  <a:pt x="863" y="1393"/>
                </a:lnTo>
                <a:lnTo>
                  <a:pt x="843" y="1365"/>
                </a:lnTo>
                <a:lnTo>
                  <a:pt x="824" y="1335"/>
                </a:lnTo>
                <a:lnTo>
                  <a:pt x="807" y="1307"/>
                </a:lnTo>
                <a:lnTo>
                  <a:pt x="788" y="1279"/>
                </a:lnTo>
                <a:lnTo>
                  <a:pt x="835" y="1201"/>
                </a:lnTo>
                <a:lnTo>
                  <a:pt x="868" y="1131"/>
                </a:lnTo>
                <a:lnTo>
                  <a:pt x="893" y="1073"/>
                </a:lnTo>
                <a:lnTo>
                  <a:pt x="904" y="1023"/>
                </a:lnTo>
                <a:lnTo>
                  <a:pt x="904" y="981"/>
                </a:lnTo>
                <a:lnTo>
                  <a:pt x="893" y="947"/>
                </a:lnTo>
                <a:lnTo>
                  <a:pt x="871" y="919"/>
                </a:lnTo>
                <a:lnTo>
                  <a:pt x="840" y="899"/>
                </a:lnTo>
                <a:lnTo>
                  <a:pt x="796" y="885"/>
                </a:lnTo>
                <a:lnTo>
                  <a:pt x="744" y="875"/>
                </a:lnTo>
                <a:lnTo>
                  <a:pt x="683" y="869"/>
                </a:lnTo>
                <a:lnTo>
                  <a:pt x="612" y="867"/>
                </a:lnTo>
                <a:lnTo>
                  <a:pt x="532" y="869"/>
                </a:lnTo>
                <a:lnTo>
                  <a:pt x="441" y="873"/>
                </a:lnTo>
                <a:lnTo>
                  <a:pt x="344" y="879"/>
                </a:lnTo>
                <a:lnTo>
                  <a:pt x="237" y="887"/>
                </a:lnTo>
                <a:lnTo>
                  <a:pt x="217" y="917"/>
                </a:lnTo>
                <a:lnTo>
                  <a:pt x="201" y="945"/>
                </a:lnTo>
                <a:lnTo>
                  <a:pt x="181" y="975"/>
                </a:lnTo>
                <a:lnTo>
                  <a:pt x="165" y="1003"/>
                </a:lnTo>
                <a:lnTo>
                  <a:pt x="146" y="1033"/>
                </a:lnTo>
                <a:lnTo>
                  <a:pt x="129" y="1061"/>
                </a:lnTo>
                <a:lnTo>
                  <a:pt x="110" y="1091"/>
                </a:lnTo>
                <a:lnTo>
                  <a:pt x="91" y="1119"/>
                </a:lnTo>
                <a:lnTo>
                  <a:pt x="104" y="1135"/>
                </a:lnTo>
                <a:lnTo>
                  <a:pt x="118" y="1151"/>
                </a:lnTo>
                <a:lnTo>
                  <a:pt x="132" y="1169"/>
                </a:lnTo>
                <a:lnTo>
                  <a:pt x="146" y="1185"/>
                </a:lnTo>
                <a:lnTo>
                  <a:pt x="157" y="1201"/>
                </a:lnTo>
                <a:lnTo>
                  <a:pt x="170" y="1217"/>
                </a:lnTo>
                <a:lnTo>
                  <a:pt x="184" y="1235"/>
                </a:lnTo>
                <a:lnTo>
                  <a:pt x="198" y="1251"/>
                </a:lnTo>
                <a:lnTo>
                  <a:pt x="176" y="1269"/>
                </a:lnTo>
                <a:lnTo>
                  <a:pt x="154" y="1285"/>
                </a:lnTo>
                <a:lnTo>
                  <a:pt x="129" y="1303"/>
                </a:lnTo>
                <a:lnTo>
                  <a:pt x="107" y="1319"/>
                </a:lnTo>
                <a:lnTo>
                  <a:pt x="85" y="1335"/>
                </a:lnTo>
                <a:lnTo>
                  <a:pt x="63" y="1351"/>
                </a:lnTo>
                <a:lnTo>
                  <a:pt x="41" y="1369"/>
                </a:lnTo>
                <a:lnTo>
                  <a:pt x="19" y="1385"/>
                </a:lnTo>
                <a:lnTo>
                  <a:pt x="13" y="1539"/>
                </a:lnTo>
                <a:lnTo>
                  <a:pt x="8" y="1693"/>
                </a:lnTo>
                <a:lnTo>
                  <a:pt x="5" y="1848"/>
                </a:lnTo>
                <a:lnTo>
                  <a:pt x="0" y="2002"/>
                </a:lnTo>
                <a:lnTo>
                  <a:pt x="41" y="2024"/>
                </a:lnTo>
                <a:lnTo>
                  <a:pt x="82" y="2046"/>
                </a:lnTo>
                <a:lnTo>
                  <a:pt x="124" y="2068"/>
                </a:lnTo>
                <a:lnTo>
                  <a:pt x="168" y="2088"/>
                </a:lnTo>
                <a:lnTo>
                  <a:pt x="209" y="2110"/>
                </a:lnTo>
                <a:lnTo>
                  <a:pt x="250" y="2132"/>
                </a:lnTo>
                <a:lnTo>
                  <a:pt x="292" y="2154"/>
                </a:lnTo>
                <a:lnTo>
                  <a:pt x="333" y="2176"/>
                </a:lnTo>
                <a:lnTo>
                  <a:pt x="375" y="2164"/>
                </a:lnTo>
                <a:lnTo>
                  <a:pt x="419" y="2150"/>
                </a:lnTo>
                <a:lnTo>
                  <a:pt x="460" y="2138"/>
                </a:lnTo>
                <a:lnTo>
                  <a:pt x="504" y="2124"/>
                </a:lnTo>
                <a:lnTo>
                  <a:pt x="545" y="2110"/>
                </a:lnTo>
                <a:lnTo>
                  <a:pt x="590" y="2096"/>
                </a:lnTo>
                <a:lnTo>
                  <a:pt x="631" y="2084"/>
                </a:lnTo>
                <a:lnTo>
                  <a:pt x="675" y="2070"/>
                </a:lnTo>
                <a:lnTo>
                  <a:pt x="725" y="2072"/>
                </a:lnTo>
                <a:lnTo>
                  <a:pt x="777" y="2072"/>
                </a:lnTo>
                <a:lnTo>
                  <a:pt x="827" y="2074"/>
                </a:lnTo>
                <a:lnTo>
                  <a:pt x="879" y="2076"/>
                </a:lnTo>
                <a:lnTo>
                  <a:pt x="931" y="2078"/>
                </a:lnTo>
                <a:lnTo>
                  <a:pt x="981" y="2078"/>
                </a:lnTo>
                <a:lnTo>
                  <a:pt x="1033" y="2080"/>
                </a:lnTo>
                <a:lnTo>
                  <a:pt x="1083" y="2082"/>
                </a:lnTo>
                <a:lnTo>
                  <a:pt x="1083" y="2118"/>
                </a:lnTo>
                <a:lnTo>
                  <a:pt x="1083" y="2154"/>
                </a:lnTo>
                <a:lnTo>
                  <a:pt x="1083" y="2190"/>
                </a:lnTo>
                <a:lnTo>
                  <a:pt x="1083" y="2226"/>
                </a:lnTo>
                <a:lnTo>
                  <a:pt x="1089" y="2270"/>
                </a:lnTo>
                <a:lnTo>
                  <a:pt x="1097" y="2314"/>
                </a:lnTo>
                <a:lnTo>
                  <a:pt x="1102" y="2358"/>
                </a:lnTo>
                <a:lnTo>
                  <a:pt x="1108" y="2400"/>
                </a:lnTo>
                <a:lnTo>
                  <a:pt x="1144" y="2412"/>
                </a:lnTo>
                <a:lnTo>
                  <a:pt x="1182" y="2422"/>
                </a:lnTo>
                <a:lnTo>
                  <a:pt x="1218" y="2434"/>
                </a:lnTo>
                <a:lnTo>
                  <a:pt x="1254" y="2444"/>
                </a:lnTo>
                <a:lnTo>
                  <a:pt x="1293" y="2456"/>
                </a:lnTo>
                <a:lnTo>
                  <a:pt x="1329" y="2466"/>
                </a:lnTo>
                <a:lnTo>
                  <a:pt x="1364" y="2478"/>
                </a:lnTo>
                <a:lnTo>
                  <a:pt x="1400" y="2488"/>
                </a:lnTo>
                <a:lnTo>
                  <a:pt x="1439" y="2500"/>
                </a:lnTo>
                <a:lnTo>
                  <a:pt x="1475" y="2510"/>
                </a:lnTo>
                <a:lnTo>
                  <a:pt x="1510" y="2522"/>
                </a:lnTo>
                <a:lnTo>
                  <a:pt x="1546" y="2532"/>
                </a:lnTo>
                <a:lnTo>
                  <a:pt x="1585" y="2544"/>
                </a:lnTo>
                <a:lnTo>
                  <a:pt x="1621" y="2554"/>
                </a:lnTo>
                <a:lnTo>
                  <a:pt x="1657" y="2566"/>
                </a:lnTo>
                <a:lnTo>
                  <a:pt x="1692" y="2576"/>
                </a:lnTo>
                <a:lnTo>
                  <a:pt x="1723" y="2566"/>
                </a:lnTo>
                <a:lnTo>
                  <a:pt x="1753" y="2558"/>
                </a:lnTo>
                <a:lnTo>
                  <a:pt x="1783" y="2548"/>
                </a:lnTo>
                <a:lnTo>
                  <a:pt x="1814" y="2540"/>
                </a:lnTo>
                <a:lnTo>
                  <a:pt x="1844" y="2530"/>
                </a:lnTo>
                <a:lnTo>
                  <a:pt x="1874" y="2522"/>
                </a:lnTo>
                <a:lnTo>
                  <a:pt x="1905" y="2512"/>
                </a:lnTo>
                <a:lnTo>
                  <a:pt x="1935" y="2504"/>
                </a:lnTo>
                <a:lnTo>
                  <a:pt x="1957" y="2414"/>
                </a:lnTo>
                <a:lnTo>
                  <a:pt x="1993" y="2326"/>
                </a:lnTo>
                <a:lnTo>
                  <a:pt x="2045" y="2240"/>
                </a:lnTo>
                <a:lnTo>
                  <a:pt x="2109" y="2160"/>
                </a:lnTo>
                <a:lnTo>
                  <a:pt x="2183" y="2084"/>
                </a:lnTo>
                <a:lnTo>
                  <a:pt x="2263" y="2014"/>
                </a:lnTo>
                <a:lnTo>
                  <a:pt x="2351" y="1952"/>
                </a:lnTo>
                <a:lnTo>
                  <a:pt x="2442" y="1898"/>
                </a:lnTo>
                <a:lnTo>
                  <a:pt x="2533" y="1852"/>
                </a:lnTo>
                <a:lnTo>
                  <a:pt x="2622" y="1818"/>
                </a:lnTo>
                <a:lnTo>
                  <a:pt x="2710" y="1796"/>
                </a:lnTo>
                <a:lnTo>
                  <a:pt x="2793" y="1786"/>
                </a:lnTo>
                <a:lnTo>
                  <a:pt x="2867" y="1788"/>
                </a:lnTo>
                <a:lnTo>
                  <a:pt x="2930" y="1808"/>
                </a:lnTo>
                <a:lnTo>
                  <a:pt x="2983" y="1842"/>
                </a:lnTo>
                <a:lnTo>
                  <a:pt x="3021" y="1892"/>
                </a:lnTo>
                <a:lnTo>
                  <a:pt x="3049" y="1878"/>
                </a:lnTo>
                <a:lnTo>
                  <a:pt x="3077" y="1862"/>
                </a:lnTo>
                <a:lnTo>
                  <a:pt x="3104" y="1848"/>
                </a:lnTo>
                <a:lnTo>
                  <a:pt x="3132" y="1834"/>
                </a:lnTo>
                <a:lnTo>
                  <a:pt x="3162" y="1818"/>
                </a:lnTo>
                <a:lnTo>
                  <a:pt x="3190" y="1804"/>
                </a:lnTo>
                <a:lnTo>
                  <a:pt x="3217" y="1788"/>
                </a:lnTo>
                <a:lnTo>
                  <a:pt x="3245" y="1774"/>
                </a:lnTo>
                <a:lnTo>
                  <a:pt x="3272" y="1760"/>
                </a:lnTo>
                <a:lnTo>
                  <a:pt x="3300" y="1744"/>
                </a:lnTo>
                <a:lnTo>
                  <a:pt x="3328" y="1730"/>
                </a:lnTo>
                <a:lnTo>
                  <a:pt x="3355" y="1714"/>
                </a:lnTo>
                <a:lnTo>
                  <a:pt x="3383" y="1701"/>
                </a:lnTo>
                <a:lnTo>
                  <a:pt x="3410" y="1687"/>
                </a:lnTo>
                <a:lnTo>
                  <a:pt x="3438" y="1671"/>
                </a:lnTo>
                <a:lnTo>
                  <a:pt x="3465" y="1657"/>
                </a:lnTo>
                <a:lnTo>
                  <a:pt x="3518" y="1653"/>
                </a:lnTo>
                <a:lnTo>
                  <a:pt x="3567" y="1649"/>
                </a:lnTo>
                <a:lnTo>
                  <a:pt x="3620" y="1645"/>
                </a:lnTo>
                <a:lnTo>
                  <a:pt x="3672" y="1641"/>
                </a:lnTo>
                <a:lnTo>
                  <a:pt x="3725" y="1637"/>
                </a:lnTo>
                <a:lnTo>
                  <a:pt x="3774" y="1633"/>
                </a:lnTo>
                <a:lnTo>
                  <a:pt x="3827" y="1629"/>
                </a:lnTo>
                <a:lnTo>
                  <a:pt x="3876" y="1625"/>
                </a:lnTo>
                <a:lnTo>
                  <a:pt x="3890" y="1649"/>
                </a:lnTo>
                <a:lnTo>
                  <a:pt x="3901" y="1673"/>
                </a:lnTo>
                <a:lnTo>
                  <a:pt x="3915" y="1697"/>
                </a:lnTo>
                <a:lnTo>
                  <a:pt x="3926" y="1720"/>
                </a:lnTo>
                <a:lnTo>
                  <a:pt x="3940" y="1744"/>
                </a:lnTo>
                <a:lnTo>
                  <a:pt x="3951" y="1768"/>
                </a:lnTo>
                <a:lnTo>
                  <a:pt x="3964" y="1790"/>
                </a:lnTo>
                <a:lnTo>
                  <a:pt x="3975" y="1814"/>
                </a:lnTo>
                <a:lnTo>
                  <a:pt x="4006" y="1818"/>
                </a:lnTo>
                <a:lnTo>
                  <a:pt x="4033" y="1822"/>
                </a:lnTo>
                <a:lnTo>
                  <a:pt x="4064" y="1826"/>
                </a:lnTo>
                <a:lnTo>
                  <a:pt x="4091" y="1828"/>
                </a:lnTo>
                <a:lnTo>
                  <a:pt x="4122" y="1832"/>
                </a:lnTo>
                <a:lnTo>
                  <a:pt x="4149" y="1836"/>
                </a:lnTo>
                <a:lnTo>
                  <a:pt x="4180" y="1840"/>
                </a:lnTo>
                <a:lnTo>
                  <a:pt x="4207" y="1842"/>
                </a:lnTo>
                <a:lnTo>
                  <a:pt x="4237" y="1846"/>
                </a:lnTo>
                <a:lnTo>
                  <a:pt x="4265" y="1850"/>
                </a:lnTo>
                <a:lnTo>
                  <a:pt x="4295" y="1854"/>
                </a:lnTo>
                <a:lnTo>
                  <a:pt x="4323" y="1856"/>
                </a:lnTo>
                <a:lnTo>
                  <a:pt x="4353" y="1860"/>
                </a:lnTo>
                <a:lnTo>
                  <a:pt x="4381" y="1864"/>
                </a:lnTo>
                <a:lnTo>
                  <a:pt x="4411" y="1866"/>
                </a:lnTo>
                <a:lnTo>
                  <a:pt x="4439" y="1870"/>
                </a:lnTo>
                <a:lnTo>
                  <a:pt x="4439" y="1485"/>
                </a:lnTo>
                <a:lnTo>
                  <a:pt x="4439" y="1099"/>
                </a:lnTo>
                <a:lnTo>
                  <a:pt x="4439" y="713"/>
                </a:lnTo>
                <a:lnTo>
                  <a:pt x="4439" y="328"/>
                </a:lnTo>
                <a:close/>
              </a:path>
            </a:pathLst>
          </a:custGeom>
          <a:solidFill>
            <a:srgbClr val="d8e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847800" y="1552680"/>
            <a:ext cx="7047000" cy="4006800"/>
          </a:xfrm>
          <a:custGeom>
            <a:avLst/>
            <a:gdLst/>
            <a:ahLst/>
            <a:rect l="l" t="t" r="r" b="b"/>
            <a:pathLst>
              <a:path w="4439" h="2524">
                <a:moveTo>
                  <a:pt x="4439" y="334"/>
                </a:moveTo>
                <a:lnTo>
                  <a:pt x="4433" y="284"/>
                </a:lnTo>
                <a:lnTo>
                  <a:pt x="4428" y="234"/>
                </a:lnTo>
                <a:lnTo>
                  <a:pt x="4422" y="184"/>
                </a:lnTo>
                <a:lnTo>
                  <a:pt x="4414" y="134"/>
                </a:lnTo>
                <a:lnTo>
                  <a:pt x="4373" y="116"/>
                </a:lnTo>
                <a:lnTo>
                  <a:pt x="4328" y="100"/>
                </a:lnTo>
                <a:lnTo>
                  <a:pt x="4287" y="82"/>
                </a:lnTo>
                <a:lnTo>
                  <a:pt x="4246" y="66"/>
                </a:lnTo>
                <a:lnTo>
                  <a:pt x="4202" y="50"/>
                </a:lnTo>
                <a:lnTo>
                  <a:pt x="4160" y="34"/>
                </a:lnTo>
                <a:lnTo>
                  <a:pt x="4116" y="16"/>
                </a:lnTo>
                <a:lnTo>
                  <a:pt x="4075" y="0"/>
                </a:lnTo>
                <a:lnTo>
                  <a:pt x="3984" y="34"/>
                </a:lnTo>
                <a:lnTo>
                  <a:pt x="3901" y="74"/>
                </a:lnTo>
                <a:lnTo>
                  <a:pt x="3832" y="120"/>
                </a:lnTo>
                <a:lnTo>
                  <a:pt x="3774" y="172"/>
                </a:lnTo>
                <a:lnTo>
                  <a:pt x="3725" y="232"/>
                </a:lnTo>
                <a:lnTo>
                  <a:pt x="3689" y="298"/>
                </a:lnTo>
                <a:lnTo>
                  <a:pt x="3664" y="372"/>
                </a:lnTo>
                <a:lnTo>
                  <a:pt x="3653" y="456"/>
                </a:lnTo>
                <a:lnTo>
                  <a:pt x="3642" y="492"/>
                </a:lnTo>
                <a:lnTo>
                  <a:pt x="3628" y="526"/>
                </a:lnTo>
                <a:lnTo>
                  <a:pt x="3617" y="562"/>
                </a:lnTo>
                <a:lnTo>
                  <a:pt x="3603" y="598"/>
                </a:lnTo>
                <a:lnTo>
                  <a:pt x="3581" y="592"/>
                </a:lnTo>
                <a:lnTo>
                  <a:pt x="3559" y="584"/>
                </a:lnTo>
                <a:lnTo>
                  <a:pt x="3537" y="578"/>
                </a:lnTo>
                <a:lnTo>
                  <a:pt x="3515" y="570"/>
                </a:lnTo>
                <a:lnTo>
                  <a:pt x="3490" y="564"/>
                </a:lnTo>
                <a:lnTo>
                  <a:pt x="3468" y="558"/>
                </a:lnTo>
                <a:lnTo>
                  <a:pt x="3446" y="550"/>
                </a:lnTo>
                <a:lnTo>
                  <a:pt x="3424" y="544"/>
                </a:lnTo>
                <a:lnTo>
                  <a:pt x="3405" y="552"/>
                </a:lnTo>
                <a:lnTo>
                  <a:pt x="3385" y="560"/>
                </a:lnTo>
                <a:lnTo>
                  <a:pt x="3366" y="568"/>
                </a:lnTo>
                <a:lnTo>
                  <a:pt x="3350" y="576"/>
                </a:lnTo>
                <a:lnTo>
                  <a:pt x="3330" y="584"/>
                </a:lnTo>
                <a:lnTo>
                  <a:pt x="3311" y="590"/>
                </a:lnTo>
                <a:lnTo>
                  <a:pt x="3292" y="598"/>
                </a:lnTo>
                <a:lnTo>
                  <a:pt x="3272" y="606"/>
                </a:lnTo>
                <a:lnTo>
                  <a:pt x="3270" y="628"/>
                </a:lnTo>
                <a:lnTo>
                  <a:pt x="3270" y="652"/>
                </a:lnTo>
                <a:lnTo>
                  <a:pt x="3267" y="676"/>
                </a:lnTo>
                <a:lnTo>
                  <a:pt x="3264" y="699"/>
                </a:lnTo>
                <a:lnTo>
                  <a:pt x="3248" y="723"/>
                </a:lnTo>
                <a:lnTo>
                  <a:pt x="3228" y="745"/>
                </a:lnTo>
                <a:lnTo>
                  <a:pt x="3212" y="769"/>
                </a:lnTo>
                <a:lnTo>
                  <a:pt x="3192" y="791"/>
                </a:lnTo>
                <a:lnTo>
                  <a:pt x="3176" y="813"/>
                </a:lnTo>
                <a:lnTo>
                  <a:pt x="3157" y="837"/>
                </a:lnTo>
                <a:lnTo>
                  <a:pt x="3140" y="859"/>
                </a:lnTo>
                <a:lnTo>
                  <a:pt x="3121" y="883"/>
                </a:lnTo>
                <a:lnTo>
                  <a:pt x="3082" y="855"/>
                </a:lnTo>
                <a:lnTo>
                  <a:pt x="3044" y="827"/>
                </a:lnTo>
                <a:lnTo>
                  <a:pt x="3005" y="799"/>
                </a:lnTo>
                <a:lnTo>
                  <a:pt x="2966" y="769"/>
                </a:lnTo>
                <a:lnTo>
                  <a:pt x="2928" y="741"/>
                </a:lnTo>
                <a:lnTo>
                  <a:pt x="2889" y="713"/>
                </a:lnTo>
                <a:lnTo>
                  <a:pt x="2851" y="685"/>
                </a:lnTo>
                <a:lnTo>
                  <a:pt x="2812" y="658"/>
                </a:lnTo>
                <a:lnTo>
                  <a:pt x="2715" y="616"/>
                </a:lnTo>
                <a:lnTo>
                  <a:pt x="2622" y="582"/>
                </a:lnTo>
                <a:lnTo>
                  <a:pt x="2533" y="556"/>
                </a:lnTo>
                <a:lnTo>
                  <a:pt x="2451" y="536"/>
                </a:lnTo>
                <a:lnTo>
                  <a:pt x="2371" y="526"/>
                </a:lnTo>
                <a:lnTo>
                  <a:pt x="2296" y="526"/>
                </a:lnTo>
                <a:lnTo>
                  <a:pt x="2227" y="532"/>
                </a:lnTo>
                <a:lnTo>
                  <a:pt x="2167" y="546"/>
                </a:lnTo>
                <a:lnTo>
                  <a:pt x="2109" y="570"/>
                </a:lnTo>
                <a:lnTo>
                  <a:pt x="2059" y="602"/>
                </a:lnTo>
                <a:lnTo>
                  <a:pt x="2015" y="642"/>
                </a:lnTo>
                <a:lnTo>
                  <a:pt x="1979" y="691"/>
                </a:lnTo>
                <a:lnTo>
                  <a:pt x="1952" y="749"/>
                </a:lnTo>
                <a:lnTo>
                  <a:pt x="1930" y="815"/>
                </a:lnTo>
                <a:lnTo>
                  <a:pt x="1919" y="891"/>
                </a:lnTo>
                <a:lnTo>
                  <a:pt x="1913" y="977"/>
                </a:lnTo>
                <a:lnTo>
                  <a:pt x="1861" y="1007"/>
                </a:lnTo>
                <a:lnTo>
                  <a:pt x="1811" y="1035"/>
                </a:lnTo>
                <a:lnTo>
                  <a:pt x="1759" y="1063"/>
                </a:lnTo>
                <a:lnTo>
                  <a:pt x="1706" y="1093"/>
                </a:lnTo>
                <a:lnTo>
                  <a:pt x="1654" y="1121"/>
                </a:lnTo>
                <a:lnTo>
                  <a:pt x="1604" y="1149"/>
                </a:lnTo>
                <a:lnTo>
                  <a:pt x="1552" y="1179"/>
                </a:lnTo>
                <a:lnTo>
                  <a:pt x="1499" y="1209"/>
                </a:lnTo>
                <a:lnTo>
                  <a:pt x="1428" y="1175"/>
                </a:lnTo>
                <a:lnTo>
                  <a:pt x="1370" y="1175"/>
                </a:lnTo>
                <a:lnTo>
                  <a:pt x="1320" y="1203"/>
                </a:lnTo>
                <a:lnTo>
                  <a:pt x="1282" y="1249"/>
                </a:lnTo>
                <a:lnTo>
                  <a:pt x="1257" y="1309"/>
                </a:lnTo>
                <a:lnTo>
                  <a:pt x="1240" y="1377"/>
                </a:lnTo>
                <a:lnTo>
                  <a:pt x="1238" y="1443"/>
                </a:lnTo>
                <a:lnTo>
                  <a:pt x="1249" y="1501"/>
                </a:lnTo>
                <a:lnTo>
                  <a:pt x="1207" y="1505"/>
                </a:lnTo>
                <a:lnTo>
                  <a:pt x="1169" y="1507"/>
                </a:lnTo>
                <a:lnTo>
                  <a:pt x="1127" y="1511"/>
                </a:lnTo>
                <a:lnTo>
                  <a:pt x="1089" y="1513"/>
                </a:lnTo>
                <a:lnTo>
                  <a:pt x="1047" y="1517"/>
                </a:lnTo>
                <a:lnTo>
                  <a:pt x="1006" y="1521"/>
                </a:lnTo>
                <a:lnTo>
                  <a:pt x="967" y="1523"/>
                </a:lnTo>
                <a:lnTo>
                  <a:pt x="926" y="1527"/>
                </a:lnTo>
                <a:lnTo>
                  <a:pt x="904" y="1497"/>
                </a:lnTo>
                <a:lnTo>
                  <a:pt x="882" y="1465"/>
                </a:lnTo>
                <a:lnTo>
                  <a:pt x="863" y="1435"/>
                </a:lnTo>
                <a:lnTo>
                  <a:pt x="840" y="1403"/>
                </a:lnTo>
                <a:lnTo>
                  <a:pt x="818" y="1373"/>
                </a:lnTo>
                <a:lnTo>
                  <a:pt x="799" y="1341"/>
                </a:lnTo>
                <a:lnTo>
                  <a:pt x="777" y="1311"/>
                </a:lnTo>
                <a:lnTo>
                  <a:pt x="755" y="1279"/>
                </a:lnTo>
                <a:lnTo>
                  <a:pt x="796" y="1201"/>
                </a:lnTo>
                <a:lnTo>
                  <a:pt x="829" y="1133"/>
                </a:lnTo>
                <a:lnTo>
                  <a:pt x="852" y="1073"/>
                </a:lnTo>
                <a:lnTo>
                  <a:pt x="863" y="1023"/>
                </a:lnTo>
                <a:lnTo>
                  <a:pt x="865" y="983"/>
                </a:lnTo>
                <a:lnTo>
                  <a:pt x="857" y="949"/>
                </a:lnTo>
                <a:lnTo>
                  <a:pt x="838" y="921"/>
                </a:lnTo>
                <a:lnTo>
                  <a:pt x="810" y="901"/>
                </a:lnTo>
                <a:lnTo>
                  <a:pt x="772" y="885"/>
                </a:lnTo>
                <a:lnTo>
                  <a:pt x="722" y="875"/>
                </a:lnTo>
                <a:lnTo>
                  <a:pt x="667" y="871"/>
                </a:lnTo>
                <a:lnTo>
                  <a:pt x="598" y="869"/>
                </a:lnTo>
                <a:lnTo>
                  <a:pt x="523" y="871"/>
                </a:lnTo>
                <a:lnTo>
                  <a:pt x="435" y="875"/>
                </a:lnTo>
                <a:lnTo>
                  <a:pt x="341" y="881"/>
                </a:lnTo>
                <a:lnTo>
                  <a:pt x="237" y="889"/>
                </a:lnTo>
                <a:lnTo>
                  <a:pt x="217" y="917"/>
                </a:lnTo>
                <a:lnTo>
                  <a:pt x="201" y="945"/>
                </a:lnTo>
                <a:lnTo>
                  <a:pt x="181" y="975"/>
                </a:lnTo>
                <a:lnTo>
                  <a:pt x="165" y="1003"/>
                </a:lnTo>
                <a:lnTo>
                  <a:pt x="146" y="1033"/>
                </a:lnTo>
                <a:lnTo>
                  <a:pt x="129" y="1061"/>
                </a:lnTo>
                <a:lnTo>
                  <a:pt x="110" y="1091"/>
                </a:lnTo>
                <a:lnTo>
                  <a:pt x="91" y="1119"/>
                </a:lnTo>
                <a:lnTo>
                  <a:pt x="107" y="1137"/>
                </a:lnTo>
                <a:lnTo>
                  <a:pt x="121" y="1153"/>
                </a:lnTo>
                <a:lnTo>
                  <a:pt x="137" y="1171"/>
                </a:lnTo>
                <a:lnTo>
                  <a:pt x="154" y="1187"/>
                </a:lnTo>
                <a:lnTo>
                  <a:pt x="170" y="1205"/>
                </a:lnTo>
                <a:lnTo>
                  <a:pt x="187" y="1221"/>
                </a:lnTo>
                <a:lnTo>
                  <a:pt x="201" y="1239"/>
                </a:lnTo>
                <a:lnTo>
                  <a:pt x="217" y="1257"/>
                </a:lnTo>
                <a:lnTo>
                  <a:pt x="193" y="1273"/>
                </a:lnTo>
                <a:lnTo>
                  <a:pt x="168" y="1289"/>
                </a:lnTo>
                <a:lnTo>
                  <a:pt x="143" y="1305"/>
                </a:lnTo>
                <a:lnTo>
                  <a:pt x="118" y="1321"/>
                </a:lnTo>
                <a:lnTo>
                  <a:pt x="93" y="1339"/>
                </a:lnTo>
                <a:lnTo>
                  <a:pt x="68" y="1355"/>
                </a:lnTo>
                <a:lnTo>
                  <a:pt x="44" y="1371"/>
                </a:lnTo>
                <a:lnTo>
                  <a:pt x="19" y="1387"/>
                </a:lnTo>
                <a:lnTo>
                  <a:pt x="13" y="1531"/>
                </a:lnTo>
                <a:lnTo>
                  <a:pt x="8" y="1673"/>
                </a:lnTo>
                <a:lnTo>
                  <a:pt x="2" y="1816"/>
                </a:lnTo>
                <a:lnTo>
                  <a:pt x="0" y="1958"/>
                </a:lnTo>
                <a:lnTo>
                  <a:pt x="41" y="1982"/>
                </a:lnTo>
                <a:lnTo>
                  <a:pt x="82" y="2004"/>
                </a:lnTo>
                <a:lnTo>
                  <a:pt x="124" y="2026"/>
                </a:lnTo>
                <a:lnTo>
                  <a:pt x="165" y="2048"/>
                </a:lnTo>
                <a:lnTo>
                  <a:pt x="206" y="2070"/>
                </a:lnTo>
                <a:lnTo>
                  <a:pt x="248" y="2092"/>
                </a:lnTo>
                <a:lnTo>
                  <a:pt x="292" y="2114"/>
                </a:lnTo>
                <a:lnTo>
                  <a:pt x="333" y="2136"/>
                </a:lnTo>
                <a:lnTo>
                  <a:pt x="375" y="2124"/>
                </a:lnTo>
                <a:lnTo>
                  <a:pt x="419" y="2110"/>
                </a:lnTo>
                <a:lnTo>
                  <a:pt x="460" y="2098"/>
                </a:lnTo>
                <a:lnTo>
                  <a:pt x="504" y="2084"/>
                </a:lnTo>
                <a:lnTo>
                  <a:pt x="545" y="2070"/>
                </a:lnTo>
                <a:lnTo>
                  <a:pt x="590" y="2056"/>
                </a:lnTo>
                <a:lnTo>
                  <a:pt x="631" y="2044"/>
                </a:lnTo>
                <a:lnTo>
                  <a:pt x="675" y="2030"/>
                </a:lnTo>
                <a:lnTo>
                  <a:pt x="727" y="2030"/>
                </a:lnTo>
                <a:lnTo>
                  <a:pt x="780" y="2032"/>
                </a:lnTo>
                <a:lnTo>
                  <a:pt x="832" y="2032"/>
                </a:lnTo>
                <a:lnTo>
                  <a:pt x="887" y="2032"/>
                </a:lnTo>
                <a:lnTo>
                  <a:pt x="940" y="2034"/>
                </a:lnTo>
                <a:lnTo>
                  <a:pt x="992" y="2034"/>
                </a:lnTo>
                <a:lnTo>
                  <a:pt x="1045" y="2036"/>
                </a:lnTo>
                <a:lnTo>
                  <a:pt x="1097" y="2036"/>
                </a:lnTo>
                <a:lnTo>
                  <a:pt x="1097" y="2072"/>
                </a:lnTo>
                <a:lnTo>
                  <a:pt x="1097" y="2108"/>
                </a:lnTo>
                <a:lnTo>
                  <a:pt x="1097" y="2144"/>
                </a:lnTo>
                <a:lnTo>
                  <a:pt x="1097" y="2178"/>
                </a:lnTo>
                <a:lnTo>
                  <a:pt x="1102" y="2222"/>
                </a:lnTo>
                <a:lnTo>
                  <a:pt x="1111" y="2268"/>
                </a:lnTo>
                <a:lnTo>
                  <a:pt x="1116" y="2312"/>
                </a:lnTo>
                <a:lnTo>
                  <a:pt x="1122" y="2356"/>
                </a:lnTo>
                <a:lnTo>
                  <a:pt x="1158" y="2366"/>
                </a:lnTo>
                <a:lnTo>
                  <a:pt x="1193" y="2376"/>
                </a:lnTo>
                <a:lnTo>
                  <a:pt x="1229" y="2388"/>
                </a:lnTo>
                <a:lnTo>
                  <a:pt x="1265" y="2398"/>
                </a:lnTo>
                <a:lnTo>
                  <a:pt x="1301" y="2408"/>
                </a:lnTo>
                <a:lnTo>
                  <a:pt x="1337" y="2418"/>
                </a:lnTo>
                <a:lnTo>
                  <a:pt x="1373" y="2430"/>
                </a:lnTo>
                <a:lnTo>
                  <a:pt x="1408" y="2440"/>
                </a:lnTo>
                <a:lnTo>
                  <a:pt x="1442" y="2450"/>
                </a:lnTo>
                <a:lnTo>
                  <a:pt x="1477" y="2460"/>
                </a:lnTo>
                <a:lnTo>
                  <a:pt x="1513" y="2472"/>
                </a:lnTo>
                <a:lnTo>
                  <a:pt x="1549" y="2482"/>
                </a:lnTo>
                <a:lnTo>
                  <a:pt x="1585" y="2492"/>
                </a:lnTo>
                <a:lnTo>
                  <a:pt x="1621" y="2502"/>
                </a:lnTo>
                <a:lnTo>
                  <a:pt x="1657" y="2514"/>
                </a:lnTo>
                <a:lnTo>
                  <a:pt x="1692" y="2524"/>
                </a:lnTo>
                <a:lnTo>
                  <a:pt x="1723" y="2514"/>
                </a:lnTo>
                <a:lnTo>
                  <a:pt x="1753" y="2506"/>
                </a:lnTo>
                <a:lnTo>
                  <a:pt x="1783" y="2496"/>
                </a:lnTo>
                <a:lnTo>
                  <a:pt x="1814" y="2488"/>
                </a:lnTo>
                <a:lnTo>
                  <a:pt x="1844" y="2478"/>
                </a:lnTo>
                <a:lnTo>
                  <a:pt x="1874" y="2470"/>
                </a:lnTo>
                <a:lnTo>
                  <a:pt x="1905" y="2460"/>
                </a:lnTo>
                <a:lnTo>
                  <a:pt x="1935" y="2452"/>
                </a:lnTo>
                <a:lnTo>
                  <a:pt x="1957" y="2362"/>
                </a:lnTo>
                <a:lnTo>
                  <a:pt x="1993" y="2272"/>
                </a:lnTo>
                <a:lnTo>
                  <a:pt x="2045" y="2186"/>
                </a:lnTo>
                <a:lnTo>
                  <a:pt x="2112" y="2104"/>
                </a:lnTo>
                <a:lnTo>
                  <a:pt x="2186" y="2028"/>
                </a:lnTo>
                <a:lnTo>
                  <a:pt x="2269" y="1958"/>
                </a:lnTo>
                <a:lnTo>
                  <a:pt x="2357" y="1896"/>
                </a:lnTo>
                <a:lnTo>
                  <a:pt x="2451" y="1840"/>
                </a:lnTo>
                <a:lnTo>
                  <a:pt x="2542" y="1796"/>
                </a:lnTo>
                <a:lnTo>
                  <a:pt x="2635" y="1762"/>
                </a:lnTo>
                <a:lnTo>
                  <a:pt x="2724" y="1738"/>
                </a:lnTo>
                <a:lnTo>
                  <a:pt x="2806" y="1728"/>
                </a:lnTo>
                <a:lnTo>
                  <a:pt x="2881" y="1732"/>
                </a:lnTo>
                <a:lnTo>
                  <a:pt x="2947" y="1750"/>
                </a:lnTo>
                <a:lnTo>
                  <a:pt x="2999" y="1784"/>
                </a:lnTo>
                <a:lnTo>
                  <a:pt x="3038" y="1834"/>
                </a:lnTo>
                <a:lnTo>
                  <a:pt x="3090" y="1804"/>
                </a:lnTo>
                <a:lnTo>
                  <a:pt x="3146" y="1774"/>
                </a:lnTo>
                <a:lnTo>
                  <a:pt x="3198" y="1744"/>
                </a:lnTo>
                <a:lnTo>
                  <a:pt x="3253" y="1714"/>
                </a:lnTo>
                <a:lnTo>
                  <a:pt x="3305" y="1684"/>
                </a:lnTo>
                <a:lnTo>
                  <a:pt x="3361" y="1655"/>
                </a:lnTo>
                <a:lnTo>
                  <a:pt x="3413" y="1623"/>
                </a:lnTo>
                <a:lnTo>
                  <a:pt x="3465" y="1593"/>
                </a:lnTo>
                <a:lnTo>
                  <a:pt x="3518" y="1587"/>
                </a:lnTo>
                <a:lnTo>
                  <a:pt x="3573" y="1581"/>
                </a:lnTo>
                <a:lnTo>
                  <a:pt x="3625" y="1575"/>
                </a:lnTo>
                <a:lnTo>
                  <a:pt x="3678" y="1567"/>
                </a:lnTo>
                <a:lnTo>
                  <a:pt x="3733" y="1561"/>
                </a:lnTo>
                <a:lnTo>
                  <a:pt x="3785" y="1555"/>
                </a:lnTo>
                <a:lnTo>
                  <a:pt x="3838" y="1547"/>
                </a:lnTo>
                <a:lnTo>
                  <a:pt x="3890" y="1541"/>
                </a:lnTo>
                <a:lnTo>
                  <a:pt x="3901" y="1567"/>
                </a:lnTo>
                <a:lnTo>
                  <a:pt x="3912" y="1595"/>
                </a:lnTo>
                <a:lnTo>
                  <a:pt x="3923" y="1621"/>
                </a:lnTo>
                <a:lnTo>
                  <a:pt x="3934" y="1647"/>
                </a:lnTo>
                <a:lnTo>
                  <a:pt x="3942" y="1675"/>
                </a:lnTo>
                <a:lnTo>
                  <a:pt x="3953" y="1700"/>
                </a:lnTo>
                <a:lnTo>
                  <a:pt x="3964" y="1726"/>
                </a:lnTo>
                <a:lnTo>
                  <a:pt x="3975" y="1752"/>
                </a:lnTo>
                <a:lnTo>
                  <a:pt x="4006" y="1756"/>
                </a:lnTo>
                <a:lnTo>
                  <a:pt x="4033" y="1758"/>
                </a:lnTo>
                <a:lnTo>
                  <a:pt x="4064" y="1762"/>
                </a:lnTo>
                <a:lnTo>
                  <a:pt x="4091" y="1766"/>
                </a:lnTo>
                <a:lnTo>
                  <a:pt x="4122" y="1768"/>
                </a:lnTo>
                <a:lnTo>
                  <a:pt x="4149" y="1772"/>
                </a:lnTo>
                <a:lnTo>
                  <a:pt x="4180" y="1776"/>
                </a:lnTo>
                <a:lnTo>
                  <a:pt x="4207" y="1778"/>
                </a:lnTo>
                <a:lnTo>
                  <a:pt x="4237" y="1782"/>
                </a:lnTo>
                <a:lnTo>
                  <a:pt x="4265" y="1786"/>
                </a:lnTo>
                <a:lnTo>
                  <a:pt x="4295" y="1790"/>
                </a:lnTo>
                <a:lnTo>
                  <a:pt x="4323" y="1792"/>
                </a:lnTo>
                <a:lnTo>
                  <a:pt x="4353" y="1796"/>
                </a:lnTo>
                <a:lnTo>
                  <a:pt x="4381" y="1800"/>
                </a:lnTo>
                <a:lnTo>
                  <a:pt x="4411" y="1802"/>
                </a:lnTo>
                <a:lnTo>
                  <a:pt x="4439" y="1806"/>
                </a:lnTo>
                <a:lnTo>
                  <a:pt x="4439" y="1439"/>
                </a:lnTo>
                <a:lnTo>
                  <a:pt x="4439" y="1069"/>
                </a:lnTo>
                <a:lnTo>
                  <a:pt x="4439" y="701"/>
                </a:lnTo>
                <a:lnTo>
                  <a:pt x="4439" y="334"/>
                </a:lnTo>
                <a:close/>
              </a:path>
            </a:pathLst>
          </a:custGeom>
          <a:solidFill>
            <a:srgbClr val="ed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762120" y="1600200"/>
            <a:ext cx="7056360" cy="3917880"/>
          </a:xfrm>
          <a:custGeom>
            <a:avLst/>
            <a:gdLst/>
            <a:ahLst/>
            <a:rect l="l" t="t" r="r" b="b"/>
            <a:pathLst>
              <a:path w="4445" h="2468">
                <a:moveTo>
                  <a:pt x="4445" y="338"/>
                </a:moveTo>
                <a:lnTo>
                  <a:pt x="4420" y="142"/>
                </a:lnTo>
                <a:lnTo>
                  <a:pt x="4081" y="0"/>
                </a:lnTo>
                <a:lnTo>
                  <a:pt x="3990" y="34"/>
                </a:lnTo>
                <a:lnTo>
                  <a:pt x="3910" y="76"/>
                </a:lnTo>
                <a:lnTo>
                  <a:pt x="3841" y="124"/>
                </a:lnTo>
                <a:lnTo>
                  <a:pt x="3783" y="178"/>
                </a:lnTo>
                <a:lnTo>
                  <a:pt x="3736" y="242"/>
                </a:lnTo>
                <a:lnTo>
                  <a:pt x="3700" y="312"/>
                </a:lnTo>
                <a:lnTo>
                  <a:pt x="3678" y="392"/>
                </a:lnTo>
                <a:lnTo>
                  <a:pt x="3667" y="480"/>
                </a:lnTo>
                <a:lnTo>
                  <a:pt x="3642" y="622"/>
                </a:lnTo>
                <a:lnTo>
                  <a:pt x="3449" y="550"/>
                </a:lnTo>
                <a:lnTo>
                  <a:pt x="3278" y="604"/>
                </a:lnTo>
                <a:lnTo>
                  <a:pt x="3278" y="709"/>
                </a:lnTo>
                <a:lnTo>
                  <a:pt x="3132" y="905"/>
                </a:lnTo>
                <a:lnTo>
                  <a:pt x="2818" y="658"/>
                </a:lnTo>
                <a:lnTo>
                  <a:pt x="2721" y="616"/>
                </a:lnTo>
                <a:lnTo>
                  <a:pt x="2628" y="582"/>
                </a:lnTo>
                <a:lnTo>
                  <a:pt x="2539" y="556"/>
                </a:lnTo>
                <a:lnTo>
                  <a:pt x="2457" y="536"/>
                </a:lnTo>
                <a:lnTo>
                  <a:pt x="2377" y="526"/>
                </a:lnTo>
                <a:lnTo>
                  <a:pt x="2302" y="524"/>
                </a:lnTo>
                <a:lnTo>
                  <a:pt x="2233" y="530"/>
                </a:lnTo>
                <a:lnTo>
                  <a:pt x="2173" y="546"/>
                </a:lnTo>
                <a:lnTo>
                  <a:pt x="2115" y="570"/>
                </a:lnTo>
                <a:lnTo>
                  <a:pt x="2065" y="600"/>
                </a:lnTo>
                <a:lnTo>
                  <a:pt x="2021" y="642"/>
                </a:lnTo>
                <a:lnTo>
                  <a:pt x="1985" y="689"/>
                </a:lnTo>
                <a:lnTo>
                  <a:pt x="1958" y="749"/>
                </a:lnTo>
                <a:lnTo>
                  <a:pt x="1936" y="815"/>
                </a:lnTo>
                <a:lnTo>
                  <a:pt x="1925" y="891"/>
                </a:lnTo>
                <a:lnTo>
                  <a:pt x="1919" y="977"/>
                </a:lnTo>
                <a:lnTo>
                  <a:pt x="1505" y="1207"/>
                </a:lnTo>
                <a:lnTo>
                  <a:pt x="1434" y="1177"/>
                </a:lnTo>
                <a:lnTo>
                  <a:pt x="1376" y="1183"/>
                </a:lnTo>
                <a:lnTo>
                  <a:pt x="1326" y="1217"/>
                </a:lnTo>
                <a:lnTo>
                  <a:pt x="1288" y="1269"/>
                </a:lnTo>
                <a:lnTo>
                  <a:pt x="1263" y="1335"/>
                </a:lnTo>
                <a:lnTo>
                  <a:pt x="1249" y="1405"/>
                </a:lnTo>
                <a:lnTo>
                  <a:pt x="1249" y="1471"/>
                </a:lnTo>
                <a:lnTo>
                  <a:pt x="1263" y="1527"/>
                </a:lnTo>
                <a:lnTo>
                  <a:pt x="924" y="1545"/>
                </a:lnTo>
                <a:lnTo>
                  <a:pt x="728" y="1279"/>
                </a:lnTo>
                <a:lnTo>
                  <a:pt x="767" y="1201"/>
                </a:lnTo>
                <a:lnTo>
                  <a:pt x="794" y="1131"/>
                </a:lnTo>
                <a:lnTo>
                  <a:pt x="816" y="1073"/>
                </a:lnTo>
                <a:lnTo>
                  <a:pt x="827" y="1023"/>
                </a:lnTo>
                <a:lnTo>
                  <a:pt x="830" y="981"/>
                </a:lnTo>
                <a:lnTo>
                  <a:pt x="824" y="947"/>
                </a:lnTo>
                <a:lnTo>
                  <a:pt x="811" y="919"/>
                </a:lnTo>
                <a:lnTo>
                  <a:pt x="786" y="899"/>
                </a:lnTo>
                <a:lnTo>
                  <a:pt x="753" y="885"/>
                </a:lnTo>
                <a:lnTo>
                  <a:pt x="709" y="875"/>
                </a:lnTo>
                <a:lnTo>
                  <a:pt x="656" y="869"/>
                </a:lnTo>
                <a:lnTo>
                  <a:pt x="593" y="867"/>
                </a:lnTo>
                <a:lnTo>
                  <a:pt x="521" y="869"/>
                </a:lnTo>
                <a:lnTo>
                  <a:pt x="438" y="873"/>
                </a:lnTo>
                <a:lnTo>
                  <a:pt x="345" y="879"/>
                </a:lnTo>
                <a:lnTo>
                  <a:pt x="243" y="887"/>
                </a:lnTo>
                <a:lnTo>
                  <a:pt x="97" y="1119"/>
                </a:lnTo>
                <a:lnTo>
                  <a:pt x="243" y="1261"/>
                </a:lnTo>
                <a:lnTo>
                  <a:pt x="25" y="1385"/>
                </a:lnTo>
                <a:lnTo>
                  <a:pt x="0" y="1918"/>
                </a:lnTo>
                <a:lnTo>
                  <a:pt x="339" y="2096"/>
                </a:lnTo>
                <a:lnTo>
                  <a:pt x="678" y="1988"/>
                </a:lnTo>
                <a:lnTo>
                  <a:pt x="1117" y="1988"/>
                </a:lnTo>
                <a:lnTo>
                  <a:pt x="1117" y="2130"/>
                </a:lnTo>
                <a:lnTo>
                  <a:pt x="1142" y="2308"/>
                </a:lnTo>
                <a:lnTo>
                  <a:pt x="1698" y="2468"/>
                </a:lnTo>
                <a:lnTo>
                  <a:pt x="1941" y="2398"/>
                </a:lnTo>
                <a:lnTo>
                  <a:pt x="1963" y="2308"/>
                </a:lnTo>
                <a:lnTo>
                  <a:pt x="2002" y="2218"/>
                </a:lnTo>
                <a:lnTo>
                  <a:pt x="2054" y="2132"/>
                </a:lnTo>
                <a:lnTo>
                  <a:pt x="2120" y="2050"/>
                </a:lnTo>
                <a:lnTo>
                  <a:pt x="2195" y="1974"/>
                </a:lnTo>
                <a:lnTo>
                  <a:pt x="2280" y="1904"/>
                </a:lnTo>
                <a:lnTo>
                  <a:pt x="2368" y="1840"/>
                </a:lnTo>
                <a:lnTo>
                  <a:pt x="2462" y="1784"/>
                </a:lnTo>
                <a:lnTo>
                  <a:pt x="2556" y="1740"/>
                </a:lnTo>
                <a:lnTo>
                  <a:pt x="2650" y="1704"/>
                </a:lnTo>
                <a:lnTo>
                  <a:pt x="2741" y="1680"/>
                </a:lnTo>
                <a:lnTo>
                  <a:pt x="2823" y="1670"/>
                </a:lnTo>
                <a:lnTo>
                  <a:pt x="2901" y="1672"/>
                </a:lnTo>
                <a:lnTo>
                  <a:pt x="2967" y="1690"/>
                </a:lnTo>
                <a:lnTo>
                  <a:pt x="3022" y="1724"/>
                </a:lnTo>
                <a:lnTo>
                  <a:pt x="3061" y="1776"/>
                </a:lnTo>
                <a:lnTo>
                  <a:pt x="3471" y="1527"/>
                </a:lnTo>
                <a:lnTo>
                  <a:pt x="3913" y="1457"/>
                </a:lnTo>
                <a:lnTo>
                  <a:pt x="3981" y="1684"/>
                </a:lnTo>
                <a:lnTo>
                  <a:pt x="4445" y="1740"/>
                </a:lnTo>
                <a:lnTo>
                  <a:pt x="4445" y="3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218120" y="4222800"/>
            <a:ext cx="37800" cy="666720"/>
          </a:xfrm>
          <a:custGeom>
            <a:avLst/>
            <a:gdLst/>
            <a:ahLst/>
            <a:rect l="l" t="t" r="r" b="b"/>
            <a:pathLst>
              <a:path w="24" h="420">
                <a:moveTo>
                  <a:pt x="0" y="0"/>
                </a:moveTo>
                <a:lnTo>
                  <a:pt x="0" y="420"/>
                </a:lnTo>
                <a:lnTo>
                  <a:pt x="24" y="418"/>
                </a:lnTo>
                <a:lnTo>
                  <a:pt x="24" y="8"/>
                </a:lnTo>
                <a:lnTo>
                  <a:pt x="0" y="0"/>
                </a:lnTo>
                <a:close/>
              </a:path>
            </a:pathLst>
          </a:custGeom>
          <a:solidFill>
            <a:srgbClr val="2b3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4305240" y="4286160"/>
            <a:ext cx="112680" cy="514440"/>
          </a:xfrm>
          <a:custGeom>
            <a:avLst/>
            <a:gdLst/>
            <a:ahLst/>
            <a:rect l="l" t="t" r="r" b="b"/>
            <a:pathLst>
              <a:path w="71" h="324">
                <a:moveTo>
                  <a:pt x="47" y="0"/>
                </a:moveTo>
                <a:lnTo>
                  <a:pt x="0" y="324"/>
                </a:lnTo>
                <a:lnTo>
                  <a:pt x="27" y="320"/>
                </a:lnTo>
                <a:lnTo>
                  <a:pt x="71" y="8"/>
                </a:lnTo>
                <a:lnTo>
                  <a:pt x="47" y="0"/>
                </a:lnTo>
                <a:close/>
              </a:path>
            </a:pathLst>
          </a:custGeom>
          <a:solidFill>
            <a:srgbClr val="2b3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579920" y="4280040"/>
            <a:ext cx="206280" cy="631800"/>
          </a:xfrm>
          <a:custGeom>
            <a:avLst/>
            <a:gdLst/>
            <a:ahLst/>
            <a:rect l="l" t="t" r="r" b="b"/>
            <a:pathLst>
              <a:path w="130" h="398">
                <a:moveTo>
                  <a:pt x="105" y="0"/>
                </a:moveTo>
                <a:lnTo>
                  <a:pt x="0" y="398"/>
                </a:lnTo>
                <a:lnTo>
                  <a:pt x="28" y="396"/>
                </a:lnTo>
                <a:lnTo>
                  <a:pt x="130" y="10"/>
                </a:lnTo>
                <a:lnTo>
                  <a:pt x="105" y="0"/>
                </a:lnTo>
                <a:close/>
              </a:path>
            </a:pathLst>
          </a:custGeom>
          <a:solidFill>
            <a:srgbClr val="2b3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340000" y="417600"/>
            <a:ext cx="3895560" cy="3948120"/>
          </a:xfrm>
          <a:custGeom>
            <a:avLst/>
            <a:gdLst/>
            <a:ahLst/>
            <a:rect l="l" t="t" r="r" b="b"/>
            <a:pathLst>
              <a:path w="2454" h="2487">
                <a:moveTo>
                  <a:pt x="628" y="68"/>
                </a:moveTo>
                <a:lnTo>
                  <a:pt x="529" y="90"/>
                </a:lnTo>
                <a:lnTo>
                  <a:pt x="435" y="122"/>
                </a:lnTo>
                <a:lnTo>
                  <a:pt x="347" y="164"/>
                </a:lnTo>
                <a:lnTo>
                  <a:pt x="264" y="214"/>
                </a:lnTo>
                <a:lnTo>
                  <a:pt x="190" y="270"/>
                </a:lnTo>
                <a:lnTo>
                  <a:pt x="127" y="334"/>
                </a:lnTo>
                <a:lnTo>
                  <a:pt x="74" y="404"/>
                </a:lnTo>
                <a:lnTo>
                  <a:pt x="36" y="479"/>
                </a:lnTo>
                <a:lnTo>
                  <a:pt x="8" y="559"/>
                </a:lnTo>
                <a:lnTo>
                  <a:pt x="0" y="643"/>
                </a:lnTo>
                <a:lnTo>
                  <a:pt x="5" y="731"/>
                </a:lnTo>
                <a:lnTo>
                  <a:pt x="33" y="821"/>
                </a:lnTo>
                <a:lnTo>
                  <a:pt x="80" y="913"/>
                </a:lnTo>
                <a:lnTo>
                  <a:pt x="146" y="1005"/>
                </a:lnTo>
                <a:lnTo>
                  <a:pt x="237" y="1099"/>
                </a:lnTo>
                <a:lnTo>
                  <a:pt x="353" y="1193"/>
                </a:lnTo>
                <a:lnTo>
                  <a:pt x="791" y="1572"/>
                </a:lnTo>
                <a:lnTo>
                  <a:pt x="896" y="1718"/>
                </a:lnTo>
                <a:lnTo>
                  <a:pt x="923" y="1998"/>
                </a:lnTo>
                <a:lnTo>
                  <a:pt x="937" y="2100"/>
                </a:lnTo>
                <a:lnTo>
                  <a:pt x="965" y="2386"/>
                </a:lnTo>
                <a:lnTo>
                  <a:pt x="1009" y="2403"/>
                </a:lnTo>
                <a:lnTo>
                  <a:pt x="1050" y="2419"/>
                </a:lnTo>
                <a:lnTo>
                  <a:pt x="1086" y="2433"/>
                </a:lnTo>
                <a:lnTo>
                  <a:pt x="1119" y="2447"/>
                </a:lnTo>
                <a:lnTo>
                  <a:pt x="1150" y="2457"/>
                </a:lnTo>
                <a:lnTo>
                  <a:pt x="1177" y="2465"/>
                </a:lnTo>
                <a:lnTo>
                  <a:pt x="1202" y="2473"/>
                </a:lnTo>
                <a:lnTo>
                  <a:pt x="1227" y="2479"/>
                </a:lnTo>
                <a:lnTo>
                  <a:pt x="1252" y="2483"/>
                </a:lnTo>
                <a:lnTo>
                  <a:pt x="1276" y="2487"/>
                </a:lnTo>
                <a:lnTo>
                  <a:pt x="1304" y="2487"/>
                </a:lnTo>
                <a:lnTo>
                  <a:pt x="1329" y="2487"/>
                </a:lnTo>
                <a:lnTo>
                  <a:pt x="1359" y="2487"/>
                </a:lnTo>
                <a:lnTo>
                  <a:pt x="1392" y="2485"/>
                </a:lnTo>
                <a:lnTo>
                  <a:pt x="1428" y="2481"/>
                </a:lnTo>
                <a:lnTo>
                  <a:pt x="1469" y="2477"/>
                </a:lnTo>
                <a:lnTo>
                  <a:pt x="1773" y="2150"/>
                </a:lnTo>
                <a:lnTo>
                  <a:pt x="1847" y="1826"/>
                </a:lnTo>
                <a:lnTo>
                  <a:pt x="1864" y="1788"/>
                </a:lnTo>
                <a:lnTo>
                  <a:pt x="1880" y="1750"/>
                </a:lnTo>
                <a:lnTo>
                  <a:pt x="1897" y="1712"/>
                </a:lnTo>
                <a:lnTo>
                  <a:pt x="1913" y="1674"/>
                </a:lnTo>
                <a:lnTo>
                  <a:pt x="1924" y="1652"/>
                </a:lnTo>
                <a:lnTo>
                  <a:pt x="1938" y="1632"/>
                </a:lnTo>
                <a:lnTo>
                  <a:pt x="1952" y="1612"/>
                </a:lnTo>
                <a:lnTo>
                  <a:pt x="1968" y="1592"/>
                </a:lnTo>
                <a:lnTo>
                  <a:pt x="1985" y="1572"/>
                </a:lnTo>
                <a:lnTo>
                  <a:pt x="2004" y="1552"/>
                </a:lnTo>
                <a:lnTo>
                  <a:pt x="2024" y="1534"/>
                </a:lnTo>
                <a:lnTo>
                  <a:pt x="2046" y="1516"/>
                </a:lnTo>
                <a:lnTo>
                  <a:pt x="2084" y="1480"/>
                </a:lnTo>
                <a:lnTo>
                  <a:pt x="2123" y="1438"/>
                </a:lnTo>
                <a:lnTo>
                  <a:pt x="2164" y="1391"/>
                </a:lnTo>
                <a:lnTo>
                  <a:pt x="2206" y="1337"/>
                </a:lnTo>
                <a:lnTo>
                  <a:pt x="2247" y="1277"/>
                </a:lnTo>
                <a:lnTo>
                  <a:pt x="2288" y="1213"/>
                </a:lnTo>
                <a:lnTo>
                  <a:pt x="2324" y="1145"/>
                </a:lnTo>
                <a:lnTo>
                  <a:pt x="2360" y="1073"/>
                </a:lnTo>
                <a:lnTo>
                  <a:pt x="2390" y="997"/>
                </a:lnTo>
                <a:lnTo>
                  <a:pt x="2415" y="921"/>
                </a:lnTo>
                <a:lnTo>
                  <a:pt x="2434" y="843"/>
                </a:lnTo>
                <a:lnTo>
                  <a:pt x="2448" y="763"/>
                </a:lnTo>
                <a:lnTo>
                  <a:pt x="2454" y="683"/>
                </a:lnTo>
                <a:lnTo>
                  <a:pt x="2448" y="603"/>
                </a:lnTo>
                <a:lnTo>
                  <a:pt x="2437" y="523"/>
                </a:lnTo>
                <a:lnTo>
                  <a:pt x="2412" y="445"/>
                </a:lnTo>
                <a:lnTo>
                  <a:pt x="2410" y="402"/>
                </a:lnTo>
                <a:lnTo>
                  <a:pt x="2399" y="362"/>
                </a:lnTo>
                <a:lnTo>
                  <a:pt x="2382" y="324"/>
                </a:lnTo>
                <a:lnTo>
                  <a:pt x="2357" y="288"/>
                </a:lnTo>
                <a:lnTo>
                  <a:pt x="2324" y="256"/>
                </a:lnTo>
                <a:lnTo>
                  <a:pt x="2286" y="224"/>
                </a:lnTo>
                <a:lnTo>
                  <a:pt x="2244" y="196"/>
                </a:lnTo>
                <a:lnTo>
                  <a:pt x="2195" y="168"/>
                </a:lnTo>
                <a:lnTo>
                  <a:pt x="2142" y="144"/>
                </a:lnTo>
                <a:lnTo>
                  <a:pt x="2084" y="122"/>
                </a:lnTo>
                <a:lnTo>
                  <a:pt x="2024" y="100"/>
                </a:lnTo>
                <a:lnTo>
                  <a:pt x="1957" y="82"/>
                </a:lnTo>
                <a:lnTo>
                  <a:pt x="1891" y="66"/>
                </a:lnTo>
                <a:lnTo>
                  <a:pt x="1820" y="52"/>
                </a:lnTo>
                <a:lnTo>
                  <a:pt x="1748" y="40"/>
                </a:lnTo>
                <a:lnTo>
                  <a:pt x="1673" y="28"/>
                </a:lnTo>
                <a:lnTo>
                  <a:pt x="1599" y="20"/>
                </a:lnTo>
                <a:lnTo>
                  <a:pt x="1522" y="12"/>
                </a:lnTo>
                <a:lnTo>
                  <a:pt x="1445" y="6"/>
                </a:lnTo>
                <a:lnTo>
                  <a:pt x="1370" y="2"/>
                </a:lnTo>
                <a:lnTo>
                  <a:pt x="1293" y="0"/>
                </a:lnTo>
                <a:lnTo>
                  <a:pt x="1218" y="0"/>
                </a:lnTo>
                <a:lnTo>
                  <a:pt x="1147" y="0"/>
                </a:lnTo>
                <a:lnTo>
                  <a:pt x="1075" y="2"/>
                </a:lnTo>
                <a:lnTo>
                  <a:pt x="1006" y="6"/>
                </a:lnTo>
                <a:lnTo>
                  <a:pt x="940" y="12"/>
                </a:lnTo>
                <a:lnTo>
                  <a:pt x="877" y="18"/>
                </a:lnTo>
                <a:lnTo>
                  <a:pt x="819" y="26"/>
                </a:lnTo>
                <a:lnTo>
                  <a:pt x="763" y="34"/>
                </a:lnTo>
                <a:lnTo>
                  <a:pt x="714" y="44"/>
                </a:lnTo>
                <a:lnTo>
                  <a:pt x="667" y="56"/>
                </a:lnTo>
                <a:lnTo>
                  <a:pt x="628" y="68"/>
                </a:ln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449440" y="436680"/>
            <a:ext cx="3811680" cy="3875040"/>
          </a:xfrm>
          <a:custGeom>
            <a:avLst/>
            <a:gdLst/>
            <a:ahLst/>
            <a:rect l="l" t="t" r="r" b="b"/>
            <a:pathLst>
              <a:path w="2401" h="2441">
                <a:moveTo>
                  <a:pt x="615" y="64"/>
                </a:moveTo>
                <a:lnTo>
                  <a:pt x="521" y="86"/>
                </a:lnTo>
                <a:lnTo>
                  <a:pt x="430" y="116"/>
                </a:lnTo>
                <a:lnTo>
                  <a:pt x="342" y="154"/>
                </a:lnTo>
                <a:lnTo>
                  <a:pt x="264" y="202"/>
                </a:lnTo>
                <a:lnTo>
                  <a:pt x="193" y="256"/>
                </a:lnTo>
                <a:lnTo>
                  <a:pt x="129" y="316"/>
                </a:lnTo>
                <a:lnTo>
                  <a:pt x="77" y="380"/>
                </a:lnTo>
                <a:lnTo>
                  <a:pt x="38" y="451"/>
                </a:lnTo>
                <a:lnTo>
                  <a:pt x="11" y="527"/>
                </a:lnTo>
                <a:lnTo>
                  <a:pt x="0" y="605"/>
                </a:lnTo>
                <a:lnTo>
                  <a:pt x="2" y="687"/>
                </a:lnTo>
                <a:lnTo>
                  <a:pt x="24" y="773"/>
                </a:lnTo>
                <a:lnTo>
                  <a:pt x="63" y="859"/>
                </a:lnTo>
                <a:lnTo>
                  <a:pt x="124" y="947"/>
                </a:lnTo>
                <a:lnTo>
                  <a:pt x="204" y="1037"/>
                </a:lnTo>
                <a:lnTo>
                  <a:pt x="308" y="1125"/>
                </a:lnTo>
                <a:lnTo>
                  <a:pt x="355" y="1175"/>
                </a:lnTo>
                <a:lnTo>
                  <a:pt x="405" y="1225"/>
                </a:lnTo>
                <a:lnTo>
                  <a:pt x="452" y="1275"/>
                </a:lnTo>
                <a:lnTo>
                  <a:pt x="504" y="1327"/>
                </a:lnTo>
                <a:lnTo>
                  <a:pt x="557" y="1379"/>
                </a:lnTo>
                <a:lnTo>
                  <a:pt x="609" y="1430"/>
                </a:lnTo>
                <a:lnTo>
                  <a:pt x="664" y="1482"/>
                </a:lnTo>
                <a:lnTo>
                  <a:pt x="719" y="1536"/>
                </a:lnTo>
                <a:lnTo>
                  <a:pt x="733" y="1554"/>
                </a:lnTo>
                <a:lnTo>
                  <a:pt x="747" y="1574"/>
                </a:lnTo>
                <a:lnTo>
                  <a:pt x="761" y="1592"/>
                </a:lnTo>
                <a:lnTo>
                  <a:pt x="774" y="1612"/>
                </a:lnTo>
                <a:lnTo>
                  <a:pt x="788" y="1632"/>
                </a:lnTo>
                <a:lnTo>
                  <a:pt x="802" y="1650"/>
                </a:lnTo>
                <a:lnTo>
                  <a:pt x="816" y="1670"/>
                </a:lnTo>
                <a:lnTo>
                  <a:pt x="830" y="1688"/>
                </a:lnTo>
                <a:lnTo>
                  <a:pt x="838" y="1756"/>
                </a:lnTo>
                <a:lnTo>
                  <a:pt x="846" y="1822"/>
                </a:lnTo>
                <a:lnTo>
                  <a:pt x="854" y="1890"/>
                </a:lnTo>
                <a:lnTo>
                  <a:pt x="860" y="1958"/>
                </a:lnTo>
                <a:lnTo>
                  <a:pt x="863" y="1986"/>
                </a:lnTo>
                <a:lnTo>
                  <a:pt x="865" y="2016"/>
                </a:lnTo>
                <a:lnTo>
                  <a:pt x="868" y="2046"/>
                </a:lnTo>
                <a:lnTo>
                  <a:pt x="871" y="2076"/>
                </a:lnTo>
                <a:lnTo>
                  <a:pt x="879" y="2142"/>
                </a:lnTo>
                <a:lnTo>
                  <a:pt x="888" y="2208"/>
                </a:lnTo>
                <a:lnTo>
                  <a:pt x="896" y="2276"/>
                </a:lnTo>
                <a:lnTo>
                  <a:pt x="901" y="2344"/>
                </a:lnTo>
                <a:lnTo>
                  <a:pt x="948" y="2362"/>
                </a:lnTo>
                <a:lnTo>
                  <a:pt x="990" y="2376"/>
                </a:lnTo>
                <a:lnTo>
                  <a:pt x="1025" y="2389"/>
                </a:lnTo>
                <a:lnTo>
                  <a:pt x="1058" y="2401"/>
                </a:lnTo>
                <a:lnTo>
                  <a:pt x="1092" y="2411"/>
                </a:lnTo>
                <a:lnTo>
                  <a:pt x="1119" y="2419"/>
                </a:lnTo>
                <a:lnTo>
                  <a:pt x="1147" y="2427"/>
                </a:lnTo>
                <a:lnTo>
                  <a:pt x="1174" y="2433"/>
                </a:lnTo>
                <a:lnTo>
                  <a:pt x="1202" y="2437"/>
                </a:lnTo>
                <a:lnTo>
                  <a:pt x="1229" y="2439"/>
                </a:lnTo>
                <a:lnTo>
                  <a:pt x="1257" y="2441"/>
                </a:lnTo>
                <a:lnTo>
                  <a:pt x="1285" y="2441"/>
                </a:lnTo>
                <a:lnTo>
                  <a:pt x="1318" y="2441"/>
                </a:lnTo>
                <a:lnTo>
                  <a:pt x="1351" y="2439"/>
                </a:lnTo>
                <a:lnTo>
                  <a:pt x="1387" y="2437"/>
                </a:lnTo>
                <a:lnTo>
                  <a:pt x="1428" y="2433"/>
                </a:lnTo>
                <a:lnTo>
                  <a:pt x="1464" y="2395"/>
                </a:lnTo>
                <a:lnTo>
                  <a:pt x="1500" y="2356"/>
                </a:lnTo>
                <a:lnTo>
                  <a:pt x="1533" y="2318"/>
                </a:lnTo>
                <a:lnTo>
                  <a:pt x="1569" y="2280"/>
                </a:lnTo>
                <a:lnTo>
                  <a:pt x="1604" y="2242"/>
                </a:lnTo>
                <a:lnTo>
                  <a:pt x="1640" y="2206"/>
                </a:lnTo>
                <a:lnTo>
                  <a:pt x="1673" y="2168"/>
                </a:lnTo>
                <a:lnTo>
                  <a:pt x="1709" y="2130"/>
                </a:lnTo>
                <a:lnTo>
                  <a:pt x="1728" y="2050"/>
                </a:lnTo>
                <a:lnTo>
                  <a:pt x="1748" y="1970"/>
                </a:lnTo>
                <a:lnTo>
                  <a:pt x="1767" y="1890"/>
                </a:lnTo>
                <a:lnTo>
                  <a:pt x="1786" y="1810"/>
                </a:lnTo>
                <a:lnTo>
                  <a:pt x="1803" y="1772"/>
                </a:lnTo>
                <a:lnTo>
                  <a:pt x="1819" y="1734"/>
                </a:lnTo>
                <a:lnTo>
                  <a:pt x="1836" y="1698"/>
                </a:lnTo>
                <a:lnTo>
                  <a:pt x="1855" y="1660"/>
                </a:lnTo>
                <a:lnTo>
                  <a:pt x="1866" y="1638"/>
                </a:lnTo>
                <a:lnTo>
                  <a:pt x="1880" y="1618"/>
                </a:lnTo>
                <a:lnTo>
                  <a:pt x="1894" y="1598"/>
                </a:lnTo>
                <a:lnTo>
                  <a:pt x="1910" y="1578"/>
                </a:lnTo>
                <a:lnTo>
                  <a:pt x="1930" y="1560"/>
                </a:lnTo>
                <a:lnTo>
                  <a:pt x="1946" y="1540"/>
                </a:lnTo>
                <a:lnTo>
                  <a:pt x="1968" y="1522"/>
                </a:lnTo>
                <a:lnTo>
                  <a:pt x="1988" y="1504"/>
                </a:lnTo>
                <a:lnTo>
                  <a:pt x="2026" y="1470"/>
                </a:lnTo>
                <a:lnTo>
                  <a:pt x="2065" y="1428"/>
                </a:lnTo>
                <a:lnTo>
                  <a:pt x="2109" y="1383"/>
                </a:lnTo>
                <a:lnTo>
                  <a:pt x="2150" y="1329"/>
                </a:lnTo>
                <a:lnTo>
                  <a:pt x="2192" y="1271"/>
                </a:lnTo>
                <a:lnTo>
                  <a:pt x="2230" y="1209"/>
                </a:lnTo>
                <a:lnTo>
                  <a:pt x="2269" y="1143"/>
                </a:lnTo>
                <a:lnTo>
                  <a:pt x="2305" y="1073"/>
                </a:lnTo>
                <a:lnTo>
                  <a:pt x="2335" y="1001"/>
                </a:lnTo>
                <a:lnTo>
                  <a:pt x="2360" y="925"/>
                </a:lnTo>
                <a:lnTo>
                  <a:pt x="2382" y="849"/>
                </a:lnTo>
                <a:lnTo>
                  <a:pt x="2396" y="769"/>
                </a:lnTo>
                <a:lnTo>
                  <a:pt x="2401" y="691"/>
                </a:lnTo>
                <a:lnTo>
                  <a:pt x="2398" y="611"/>
                </a:lnTo>
                <a:lnTo>
                  <a:pt x="2385" y="533"/>
                </a:lnTo>
                <a:lnTo>
                  <a:pt x="2363" y="455"/>
                </a:lnTo>
                <a:lnTo>
                  <a:pt x="2349" y="372"/>
                </a:lnTo>
                <a:lnTo>
                  <a:pt x="2305" y="298"/>
                </a:lnTo>
                <a:lnTo>
                  <a:pt x="2236" y="234"/>
                </a:lnTo>
                <a:lnTo>
                  <a:pt x="2148" y="176"/>
                </a:lnTo>
                <a:lnTo>
                  <a:pt x="2040" y="128"/>
                </a:lnTo>
                <a:lnTo>
                  <a:pt x="1916" y="90"/>
                </a:lnTo>
                <a:lnTo>
                  <a:pt x="1784" y="58"/>
                </a:lnTo>
                <a:lnTo>
                  <a:pt x="1640" y="32"/>
                </a:lnTo>
                <a:lnTo>
                  <a:pt x="1494" y="16"/>
                </a:lnTo>
                <a:lnTo>
                  <a:pt x="1345" y="4"/>
                </a:lnTo>
                <a:lnTo>
                  <a:pt x="1199" y="0"/>
                </a:lnTo>
                <a:lnTo>
                  <a:pt x="1058" y="2"/>
                </a:lnTo>
                <a:lnTo>
                  <a:pt x="926" y="10"/>
                </a:lnTo>
                <a:lnTo>
                  <a:pt x="805" y="24"/>
                </a:lnTo>
                <a:lnTo>
                  <a:pt x="700" y="42"/>
                </a:lnTo>
                <a:lnTo>
                  <a:pt x="615" y="64"/>
                </a:lnTo>
                <a:close/>
              </a:path>
            </a:pathLst>
          </a:custGeom>
          <a:solidFill>
            <a:srgbClr val="44a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558880" y="458640"/>
            <a:ext cx="3729240" cy="3799080"/>
          </a:xfrm>
          <a:custGeom>
            <a:avLst/>
            <a:gdLst/>
            <a:ahLst/>
            <a:rect l="l" t="t" r="r" b="b"/>
            <a:pathLst>
              <a:path w="2349" h="2393">
                <a:moveTo>
                  <a:pt x="601" y="56"/>
                </a:moveTo>
                <a:lnTo>
                  <a:pt x="510" y="76"/>
                </a:lnTo>
                <a:lnTo>
                  <a:pt x="421" y="106"/>
                </a:lnTo>
                <a:lnTo>
                  <a:pt x="339" y="142"/>
                </a:lnTo>
                <a:lnTo>
                  <a:pt x="262" y="186"/>
                </a:lnTo>
                <a:lnTo>
                  <a:pt x="193" y="238"/>
                </a:lnTo>
                <a:lnTo>
                  <a:pt x="132" y="294"/>
                </a:lnTo>
                <a:lnTo>
                  <a:pt x="80" y="356"/>
                </a:lnTo>
                <a:lnTo>
                  <a:pt x="41" y="421"/>
                </a:lnTo>
                <a:lnTo>
                  <a:pt x="13" y="491"/>
                </a:lnTo>
                <a:lnTo>
                  <a:pt x="0" y="565"/>
                </a:lnTo>
                <a:lnTo>
                  <a:pt x="0" y="643"/>
                </a:lnTo>
                <a:lnTo>
                  <a:pt x="16" y="723"/>
                </a:lnTo>
                <a:lnTo>
                  <a:pt x="49" y="805"/>
                </a:lnTo>
                <a:lnTo>
                  <a:pt x="99" y="887"/>
                </a:lnTo>
                <a:lnTo>
                  <a:pt x="171" y="971"/>
                </a:lnTo>
                <a:lnTo>
                  <a:pt x="264" y="1055"/>
                </a:lnTo>
                <a:lnTo>
                  <a:pt x="303" y="1107"/>
                </a:lnTo>
                <a:lnTo>
                  <a:pt x="344" y="1161"/>
                </a:lnTo>
                <a:lnTo>
                  <a:pt x="388" y="1213"/>
                </a:lnTo>
                <a:lnTo>
                  <a:pt x="435" y="1269"/>
                </a:lnTo>
                <a:lnTo>
                  <a:pt x="482" y="1325"/>
                </a:lnTo>
                <a:lnTo>
                  <a:pt x="535" y="1380"/>
                </a:lnTo>
                <a:lnTo>
                  <a:pt x="590" y="1438"/>
                </a:lnTo>
                <a:lnTo>
                  <a:pt x="645" y="1496"/>
                </a:lnTo>
                <a:lnTo>
                  <a:pt x="661" y="1516"/>
                </a:lnTo>
                <a:lnTo>
                  <a:pt x="675" y="1536"/>
                </a:lnTo>
                <a:lnTo>
                  <a:pt x="692" y="1556"/>
                </a:lnTo>
                <a:lnTo>
                  <a:pt x="705" y="1576"/>
                </a:lnTo>
                <a:lnTo>
                  <a:pt x="719" y="1598"/>
                </a:lnTo>
                <a:lnTo>
                  <a:pt x="736" y="1618"/>
                </a:lnTo>
                <a:lnTo>
                  <a:pt x="750" y="1638"/>
                </a:lnTo>
                <a:lnTo>
                  <a:pt x="766" y="1658"/>
                </a:lnTo>
                <a:lnTo>
                  <a:pt x="774" y="1722"/>
                </a:lnTo>
                <a:lnTo>
                  <a:pt x="783" y="1786"/>
                </a:lnTo>
                <a:lnTo>
                  <a:pt x="791" y="1850"/>
                </a:lnTo>
                <a:lnTo>
                  <a:pt x="799" y="1914"/>
                </a:lnTo>
                <a:lnTo>
                  <a:pt x="802" y="1948"/>
                </a:lnTo>
                <a:lnTo>
                  <a:pt x="805" y="1982"/>
                </a:lnTo>
                <a:lnTo>
                  <a:pt x="805" y="2014"/>
                </a:lnTo>
                <a:lnTo>
                  <a:pt x="807" y="2048"/>
                </a:lnTo>
                <a:lnTo>
                  <a:pt x="816" y="2110"/>
                </a:lnTo>
                <a:lnTo>
                  <a:pt x="824" y="2174"/>
                </a:lnTo>
                <a:lnTo>
                  <a:pt x="832" y="2236"/>
                </a:lnTo>
                <a:lnTo>
                  <a:pt x="841" y="2300"/>
                </a:lnTo>
                <a:lnTo>
                  <a:pt x="885" y="2316"/>
                </a:lnTo>
                <a:lnTo>
                  <a:pt x="926" y="2330"/>
                </a:lnTo>
                <a:lnTo>
                  <a:pt x="965" y="2342"/>
                </a:lnTo>
                <a:lnTo>
                  <a:pt x="1000" y="2354"/>
                </a:lnTo>
                <a:lnTo>
                  <a:pt x="1034" y="2364"/>
                </a:lnTo>
                <a:lnTo>
                  <a:pt x="1064" y="2371"/>
                </a:lnTo>
                <a:lnTo>
                  <a:pt x="1094" y="2377"/>
                </a:lnTo>
                <a:lnTo>
                  <a:pt x="1122" y="2383"/>
                </a:lnTo>
                <a:lnTo>
                  <a:pt x="1149" y="2387"/>
                </a:lnTo>
                <a:lnTo>
                  <a:pt x="1177" y="2389"/>
                </a:lnTo>
                <a:lnTo>
                  <a:pt x="1207" y="2391"/>
                </a:lnTo>
                <a:lnTo>
                  <a:pt x="1238" y="2393"/>
                </a:lnTo>
                <a:lnTo>
                  <a:pt x="1271" y="2393"/>
                </a:lnTo>
                <a:lnTo>
                  <a:pt x="1304" y="2391"/>
                </a:lnTo>
                <a:lnTo>
                  <a:pt x="1342" y="2389"/>
                </a:lnTo>
                <a:lnTo>
                  <a:pt x="1384" y="2387"/>
                </a:lnTo>
                <a:lnTo>
                  <a:pt x="1417" y="2352"/>
                </a:lnTo>
                <a:lnTo>
                  <a:pt x="1450" y="2318"/>
                </a:lnTo>
                <a:lnTo>
                  <a:pt x="1483" y="2282"/>
                </a:lnTo>
                <a:lnTo>
                  <a:pt x="1516" y="2246"/>
                </a:lnTo>
                <a:lnTo>
                  <a:pt x="1549" y="2212"/>
                </a:lnTo>
                <a:lnTo>
                  <a:pt x="1582" y="2176"/>
                </a:lnTo>
                <a:lnTo>
                  <a:pt x="1615" y="2142"/>
                </a:lnTo>
                <a:lnTo>
                  <a:pt x="1648" y="2106"/>
                </a:lnTo>
                <a:lnTo>
                  <a:pt x="1668" y="2028"/>
                </a:lnTo>
                <a:lnTo>
                  <a:pt x="1687" y="1950"/>
                </a:lnTo>
                <a:lnTo>
                  <a:pt x="1704" y="1872"/>
                </a:lnTo>
                <a:lnTo>
                  <a:pt x="1723" y="1792"/>
                </a:lnTo>
                <a:lnTo>
                  <a:pt x="1742" y="1754"/>
                </a:lnTo>
                <a:lnTo>
                  <a:pt x="1759" y="1716"/>
                </a:lnTo>
                <a:lnTo>
                  <a:pt x="1775" y="1680"/>
                </a:lnTo>
                <a:lnTo>
                  <a:pt x="1795" y="1642"/>
                </a:lnTo>
                <a:lnTo>
                  <a:pt x="1806" y="1622"/>
                </a:lnTo>
                <a:lnTo>
                  <a:pt x="1819" y="1602"/>
                </a:lnTo>
                <a:lnTo>
                  <a:pt x="1836" y="1582"/>
                </a:lnTo>
                <a:lnTo>
                  <a:pt x="1852" y="1562"/>
                </a:lnTo>
                <a:lnTo>
                  <a:pt x="1872" y="1544"/>
                </a:lnTo>
                <a:lnTo>
                  <a:pt x="1888" y="1524"/>
                </a:lnTo>
                <a:lnTo>
                  <a:pt x="1910" y="1506"/>
                </a:lnTo>
                <a:lnTo>
                  <a:pt x="1930" y="1488"/>
                </a:lnTo>
                <a:lnTo>
                  <a:pt x="1968" y="1454"/>
                </a:lnTo>
                <a:lnTo>
                  <a:pt x="2007" y="1414"/>
                </a:lnTo>
                <a:lnTo>
                  <a:pt x="2051" y="1371"/>
                </a:lnTo>
                <a:lnTo>
                  <a:pt x="2092" y="1319"/>
                </a:lnTo>
                <a:lnTo>
                  <a:pt x="2134" y="1263"/>
                </a:lnTo>
                <a:lnTo>
                  <a:pt x="2175" y="1203"/>
                </a:lnTo>
                <a:lnTo>
                  <a:pt x="2214" y="1139"/>
                </a:lnTo>
                <a:lnTo>
                  <a:pt x="2250" y="1071"/>
                </a:lnTo>
                <a:lnTo>
                  <a:pt x="2280" y="999"/>
                </a:lnTo>
                <a:lnTo>
                  <a:pt x="2307" y="927"/>
                </a:lnTo>
                <a:lnTo>
                  <a:pt x="2327" y="851"/>
                </a:lnTo>
                <a:lnTo>
                  <a:pt x="2343" y="773"/>
                </a:lnTo>
                <a:lnTo>
                  <a:pt x="2349" y="695"/>
                </a:lnTo>
                <a:lnTo>
                  <a:pt x="2349" y="617"/>
                </a:lnTo>
                <a:lnTo>
                  <a:pt x="2338" y="539"/>
                </a:lnTo>
                <a:lnTo>
                  <a:pt x="2316" y="461"/>
                </a:lnTo>
                <a:lnTo>
                  <a:pt x="2299" y="378"/>
                </a:lnTo>
                <a:lnTo>
                  <a:pt x="2255" y="304"/>
                </a:lnTo>
                <a:lnTo>
                  <a:pt x="2189" y="238"/>
                </a:lnTo>
                <a:lnTo>
                  <a:pt x="2101" y="182"/>
                </a:lnTo>
                <a:lnTo>
                  <a:pt x="1996" y="134"/>
                </a:lnTo>
                <a:lnTo>
                  <a:pt x="1877" y="92"/>
                </a:lnTo>
                <a:lnTo>
                  <a:pt x="1748" y="60"/>
                </a:lnTo>
                <a:lnTo>
                  <a:pt x="1610" y="34"/>
                </a:lnTo>
                <a:lnTo>
                  <a:pt x="1466" y="16"/>
                </a:lnTo>
                <a:lnTo>
                  <a:pt x="1323" y="4"/>
                </a:lnTo>
                <a:lnTo>
                  <a:pt x="1180" y="0"/>
                </a:lnTo>
                <a:lnTo>
                  <a:pt x="1042" y="0"/>
                </a:lnTo>
                <a:lnTo>
                  <a:pt x="912" y="6"/>
                </a:lnTo>
                <a:lnTo>
                  <a:pt x="794" y="18"/>
                </a:lnTo>
                <a:lnTo>
                  <a:pt x="689" y="34"/>
                </a:lnTo>
                <a:lnTo>
                  <a:pt x="601" y="56"/>
                </a:lnTo>
                <a:close/>
              </a:path>
            </a:pathLst>
          </a:custGeom>
          <a:solidFill>
            <a:srgbClr val="54a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58960" y="474840"/>
            <a:ext cx="3654360" cy="3730320"/>
          </a:xfrm>
          <a:custGeom>
            <a:avLst/>
            <a:gdLst/>
            <a:ahLst/>
            <a:rect l="l" t="t" r="r" b="b"/>
            <a:pathLst>
              <a:path w="2302" h="2350">
                <a:moveTo>
                  <a:pt x="596" y="52"/>
                </a:moveTo>
                <a:lnTo>
                  <a:pt x="507" y="72"/>
                </a:lnTo>
                <a:lnTo>
                  <a:pt x="422" y="100"/>
                </a:lnTo>
                <a:lnTo>
                  <a:pt x="342" y="136"/>
                </a:lnTo>
                <a:lnTo>
                  <a:pt x="267" y="176"/>
                </a:lnTo>
                <a:lnTo>
                  <a:pt x="201" y="224"/>
                </a:lnTo>
                <a:lnTo>
                  <a:pt x="141" y="276"/>
                </a:lnTo>
                <a:lnTo>
                  <a:pt x="91" y="334"/>
                </a:lnTo>
                <a:lnTo>
                  <a:pt x="50" y="395"/>
                </a:lnTo>
                <a:lnTo>
                  <a:pt x="22" y="461"/>
                </a:lnTo>
                <a:lnTo>
                  <a:pt x="3" y="531"/>
                </a:lnTo>
                <a:lnTo>
                  <a:pt x="0" y="603"/>
                </a:lnTo>
                <a:lnTo>
                  <a:pt x="11" y="677"/>
                </a:lnTo>
                <a:lnTo>
                  <a:pt x="39" y="755"/>
                </a:lnTo>
                <a:lnTo>
                  <a:pt x="83" y="831"/>
                </a:lnTo>
                <a:lnTo>
                  <a:pt x="146" y="911"/>
                </a:lnTo>
                <a:lnTo>
                  <a:pt x="226" y="989"/>
                </a:lnTo>
                <a:lnTo>
                  <a:pt x="259" y="1043"/>
                </a:lnTo>
                <a:lnTo>
                  <a:pt x="295" y="1099"/>
                </a:lnTo>
                <a:lnTo>
                  <a:pt x="331" y="1155"/>
                </a:lnTo>
                <a:lnTo>
                  <a:pt x="375" y="1213"/>
                </a:lnTo>
                <a:lnTo>
                  <a:pt x="419" y="1273"/>
                </a:lnTo>
                <a:lnTo>
                  <a:pt x="469" y="1335"/>
                </a:lnTo>
                <a:lnTo>
                  <a:pt x="521" y="1398"/>
                </a:lnTo>
                <a:lnTo>
                  <a:pt x="579" y="1462"/>
                </a:lnTo>
                <a:lnTo>
                  <a:pt x="596" y="1482"/>
                </a:lnTo>
                <a:lnTo>
                  <a:pt x="609" y="1504"/>
                </a:lnTo>
                <a:lnTo>
                  <a:pt x="626" y="1524"/>
                </a:lnTo>
                <a:lnTo>
                  <a:pt x="642" y="1546"/>
                </a:lnTo>
                <a:lnTo>
                  <a:pt x="659" y="1566"/>
                </a:lnTo>
                <a:lnTo>
                  <a:pt x="676" y="1588"/>
                </a:lnTo>
                <a:lnTo>
                  <a:pt x="689" y="1608"/>
                </a:lnTo>
                <a:lnTo>
                  <a:pt x="706" y="1630"/>
                </a:lnTo>
                <a:lnTo>
                  <a:pt x="714" y="1692"/>
                </a:lnTo>
                <a:lnTo>
                  <a:pt x="725" y="1752"/>
                </a:lnTo>
                <a:lnTo>
                  <a:pt x="733" y="1814"/>
                </a:lnTo>
                <a:lnTo>
                  <a:pt x="742" y="1876"/>
                </a:lnTo>
                <a:lnTo>
                  <a:pt x="744" y="1914"/>
                </a:lnTo>
                <a:lnTo>
                  <a:pt x="747" y="1950"/>
                </a:lnTo>
                <a:lnTo>
                  <a:pt x="747" y="1988"/>
                </a:lnTo>
                <a:lnTo>
                  <a:pt x="750" y="2024"/>
                </a:lnTo>
                <a:lnTo>
                  <a:pt x="758" y="2084"/>
                </a:lnTo>
                <a:lnTo>
                  <a:pt x="767" y="2142"/>
                </a:lnTo>
                <a:lnTo>
                  <a:pt x="775" y="2202"/>
                </a:lnTo>
                <a:lnTo>
                  <a:pt x="783" y="2260"/>
                </a:lnTo>
                <a:lnTo>
                  <a:pt x="830" y="2274"/>
                </a:lnTo>
                <a:lnTo>
                  <a:pt x="871" y="2288"/>
                </a:lnTo>
                <a:lnTo>
                  <a:pt x="910" y="2300"/>
                </a:lnTo>
                <a:lnTo>
                  <a:pt x="946" y="2310"/>
                </a:lnTo>
                <a:lnTo>
                  <a:pt x="982" y="2320"/>
                </a:lnTo>
                <a:lnTo>
                  <a:pt x="1015" y="2326"/>
                </a:lnTo>
                <a:lnTo>
                  <a:pt x="1045" y="2334"/>
                </a:lnTo>
                <a:lnTo>
                  <a:pt x="1075" y="2338"/>
                </a:lnTo>
                <a:lnTo>
                  <a:pt x="1106" y="2344"/>
                </a:lnTo>
                <a:lnTo>
                  <a:pt x="1136" y="2346"/>
                </a:lnTo>
                <a:lnTo>
                  <a:pt x="1166" y="2348"/>
                </a:lnTo>
                <a:lnTo>
                  <a:pt x="1199" y="2350"/>
                </a:lnTo>
                <a:lnTo>
                  <a:pt x="1233" y="2350"/>
                </a:lnTo>
                <a:lnTo>
                  <a:pt x="1268" y="2350"/>
                </a:lnTo>
                <a:lnTo>
                  <a:pt x="1307" y="2348"/>
                </a:lnTo>
                <a:lnTo>
                  <a:pt x="1348" y="2346"/>
                </a:lnTo>
                <a:lnTo>
                  <a:pt x="1379" y="2314"/>
                </a:lnTo>
                <a:lnTo>
                  <a:pt x="1409" y="2282"/>
                </a:lnTo>
                <a:lnTo>
                  <a:pt x="1439" y="2248"/>
                </a:lnTo>
                <a:lnTo>
                  <a:pt x="1470" y="2216"/>
                </a:lnTo>
                <a:lnTo>
                  <a:pt x="1500" y="2184"/>
                </a:lnTo>
                <a:lnTo>
                  <a:pt x="1530" y="2150"/>
                </a:lnTo>
                <a:lnTo>
                  <a:pt x="1561" y="2118"/>
                </a:lnTo>
                <a:lnTo>
                  <a:pt x="1591" y="2086"/>
                </a:lnTo>
                <a:lnTo>
                  <a:pt x="1610" y="2010"/>
                </a:lnTo>
                <a:lnTo>
                  <a:pt x="1630" y="1932"/>
                </a:lnTo>
                <a:lnTo>
                  <a:pt x="1649" y="1856"/>
                </a:lnTo>
                <a:lnTo>
                  <a:pt x="1668" y="1780"/>
                </a:lnTo>
                <a:lnTo>
                  <a:pt x="1685" y="1742"/>
                </a:lnTo>
                <a:lnTo>
                  <a:pt x="1704" y="1704"/>
                </a:lnTo>
                <a:lnTo>
                  <a:pt x="1721" y="1668"/>
                </a:lnTo>
                <a:lnTo>
                  <a:pt x="1740" y="1630"/>
                </a:lnTo>
                <a:lnTo>
                  <a:pt x="1754" y="1610"/>
                </a:lnTo>
                <a:lnTo>
                  <a:pt x="1767" y="1590"/>
                </a:lnTo>
                <a:lnTo>
                  <a:pt x="1784" y="1570"/>
                </a:lnTo>
                <a:lnTo>
                  <a:pt x="1801" y="1550"/>
                </a:lnTo>
                <a:lnTo>
                  <a:pt x="1820" y="1532"/>
                </a:lnTo>
                <a:lnTo>
                  <a:pt x="1839" y="1512"/>
                </a:lnTo>
                <a:lnTo>
                  <a:pt x="1858" y="1494"/>
                </a:lnTo>
                <a:lnTo>
                  <a:pt x="1880" y="1476"/>
                </a:lnTo>
                <a:lnTo>
                  <a:pt x="1919" y="1444"/>
                </a:lnTo>
                <a:lnTo>
                  <a:pt x="1958" y="1406"/>
                </a:lnTo>
                <a:lnTo>
                  <a:pt x="1999" y="1361"/>
                </a:lnTo>
                <a:lnTo>
                  <a:pt x="2040" y="1313"/>
                </a:lnTo>
                <a:lnTo>
                  <a:pt x="2085" y="1259"/>
                </a:lnTo>
                <a:lnTo>
                  <a:pt x="2123" y="1199"/>
                </a:lnTo>
                <a:lnTo>
                  <a:pt x="2162" y="1137"/>
                </a:lnTo>
                <a:lnTo>
                  <a:pt x="2198" y="1071"/>
                </a:lnTo>
                <a:lnTo>
                  <a:pt x="2231" y="1003"/>
                </a:lnTo>
                <a:lnTo>
                  <a:pt x="2258" y="931"/>
                </a:lnTo>
                <a:lnTo>
                  <a:pt x="2278" y="857"/>
                </a:lnTo>
                <a:lnTo>
                  <a:pt x="2294" y="781"/>
                </a:lnTo>
                <a:lnTo>
                  <a:pt x="2302" y="705"/>
                </a:lnTo>
                <a:lnTo>
                  <a:pt x="2302" y="627"/>
                </a:lnTo>
                <a:lnTo>
                  <a:pt x="2291" y="549"/>
                </a:lnTo>
                <a:lnTo>
                  <a:pt x="2272" y="471"/>
                </a:lnTo>
                <a:lnTo>
                  <a:pt x="2255" y="387"/>
                </a:lnTo>
                <a:lnTo>
                  <a:pt x="2211" y="314"/>
                </a:lnTo>
                <a:lnTo>
                  <a:pt x="2145" y="248"/>
                </a:lnTo>
                <a:lnTo>
                  <a:pt x="2062" y="192"/>
                </a:lnTo>
                <a:lnTo>
                  <a:pt x="1960" y="142"/>
                </a:lnTo>
                <a:lnTo>
                  <a:pt x="1845" y="100"/>
                </a:lnTo>
                <a:lnTo>
                  <a:pt x="1718" y="68"/>
                </a:lnTo>
                <a:lnTo>
                  <a:pt x="1585" y="40"/>
                </a:lnTo>
                <a:lnTo>
                  <a:pt x="1448" y="22"/>
                </a:lnTo>
                <a:lnTo>
                  <a:pt x="1307" y="8"/>
                </a:lnTo>
                <a:lnTo>
                  <a:pt x="1166" y="2"/>
                </a:lnTo>
                <a:lnTo>
                  <a:pt x="1034" y="0"/>
                </a:lnTo>
                <a:lnTo>
                  <a:pt x="904" y="6"/>
                </a:lnTo>
                <a:lnTo>
                  <a:pt x="789" y="16"/>
                </a:lnTo>
                <a:lnTo>
                  <a:pt x="684" y="32"/>
                </a:lnTo>
                <a:lnTo>
                  <a:pt x="596" y="52"/>
                </a:lnTo>
                <a:close/>
              </a:path>
            </a:pathLst>
          </a:custGeom>
          <a:solidFill>
            <a:srgbClr val="66a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763720" y="493560"/>
            <a:ext cx="3581640" cy="3657600"/>
          </a:xfrm>
          <a:custGeom>
            <a:avLst/>
            <a:gdLst/>
            <a:ahLst/>
            <a:rect l="l" t="t" r="r" b="b"/>
            <a:pathLst>
              <a:path w="2256" h="2304">
                <a:moveTo>
                  <a:pt x="585" y="48"/>
                </a:moveTo>
                <a:lnTo>
                  <a:pt x="502" y="68"/>
                </a:lnTo>
                <a:lnTo>
                  <a:pt x="419" y="94"/>
                </a:lnTo>
                <a:lnTo>
                  <a:pt x="342" y="126"/>
                </a:lnTo>
                <a:lnTo>
                  <a:pt x="270" y="164"/>
                </a:lnTo>
                <a:lnTo>
                  <a:pt x="207" y="208"/>
                </a:lnTo>
                <a:lnTo>
                  <a:pt x="149" y="258"/>
                </a:lnTo>
                <a:lnTo>
                  <a:pt x="97" y="312"/>
                </a:lnTo>
                <a:lnTo>
                  <a:pt x="58" y="367"/>
                </a:lnTo>
                <a:lnTo>
                  <a:pt x="28" y="429"/>
                </a:lnTo>
                <a:lnTo>
                  <a:pt x="8" y="493"/>
                </a:lnTo>
                <a:lnTo>
                  <a:pt x="0" y="561"/>
                </a:lnTo>
                <a:lnTo>
                  <a:pt x="6" y="631"/>
                </a:lnTo>
                <a:lnTo>
                  <a:pt x="28" y="701"/>
                </a:lnTo>
                <a:lnTo>
                  <a:pt x="64" y="773"/>
                </a:lnTo>
                <a:lnTo>
                  <a:pt x="116" y="847"/>
                </a:lnTo>
                <a:lnTo>
                  <a:pt x="185" y="921"/>
                </a:lnTo>
                <a:lnTo>
                  <a:pt x="210" y="977"/>
                </a:lnTo>
                <a:lnTo>
                  <a:pt x="237" y="1035"/>
                </a:lnTo>
                <a:lnTo>
                  <a:pt x="270" y="1095"/>
                </a:lnTo>
                <a:lnTo>
                  <a:pt x="309" y="1157"/>
                </a:lnTo>
                <a:lnTo>
                  <a:pt x="350" y="1221"/>
                </a:lnTo>
                <a:lnTo>
                  <a:pt x="397" y="1287"/>
                </a:lnTo>
                <a:lnTo>
                  <a:pt x="452" y="1354"/>
                </a:lnTo>
                <a:lnTo>
                  <a:pt x="510" y="1424"/>
                </a:lnTo>
                <a:lnTo>
                  <a:pt x="527" y="1446"/>
                </a:lnTo>
                <a:lnTo>
                  <a:pt x="543" y="1468"/>
                </a:lnTo>
                <a:lnTo>
                  <a:pt x="560" y="1490"/>
                </a:lnTo>
                <a:lnTo>
                  <a:pt x="576" y="1512"/>
                </a:lnTo>
                <a:lnTo>
                  <a:pt x="593" y="1536"/>
                </a:lnTo>
                <a:lnTo>
                  <a:pt x="610" y="1558"/>
                </a:lnTo>
                <a:lnTo>
                  <a:pt x="626" y="1580"/>
                </a:lnTo>
                <a:lnTo>
                  <a:pt x="643" y="1602"/>
                </a:lnTo>
                <a:lnTo>
                  <a:pt x="654" y="1660"/>
                </a:lnTo>
                <a:lnTo>
                  <a:pt x="662" y="1718"/>
                </a:lnTo>
                <a:lnTo>
                  <a:pt x="673" y="1778"/>
                </a:lnTo>
                <a:lnTo>
                  <a:pt x="681" y="1836"/>
                </a:lnTo>
                <a:lnTo>
                  <a:pt x="684" y="1876"/>
                </a:lnTo>
                <a:lnTo>
                  <a:pt x="687" y="1918"/>
                </a:lnTo>
                <a:lnTo>
                  <a:pt x="687" y="1960"/>
                </a:lnTo>
                <a:lnTo>
                  <a:pt x="690" y="2000"/>
                </a:lnTo>
                <a:lnTo>
                  <a:pt x="701" y="2054"/>
                </a:lnTo>
                <a:lnTo>
                  <a:pt x="709" y="2108"/>
                </a:lnTo>
                <a:lnTo>
                  <a:pt x="717" y="2164"/>
                </a:lnTo>
                <a:lnTo>
                  <a:pt x="725" y="2218"/>
                </a:lnTo>
                <a:lnTo>
                  <a:pt x="772" y="2232"/>
                </a:lnTo>
                <a:lnTo>
                  <a:pt x="814" y="2244"/>
                </a:lnTo>
                <a:lnTo>
                  <a:pt x="852" y="2254"/>
                </a:lnTo>
                <a:lnTo>
                  <a:pt x="891" y="2264"/>
                </a:lnTo>
                <a:lnTo>
                  <a:pt x="927" y="2274"/>
                </a:lnTo>
                <a:lnTo>
                  <a:pt x="960" y="2280"/>
                </a:lnTo>
                <a:lnTo>
                  <a:pt x="993" y="2286"/>
                </a:lnTo>
                <a:lnTo>
                  <a:pt x="1026" y="2292"/>
                </a:lnTo>
                <a:lnTo>
                  <a:pt x="1056" y="2296"/>
                </a:lnTo>
                <a:lnTo>
                  <a:pt x="1089" y="2300"/>
                </a:lnTo>
                <a:lnTo>
                  <a:pt x="1122" y="2302"/>
                </a:lnTo>
                <a:lnTo>
                  <a:pt x="1155" y="2304"/>
                </a:lnTo>
                <a:lnTo>
                  <a:pt x="1191" y="2304"/>
                </a:lnTo>
                <a:lnTo>
                  <a:pt x="1227" y="2304"/>
                </a:lnTo>
                <a:lnTo>
                  <a:pt x="1269" y="2304"/>
                </a:lnTo>
                <a:lnTo>
                  <a:pt x="1310" y="2302"/>
                </a:lnTo>
                <a:lnTo>
                  <a:pt x="1337" y="2272"/>
                </a:lnTo>
                <a:lnTo>
                  <a:pt x="1365" y="2242"/>
                </a:lnTo>
                <a:lnTo>
                  <a:pt x="1393" y="2212"/>
                </a:lnTo>
                <a:lnTo>
                  <a:pt x="1423" y="2182"/>
                </a:lnTo>
                <a:lnTo>
                  <a:pt x="1451" y="2154"/>
                </a:lnTo>
                <a:lnTo>
                  <a:pt x="1478" y="2124"/>
                </a:lnTo>
                <a:lnTo>
                  <a:pt x="1506" y="2094"/>
                </a:lnTo>
                <a:lnTo>
                  <a:pt x="1533" y="2064"/>
                </a:lnTo>
                <a:lnTo>
                  <a:pt x="1553" y="1988"/>
                </a:lnTo>
                <a:lnTo>
                  <a:pt x="1572" y="1914"/>
                </a:lnTo>
                <a:lnTo>
                  <a:pt x="1588" y="1838"/>
                </a:lnTo>
                <a:lnTo>
                  <a:pt x="1608" y="1764"/>
                </a:lnTo>
                <a:lnTo>
                  <a:pt x="1627" y="1726"/>
                </a:lnTo>
                <a:lnTo>
                  <a:pt x="1646" y="1690"/>
                </a:lnTo>
                <a:lnTo>
                  <a:pt x="1663" y="1654"/>
                </a:lnTo>
                <a:lnTo>
                  <a:pt x="1682" y="1616"/>
                </a:lnTo>
                <a:lnTo>
                  <a:pt x="1696" y="1596"/>
                </a:lnTo>
                <a:lnTo>
                  <a:pt x="1712" y="1576"/>
                </a:lnTo>
                <a:lnTo>
                  <a:pt x="1729" y="1556"/>
                </a:lnTo>
                <a:lnTo>
                  <a:pt x="1746" y="1538"/>
                </a:lnTo>
                <a:lnTo>
                  <a:pt x="1765" y="1518"/>
                </a:lnTo>
                <a:lnTo>
                  <a:pt x="1784" y="1500"/>
                </a:lnTo>
                <a:lnTo>
                  <a:pt x="1806" y="1482"/>
                </a:lnTo>
                <a:lnTo>
                  <a:pt x="1825" y="1464"/>
                </a:lnTo>
                <a:lnTo>
                  <a:pt x="1864" y="1432"/>
                </a:lnTo>
                <a:lnTo>
                  <a:pt x="1903" y="1394"/>
                </a:lnTo>
                <a:lnTo>
                  <a:pt x="1944" y="1352"/>
                </a:lnTo>
                <a:lnTo>
                  <a:pt x="1988" y="1305"/>
                </a:lnTo>
                <a:lnTo>
                  <a:pt x="2030" y="1253"/>
                </a:lnTo>
                <a:lnTo>
                  <a:pt x="2071" y="1195"/>
                </a:lnTo>
                <a:lnTo>
                  <a:pt x="2109" y="1135"/>
                </a:lnTo>
                <a:lnTo>
                  <a:pt x="2145" y="1071"/>
                </a:lnTo>
                <a:lnTo>
                  <a:pt x="2178" y="1005"/>
                </a:lnTo>
                <a:lnTo>
                  <a:pt x="2206" y="935"/>
                </a:lnTo>
                <a:lnTo>
                  <a:pt x="2228" y="863"/>
                </a:lnTo>
                <a:lnTo>
                  <a:pt x="2245" y="789"/>
                </a:lnTo>
                <a:lnTo>
                  <a:pt x="2253" y="713"/>
                </a:lnTo>
                <a:lnTo>
                  <a:pt x="2256" y="637"/>
                </a:lnTo>
                <a:lnTo>
                  <a:pt x="2247" y="559"/>
                </a:lnTo>
                <a:lnTo>
                  <a:pt x="2228" y="481"/>
                </a:lnTo>
                <a:lnTo>
                  <a:pt x="2209" y="397"/>
                </a:lnTo>
                <a:lnTo>
                  <a:pt x="2165" y="324"/>
                </a:lnTo>
                <a:lnTo>
                  <a:pt x="2101" y="258"/>
                </a:lnTo>
                <a:lnTo>
                  <a:pt x="2019" y="200"/>
                </a:lnTo>
                <a:lnTo>
                  <a:pt x="1919" y="150"/>
                </a:lnTo>
                <a:lnTo>
                  <a:pt x="1806" y="108"/>
                </a:lnTo>
                <a:lnTo>
                  <a:pt x="1685" y="72"/>
                </a:lnTo>
                <a:lnTo>
                  <a:pt x="1555" y="46"/>
                </a:lnTo>
                <a:lnTo>
                  <a:pt x="1420" y="24"/>
                </a:lnTo>
                <a:lnTo>
                  <a:pt x="1285" y="10"/>
                </a:lnTo>
                <a:lnTo>
                  <a:pt x="1150" y="2"/>
                </a:lnTo>
                <a:lnTo>
                  <a:pt x="1018" y="0"/>
                </a:lnTo>
                <a:lnTo>
                  <a:pt x="894" y="4"/>
                </a:lnTo>
                <a:lnTo>
                  <a:pt x="778" y="14"/>
                </a:lnTo>
                <a:lnTo>
                  <a:pt x="673" y="28"/>
                </a:lnTo>
                <a:lnTo>
                  <a:pt x="585" y="48"/>
                </a:lnTo>
                <a:close/>
              </a:path>
            </a:pathLst>
          </a:custGeom>
          <a:solidFill>
            <a:srgbClr val="77b2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868480" y="512640"/>
            <a:ext cx="3502080" cy="3584520"/>
          </a:xfrm>
          <a:custGeom>
            <a:avLst/>
            <a:gdLst/>
            <a:ahLst/>
            <a:rect l="l" t="t" r="r" b="b"/>
            <a:pathLst>
              <a:path w="2206" h="2258">
                <a:moveTo>
                  <a:pt x="574" y="42"/>
                </a:moveTo>
                <a:lnTo>
                  <a:pt x="494" y="60"/>
                </a:lnTo>
                <a:lnTo>
                  <a:pt x="417" y="84"/>
                </a:lnTo>
                <a:lnTo>
                  <a:pt x="342" y="116"/>
                </a:lnTo>
                <a:lnTo>
                  <a:pt x="273" y="150"/>
                </a:lnTo>
                <a:lnTo>
                  <a:pt x="210" y="192"/>
                </a:lnTo>
                <a:lnTo>
                  <a:pt x="152" y="238"/>
                </a:lnTo>
                <a:lnTo>
                  <a:pt x="105" y="286"/>
                </a:lnTo>
                <a:lnTo>
                  <a:pt x="64" y="340"/>
                </a:lnTo>
                <a:lnTo>
                  <a:pt x="31" y="397"/>
                </a:lnTo>
                <a:lnTo>
                  <a:pt x="9" y="455"/>
                </a:lnTo>
                <a:lnTo>
                  <a:pt x="0" y="519"/>
                </a:lnTo>
                <a:lnTo>
                  <a:pt x="0" y="583"/>
                </a:lnTo>
                <a:lnTo>
                  <a:pt x="14" y="649"/>
                </a:lnTo>
                <a:lnTo>
                  <a:pt x="42" y="717"/>
                </a:lnTo>
                <a:lnTo>
                  <a:pt x="86" y="785"/>
                </a:lnTo>
                <a:lnTo>
                  <a:pt x="144" y="855"/>
                </a:lnTo>
                <a:lnTo>
                  <a:pt x="160" y="913"/>
                </a:lnTo>
                <a:lnTo>
                  <a:pt x="182" y="973"/>
                </a:lnTo>
                <a:lnTo>
                  <a:pt x="210" y="1035"/>
                </a:lnTo>
                <a:lnTo>
                  <a:pt x="243" y="1101"/>
                </a:lnTo>
                <a:lnTo>
                  <a:pt x="284" y="1169"/>
                </a:lnTo>
                <a:lnTo>
                  <a:pt x="328" y="1239"/>
                </a:lnTo>
                <a:lnTo>
                  <a:pt x="381" y="1313"/>
                </a:lnTo>
                <a:lnTo>
                  <a:pt x="442" y="1388"/>
                </a:lnTo>
                <a:lnTo>
                  <a:pt x="458" y="1410"/>
                </a:lnTo>
                <a:lnTo>
                  <a:pt x="477" y="1434"/>
                </a:lnTo>
                <a:lnTo>
                  <a:pt x="494" y="1456"/>
                </a:lnTo>
                <a:lnTo>
                  <a:pt x="513" y="1480"/>
                </a:lnTo>
                <a:lnTo>
                  <a:pt x="530" y="1502"/>
                </a:lnTo>
                <a:lnTo>
                  <a:pt x="546" y="1526"/>
                </a:lnTo>
                <a:lnTo>
                  <a:pt x="566" y="1548"/>
                </a:lnTo>
                <a:lnTo>
                  <a:pt x="582" y="1572"/>
                </a:lnTo>
                <a:lnTo>
                  <a:pt x="593" y="1628"/>
                </a:lnTo>
                <a:lnTo>
                  <a:pt x="604" y="1684"/>
                </a:lnTo>
                <a:lnTo>
                  <a:pt x="612" y="1740"/>
                </a:lnTo>
                <a:lnTo>
                  <a:pt x="624" y="1796"/>
                </a:lnTo>
                <a:lnTo>
                  <a:pt x="626" y="1840"/>
                </a:lnTo>
                <a:lnTo>
                  <a:pt x="626" y="1884"/>
                </a:lnTo>
                <a:lnTo>
                  <a:pt x="629" y="1930"/>
                </a:lnTo>
                <a:lnTo>
                  <a:pt x="629" y="1974"/>
                </a:lnTo>
                <a:lnTo>
                  <a:pt x="640" y="2024"/>
                </a:lnTo>
                <a:lnTo>
                  <a:pt x="648" y="2074"/>
                </a:lnTo>
                <a:lnTo>
                  <a:pt x="657" y="2126"/>
                </a:lnTo>
                <a:lnTo>
                  <a:pt x="668" y="2176"/>
                </a:lnTo>
                <a:lnTo>
                  <a:pt x="714" y="2188"/>
                </a:lnTo>
                <a:lnTo>
                  <a:pt x="756" y="2200"/>
                </a:lnTo>
                <a:lnTo>
                  <a:pt x="797" y="2210"/>
                </a:lnTo>
                <a:lnTo>
                  <a:pt x="836" y="2218"/>
                </a:lnTo>
                <a:lnTo>
                  <a:pt x="872" y="2226"/>
                </a:lnTo>
                <a:lnTo>
                  <a:pt x="908" y="2234"/>
                </a:lnTo>
                <a:lnTo>
                  <a:pt x="941" y="2240"/>
                </a:lnTo>
                <a:lnTo>
                  <a:pt x="976" y="2244"/>
                </a:lnTo>
                <a:lnTo>
                  <a:pt x="1010" y="2250"/>
                </a:lnTo>
                <a:lnTo>
                  <a:pt x="1043" y="2252"/>
                </a:lnTo>
                <a:lnTo>
                  <a:pt x="1078" y="2256"/>
                </a:lnTo>
                <a:lnTo>
                  <a:pt x="1114" y="2258"/>
                </a:lnTo>
                <a:lnTo>
                  <a:pt x="1150" y="2258"/>
                </a:lnTo>
                <a:lnTo>
                  <a:pt x="1189" y="2258"/>
                </a:lnTo>
                <a:lnTo>
                  <a:pt x="1230" y="2258"/>
                </a:lnTo>
                <a:lnTo>
                  <a:pt x="1271" y="2258"/>
                </a:lnTo>
                <a:lnTo>
                  <a:pt x="1296" y="2230"/>
                </a:lnTo>
                <a:lnTo>
                  <a:pt x="1324" y="2204"/>
                </a:lnTo>
                <a:lnTo>
                  <a:pt x="1349" y="2176"/>
                </a:lnTo>
                <a:lnTo>
                  <a:pt x="1373" y="2150"/>
                </a:lnTo>
                <a:lnTo>
                  <a:pt x="1398" y="2122"/>
                </a:lnTo>
                <a:lnTo>
                  <a:pt x="1423" y="2096"/>
                </a:lnTo>
                <a:lnTo>
                  <a:pt x="1448" y="2068"/>
                </a:lnTo>
                <a:lnTo>
                  <a:pt x="1473" y="2042"/>
                </a:lnTo>
                <a:lnTo>
                  <a:pt x="1492" y="1968"/>
                </a:lnTo>
                <a:lnTo>
                  <a:pt x="1511" y="1896"/>
                </a:lnTo>
                <a:lnTo>
                  <a:pt x="1528" y="1824"/>
                </a:lnTo>
                <a:lnTo>
                  <a:pt x="1547" y="1750"/>
                </a:lnTo>
                <a:lnTo>
                  <a:pt x="1566" y="1712"/>
                </a:lnTo>
                <a:lnTo>
                  <a:pt x="1586" y="1674"/>
                </a:lnTo>
                <a:lnTo>
                  <a:pt x="1605" y="1638"/>
                </a:lnTo>
                <a:lnTo>
                  <a:pt x="1624" y="1600"/>
                </a:lnTo>
                <a:lnTo>
                  <a:pt x="1641" y="1580"/>
                </a:lnTo>
                <a:lnTo>
                  <a:pt x="1657" y="1562"/>
                </a:lnTo>
                <a:lnTo>
                  <a:pt x="1674" y="1542"/>
                </a:lnTo>
                <a:lnTo>
                  <a:pt x="1693" y="1524"/>
                </a:lnTo>
                <a:lnTo>
                  <a:pt x="1713" y="1504"/>
                </a:lnTo>
                <a:lnTo>
                  <a:pt x="1732" y="1486"/>
                </a:lnTo>
                <a:lnTo>
                  <a:pt x="1751" y="1466"/>
                </a:lnTo>
                <a:lnTo>
                  <a:pt x="1773" y="1448"/>
                </a:lnTo>
                <a:lnTo>
                  <a:pt x="1812" y="1418"/>
                </a:lnTo>
                <a:lnTo>
                  <a:pt x="1850" y="1382"/>
                </a:lnTo>
                <a:lnTo>
                  <a:pt x="1892" y="1340"/>
                </a:lnTo>
                <a:lnTo>
                  <a:pt x="1933" y="1295"/>
                </a:lnTo>
                <a:lnTo>
                  <a:pt x="1977" y="1245"/>
                </a:lnTo>
                <a:lnTo>
                  <a:pt x="2016" y="1191"/>
                </a:lnTo>
                <a:lnTo>
                  <a:pt x="2057" y="1133"/>
                </a:lnTo>
                <a:lnTo>
                  <a:pt x="2093" y="1071"/>
                </a:lnTo>
                <a:lnTo>
                  <a:pt x="2126" y="1005"/>
                </a:lnTo>
                <a:lnTo>
                  <a:pt x="2154" y="937"/>
                </a:lnTo>
                <a:lnTo>
                  <a:pt x="2179" y="867"/>
                </a:lnTo>
                <a:lnTo>
                  <a:pt x="2195" y="795"/>
                </a:lnTo>
                <a:lnTo>
                  <a:pt x="2203" y="721"/>
                </a:lnTo>
                <a:lnTo>
                  <a:pt x="2206" y="645"/>
                </a:lnTo>
                <a:lnTo>
                  <a:pt x="2198" y="567"/>
                </a:lnTo>
                <a:lnTo>
                  <a:pt x="2181" y="489"/>
                </a:lnTo>
                <a:lnTo>
                  <a:pt x="2162" y="405"/>
                </a:lnTo>
                <a:lnTo>
                  <a:pt x="2118" y="332"/>
                </a:lnTo>
                <a:lnTo>
                  <a:pt x="2055" y="266"/>
                </a:lnTo>
                <a:lnTo>
                  <a:pt x="1975" y="208"/>
                </a:lnTo>
                <a:lnTo>
                  <a:pt x="1878" y="156"/>
                </a:lnTo>
                <a:lnTo>
                  <a:pt x="1771" y="114"/>
                </a:lnTo>
                <a:lnTo>
                  <a:pt x="1652" y="78"/>
                </a:lnTo>
                <a:lnTo>
                  <a:pt x="1528" y="50"/>
                </a:lnTo>
                <a:lnTo>
                  <a:pt x="1396" y="28"/>
                </a:lnTo>
                <a:lnTo>
                  <a:pt x="1266" y="12"/>
                </a:lnTo>
                <a:lnTo>
                  <a:pt x="1134" y="2"/>
                </a:lnTo>
                <a:lnTo>
                  <a:pt x="1004" y="0"/>
                </a:lnTo>
                <a:lnTo>
                  <a:pt x="883" y="2"/>
                </a:lnTo>
                <a:lnTo>
                  <a:pt x="767" y="10"/>
                </a:lnTo>
                <a:lnTo>
                  <a:pt x="665" y="24"/>
                </a:lnTo>
                <a:lnTo>
                  <a:pt x="574" y="42"/>
                </a:lnTo>
                <a:close/>
              </a:path>
            </a:pathLst>
          </a:custGeom>
          <a:solidFill>
            <a:srgbClr val="87b5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965320" y="531720"/>
            <a:ext cx="3432240" cy="3514680"/>
          </a:xfrm>
          <a:custGeom>
            <a:avLst/>
            <a:gdLst/>
            <a:ahLst/>
            <a:rect l="l" t="t" r="r" b="b"/>
            <a:pathLst>
              <a:path w="2162" h="2214">
                <a:moveTo>
                  <a:pt x="571" y="38"/>
                </a:moveTo>
                <a:lnTo>
                  <a:pt x="494" y="56"/>
                </a:lnTo>
                <a:lnTo>
                  <a:pt x="419" y="78"/>
                </a:lnTo>
                <a:lnTo>
                  <a:pt x="347" y="106"/>
                </a:lnTo>
                <a:lnTo>
                  <a:pt x="281" y="140"/>
                </a:lnTo>
                <a:lnTo>
                  <a:pt x="221" y="178"/>
                </a:lnTo>
                <a:lnTo>
                  <a:pt x="165" y="220"/>
                </a:lnTo>
                <a:lnTo>
                  <a:pt x="116" y="264"/>
                </a:lnTo>
                <a:lnTo>
                  <a:pt x="74" y="314"/>
                </a:lnTo>
                <a:lnTo>
                  <a:pt x="41" y="365"/>
                </a:lnTo>
                <a:lnTo>
                  <a:pt x="17" y="419"/>
                </a:lnTo>
                <a:lnTo>
                  <a:pt x="3" y="477"/>
                </a:lnTo>
                <a:lnTo>
                  <a:pt x="0" y="537"/>
                </a:lnTo>
                <a:lnTo>
                  <a:pt x="8" y="597"/>
                </a:lnTo>
                <a:lnTo>
                  <a:pt x="28" y="659"/>
                </a:lnTo>
                <a:lnTo>
                  <a:pt x="61" y="723"/>
                </a:lnTo>
                <a:lnTo>
                  <a:pt x="108" y="787"/>
                </a:lnTo>
                <a:lnTo>
                  <a:pt x="116" y="847"/>
                </a:lnTo>
                <a:lnTo>
                  <a:pt x="132" y="909"/>
                </a:lnTo>
                <a:lnTo>
                  <a:pt x="154" y="975"/>
                </a:lnTo>
                <a:lnTo>
                  <a:pt x="185" y="1045"/>
                </a:lnTo>
                <a:lnTo>
                  <a:pt x="221" y="1117"/>
                </a:lnTo>
                <a:lnTo>
                  <a:pt x="265" y="1191"/>
                </a:lnTo>
                <a:lnTo>
                  <a:pt x="317" y="1269"/>
                </a:lnTo>
                <a:lnTo>
                  <a:pt x="378" y="1350"/>
                </a:lnTo>
                <a:lnTo>
                  <a:pt x="394" y="1374"/>
                </a:lnTo>
                <a:lnTo>
                  <a:pt x="414" y="1398"/>
                </a:lnTo>
                <a:lnTo>
                  <a:pt x="430" y="1422"/>
                </a:lnTo>
                <a:lnTo>
                  <a:pt x="449" y="1446"/>
                </a:lnTo>
                <a:lnTo>
                  <a:pt x="469" y="1472"/>
                </a:lnTo>
                <a:lnTo>
                  <a:pt x="488" y="1496"/>
                </a:lnTo>
                <a:lnTo>
                  <a:pt x="505" y="1520"/>
                </a:lnTo>
                <a:lnTo>
                  <a:pt x="524" y="1544"/>
                </a:lnTo>
                <a:lnTo>
                  <a:pt x="535" y="1596"/>
                </a:lnTo>
                <a:lnTo>
                  <a:pt x="546" y="1650"/>
                </a:lnTo>
                <a:lnTo>
                  <a:pt x="557" y="1704"/>
                </a:lnTo>
                <a:lnTo>
                  <a:pt x="568" y="1756"/>
                </a:lnTo>
                <a:lnTo>
                  <a:pt x="571" y="1804"/>
                </a:lnTo>
                <a:lnTo>
                  <a:pt x="571" y="1852"/>
                </a:lnTo>
                <a:lnTo>
                  <a:pt x="574" y="1900"/>
                </a:lnTo>
                <a:lnTo>
                  <a:pt x="574" y="1948"/>
                </a:lnTo>
                <a:lnTo>
                  <a:pt x="585" y="1994"/>
                </a:lnTo>
                <a:lnTo>
                  <a:pt x="593" y="2040"/>
                </a:lnTo>
                <a:lnTo>
                  <a:pt x="604" y="2088"/>
                </a:lnTo>
                <a:lnTo>
                  <a:pt x="612" y="2134"/>
                </a:lnTo>
                <a:lnTo>
                  <a:pt x="659" y="2146"/>
                </a:lnTo>
                <a:lnTo>
                  <a:pt x="703" y="2156"/>
                </a:lnTo>
                <a:lnTo>
                  <a:pt x="744" y="2164"/>
                </a:lnTo>
                <a:lnTo>
                  <a:pt x="783" y="2172"/>
                </a:lnTo>
                <a:lnTo>
                  <a:pt x="822" y="2180"/>
                </a:lnTo>
                <a:lnTo>
                  <a:pt x="860" y="2188"/>
                </a:lnTo>
                <a:lnTo>
                  <a:pt x="896" y="2192"/>
                </a:lnTo>
                <a:lnTo>
                  <a:pt x="932" y="2198"/>
                </a:lnTo>
                <a:lnTo>
                  <a:pt x="968" y="2202"/>
                </a:lnTo>
                <a:lnTo>
                  <a:pt x="1004" y="2206"/>
                </a:lnTo>
                <a:lnTo>
                  <a:pt x="1040" y="2208"/>
                </a:lnTo>
                <a:lnTo>
                  <a:pt x="1075" y="2212"/>
                </a:lnTo>
                <a:lnTo>
                  <a:pt x="1114" y="2212"/>
                </a:lnTo>
                <a:lnTo>
                  <a:pt x="1153" y="2214"/>
                </a:lnTo>
                <a:lnTo>
                  <a:pt x="1194" y="2214"/>
                </a:lnTo>
                <a:lnTo>
                  <a:pt x="1238" y="2214"/>
                </a:lnTo>
                <a:lnTo>
                  <a:pt x="1260" y="2190"/>
                </a:lnTo>
                <a:lnTo>
                  <a:pt x="1285" y="2166"/>
                </a:lnTo>
                <a:lnTo>
                  <a:pt x="1307" y="2142"/>
                </a:lnTo>
                <a:lnTo>
                  <a:pt x="1329" y="2118"/>
                </a:lnTo>
                <a:lnTo>
                  <a:pt x="1351" y="2094"/>
                </a:lnTo>
                <a:lnTo>
                  <a:pt x="1376" y="2070"/>
                </a:lnTo>
                <a:lnTo>
                  <a:pt x="1398" y="2044"/>
                </a:lnTo>
                <a:lnTo>
                  <a:pt x="1420" y="2020"/>
                </a:lnTo>
                <a:lnTo>
                  <a:pt x="1439" y="1950"/>
                </a:lnTo>
                <a:lnTo>
                  <a:pt x="1459" y="1878"/>
                </a:lnTo>
                <a:lnTo>
                  <a:pt x="1475" y="1806"/>
                </a:lnTo>
                <a:lnTo>
                  <a:pt x="1494" y="1734"/>
                </a:lnTo>
                <a:lnTo>
                  <a:pt x="1514" y="1696"/>
                </a:lnTo>
                <a:lnTo>
                  <a:pt x="1533" y="1660"/>
                </a:lnTo>
                <a:lnTo>
                  <a:pt x="1555" y="1624"/>
                </a:lnTo>
                <a:lnTo>
                  <a:pt x="1574" y="1586"/>
                </a:lnTo>
                <a:lnTo>
                  <a:pt x="1591" y="1566"/>
                </a:lnTo>
                <a:lnTo>
                  <a:pt x="1608" y="1548"/>
                </a:lnTo>
                <a:lnTo>
                  <a:pt x="1624" y="1528"/>
                </a:lnTo>
                <a:lnTo>
                  <a:pt x="1643" y="1510"/>
                </a:lnTo>
                <a:lnTo>
                  <a:pt x="1663" y="1492"/>
                </a:lnTo>
                <a:lnTo>
                  <a:pt x="1682" y="1474"/>
                </a:lnTo>
                <a:lnTo>
                  <a:pt x="1701" y="1454"/>
                </a:lnTo>
                <a:lnTo>
                  <a:pt x="1723" y="1436"/>
                </a:lnTo>
                <a:lnTo>
                  <a:pt x="1762" y="1406"/>
                </a:lnTo>
                <a:lnTo>
                  <a:pt x="1801" y="1370"/>
                </a:lnTo>
                <a:lnTo>
                  <a:pt x="1842" y="1332"/>
                </a:lnTo>
                <a:lnTo>
                  <a:pt x="1883" y="1287"/>
                </a:lnTo>
                <a:lnTo>
                  <a:pt x="1927" y="1239"/>
                </a:lnTo>
                <a:lnTo>
                  <a:pt x="1969" y="1187"/>
                </a:lnTo>
                <a:lnTo>
                  <a:pt x="2007" y="1129"/>
                </a:lnTo>
                <a:lnTo>
                  <a:pt x="2046" y="1069"/>
                </a:lnTo>
                <a:lnTo>
                  <a:pt x="2079" y="1007"/>
                </a:lnTo>
                <a:lnTo>
                  <a:pt x="2107" y="941"/>
                </a:lnTo>
                <a:lnTo>
                  <a:pt x="2131" y="873"/>
                </a:lnTo>
                <a:lnTo>
                  <a:pt x="2148" y="801"/>
                </a:lnTo>
                <a:lnTo>
                  <a:pt x="2159" y="729"/>
                </a:lnTo>
                <a:lnTo>
                  <a:pt x="2162" y="653"/>
                </a:lnTo>
                <a:lnTo>
                  <a:pt x="2156" y="577"/>
                </a:lnTo>
                <a:lnTo>
                  <a:pt x="2142" y="499"/>
                </a:lnTo>
                <a:lnTo>
                  <a:pt x="2120" y="415"/>
                </a:lnTo>
                <a:lnTo>
                  <a:pt x="2076" y="341"/>
                </a:lnTo>
                <a:lnTo>
                  <a:pt x="2016" y="274"/>
                </a:lnTo>
                <a:lnTo>
                  <a:pt x="1936" y="216"/>
                </a:lnTo>
                <a:lnTo>
                  <a:pt x="1845" y="164"/>
                </a:lnTo>
                <a:lnTo>
                  <a:pt x="1740" y="120"/>
                </a:lnTo>
                <a:lnTo>
                  <a:pt x="1627" y="84"/>
                </a:lnTo>
                <a:lnTo>
                  <a:pt x="1505" y="54"/>
                </a:lnTo>
                <a:lnTo>
                  <a:pt x="1379" y="32"/>
                </a:lnTo>
                <a:lnTo>
                  <a:pt x="1252" y="16"/>
                </a:lnTo>
                <a:lnTo>
                  <a:pt x="1122" y="4"/>
                </a:lnTo>
                <a:lnTo>
                  <a:pt x="998" y="0"/>
                </a:lnTo>
                <a:lnTo>
                  <a:pt x="877" y="2"/>
                </a:lnTo>
                <a:lnTo>
                  <a:pt x="764" y="8"/>
                </a:lnTo>
                <a:lnTo>
                  <a:pt x="662" y="20"/>
                </a:lnTo>
                <a:lnTo>
                  <a:pt x="571" y="38"/>
                </a:lnTo>
                <a:close/>
              </a:path>
            </a:pathLst>
          </a:custGeom>
          <a:solidFill>
            <a:srgbClr val="99b7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062160" y="550800"/>
            <a:ext cx="3365640" cy="3444840"/>
          </a:xfrm>
          <a:custGeom>
            <a:avLst/>
            <a:gdLst/>
            <a:ahLst/>
            <a:rect l="l" t="t" r="r" b="b"/>
            <a:pathLst>
              <a:path w="2120" h="2170">
                <a:moveTo>
                  <a:pt x="565" y="32"/>
                </a:moveTo>
                <a:lnTo>
                  <a:pt x="490" y="48"/>
                </a:lnTo>
                <a:lnTo>
                  <a:pt x="422" y="70"/>
                </a:lnTo>
                <a:lnTo>
                  <a:pt x="353" y="96"/>
                </a:lnTo>
                <a:lnTo>
                  <a:pt x="289" y="128"/>
                </a:lnTo>
                <a:lnTo>
                  <a:pt x="231" y="162"/>
                </a:lnTo>
                <a:lnTo>
                  <a:pt x="176" y="200"/>
                </a:lnTo>
                <a:lnTo>
                  <a:pt x="129" y="242"/>
                </a:lnTo>
                <a:lnTo>
                  <a:pt x="88" y="286"/>
                </a:lnTo>
                <a:lnTo>
                  <a:pt x="52" y="333"/>
                </a:lnTo>
                <a:lnTo>
                  <a:pt x="27" y="383"/>
                </a:lnTo>
                <a:lnTo>
                  <a:pt x="8" y="435"/>
                </a:lnTo>
                <a:lnTo>
                  <a:pt x="0" y="489"/>
                </a:lnTo>
                <a:lnTo>
                  <a:pt x="0" y="545"/>
                </a:lnTo>
                <a:lnTo>
                  <a:pt x="13" y="601"/>
                </a:lnTo>
                <a:lnTo>
                  <a:pt x="36" y="661"/>
                </a:lnTo>
                <a:lnTo>
                  <a:pt x="71" y="719"/>
                </a:lnTo>
                <a:lnTo>
                  <a:pt x="74" y="781"/>
                </a:lnTo>
                <a:lnTo>
                  <a:pt x="82" y="847"/>
                </a:lnTo>
                <a:lnTo>
                  <a:pt x="99" y="915"/>
                </a:lnTo>
                <a:lnTo>
                  <a:pt x="124" y="987"/>
                </a:lnTo>
                <a:lnTo>
                  <a:pt x="157" y="1065"/>
                </a:lnTo>
                <a:lnTo>
                  <a:pt x="198" y="1143"/>
                </a:lnTo>
                <a:lnTo>
                  <a:pt x="251" y="1227"/>
                </a:lnTo>
                <a:lnTo>
                  <a:pt x="311" y="1315"/>
                </a:lnTo>
                <a:lnTo>
                  <a:pt x="331" y="1338"/>
                </a:lnTo>
                <a:lnTo>
                  <a:pt x="350" y="1364"/>
                </a:lnTo>
                <a:lnTo>
                  <a:pt x="369" y="1388"/>
                </a:lnTo>
                <a:lnTo>
                  <a:pt x="391" y="1414"/>
                </a:lnTo>
                <a:lnTo>
                  <a:pt x="411" y="1440"/>
                </a:lnTo>
                <a:lnTo>
                  <a:pt x="430" y="1464"/>
                </a:lnTo>
                <a:lnTo>
                  <a:pt x="449" y="1490"/>
                </a:lnTo>
                <a:lnTo>
                  <a:pt x="468" y="1514"/>
                </a:lnTo>
                <a:lnTo>
                  <a:pt x="479" y="1564"/>
                </a:lnTo>
                <a:lnTo>
                  <a:pt x="490" y="1614"/>
                </a:lnTo>
                <a:lnTo>
                  <a:pt x="504" y="1666"/>
                </a:lnTo>
                <a:lnTo>
                  <a:pt x="515" y="1716"/>
                </a:lnTo>
                <a:lnTo>
                  <a:pt x="515" y="1768"/>
                </a:lnTo>
                <a:lnTo>
                  <a:pt x="518" y="1820"/>
                </a:lnTo>
                <a:lnTo>
                  <a:pt x="518" y="1872"/>
                </a:lnTo>
                <a:lnTo>
                  <a:pt x="518" y="1924"/>
                </a:lnTo>
                <a:lnTo>
                  <a:pt x="529" y="1966"/>
                </a:lnTo>
                <a:lnTo>
                  <a:pt x="540" y="2008"/>
                </a:lnTo>
                <a:lnTo>
                  <a:pt x="548" y="2050"/>
                </a:lnTo>
                <a:lnTo>
                  <a:pt x="559" y="2090"/>
                </a:lnTo>
                <a:lnTo>
                  <a:pt x="606" y="2100"/>
                </a:lnTo>
                <a:lnTo>
                  <a:pt x="650" y="2110"/>
                </a:lnTo>
                <a:lnTo>
                  <a:pt x="692" y="2118"/>
                </a:lnTo>
                <a:lnTo>
                  <a:pt x="733" y="2126"/>
                </a:lnTo>
                <a:lnTo>
                  <a:pt x="772" y="2134"/>
                </a:lnTo>
                <a:lnTo>
                  <a:pt x="810" y="2140"/>
                </a:lnTo>
                <a:lnTo>
                  <a:pt x="849" y="2146"/>
                </a:lnTo>
                <a:lnTo>
                  <a:pt x="888" y="2150"/>
                </a:lnTo>
                <a:lnTo>
                  <a:pt x="923" y="2156"/>
                </a:lnTo>
                <a:lnTo>
                  <a:pt x="962" y="2160"/>
                </a:lnTo>
                <a:lnTo>
                  <a:pt x="1001" y="2162"/>
                </a:lnTo>
                <a:lnTo>
                  <a:pt x="1039" y="2164"/>
                </a:lnTo>
                <a:lnTo>
                  <a:pt x="1078" y="2166"/>
                </a:lnTo>
                <a:lnTo>
                  <a:pt x="1119" y="2168"/>
                </a:lnTo>
                <a:lnTo>
                  <a:pt x="1160" y="2170"/>
                </a:lnTo>
                <a:lnTo>
                  <a:pt x="1205" y="2170"/>
                </a:lnTo>
                <a:lnTo>
                  <a:pt x="1224" y="2148"/>
                </a:lnTo>
                <a:lnTo>
                  <a:pt x="1246" y="2128"/>
                </a:lnTo>
                <a:lnTo>
                  <a:pt x="1265" y="2106"/>
                </a:lnTo>
                <a:lnTo>
                  <a:pt x="1285" y="2084"/>
                </a:lnTo>
                <a:lnTo>
                  <a:pt x="1307" y="2064"/>
                </a:lnTo>
                <a:lnTo>
                  <a:pt x="1326" y="2042"/>
                </a:lnTo>
                <a:lnTo>
                  <a:pt x="1345" y="2022"/>
                </a:lnTo>
                <a:lnTo>
                  <a:pt x="1365" y="2000"/>
                </a:lnTo>
                <a:lnTo>
                  <a:pt x="1384" y="1930"/>
                </a:lnTo>
                <a:lnTo>
                  <a:pt x="1403" y="1858"/>
                </a:lnTo>
                <a:lnTo>
                  <a:pt x="1420" y="1788"/>
                </a:lnTo>
                <a:lnTo>
                  <a:pt x="1439" y="1718"/>
                </a:lnTo>
                <a:lnTo>
                  <a:pt x="1450" y="1700"/>
                </a:lnTo>
                <a:lnTo>
                  <a:pt x="1461" y="1682"/>
                </a:lnTo>
                <a:lnTo>
                  <a:pt x="1469" y="1664"/>
                </a:lnTo>
                <a:lnTo>
                  <a:pt x="1480" y="1644"/>
                </a:lnTo>
                <a:lnTo>
                  <a:pt x="1491" y="1626"/>
                </a:lnTo>
                <a:lnTo>
                  <a:pt x="1502" y="1608"/>
                </a:lnTo>
                <a:lnTo>
                  <a:pt x="1511" y="1590"/>
                </a:lnTo>
                <a:lnTo>
                  <a:pt x="1522" y="1572"/>
                </a:lnTo>
                <a:lnTo>
                  <a:pt x="1538" y="1552"/>
                </a:lnTo>
                <a:lnTo>
                  <a:pt x="1558" y="1534"/>
                </a:lnTo>
                <a:lnTo>
                  <a:pt x="1574" y="1514"/>
                </a:lnTo>
                <a:lnTo>
                  <a:pt x="1593" y="1496"/>
                </a:lnTo>
                <a:lnTo>
                  <a:pt x="1613" y="1478"/>
                </a:lnTo>
                <a:lnTo>
                  <a:pt x="1632" y="1460"/>
                </a:lnTo>
                <a:lnTo>
                  <a:pt x="1654" y="1442"/>
                </a:lnTo>
                <a:lnTo>
                  <a:pt x="1673" y="1424"/>
                </a:lnTo>
                <a:lnTo>
                  <a:pt x="1712" y="1394"/>
                </a:lnTo>
                <a:lnTo>
                  <a:pt x="1751" y="1360"/>
                </a:lnTo>
                <a:lnTo>
                  <a:pt x="1792" y="1322"/>
                </a:lnTo>
                <a:lnTo>
                  <a:pt x="1836" y="1279"/>
                </a:lnTo>
                <a:lnTo>
                  <a:pt x="1877" y="1233"/>
                </a:lnTo>
                <a:lnTo>
                  <a:pt x="1921" y="1181"/>
                </a:lnTo>
                <a:lnTo>
                  <a:pt x="1960" y="1127"/>
                </a:lnTo>
                <a:lnTo>
                  <a:pt x="1999" y="1069"/>
                </a:lnTo>
                <a:lnTo>
                  <a:pt x="2032" y="1009"/>
                </a:lnTo>
                <a:lnTo>
                  <a:pt x="2062" y="945"/>
                </a:lnTo>
                <a:lnTo>
                  <a:pt x="2087" y="877"/>
                </a:lnTo>
                <a:lnTo>
                  <a:pt x="2103" y="807"/>
                </a:lnTo>
                <a:lnTo>
                  <a:pt x="2115" y="735"/>
                </a:lnTo>
                <a:lnTo>
                  <a:pt x="2120" y="661"/>
                </a:lnTo>
                <a:lnTo>
                  <a:pt x="2115" y="585"/>
                </a:lnTo>
                <a:lnTo>
                  <a:pt x="2101" y="507"/>
                </a:lnTo>
                <a:lnTo>
                  <a:pt x="2079" y="423"/>
                </a:lnTo>
                <a:lnTo>
                  <a:pt x="2035" y="349"/>
                </a:lnTo>
                <a:lnTo>
                  <a:pt x="1974" y="282"/>
                </a:lnTo>
                <a:lnTo>
                  <a:pt x="1897" y="224"/>
                </a:lnTo>
                <a:lnTo>
                  <a:pt x="1808" y="172"/>
                </a:lnTo>
                <a:lnTo>
                  <a:pt x="1706" y="126"/>
                </a:lnTo>
                <a:lnTo>
                  <a:pt x="1596" y="90"/>
                </a:lnTo>
                <a:lnTo>
                  <a:pt x="1480" y="58"/>
                </a:lnTo>
                <a:lnTo>
                  <a:pt x="1359" y="34"/>
                </a:lnTo>
                <a:lnTo>
                  <a:pt x="1235" y="16"/>
                </a:lnTo>
                <a:lnTo>
                  <a:pt x="1111" y="6"/>
                </a:lnTo>
                <a:lnTo>
                  <a:pt x="990" y="0"/>
                </a:lnTo>
                <a:lnTo>
                  <a:pt x="871" y="0"/>
                </a:lnTo>
                <a:lnTo>
                  <a:pt x="761" y="6"/>
                </a:lnTo>
                <a:lnTo>
                  <a:pt x="656" y="16"/>
                </a:lnTo>
                <a:lnTo>
                  <a:pt x="565" y="32"/>
                </a:lnTo>
                <a:close/>
              </a:path>
            </a:pathLst>
          </a:custGeom>
          <a:solidFill>
            <a:srgbClr val="aabc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149640" y="566640"/>
            <a:ext cx="3308400" cy="3378240"/>
          </a:xfrm>
          <a:custGeom>
            <a:avLst/>
            <a:gdLst/>
            <a:ahLst/>
            <a:rect l="l" t="t" r="r" b="b"/>
            <a:pathLst>
              <a:path w="2084" h="2128">
                <a:moveTo>
                  <a:pt x="565" y="28"/>
                </a:moveTo>
                <a:lnTo>
                  <a:pt x="496" y="44"/>
                </a:lnTo>
                <a:lnTo>
                  <a:pt x="427" y="64"/>
                </a:lnTo>
                <a:lnTo>
                  <a:pt x="364" y="90"/>
                </a:lnTo>
                <a:lnTo>
                  <a:pt x="303" y="118"/>
                </a:lnTo>
                <a:lnTo>
                  <a:pt x="245" y="148"/>
                </a:lnTo>
                <a:lnTo>
                  <a:pt x="193" y="184"/>
                </a:lnTo>
                <a:lnTo>
                  <a:pt x="146" y="220"/>
                </a:lnTo>
                <a:lnTo>
                  <a:pt x="105" y="260"/>
                </a:lnTo>
                <a:lnTo>
                  <a:pt x="69" y="304"/>
                </a:lnTo>
                <a:lnTo>
                  <a:pt x="38" y="347"/>
                </a:lnTo>
                <a:lnTo>
                  <a:pt x="19" y="395"/>
                </a:lnTo>
                <a:lnTo>
                  <a:pt x="5" y="443"/>
                </a:lnTo>
                <a:lnTo>
                  <a:pt x="0" y="495"/>
                </a:lnTo>
                <a:lnTo>
                  <a:pt x="3" y="545"/>
                </a:lnTo>
                <a:lnTo>
                  <a:pt x="16" y="599"/>
                </a:lnTo>
                <a:lnTo>
                  <a:pt x="41" y="653"/>
                </a:lnTo>
                <a:lnTo>
                  <a:pt x="36" y="717"/>
                </a:lnTo>
                <a:lnTo>
                  <a:pt x="38" y="785"/>
                </a:lnTo>
                <a:lnTo>
                  <a:pt x="49" y="857"/>
                </a:lnTo>
                <a:lnTo>
                  <a:pt x="69" y="933"/>
                </a:lnTo>
                <a:lnTo>
                  <a:pt x="99" y="1013"/>
                </a:lnTo>
                <a:lnTo>
                  <a:pt x="140" y="1099"/>
                </a:lnTo>
                <a:lnTo>
                  <a:pt x="190" y="1187"/>
                </a:lnTo>
                <a:lnTo>
                  <a:pt x="253" y="1279"/>
                </a:lnTo>
                <a:lnTo>
                  <a:pt x="273" y="1305"/>
                </a:lnTo>
                <a:lnTo>
                  <a:pt x="295" y="1330"/>
                </a:lnTo>
                <a:lnTo>
                  <a:pt x="314" y="1356"/>
                </a:lnTo>
                <a:lnTo>
                  <a:pt x="336" y="1382"/>
                </a:lnTo>
                <a:lnTo>
                  <a:pt x="356" y="1410"/>
                </a:lnTo>
                <a:lnTo>
                  <a:pt x="375" y="1436"/>
                </a:lnTo>
                <a:lnTo>
                  <a:pt x="397" y="1462"/>
                </a:lnTo>
                <a:lnTo>
                  <a:pt x="416" y="1488"/>
                </a:lnTo>
                <a:lnTo>
                  <a:pt x="430" y="1536"/>
                </a:lnTo>
                <a:lnTo>
                  <a:pt x="441" y="1582"/>
                </a:lnTo>
                <a:lnTo>
                  <a:pt x="455" y="1630"/>
                </a:lnTo>
                <a:lnTo>
                  <a:pt x="466" y="1678"/>
                </a:lnTo>
                <a:lnTo>
                  <a:pt x="469" y="1732"/>
                </a:lnTo>
                <a:lnTo>
                  <a:pt x="469" y="1788"/>
                </a:lnTo>
                <a:lnTo>
                  <a:pt x="469" y="1844"/>
                </a:lnTo>
                <a:lnTo>
                  <a:pt x="469" y="1900"/>
                </a:lnTo>
                <a:lnTo>
                  <a:pt x="480" y="1938"/>
                </a:lnTo>
                <a:lnTo>
                  <a:pt x="491" y="1974"/>
                </a:lnTo>
                <a:lnTo>
                  <a:pt x="499" y="2012"/>
                </a:lnTo>
                <a:lnTo>
                  <a:pt x="510" y="2052"/>
                </a:lnTo>
                <a:lnTo>
                  <a:pt x="557" y="2060"/>
                </a:lnTo>
                <a:lnTo>
                  <a:pt x="601" y="2068"/>
                </a:lnTo>
                <a:lnTo>
                  <a:pt x="645" y="2076"/>
                </a:lnTo>
                <a:lnTo>
                  <a:pt x="686" y="2084"/>
                </a:lnTo>
                <a:lnTo>
                  <a:pt x="728" y="2090"/>
                </a:lnTo>
                <a:lnTo>
                  <a:pt x="766" y="2096"/>
                </a:lnTo>
                <a:lnTo>
                  <a:pt x="808" y="2100"/>
                </a:lnTo>
                <a:lnTo>
                  <a:pt x="846" y="2106"/>
                </a:lnTo>
                <a:lnTo>
                  <a:pt x="885" y="2110"/>
                </a:lnTo>
                <a:lnTo>
                  <a:pt x="926" y="2114"/>
                </a:lnTo>
                <a:lnTo>
                  <a:pt x="965" y="2118"/>
                </a:lnTo>
                <a:lnTo>
                  <a:pt x="1006" y="2120"/>
                </a:lnTo>
                <a:lnTo>
                  <a:pt x="1048" y="2122"/>
                </a:lnTo>
                <a:lnTo>
                  <a:pt x="1089" y="2124"/>
                </a:lnTo>
                <a:lnTo>
                  <a:pt x="1133" y="2126"/>
                </a:lnTo>
                <a:lnTo>
                  <a:pt x="1177" y="2128"/>
                </a:lnTo>
                <a:lnTo>
                  <a:pt x="1194" y="2110"/>
                </a:lnTo>
                <a:lnTo>
                  <a:pt x="1213" y="2090"/>
                </a:lnTo>
                <a:lnTo>
                  <a:pt x="1230" y="2072"/>
                </a:lnTo>
                <a:lnTo>
                  <a:pt x="1249" y="2054"/>
                </a:lnTo>
                <a:lnTo>
                  <a:pt x="1265" y="2036"/>
                </a:lnTo>
                <a:lnTo>
                  <a:pt x="1282" y="2018"/>
                </a:lnTo>
                <a:lnTo>
                  <a:pt x="1301" y="1998"/>
                </a:lnTo>
                <a:lnTo>
                  <a:pt x="1318" y="1980"/>
                </a:lnTo>
                <a:lnTo>
                  <a:pt x="1337" y="1912"/>
                </a:lnTo>
                <a:lnTo>
                  <a:pt x="1356" y="1842"/>
                </a:lnTo>
                <a:lnTo>
                  <a:pt x="1373" y="1774"/>
                </a:lnTo>
                <a:lnTo>
                  <a:pt x="1392" y="1706"/>
                </a:lnTo>
                <a:lnTo>
                  <a:pt x="1403" y="1688"/>
                </a:lnTo>
                <a:lnTo>
                  <a:pt x="1414" y="1668"/>
                </a:lnTo>
                <a:lnTo>
                  <a:pt x="1423" y="1650"/>
                </a:lnTo>
                <a:lnTo>
                  <a:pt x="1434" y="1632"/>
                </a:lnTo>
                <a:lnTo>
                  <a:pt x="1445" y="1614"/>
                </a:lnTo>
                <a:lnTo>
                  <a:pt x="1456" y="1596"/>
                </a:lnTo>
                <a:lnTo>
                  <a:pt x="1464" y="1576"/>
                </a:lnTo>
                <a:lnTo>
                  <a:pt x="1475" y="1558"/>
                </a:lnTo>
                <a:lnTo>
                  <a:pt x="1492" y="1540"/>
                </a:lnTo>
                <a:lnTo>
                  <a:pt x="1511" y="1520"/>
                </a:lnTo>
                <a:lnTo>
                  <a:pt x="1530" y="1502"/>
                </a:lnTo>
                <a:lnTo>
                  <a:pt x="1549" y="1484"/>
                </a:lnTo>
                <a:lnTo>
                  <a:pt x="1569" y="1466"/>
                </a:lnTo>
                <a:lnTo>
                  <a:pt x="1591" y="1448"/>
                </a:lnTo>
                <a:lnTo>
                  <a:pt x="1610" y="1432"/>
                </a:lnTo>
                <a:lnTo>
                  <a:pt x="1632" y="1414"/>
                </a:lnTo>
                <a:lnTo>
                  <a:pt x="1671" y="1386"/>
                </a:lnTo>
                <a:lnTo>
                  <a:pt x="1709" y="1352"/>
                </a:lnTo>
                <a:lnTo>
                  <a:pt x="1751" y="1314"/>
                </a:lnTo>
                <a:lnTo>
                  <a:pt x="1795" y="1275"/>
                </a:lnTo>
                <a:lnTo>
                  <a:pt x="1836" y="1229"/>
                </a:lnTo>
                <a:lnTo>
                  <a:pt x="1878" y="1179"/>
                </a:lnTo>
                <a:lnTo>
                  <a:pt x="1919" y="1127"/>
                </a:lnTo>
                <a:lnTo>
                  <a:pt x="1957" y="1071"/>
                </a:lnTo>
                <a:lnTo>
                  <a:pt x="1991" y="1011"/>
                </a:lnTo>
                <a:lnTo>
                  <a:pt x="2021" y="949"/>
                </a:lnTo>
                <a:lnTo>
                  <a:pt x="2046" y="883"/>
                </a:lnTo>
                <a:lnTo>
                  <a:pt x="2065" y="815"/>
                </a:lnTo>
                <a:lnTo>
                  <a:pt x="2079" y="745"/>
                </a:lnTo>
                <a:lnTo>
                  <a:pt x="2084" y="671"/>
                </a:lnTo>
                <a:lnTo>
                  <a:pt x="2082" y="595"/>
                </a:lnTo>
                <a:lnTo>
                  <a:pt x="2068" y="517"/>
                </a:lnTo>
                <a:lnTo>
                  <a:pt x="2043" y="435"/>
                </a:lnTo>
                <a:lnTo>
                  <a:pt x="1999" y="359"/>
                </a:lnTo>
                <a:lnTo>
                  <a:pt x="1941" y="292"/>
                </a:lnTo>
                <a:lnTo>
                  <a:pt x="1866" y="232"/>
                </a:lnTo>
                <a:lnTo>
                  <a:pt x="1778" y="180"/>
                </a:lnTo>
                <a:lnTo>
                  <a:pt x="1682" y="134"/>
                </a:lnTo>
                <a:lnTo>
                  <a:pt x="1574" y="96"/>
                </a:lnTo>
                <a:lnTo>
                  <a:pt x="1461" y="64"/>
                </a:lnTo>
                <a:lnTo>
                  <a:pt x="1345" y="40"/>
                </a:lnTo>
                <a:lnTo>
                  <a:pt x="1227" y="20"/>
                </a:lnTo>
                <a:lnTo>
                  <a:pt x="1105" y="8"/>
                </a:lnTo>
                <a:lnTo>
                  <a:pt x="987" y="0"/>
                </a:lnTo>
                <a:lnTo>
                  <a:pt x="871" y="0"/>
                </a:lnTo>
                <a:lnTo>
                  <a:pt x="761" y="4"/>
                </a:lnTo>
                <a:lnTo>
                  <a:pt x="659" y="14"/>
                </a:lnTo>
                <a:lnTo>
                  <a:pt x="565" y="28"/>
                </a:lnTo>
                <a:close/>
              </a:path>
            </a:pathLst>
          </a:custGeom>
          <a:solidFill>
            <a:srgbClr val="bab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224160" y="582480"/>
            <a:ext cx="3260880" cy="3311640"/>
          </a:xfrm>
          <a:custGeom>
            <a:avLst/>
            <a:gdLst/>
            <a:ahLst/>
            <a:rect l="l" t="t" r="r" b="b"/>
            <a:pathLst>
              <a:path w="2054" h="2086">
                <a:moveTo>
                  <a:pt x="573" y="26"/>
                </a:moveTo>
                <a:lnTo>
                  <a:pt x="507" y="42"/>
                </a:lnTo>
                <a:lnTo>
                  <a:pt x="444" y="60"/>
                </a:lnTo>
                <a:lnTo>
                  <a:pt x="380" y="82"/>
                </a:lnTo>
                <a:lnTo>
                  <a:pt x="322" y="108"/>
                </a:lnTo>
                <a:lnTo>
                  <a:pt x="267" y="136"/>
                </a:lnTo>
                <a:lnTo>
                  <a:pt x="218" y="166"/>
                </a:lnTo>
                <a:lnTo>
                  <a:pt x="171" y="200"/>
                </a:lnTo>
                <a:lnTo>
                  <a:pt x="129" y="234"/>
                </a:lnTo>
                <a:lnTo>
                  <a:pt x="91" y="274"/>
                </a:lnTo>
                <a:lnTo>
                  <a:pt x="60" y="313"/>
                </a:lnTo>
                <a:lnTo>
                  <a:pt x="36" y="355"/>
                </a:lnTo>
                <a:lnTo>
                  <a:pt x="16" y="397"/>
                </a:lnTo>
                <a:lnTo>
                  <a:pt x="5" y="443"/>
                </a:lnTo>
                <a:lnTo>
                  <a:pt x="0" y="491"/>
                </a:lnTo>
                <a:lnTo>
                  <a:pt x="5" y="537"/>
                </a:lnTo>
                <a:lnTo>
                  <a:pt x="16" y="587"/>
                </a:lnTo>
                <a:lnTo>
                  <a:pt x="2" y="653"/>
                </a:lnTo>
                <a:lnTo>
                  <a:pt x="0" y="725"/>
                </a:lnTo>
                <a:lnTo>
                  <a:pt x="5" y="801"/>
                </a:lnTo>
                <a:lnTo>
                  <a:pt x="22" y="879"/>
                </a:lnTo>
                <a:lnTo>
                  <a:pt x="49" y="965"/>
                </a:lnTo>
                <a:lnTo>
                  <a:pt x="88" y="1053"/>
                </a:lnTo>
                <a:lnTo>
                  <a:pt x="140" y="1147"/>
                </a:lnTo>
                <a:lnTo>
                  <a:pt x="204" y="1245"/>
                </a:lnTo>
                <a:lnTo>
                  <a:pt x="226" y="1271"/>
                </a:lnTo>
                <a:lnTo>
                  <a:pt x="245" y="1298"/>
                </a:lnTo>
                <a:lnTo>
                  <a:pt x="267" y="1324"/>
                </a:lnTo>
                <a:lnTo>
                  <a:pt x="289" y="1352"/>
                </a:lnTo>
                <a:lnTo>
                  <a:pt x="309" y="1378"/>
                </a:lnTo>
                <a:lnTo>
                  <a:pt x="331" y="1406"/>
                </a:lnTo>
                <a:lnTo>
                  <a:pt x="350" y="1432"/>
                </a:lnTo>
                <a:lnTo>
                  <a:pt x="372" y="1460"/>
                </a:lnTo>
                <a:lnTo>
                  <a:pt x="386" y="1504"/>
                </a:lnTo>
                <a:lnTo>
                  <a:pt x="400" y="1550"/>
                </a:lnTo>
                <a:lnTo>
                  <a:pt x="413" y="1594"/>
                </a:lnTo>
                <a:lnTo>
                  <a:pt x="427" y="1640"/>
                </a:lnTo>
                <a:lnTo>
                  <a:pt x="427" y="1698"/>
                </a:lnTo>
                <a:lnTo>
                  <a:pt x="427" y="1758"/>
                </a:lnTo>
                <a:lnTo>
                  <a:pt x="427" y="1818"/>
                </a:lnTo>
                <a:lnTo>
                  <a:pt x="427" y="1878"/>
                </a:lnTo>
                <a:lnTo>
                  <a:pt x="438" y="1910"/>
                </a:lnTo>
                <a:lnTo>
                  <a:pt x="449" y="1944"/>
                </a:lnTo>
                <a:lnTo>
                  <a:pt x="460" y="1976"/>
                </a:lnTo>
                <a:lnTo>
                  <a:pt x="471" y="2010"/>
                </a:lnTo>
                <a:lnTo>
                  <a:pt x="518" y="2018"/>
                </a:lnTo>
                <a:lnTo>
                  <a:pt x="562" y="2026"/>
                </a:lnTo>
                <a:lnTo>
                  <a:pt x="606" y="2032"/>
                </a:lnTo>
                <a:lnTo>
                  <a:pt x="650" y="2038"/>
                </a:lnTo>
                <a:lnTo>
                  <a:pt x="692" y="2044"/>
                </a:lnTo>
                <a:lnTo>
                  <a:pt x="736" y="2050"/>
                </a:lnTo>
                <a:lnTo>
                  <a:pt x="777" y="2056"/>
                </a:lnTo>
                <a:lnTo>
                  <a:pt x="819" y="2060"/>
                </a:lnTo>
                <a:lnTo>
                  <a:pt x="860" y="2064"/>
                </a:lnTo>
                <a:lnTo>
                  <a:pt x="901" y="2068"/>
                </a:lnTo>
                <a:lnTo>
                  <a:pt x="943" y="2072"/>
                </a:lnTo>
                <a:lnTo>
                  <a:pt x="984" y="2076"/>
                </a:lnTo>
                <a:lnTo>
                  <a:pt x="1025" y="2078"/>
                </a:lnTo>
                <a:lnTo>
                  <a:pt x="1070" y="2082"/>
                </a:lnTo>
                <a:lnTo>
                  <a:pt x="1114" y="2084"/>
                </a:lnTo>
                <a:lnTo>
                  <a:pt x="1158" y="2086"/>
                </a:lnTo>
                <a:lnTo>
                  <a:pt x="1174" y="2070"/>
                </a:lnTo>
                <a:lnTo>
                  <a:pt x="1188" y="2054"/>
                </a:lnTo>
                <a:lnTo>
                  <a:pt x="1205" y="2038"/>
                </a:lnTo>
                <a:lnTo>
                  <a:pt x="1218" y="2022"/>
                </a:lnTo>
                <a:lnTo>
                  <a:pt x="1232" y="2008"/>
                </a:lnTo>
                <a:lnTo>
                  <a:pt x="1246" y="1992"/>
                </a:lnTo>
                <a:lnTo>
                  <a:pt x="1263" y="1976"/>
                </a:lnTo>
                <a:lnTo>
                  <a:pt x="1276" y="1960"/>
                </a:lnTo>
                <a:lnTo>
                  <a:pt x="1296" y="1892"/>
                </a:lnTo>
                <a:lnTo>
                  <a:pt x="1315" y="1826"/>
                </a:lnTo>
                <a:lnTo>
                  <a:pt x="1331" y="1760"/>
                </a:lnTo>
                <a:lnTo>
                  <a:pt x="1351" y="1692"/>
                </a:lnTo>
                <a:lnTo>
                  <a:pt x="1362" y="1674"/>
                </a:lnTo>
                <a:lnTo>
                  <a:pt x="1373" y="1656"/>
                </a:lnTo>
                <a:lnTo>
                  <a:pt x="1384" y="1638"/>
                </a:lnTo>
                <a:lnTo>
                  <a:pt x="1395" y="1618"/>
                </a:lnTo>
                <a:lnTo>
                  <a:pt x="1406" y="1600"/>
                </a:lnTo>
                <a:lnTo>
                  <a:pt x="1414" y="1582"/>
                </a:lnTo>
                <a:lnTo>
                  <a:pt x="1425" y="1564"/>
                </a:lnTo>
                <a:lnTo>
                  <a:pt x="1436" y="1546"/>
                </a:lnTo>
                <a:lnTo>
                  <a:pt x="1456" y="1528"/>
                </a:lnTo>
                <a:lnTo>
                  <a:pt x="1475" y="1510"/>
                </a:lnTo>
                <a:lnTo>
                  <a:pt x="1494" y="1492"/>
                </a:lnTo>
                <a:lnTo>
                  <a:pt x="1513" y="1474"/>
                </a:lnTo>
                <a:lnTo>
                  <a:pt x="1535" y="1456"/>
                </a:lnTo>
                <a:lnTo>
                  <a:pt x="1555" y="1438"/>
                </a:lnTo>
                <a:lnTo>
                  <a:pt x="1577" y="1420"/>
                </a:lnTo>
                <a:lnTo>
                  <a:pt x="1596" y="1402"/>
                </a:lnTo>
                <a:lnTo>
                  <a:pt x="1635" y="1374"/>
                </a:lnTo>
                <a:lnTo>
                  <a:pt x="1673" y="1342"/>
                </a:lnTo>
                <a:lnTo>
                  <a:pt x="1715" y="1306"/>
                </a:lnTo>
                <a:lnTo>
                  <a:pt x="1759" y="1267"/>
                </a:lnTo>
                <a:lnTo>
                  <a:pt x="1800" y="1225"/>
                </a:lnTo>
                <a:lnTo>
                  <a:pt x="1842" y="1177"/>
                </a:lnTo>
                <a:lnTo>
                  <a:pt x="1883" y="1127"/>
                </a:lnTo>
                <a:lnTo>
                  <a:pt x="1922" y="1073"/>
                </a:lnTo>
                <a:lnTo>
                  <a:pt x="1957" y="1015"/>
                </a:lnTo>
                <a:lnTo>
                  <a:pt x="1988" y="955"/>
                </a:lnTo>
                <a:lnTo>
                  <a:pt x="2013" y="891"/>
                </a:lnTo>
                <a:lnTo>
                  <a:pt x="2035" y="825"/>
                </a:lnTo>
                <a:lnTo>
                  <a:pt x="2048" y="755"/>
                </a:lnTo>
                <a:lnTo>
                  <a:pt x="2054" y="683"/>
                </a:lnTo>
                <a:lnTo>
                  <a:pt x="2051" y="607"/>
                </a:lnTo>
                <a:lnTo>
                  <a:pt x="2040" y="529"/>
                </a:lnTo>
                <a:lnTo>
                  <a:pt x="2015" y="445"/>
                </a:lnTo>
                <a:lnTo>
                  <a:pt x="1971" y="371"/>
                </a:lnTo>
                <a:lnTo>
                  <a:pt x="1913" y="303"/>
                </a:lnTo>
                <a:lnTo>
                  <a:pt x="1842" y="244"/>
                </a:lnTo>
                <a:lnTo>
                  <a:pt x="1756" y="190"/>
                </a:lnTo>
                <a:lnTo>
                  <a:pt x="1662" y="144"/>
                </a:lnTo>
                <a:lnTo>
                  <a:pt x="1563" y="104"/>
                </a:lnTo>
                <a:lnTo>
                  <a:pt x="1453" y="72"/>
                </a:lnTo>
                <a:lnTo>
                  <a:pt x="1340" y="46"/>
                </a:lnTo>
                <a:lnTo>
                  <a:pt x="1224" y="26"/>
                </a:lnTo>
                <a:lnTo>
                  <a:pt x="1108" y="12"/>
                </a:lnTo>
                <a:lnTo>
                  <a:pt x="992" y="4"/>
                </a:lnTo>
                <a:lnTo>
                  <a:pt x="879" y="0"/>
                </a:lnTo>
                <a:lnTo>
                  <a:pt x="772" y="4"/>
                </a:lnTo>
                <a:lnTo>
                  <a:pt x="667" y="12"/>
                </a:lnTo>
                <a:lnTo>
                  <a:pt x="573" y="26"/>
                </a:lnTo>
                <a:close/>
              </a:path>
            </a:pathLst>
          </a:custGeom>
          <a:solidFill>
            <a:srgbClr val="ccc1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3241800" y="598320"/>
            <a:ext cx="3273480" cy="3245040"/>
          </a:xfrm>
          <a:custGeom>
            <a:avLst/>
            <a:gdLst/>
            <a:ahLst/>
            <a:rect l="l" t="t" r="r" b="b"/>
            <a:pathLst>
              <a:path w="2062" h="2044">
                <a:moveTo>
                  <a:pt x="620" y="22"/>
                </a:moveTo>
                <a:lnTo>
                  <a:pt x="557" y="36"/>
                </a:lnTo>
                <a:lnTo>
                  <a:pt x="496" y="54"/>
                </a:lnTo>
                <a:lnTo>
                  <a:pt x="438" y="74"/>
                </a:lnTo>
                <a:lnTo>
                  <a:pt x="383" y="96"/>
                </a:lnTo>
                <a:lnTo>
                  <a:pt x="328" y="122"/>
                </a:lnTo>
                <a:lnTo>
                  <a:pt x="278" y="148"/>
                </a:lnTo>
                <a:lnTo>
                  <a:pt x="234" y="178"/>
                </a:lnTo>
                <a:lnTo>
                  <a:pt x="190" y="208"/>
                </a:lnTo>
                <a:lnTo>
                  <a:pt x="151" y="242"/>
                </a:lnTo>
                <a:lnTo>
                  <a:pt x="118" y="278"/>
                </a:lnTo>
                <a:lnTo>
                  <a:pt x="91" y="313"/>
                </a:lnTo>
                <a:lnTo>
                  <a:pt x="66" y="353"/>
                </a:lnTo>
                <a:lnTo>
                  <a:pt x="49" y="393"/>
                </a:lnTo>
                <a:lnTo>
                  <a:pt x="36" y="435"/>
                </a:lnTo>
                <a:lnTo>
                  <a:pt x="30" y="477"/>
                </a:lnTo>
                <a:lnTo>
                  <a:pt x="30" y="521"/>
                </a:lnTo>
                <a:lnTo>
                  <a:pt x="8" y="589"/>
                </a:lnTo>
                <a:lnTo>
                  <a:pt x="0" y="663"/>
                </a:lnTo>
                <a:lnTo>
                  <a:pt x="0" y="741"/>
                </a:lnTo>
                <a:lnTo>
                  <a:pt x="11" y="825"/>
                </a:lnTo>
                <a:lnTo>
                  <a:pt x="36" y="913"/>
                </a:lnTo>
                <a:lnTo>
                  <a:pt x="74" y="1007"/>
                </a:lnTo>
                <a:lnTo>
                  <a:pt x="124" y="1105"/>
                </a:lnTo>
                <a:lnTo>
                  <a:pt x="190" y="1209"/>
                </a:lnTo>
                <a:lnTo>
                  <a:pt x="212" y="1237"/>
                </a:lnTo>
                <a:lnTo>
                  <a:pt x="234" y="1265"/>
                </a:lnTo>
                <a:lnTo>
                  <a:pt x="256" y="1292"/>
                </a:lnTo>
                <a:lnTo>
                  <a:pt x="278" y="1320"/>
                </a:lnTo>
                <a:lnTo>
                  <a:pt x="300" y="1350"/>
                </a:lnTo>
                <a:lnTo>
                  <a:pt x="322" y="1378"/>
                </a:lnTo>
                <a:lnTo>
                  <a:pt x="344" y="1406"/>
                </a:lnTo>
                <a:lnTo>
                  <a:pt x="366" y="1434"/>
                </a:lnTo>
                <a:lnTo>
                  <a:pt x="380" y="1476"/>
                </a:lnTo>
                <a:lnTo>
                  <a:pt x="394" y="1518"/>
                </a:lnTo>
                <a:lnTo>
                  <a:pt x="408" y="1560"/>
                </a:lnTo>
                <a:lnTo>
                  <a:pt x="422" y="1602"/>
                </a:lnTo>
                <a:lnTo>
                  <a:pt x="422" y="1664"/>
                </a:lnTo>
                <a:lnTo>
                  <a:pt x="422" y="1728"/>
                </a:lnTo>
                <a:lnTo>
                  <a:pt x="422" y="1790"/>
                </a:lnTo>
                <a:lnTo>
                  <a:pt x="422" y="1854"/>
                </a:lnTo>
                <a:lnTo>
                  <a:pt x="433" y="1884"/>
                </a:lnTo>
                <a:lnTo>
                  <a:pt x="444" y="1912"/>
                </a:lnTo>
                <a:lnTo>
                  <a:pt x="455" y="1942"/>
                </a:lnTo>
                <a:lnTo>
                  <a:pt x="466" y="1970"/>
                </a:lnTo>
                <a:lnTo>
                  <a:pt x="513" y="1976"/>
                </a:lnTo>
                <a:lnTo>
                  <a:pt x="559" y="1984"/>
                </a:lnTo>
                <a:lnTo>
                  <a:pt x="604" y="1990"/>
                </a:lnTo>
                <a:lnTo>
                  <a:pt x="648" y="1996"/>
                </a:lnTo>
                <a:lnTo>
                  <a:pt x="692" y="2002"/>
                </a:lnTo>
                <a:lnTo>
                  <a:pt x="736" y="2006"/>
                </a:lnTo>
                <a:lnTo>
                  <a:pt x="780" y="2012"/>
                </a:lnTo>
                <a:lnTo>
                  <a:pt x="821" y="2016"/>
                </a:lnTo>
                <a:lnTo>
                  <a:pt x="866" y="2020"/>
                </a:lnTo>
                <a:lnTo>
                  <a:pt x="910" y="2024"/>
                </a:lnTo>
                <a:lnTo>
                  <a:pt x="951" y="2028"/>
                </a:lnTo>
                <a:lnTo>
                  <a:pt x="995" y="2032"/>
                </a:lnTo>
                <a:lnTo>
                  <a:pt x="1039" y="2036"/>
                </a:lnTo>
                <a:lnTo>
                  <a:pt x="1083" y="2038"/>
                </a:lnTo>
                <a:lnTo>
                  <a:pt x="1127" y="2042"/>
                </a:lnTo>
                <a:lnTo>
                  <a:pt x="1174" y="2044"/>
                </a:lnTo>
                <a:lnTo>
                  <a:pt x="1188" y="2032"/>
                </a:lnTo>
                <a:lnTo>
                  <a:pt x="1199" y="2018"/>
                </a:lnTo>
                <a:lnTo>
                  <a:pt x="1213" y="2006"/>
                </a:lnTo>
                <a:lnTo>
                  <a:pt x="1224" y="1992"/>
                </a:lnTo>
                <a:lnTo>
                  <a:pt x="1238" y="1978"/>
                </a:lnTo>
                <a:lnTo>
                  <a:pt x="1249" y="1966"/>
                </a:lnTo>
                <a:lnTo>
                  <a:pt x="1263" y="1952"/>
                </a:lnTo>
                <a:lnTo>
                  <a:pt x="1274" y="1940"/>
                </a:lnTo>
                <a:lnTo>
                  <a:pt x="1293" y="1876"/>
                </a:lnTo>
                <a:lnTo>
                  <a:pt x="1312" y="1810"/>
                </a:lnTo>
                <a:lnTo>
                  <a:pt x="1329" y="1744"/>
                </a:lnTo>
                <a:lnTo>
                  <a:pt x="1348" y="1680"/>
                </a:lnTo>
                <a:lnTo>
                  <a:pt x="1359" y="1662"/>
                </a:lnTo>
                <a:lnTo>
                  <a:pt x="1370" y="1642"/>
                </a:lnTo>
                <a:lnTo>
                  <a:pt x="1381" y="1624"/>
                </a:lnTo>
                <a:lnTo>
                  <a:pt x="1392" y="1606"/>
                </a:lnTo>
                <a:lnTo>
                  <a:pt x="1400" y="1588"/>
                </a:lnTo>
                <a:lnTo>
                  <a:pt x="1411" y="1570"/>
                </a:lnTo>
                <a:lnTo>
                  <a:pt x="1422" y="1552"/>
                </a:lnTo>
                <a:lnTo>
                  <a:pt x="1434" y="1534"/>
                </a:lnTo>
                <a:lnTo>
                  <a:pt x="1453" y="1516"/>
                </a:lnTo>
                <a:lnTo>
                  <a:pt x="1472" y="1498"/>
                </a:lnTo>
                <a:lnTo>
                  <a:pt x="1494" y="1480"/>
                </a:lnTo>
                <a:lnTo>
                  <a:pt x="1513" y="1462"/>
                </a:lnTo>
                <a:lnTo>
                  <a:pt x="1536" y="1444"/>
                </a:lnTo>
                <a:lnTo>
                  <a:pt x="1555" y="1426"/>
                </a:lnTo>
                <a:lnTo>
                  <a:pt x="1577" y="1410"/>
                </a:lnTo>
                <a:lnTo>
                  <a:pt x="1596" y="1392"/>
                </a:lnTo>
                <a:lnTo>
                  <a:pt x="1635" y="1364"/>
                </a:lnTo>
                <a:lnTo>
                  <a:pt x="1673" y="1334"/>
                </a:lnTo>
                <a:lnTo>
                  <a:pt x="1715" y="1300"/>
                </a:lnTo>
                <a:lnTo>
                  <a:pt x="1759" y="1261"/>
                </a:lnTo>
                <a:lnTo>
                  <a:pt x="1800" y="1221"/>
                </a:lnTo>
                <a:lnTo>
                  <a:pt x="1844" y="1175"/>
                </a:lnTo>
                <a:lnTo>
                  <a:pt x="1886" y="1127"/>
                </a:lnTo>
                <a:lnTo>
                  <a:pt x="1924" y="1073"/>
                </a:lnTo>
                <a:lnTo>
                  <a:pt x="1960" y="1019"/>
                </a:lnTo>
                <a:lnTo>
                  <a:pt x="1990" y="959"/>
                </a:lnTo>
                <a:lnTo>
                  <a:pt x="2018" y="897"/>
                </a:lnTo>
                <a:lnTo>
                  <a:pt x="2040" y="833"/>
                </a:lnTo>
                <a:lnTo>
                  <a:pt x="2054" y="763"/>
                </a:lnTo>
                <a:lnTo>
                  <a:pt x="2062" y="691"/>
                </a:lnTo>
                <a:lnTo>
                  <a:pt x="2062" y="617"/>
                </a:lnTo>
                <a:lnTo>
                  <a:pt x="2051" y="539"/>
                </a:lnTo>
                <a:lnTo>
                  <a:pt x="2024" y="457"/>
                </a:lnTo>
                <a:lnTo>
                  <a:pt x="1979" y="381"/>
                </a:lnTo>
                <a:lnTo>
                  <a:pt x="1922" y="313"/>
                </a:lnTo>
                <a:lnTo>
                  <a:pt x="1853" y="252"/>
                </a:lnTo>
                <a:lnTo>
                  <a:pt x="1773" y="200"/>
                </a:lnTo>
                <a:lnTo>
                  <a:pt x="1682" y="152"/>
                </a:lnTo>
                <a:lnTo>
                  <a:pt x="1582" y="112"/>
                </a:lnTo>
                <a:lnTo>
                  <a:pt x="1480" y="78"/>
                </a:lnTo>
                <a:lnTo>
                  <a:pt x="1370" y="50"/>
                </a:lnTo>
                <a:lnTo>
                  <a:pt x="1260" y="28"/>
                </a:lnTo>
                <a:lnTo>
                  <a:pt x="1147" y="14"/>
                </a:lnTo>
                <a:lnTo>
                  <a:pt x="1034" y="4"/>
                </a:lnTo>
                <a:lnTo>
                  <a:pt x="923" y="0"/>
                </a:lnTo>
                <a:lnTo>
                  <a:pt x="816" y="2"/>
                </a:lnTo>
                <a:lnTo>
                  <a:pt x="714" y="10"/>
                </a:lnTo>
                <a:lnTo>
                  <a:pt x="620" y="22"/>
                </a:lnTo>
                <a:close/>
              </a:path>
            </a:pathLst>
          </a:custGeom>
          <a:solidFill>
            <a:srgbClr val="ddc4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3249720" y="617400"/>
            <a:ext cx="3292200" cy="3175200"/>
          </a:xfrm>
          <a:custGeom>
            <a:avLst/>
            <a:gdLst/>
            <a:ahLst/>
            <a:rect l="l" t="t" r="r" b="b"/>
            <a:pathLst>
              <a:path w="2074" h="2000">
                <a:moveTo>
                  <a:pt x="670" y="18"/>
                </a:moveTo>
                <a:lnTo>
                  <a:pt x="612" y="32"/>
                </a:lnTo>
                <a:lnTo>
                  <a:pt x="554" y="46"/>
                </a:lnTo>
                <a:lnTo>
                  <a:pt x="499" y="64"/>
                </a:lnTo>
                <a:lnTo>
                  <a:pt x="444" y="84"/>
                </a:lnTo>
                <a:lnTo>
                  <a:pt x="395" y="106"/>
                </a:lnTo>
                <a:lnTo>
                  <a:pt x="345" y="130"/>
                </a:lnTo>
                <a:lnTo>
                  <a:pt x="301" y="154"/>
                </a:lnTo>
                <a:lnTo>
                  <a:pt x="257" y="182"/>
                </a:lnTo>
                <a:lnTo>
                  <a:pt x="218" y="210"/>
                </a:lnTo>
                <a:lnTo>
                  <a:pt x="182" y="240"/>
                </a:lnTo>
                <a:lnTo>
                  <a:pt x="149" y="272"/>
                </a:lnTo>
                <a:lnTo>
                  <a:pt x="122" y="305"/>
                </a:lnTo>
                <a:lnTo>
                  <a:pt x="97" y="339"/>
                </a:lnTo>
                <a:lnTo>
                  <a:pt x="77" y="377"/>
                </a:lnTo>
                <a:lnTo>
                  <a:pt x="61" y="413"/>
                </a:lnTo>
                <a:lnTo>
                  <a:pt x="50" y="453"/>
                </a:lnTo>
                <a:lnTo>
                  <a:pt x="22" y="523"/>
                </a:lnTo>
                <a:lnTo>
                  <a:pt x="3" y="601"/>
                </a:lnTo>
                <a:lnTo>
                  <a:pt x="0" y="681"/>
                </a:lnTo>
                <a:lnTo>
                  <a:pt x="9" y="769"/>
                </a:lnTo>
                <a:lnTo>
                  <a:pt x="28" y="861"/>
                </a:lnTo>
                <a:lnTo>
                  <a:pt x="64" y="959"/>
                </a:lnTo>
                <a:lnTo>
                  <a:pt x="116" y="1063"/>
                </a:lnTo>
                <a:lnTo>
                  <a:pt x="182" y="1173"/>
                </a:lnTo>
                <a:lnTo>
                  <a:pt x="204" y="1203"/>
                </a:lnTo>
                <a:lnTo>
                  <a:pt x="229" y="1231"/>
                </a:lnTo>
                <a:lnTo>
                  <a:pt x="251" y="1261"/>
                </a:lnTo>
                <a:lnTo>
                  <a:pt x="273" y="1288"/>
                </a:lnTo>
                <a:lnTo>
                  <a:pt x="295" y="1316"/>
                </a:lnTo>
                <a:lnTo>
                  <a:pt x="320" y="1346"/>
                </a:lnTo>
                <a:lnTo>
                  <a:pt x="342" y="1374"/>
                </a:lnTo>
                <a:lnTo>
                  <a:pt x="364" y="1404"/>
                </a:lnTo>
                <a:lnTo>
                  <a:pt x="378" y="1444"/>
                </a:lnTo>
                <a:lnTo>
                  <a:pt x="395" y="1482"/>
                </a:lnTo>
                <a:lnTo>
                  <a:pt x="408" y="1522"/>
                </a:lnTo>
                <a:lnTo>
                  <a:pt x="422" y="1562"/>
                </a:lnTo>
                <a:lnTo>
                  <a:pt x="422" y="1628"/>
                </a:lnTo>
                <a:lnTo>
                  <a:pt x="422" y="1694"/>
                </a:lnTo>
                <a:lnTo>
                  <a:pt x="422" y="1762"/>
                </a:lnTo>
                <a:lnTo>
                  <a:pt x="422" y="1828"/>
                </a:lnTo>
                <a:lnTo>
                  <a:pt x="433" y="1854"/>
                </a:lnTo>
                <a:lnTo>
                  <a:pt x="447" y="1878"/>
                </a:lnTo>
                <a:lnTo>
                  <a:pt x="458" y="1904"/>
                </a:lnTo>
                <a:lnTo>
                  <a:pt x="469" y="1928"/>
                </a:lnTo>
                <a:lnTo>
                  <a:pt x="516" y="1934"/>
                </a:lnTo>
                <a:lnTo>
                  <a:pt x="563" y="1938"/>
                </a:lnTo>
                <a:lnTo>
                  <a:pt x="607" y="1944"/>
                </a:lnTo>
                <a:lnTo>
                  <a:pt x="654" y="1950"/>
                </a:lnTo>
                <a:lnTo>
                  <a:pt x="698" y="1954"/>
                </a:lnTo>
                <a:lnTo>
                  <a:pt x="745" y="1958"/>
                </a:lnTo>
                <a:lnTo>
                  <a:pt x="789" y="1964"/>
                </a:lnTo>
                <a:lnTo>
                  <a:pt x="833" y="1968"/>
                </a:lnTo>
                <a:lnTo>
                  <a:pt x="880" y="1972"/>
                </a:lnTo>
                <a:lnTo>
                  <a:pt x="924" y="1976"/>
                </a:lnTo>
                <a:lnTo>
                  <a:pt x="968" y="1980"/>
                </a:lnTo>
                <a:lnTo>
                  <a:pt x="1015" y="1984"/>
                </a:lnTo>
                <a:lnTo>
                  <a:pt x="1059" y="1988"/>
                </a:lnTo>
                <a:lnTo>
                  <a:pt x="1106" y="1992"/>
                </a:lnTo>
                <a:lnTo>
                  <a:pt x="1150" y="1996"/>
                </a:lnTo>
                <a:lnTo>
                  <a:pt x="1197" y="2000"/>
                </a:lnTo>
                <a:lnTo>
                  <a:pt x="1216" y="1980"/>
                </a:lnTo>
                <a:lnTo>
                  <a:pt x="1236" y="1958"/>
                </a:lnTo>
                <a:lnTo>
                  <a:pt x="1255" y="1938"/>
                </a:lnTo>
                <a:lnTo>
                  <a:pt x="1274" y="1918"/>
                </a:lnTo>
                <a:lnTo>
                  <a:pt x="1293" y="1854"/>
                </a:lnTo>
                <a:lnTo>
                  <a:pt x="1313" y="1792"/>
                </a:lnTo>
                <a:lnTo>
                  <a:pt x="1329" y="1728"/>
                </a:lnTo>
                <a:lnTo>
                  <a:pt x="1349" y="1664"/>
                </a:lnTo>
                <a:lnTo>
                  <a:pt x="1360" y="1646"/>
                </a:lnTo>
                <a:lnTo>
                  <a:pt x="1371" y="1628"/>
                </a:lnTo>
                <a:lnTo>
                  <a:pt x="1382" y="1610"/>
                </a:lnTo>
                <a:lnTo>
                  <a:pt x="1395" y="1592"/>
                </a:lnTo>
                <a:lnTo>
                  <a:pt x="1406" y="1574"/>
                </a:lnTo>
                <a:lnTo>
                  <a:pt x="1417" y="1556"/>
                </a:lnTo>
                <a:lnTo>
                  <a:pt x="1429" y="1536"/>
                </a:lnTo>
                <a:lnTo>
                  <a:pt x="1440" y="1518"/>
                </a:lnTo>
                <a:lnTo>
                  <a:pt x="1459" y="1500"/>
                </a:lnTo>
                <a:lnTo>
                  <a:pt x="1478" y="1484"/>
                </a:lnTo>
                <a:lnTo>
                  <a:pt x="1500" y="1466"/>
                </a:lnTo>
                <a:lnTo>
                  <a:pt x="1519" y="1448"/>
                </a:lnTo>
                <a:lnTo>
                  <a:pt x="1542" y="1430"/>
                </a:lnTo>
                <a:lnTo>
                  <a:pt x="1561" y="1412"/>
                </a:lnTo>
                <a:lnTo>
                  <a:pt x="1583" y="1396"/>
                </a:lnTo>
                <a:lnTo>
                  <a:pt x="1605" y="1378"/>
                </a:lnTo>
                <a:lnTo>
                  <a:pt x="1641" y="1352"/>
                </a:lnTo>
                <a:lnTo>
                  <a:pt x="1682" y="1322"/>
                </a:lnTo>
                <a:lnTo>
                  <a:pt x="1724" y="1290"/>
                </a:lnTo>
                <a:lnTo>
                  <a:pt x="1765" y="1253"/>
                </a:lnTo>
                <a:lnTo>
                  <a:pt x="1809" y="1213"/>
                </a:lnTo>
                <a:lnTo>
                  <a:pt x="1853" y="1169"/>
                </a:lnTo>
                <a:lnTo>
                  <a:pt x="1894" y="1123"/>
                </a:lnTo>
                <a:lnTo>
                  <a:pt x="1933" y="1073"/>
                </a:lnTo>
                <a:lnTo>
                  <a:pt x="1969" y="1019"/>
                </a:lnTo>
                <a:lnTo>
                  <a:pt x="2002" y="961"/>
                </a:lnTo>
                <a:lnTo>
                  <a:pt x="2027" y="901"/>
                </a:lnTo>
                <a:lnTo>
                  <a:pt x="2049" y="837"/>
                </a:lnTo>
                <a:lnTo>
                  <a:pt x="2065" y="771"/>
                </a:lnTo>
                <a:lnTo>
                  <a:pt x="2074" y="699"/>
                </a:lnTo>
                <a:lnTo>
                  <a:pt x="2074" y="627"/>
                </a:lnTo>
                <a:lnTo>
                  <a:pt x="2065" y="549"/>
                </a:lnTo>
                <a:lnTo>
                  <a:pt x="2038" y="467"/>
                </a:lnTo>
                <a:lnTo>
                  <a:pt x="1994" y="391"/>
                </a:lnTo>
                <a:lnTo>
                  <a:pt x="1939" y="321"/>
                </a:lnTo>
                <a:lnTo>
                  <a:pt x="1870" y="262"/>
                </a:lnTo>
                <a:lnTo>
                  <a:pt x="1792" y="206"/>
                </a:lnTo>
                <a:lnTo>
                  <a:pt x="1704" y="158"/>
                </a:lnTo>
                <a:lnTo>
                  <a:pt x="1610" y="118"/>
                </a:lnTo>
                <a:lnTo>
                  <a:pt x="1511" y="82"/>
                </a:lnTo>
                <a:lnTo>
                  <a:pt x="1406" y="54"/>
                </a:lnTo>
                <a:lnTo>
                  <a:pt x="1299" y="32"/>
                </a:lnTo>
                <a:lnTo>
                  <a:pt x="1191" y="14"/>
                </a:lnTo>
                <a:lnTo>
                  <a:pt x="1081" y="4"/>
                </a:lnTo>
                <a:lnTo>
                  <a:pt x="974" y="0"/>
                </a:lnTo>
                <a:lnTo>
                  <a:pt x="869" y="0"/>
                </a:lnTo>
                <a:lnTo>
                  <a:pt x="767" y="6"/>
                </a:lnTo>
                <a:lnTo>
                  <a:pt x="670" y="18"/>
                </a:lnTo>
                <a:close/>
              </a:path>
            </a:pathLst>
          </a:custGeom>
          <a:solidFill>
            <a:srgbClr val="edc6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259080" y="630360"/>
            <a:ext cx="3313080" cy="3108240"/>
          </a:xfrm>
          <a:custGeom>
            <a:avLst/>
            <a:gdLst/>
            <a:ahLst/>
            <a:rect l="l" t="t" r="r" b="b"/>
            <a:pathLst>
              <a:path w="2087" h="1958">
                <a:moveTo>
                  <a:pt x="719" y="16"/>
                </a:moveTo>
                <a:lnTo>
                  <a:pt x="609" y="44"/>
                </a:lnTo>
                <a:lnTo>
                  <a:pt x="507" y="76"/>
                </a:lnTo>
                <a:lnTo>
                  <a:pt x="411" y="114"/>
                </a:lnTo>
                <a:lnTo>
                  <a:pt x="322" y="158"/>
                </a:lnTo>
                <a:lnTo>
                  <a:pt x="245" y="208"/>
                </a:lnTo>
                <a:lnTo>
                  <a:pt x="176" y="262"/>
                </a:lnTo>
                <a:lnTo>
                  <a:pt x="116" y="323"/>
                </a:lnTo>
                <a:lnTo>
                  <a:pt x="69" y="389"/>
                </a:lnTo>
                <a:lnTo>
                  <a:pt x="33" y="463"/>
                </a:lnTo>
                <a:lnTo>
                  <a:pt x="8" y="541"/>
                </a:lnTo>
                <a:lnTo>
                  <a:pt x="0" y="625"/>
                </a:lnTo>
                <a:lnTo>
                  <a:pt x="3" y="715"/>
                </a:lnTo>
                <a:lnTo>
                  <a:pt x="19" y="813"/>
                </a:lnTo>
                <a:lnTo>
                  <a:pt x="55" y="915"/>
                </a:lnTo>
                <a:lnTo>
                  <a:pt x="105" y="1023"/>
                </a:lnTo>
                <a:lnTo>
                  <a:pt x="171" y="1139"/>
                </a:lnTo>
                <a:lnTo>
                  <a:pt x="364" y="1380"/>
                </a:lnTo>
                <a:lnTo>
                  <a:pt x="424" y="1526"/>
                </a:lnTo>
                <a:lnTo>
                  <a:pt x="422" y="1808"/>
                </a:lnTo>
                <a:lnTo>
                  <a:pt x="468" y="1890"/>
                </a:lnTo>
                <a:lnTo>
                  <a:pt x="1218" y="1958"/>
                </a:lnTo>
                <a:lnTo>
                  <a:pt x="1276" y="1900"/>
                </a:lnTo>
                <a:lnTo>
                  <a:pt x="1351" y="1654"/>
                </a:lnTo>
                <a:lnTo>
                  <a:pt x="1442" y="1508"/>
                </a:lnTo>
                <a:lnTo>
                  <a:pt x="1610" y="1370"/>
                </a:lnTo>
                <a:lnTo>
                  <a:pt x="1646" y="1344"/>
                </a:lnTo>
                <a:lnTo>
                  <a:pt x="1687" y="1316"/>
                </a:lnTo>
                <a:lnTo>
                  <a:pt x="1729" y="1284"/>
                </a:lnTo>
                <a:lnTo>
                  <a:pt x="1773" y="1251"/>
                </a:lnTo>
                <a:lnTo>
                  <a:pt x="1814" y="1211"/>
                </a:lnTo>
                <a:lnTo>
                  <a:pt x="1858" y="1171"/>
                </a:lnTo>
                <a:lnTo>
                  <a:pt x="1900" y="1125"/>
                </a:lnTo>
                <a:lnTo>
                  <a:pt x="1938" y="1077"/>
                </a:lnTo>
                <a:lnTo>
                  <a:pt x="1977" y="1025"/>
                </a:lnTo>
                <a:lnTo>
                  <a:pt x="2007" y="969"/>
                </a:lnTo>
                <a:lnTo>
                  <a:pt x="2037" y="911"/>
                </a:lnTo>
                <a:lnTo>
                  <a:pt x="2059" y="849"/>
                </a:lnTo>
                <a:lnTo>
                  <a:pt x="2076" y="783"/>
                </a:lnTo>
                <a:lnTo>
                  <a:pt x="2087" y="713"/>
                </a:lnTo>
                <a:lnTo>
                  <a:pt x="2087" y="639"/>
                </a:lnTo>
                <a:lnTo>
                  <a:pt x="2081" y="561"/>
                </a:lnTo>
                <a:lnTo>
                  <a:pt x="2051" y="479"/>
                </a:lnTo>
                <a:lnTo>
                  <a:pt x="2007" y="403"/>
                </a:lnTo>
                <a:lnTo>
                  <a:pt x="1952" y="333"/>
                </a:lnTo>
                <a:lnTo>
                  <a:pt x="1886" y="271"/>
                </a:lnTo>
                <a:lnTo>
                  <a:pt x="1811" y="218"/>
                </a:lnTo>
                <a:lnTo>
                  <a:pt x="1729" y="168"/>
                </a:lnTo>
                <a:lnTo>
                  <a:pt x="1638" y="126"/>
                </a:lnTo>
                <a:lnTo>
                  <a:pt x="1544" y="90"/>
                </a:lnTo>
                <a:lnTo>
                  <a:pt x="1442" y="60"/>
                </a:lnTo>
                <a:lnTo>
                  <a:pt x="1340" y="36"/>
                </a:lnTo>
                <a:lnTo>
                  <a:pt x="1235" y="18"/>
                </a:lnTo>
                <a:lnTo>
                  <a:pt x="1127" y="8"/>
                </a:lnTo>
                <a:lnTo>
                  <a:pt x="1023" y="0"/>
                </a:lnTo>
                <a:lnTo>
                  <a:pt x="918" y="0"/>
                </a:lnTo>
                <a:lnTo>
                  <a:pt x="816" y="6"/>
                </a:lnTo>
                <a:lnTo>
                  <a:pt x="719" y="16"/>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3416400" y="760320"/>
            <a:ext cx="3003480" cy="2924280"/>
          </a:xfrm>
          <a:custGeom>
            <a:avLst/>
            <a:gdLst/>
            <a:ahLst/>
            <a:rect l="l" t="t" r="r" b="b"/>
            <a:pathLst>
              <a:path w="1892" h="1842">
                <a:moveTo>
                  <a:pt x="667" y="8"/>
                </a:moveTo>
                <a:lnTo>
                  <a:pt x="568" y="32"/>
                </a:lnTo>
                <a:lnTo>
                  <a:pt x="474" y="60"/>
                </a:lnTo>
                <a:lnTo>
                  <a:pt x="386" y="94"/>
                </a:lnTo>
                <a:lnTo>
                  <a:pt x="303" y="134"/>
                </a:lnTo>
                <a:lnTo>
                  <a:pt x="229" y="178"/>
                </a:lnTo>
                <a:lnTo>
                  <a:pt x="165" y="227"/>
                </a:lnTo>
                <a:lnTo>
                  <a:pt x="110" y="281"/>
                </a:lnTo>
                <a:lnTo>
                  <a:pt x="63" y="341"/>
                </a:lnTo>
                <a:lnTo>
                  <a:pt x="30" y="405"/>
                </a:lnTo>
                <a:lnTo>
                  <a:pt x="8" y="475"/>
                </a:lnTo>
                <a:lnTo>
                  <a:pt x="0" y="551"/>
                </a:lnTo>
                <a:lnTo>
                  <a:pt x="3" y="631"/>
                </a:lnTo>
                <a:lnTo>
                  <a:pt x="22" y="717"/>
                </a:lnTo>
                <a:lnTo>
                  <a:pt x="58" y="807"/>
                </a:lnTo>
                <a:lnTo>
                  <a:pt x="108" y="903"/>
                </a:lnTo>
                <a:lnTo>
                  <a:pt x="176" y="1005"/>
                </a:lnTo>
                <a:lnTo>
                  <a:pt x="414" y="1224"/>
                </a:lnTo>
                <a:lnTo>
                  <a:pt x="449" y="1352"/>
                </a:lnTo>
                <a:lnTo>
                  <a:pt x="430" y="1698"/>
                </a:lnTo>
                <a:lnTo>
                  <a:pt x="532" y="1792"/>
                </a:lnTo>
                <a:lnTo>
                  <a:pt x="1037" y="1842"/>
                </a:lnTo>
                <a:lnTo>
                  <a:pt x="1147" y="1778"/>
                </a:lnTo>
                <a:lnTo>
                  <a:pt x="1219" y="1486"/>
                </a:lnTo>
                <a:lnTo>
                  <a:pt x="1301" y="1356"/>
                </a:lnTo>
                <a:lnTo>
                  <a:pt x="1442" y="1232"/>
                </a:lnTo>
                <a:lnTo>
                  <a:pt x="1478" y="1206"/>
                </a:lnTo>
                <a:lnTo>
                  <a:pt x="1517" y="1179"/>
                </a:lnTo>
                <a:lnTo>
                  <a:pt x="1555" y="1149"/>
                </a:lnTo>
                <a:lnTo>
                  <a:pt x="1596" y="1115"/>
                </a:lnTo>
                <a:lnTo>
                  <a:pt x="1635" y="1079"/>
                </a:lnTo>
                <a:lnTo>
                  <a:pt x="1674" y="1041"/>
                </a:lnTo>
                <a:lnTo>
                  <a:pt x="1712" y="999"/>
                </a:lnTo>
                <a:lnTo>
                  <a:pt x="1748" y="955"/>
                </a:lnTo>
                <a:lnTo>
                  <a:pt x="1781" y="907"/>
                </a:lnTo>
                <a:lnTo>
                  <a:pt x="1812" y="857"/>
                </a:lnTo>
                <a:lnTo>
                  <a:pt x="1836" y="805"/>
                </a:lnTo>
                <a:lnTo>
                  <a:pt x="1858" y="749"/>
                </a:lnTo>
                <a:lnTo>
                  <a:pt x="1875" y="689"/>
                </a:lnTo>
                <a:lnTo>
                  <a:pt x="1886" y="627"/>
                </a:lnTo>
                <a:lnTo>
                  <a:pt x="1892" y="561"/>
                </a:lnTo>
                <a:lnTo>
                  <a:pt x="1889" y="493"/>
                </a:lnTo>
                <a:lnTo>
                  <a:pt x="1861" y="419"/>
                </a:lnTo>
                <a:lnTo>
                  <a:pt x="1823" y="353"/>
                </a:lnTo>
                <a:lnTo>
                  <a:pt x="1773" y="293"/>
                </a:lnTo>
                <a:lnTo>
                  <a:pt x="1715" y="239"/>
                </a:lnTo>
                <a:lnTo>
                  <a:pt x="1649" y="191"/>
                </a:lnTo>
                <a:lnTo>
                  <a:pt x="1574" y="148"/>
                </a:lnTo>
                <a:lnTo>
                  <a:pt x="1494" y="112"/>
                </a:lnTo>
                <a:lnTo>
                  <a:pt x="1412" y="82"/>
                </a:lnTo>
                <a:lnTo>
                  <a:pt x="1321" y="56"/>
                </a:lnTo>
                <a:lnTo>
                  <a:pt x="1230" y="36"/>
                </a:lnTo>
                <a:lnTo>
                  <a:pt x="1133" y="20"/>
                </a:lnTo>
                <a:lnTo>
                  <a:pt x="1040" y="8"/>
                </a:lnTo>
                <a:lnTo>
                  <a:pt x="943" y="2"/>
                </a:lnTo>
                <a:lnTo>
                  <a:pt x="849" y="0"/>
                </a:lnTo>
                <a:lnTo>
                  <a:pt x="756" y="2"/>
                </a:lnTo>
                <a:lnTo>
                  <a:pt x="667" y="8"/>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3498840" y="795240"/>
            <a:ext cx="2824200" cy="2886120"/>
          </a:xfrm>
          <a:custGeom>
            <a:avLst/>
            <a:gdLst/>
            <a:ahLst/>
            <a:rect l="l" t="t" r="r" b="b"/>
            <a:pathLst>
              <a:path w="1779" h="1818">
                <a:moveTo>
                  <a:pt x="646" y="6"/>
                </a:moveTo>
                <a:lnTo>
                  <a:pt x="546" y="28"/>
                </a:lnTo>
                <a:lnTo>
                  <a:pt x="453" y="56"/>
                </a:lnTo>
                <a:lnTo>
                  <a:pt x="367" y="90"/>
                </a:lnTo>
                <a:lnTo>
                  <a:pt x="287" y="128"/>
                </a:lnTo>
                <a:lnTo>
                  <a:pt x="215" y="169"/>
                </a:lnTo>
                <a:lnTo>
                  <a:pt x="152" y="217"/>
                </a:lnTo>
                <a:lnTo>
                  <a:pt x="100" y="269"/>
                </a:lnTo>
                <a:lnTo>
                  <a:pt x="58" y="325"/>
                </a:lnTo>
                <a:lnTo>
                  <a:pt x="25" y="387"/>
                </a:lnTo>
                <a:lnTo>
                  <a:pt x="6" y="455"/>
                </a:lnTo>
                <a:lnTo>
                  <a:pt x="0" y="525"/>
                </a:lnTo>
                <a:lnTo>
                  <a:pt x="6" y="601"/>
                </a:lnTo>
                <a:lnTo>
                  <a:pt x="25" y="681"/>
                </a:lnTo>
                <a:lnTo>
                  <a:pt x="61" y="765"/>
                </a:lnTo>
                <a:lnTo>
                  <a:pt x="113" y="853"/>
                </a:lnTo>
                <a:lnTo>
                  <a:pt x="180" y="947"/>
                </a:lnTo>
                <a:lnTo>
                  <a:pt x="207" y="979"/>
                </a:lnTo>
                <a:lnTo>
                  <a:pt x="232" y="1013"/>
                </a:lnTo>
                <a:lnTo>
                  <a:pt x="260" y="1045"/>
                </a:lnTo>
                <a:lnTo>
                  <a:pt x="287" y="1079"/>
                </a:lnTo>
                <a:lnTo>
                  <a:pt x="312" y="1111"/>
                </a:lnTo>
                <a:lnTo>
                  <a:pt x="340" y="1145"/>
                </a:lnTo>
                <a:lnTo>
                  <a:pt x="364" y="1176"/>
                </a:lnTo>
                <a:lnTo>
                  <a:pt x="392" y="1210"/>
                </a:lnTo>
                <a:lnTo>
                  <a:pt x="400" y="1242"/>
                </a:lnTo>
                <a:lnTo>
                  <a:pt x="408" y="1272"/>
                </a:lnTo>
                <a:lnTo>
                  <a:pt x="417" y="1304"/>
                </a:lnTo>
                <a:lnTo>
                  <a:pt x="425" y="1336"/>
                </a:lnTo>
                <a:lnTo>
                  <a:pt x="420" y="1422"/>
                </a:lnTo>
                <a:lnTo>
                  <a:pt x="414" y="1506"/>
                </a:lnTo>
                <a:lnTo>
                  <a:pt x="406" y="1592"/>
                </a:lnTo>
                <a:lnTo>
                  <a:pt x="400" y="1678"/>
                </a:lnTo>
                <a:lnTo>
                  <a:pt x="411" y="1690"/>
                </a:lnTo>
                <a:lnTo>
                  <a:pt x="425" y="1702"/>
                </a:lnTo>
                <a:lnTo>
                  <a:pt x="436" y="1714"/>
                </a:lnTo>
                <a:lnTo>
                  <a:pt x="447" y="1726"/>
                </a:lnTo>
                <a:lnTo>
                  <a:pt x="461" y="1738"/>
                </a:lnTo>
                <a:lnTo>
                  <a:pt x="472" y="1750"/>
                </a:lnTo>
                <a:lnTo>
                  <a:pt x="483" y="1762"/>
                </a:lnTo>
                <a:lnTo>
                  <a:pt x="494" y="1774"/>
                </a:lnTo>
                <a:lnTo>
                  <a:pt x="524" y="1776"/>
                </a:lnTo>
                <a:lnTo>
                  <a:pt x="555" y="1780"/>
                </a:lnTo>
                <a:lnTo>
                  <a:pt x="585" y="1782"/>
                </a:lnTo>
                <a:lnTo>
                  <a:pt x="613" y="1784"/>
                </a:lnTo>
                <a:lnTo>
                  <a:pt x="643" y="1788"/>
                </a:lnTo>
                <a:lnTo>
                  <a:pt x="673" y="1790"/>
                </a:lnTo>
                <a:lnTo>
                  <a:pt x="704" y="1792"/>
                </a:lnTo>
                <a:lnTo>
                  <a:pt x="731" y="1796"/>
                </a:lnTo>
                <a:lnTo>
                  <a:pt x="761" y="1798"/>
                </a:lnTo>
                <a:lnTo>
                  <a:pt x="792" y="1800"/>
                </a:lnTo>
                <a:lnTo>
                  <a:pt x="822" y="1804"/>
                </a:lnTo>
                <a:lnTo>
                  <a:pt x="850" y="1806"/>
                </a:lnTo>
                <a:lnTo>
                  <a:pt x="880" y="1810"/>
                </a:lnTo>
                <a:lnTo>
                  <a:pt x="910" y="1812"/>
                </a:lnTo>
                <a:lnTo>
                  <a:pt x="938" y="1816"/>
                </a:lnTo>
                <a:lnTo>
                  <a:pt x="968" y="1818"/>
                </a:lnTo>
                <a:lnTo>
                  <a:pt x="982" y="1810"/>
                </a:lnTo>
                <a:lnTo>
                  <a:pt x="996" y="1802"/>
                </a:lnTo>
                <a:lnTo>
                  <a:pt x="1007" y="1794"/>
                </a:lnTo>
                <a:lnTo>
                  <a:pt x="1021" y="1786"/>
                </a:lnTo>
                <a:lnTo>
                  <a:pt x="1034" y="1778"/>
                </a:lnTo>
                <a:lnTo>
                  <a:pt x="1045" y="1770"/>
                </a:lnTo>
                <a:lnTo>
                  <a:pt x="1059" y="1762"/>
                </a:lnTo>
                <a:lnTo>
                  <a:pt x="1073" y="1754"/>
                </a:lnTo>
                <a:lnTo>
                  <a:pt x="1090" y="1680"/>
                </a:lnTo>
                <a:lnTo>
                  <a:pt x="1109" y="1608"/>
                </a:lnTo>
                <a:lnTo>
                  <a:pt x="1125" y="1536"/>
                </a:lnTo>
                <a:lnTo>
                  <a:pt x="1142" y="1464"/>
                </a:lnTo>
                <a:lnTo>
                  <a:pt x="1161" y="1432"/>
                </a:lnTo>
                <a:lnTo>
                  <a:pt x="1183" y="1400"/>
                </a:lnTo>
                <a:lnTo>
                  <a:pt x="1203" y="1368"/>
                </a:lnTo>
                <a:lnTo>
                  <a:pt x="1222" y="1336"/>
                </a:lnTo>
                <a:lnTo>
                  <a:pt x="1238" y="1320"/>
                </a:lnTo>
                <a:lnTo>
                  <a:pt x="1255" y="1304"/>
                </a:lnTo>
                <a:lnTo>
                  <a:pt x="1272" y="1290"/>
                </a:lnTo>
                <a:lnTo>
                  <a:pt x="1288" y="1274"/>
                </a:lnTo>
                <a:lnTo>
                  <a:pt x="1305" y="1258"/>
                </a:lnTo>
                <a:lnTo>
                  <a:pt x="1321" y="1244"/>
                </a:lnTo>
                <a:lnTo>
                  <a:pt x="1338" y="1228"/>
                </a:lnTo>
                <a:lnTo>
                  <a:pt x="1354" y="1212"/>
                </a:lnTo>
                <a:lnTo>
                  <a:pt x="1387" y="1186"/>
                </a:lnTo>
                <a:lnTo>
                  <a:pt x="1423" y="1159"/>
                </a:lnTo>
                <a:lnTo>
                  <a:pt x="1459" y="1129"/>
                </a:lnTo>
                <a:lnTo>
                  <a:pt x="1498" y="1095"/>
                </a:lnTo>
                <a:lnTo>
                  <a:pt x="1533" y="1059"/>
                </a:lnTo>
                <a:lnTo>
                  <a:pt x="1569" y="1021"/>
                </a:lnTo>
                <a:lnTo>
                  <a:pt x="1605" y="979"/>
                </a:lnTo>
                <a:lnTo>
                  <a:pt x="1638" y="935"/>
                </a:lnTo>
                <a:lnTo>
                  <a:pt x="1671" y="889"/>
                </a:lnTo>
                <a:lnTo>
                  <a:pt x="1699" y="839"/>
                </a:lnTo>
                <a:lnTo>
                  <a:pt x="1724" y="787"/>
                </a:lnTo>
                <a:lnTo>
                  <a:pt x="1746" y="731"/>
                </a:lnTo>
                <a:lnTo>
                  <a:pt x="1762" y="671"/>
                </a:lnTo>
                <a:lnTo>
                  <a:pt x="1773" y="611"/>
                </a:lnTo>
                <a:lnTo>
                  <a:pt x="1779" y="545"/>
                </a:lnTo>
                <a:lnTo>
                  <a:pt x="1779" y="477"/>
                </a:lnTo>
                <a:lnTo>
                  <a:pt x="1757" y="409"/>
                </a:lnTo>
                <a:lnTo>
                  <a:pt x="1724" y="345"/>
                </a:lnTo>
                <a:lnTo>
                  <a:pt x="1682" y="287"/>
                </a:lnTo>
                <a:lnTo>
                  <a:pt x="1630" y="237"/>
                </a:lnTo>
                <a:lnTo>
                  <a:pt x="1569" y="191"/>
                </a:lnTo>
                <a:lnTo>
                  <a:pt x="1500" y="150"/>
                </a:lnTo>
                <a:lnTo>
                  <a:pt x="1426" y="114"/>
                </a:lnTo>
                <a:lnTo>
                  <a:pt x="1349" y="84"/>
                </a:lnTo>
                <a:lnTo>
                  <a:pt x="1263" y="58"/>
                </a:lnTo>
                <a:lnTo>
                  <a:pt x="1178" y="38"/>
                </a:lnTo>
                <a:lnTo>
                  <a:pt x="1090" y="22"/>
                </a:lnTo>
                <a:lnTo>
                  <a:pt x="999" y="10"/>
                </a:lnTo>
                <a:lnTo>
                  <a:pt x="908" y="4"/>
                </a:lnTo>
                <a:lnTo>
                  <a:pt x="819" y="0"/>
                </a:lnTo>
                <a:lnTo>
                  <a:pt x="731" y="2"/>
                </a:lnTo>
                <a:lnTo>
                  <a:pt x="646" y="6"/>
                </a:lnTo>
                <a:close/>
              </a:path>
            </a:pathLst>
          </a:custGeom>
          <a:solidFill>
            <a:srgbClr val="ffce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3587760" y="833400"/>
            <a:ext cx="2638440" cy="2844720"/>
          </a:xfrm>
          <a:custGeom>
            <a:avLst/>
            <a:gdLst/>
            <a:ahLst/>
            <a:rect l="l" t="t" r="r" b="b"/>
            <a:pathLst>
              <a:path w="1662" h="1792">
                <a:moveTo>
                  <a:pt x="620" y="4"/>
                </a:moveTo>
                <a:lnTo>
                  <a:pt x="521" y="26"/>
                </a:lnTo>
                <a:lnTo>
                  <a:pt x="430" y="52"/>
                </a:lnTo>
                <a:lnTo>
                  <a:pt x="344" y="84"/>
                </a:lnTo>
                <a:lnTo>
                  <a:pt x="267" y="120"/>
                </a:lnTo>
                <a:lnTo>
                  <a:pt x="198" y="159"/>
                </a:lnTo>
                <a:lnTo>
                  <a:pt x="137" y="205"/>
                </a:lnTo>
                <a:lnTo>
                  <a:pt x="88" y="255"/>
                </a:lnTo>
                <a:lnTo>
                  <a:pt x="49" y="309"/>
                </a:lnTo>
                <a:lnTo>
                  <a:pt x="22" y="367"/>
                </a:lnTo>
                <a:lnTo>
                  <a:pt x="5" y="431"/>
                </a:lnTo>
                <a:lnTo>
                  <a:pt x="0" y="497"/>
                </a:lnTo>
                <a:lnTo>
                  <a:pt x="8" y="567"/>
                </a:lnTo>
                <a:lnTo>
                  <a:pt x="30" y="641"/>
                </a:lnTo>
                <a:lnTo>
                  <a:pt x="66" y="719"/>
                </a:lnTo>
                <a:lnTo>
                  <a:pt x="115" y="801"/>
                </a:lnTo>
                <a:lnTo>
                  <a:pt x="182" y="887"/>
                </a:lnTo>
                <a:lnTo>
                  <a:pt x="204" y="925"/>
                </a:lnTo>
                <a:lnTo>
                  <a:pt x="228" y="963"/>
                </a:lnTo>
                <a:lnTo>
                  <a:pt x="250" y="1001"/>
                </a:lnTo>
                <a:lnTo>
                  <a:pt x="273" y="1039"/>
                </a:lnTo>
                <a:lnTo>
                  <a:pt x="295" y="1079"/>
                </a:lnTo>
                <a:lnTo>
                  <a:pt x="319" y="1117"/>
                </a:lnTo>
                <a:lnTo>
                  <a:pt x="341" y="1154"/>
                </a:lnTo>
                <a:lnTo>
                  <a:pt x="364" y="1192"/>
                </a:lnTo>
                <a:lnTo>
                  <a:pt x="372" y="1224"/>
                </a:lnTo>
                <a:lnTo>
                  <a:pt x="380" y="1254"/>
                </a:lnTo>
                <a:lnTo>
                  <a:pt x="388" y="1286"/>
                </a:lnTo>
                <a:lnTo>
                  <a:pt x="394" y="1316"/>
                </a:lnTo>
                <a:lnTo>
                  <a:pt x="388" y="1402"/>
                </a:lnTo>
                <a:lnTo>
                  <a:pt x="383" y="1486"/>
                </a:lnTo>
                <a:lnTo>
                  <a:pt x="375" y="1572"/>
                </a:lnTo>
                <a:lnTo>
                  <a:pt x="369" y="1658"/>
                </a:lnTo>
                <a:lnTo>
                  <a:pt x="380" y="1670"/>
                </a:lnTo>
                <a:lnTo>
                  <a:pt x="391" y="1680"/>
                </a:lnTo>
                <a:lnTo>
                  <a:pt x="402" y="1692"/>
                </a:lnTo>
                <a:lnTo>
                  <a:pt x="413" y="1704"/>
                </a:lnTo>
                <a:lnTo>
                  <a:pt x="421" y="1716"/>
                </a:lnTo>
                <a:lnTo>
                  <a:pt x="432" y="1728"/>
                </a:lnTo>
                <a:lnTo>
                  <a:pt x="443" y="1738"/>
                </a:lnTo>
                <a:lnTo>
                  <a:pt x="455" y="1750"/>
                </a:lnTo>
                <a:lnTo>
                  <a:pt x="482" y="1752"/>
                </a:lnTo>
                <a:lnTo>
                  <a:pt x="510" y="1756"/>
                </a:lnTo>
                <a:lnTo>
                  <a:pt x="537" y="1758"/>
                </a:lnTo>
                <a:lnTo>
                  <a:pt x="565" y="1760"/>
                </a:lnTo>
                <a:lnTo>
                  <a:pt x="592" y="1764"/>
                </a:lnTo>
                <a:lnTo>
                  <a:pt x="620" y="1766"/>
                </a:lnTo>
                <a:lnTo>
                  <a:pt x="648" y="1768"/>
                </a:lnTo>
                <a:lnTo>
                  <a:pt x="675" y="1770"/>
                </a:lnTo>
                <a:lnTo>
                  <a:pt x="703" y="1774"/>
                </a:lnTo>
                <a:lnTo>
                  <a:pt x="730" y="1776"/>
                </a:lnTo>
                <a:lnTo>
                  <a:pt x="758" y="1778"/>
                </a:lnTo>
                <a:lnTo>
                  <a:pt x="785" y="1782"/>
                </a:lnTo>
                <a:lnTo>
                  <a:pt x="813" y="1784"/>
                </a:lnTo>
                <a:lnTo>
                  <a:pt x="841" y="1786"/>
                </a:lnTo>
                <a:lnTo>
                  <a:pt x="868" y="1790"/>
                </a:lnTo>
                <a:lnTo>
                  <a:pt x="896" y="1792"/>
                </a:lnTo>
                <a:lnTo>
                  <a:pt x="907" y="1784"/>
                </a:lnTo>
                <a:lnTo>
                  <a:pt x="920" y="1776"/>
                </a:lnTo>
                <a:lnTo>
                  <a:pt x="932" y="1766"/>
                </a:lnTo>
                <a:lnTo>
                  <a:pt x="945" y="1758"/>
                </a:lnTo>
                <a:lnTo>
                  <a:pt x="956" y="1750"/>
                </a:lnTo>
                <a:lnTo>
                  <a:pt x="970" y="1742"/>
                </a:lnTo>
                <a:lnTo>
                  <a:pt x="981" y="1736"/>
                </a:lnTo>
                <a:lnTo>
                  <a:pt x="992" y="1728"/>
                </a:lnTo>
                <a:lnTo>
                  <a:pt x="1011" y="1656"/>
                </a:lnTo>
                <a:lnTo>
                  <a:pt x="1028" y="1584"/>
                </a:lnTo>
                <a:lnTo>
                  <a:pt x="1045" y="1512"/>
                </a:lnTo>
                <a:lnTo>
                  <a:pt x="1061" y="1440"/>
                </a:lnTo>
                <a:lnTo>
                  <a:pt x="1080" y="1408"/>
                </a:lnTo>
                <a:lnTo>
                  <a:pt x="1100" y="1376"/>
                </a:lnTo>
                <a:lnTo>
                  <a:pt x="1116" y="1344"/>
                </a:lnTo>
                <a:lnTo>
                  <a:pt x="1136" y="1312"/>
                </a:lnTo>
                <a:lnTo>
                  <a:pt x="1152" y="1296"/>
                </a:lnTo>
                <a:lnTo>
                  <a:pt x="1166" y="1282"/>
                </a:lnTo>
                <a:lnTo>
                  <a:pt x="1182" y="1266"/>
                </a:lnTo>
                <a:lnTo>
                  <a:pt x="1199" y="1250"/>
                </a:lnTo>
                <a:lnTo>
                  <a:pt x="1213" y="1236"/>
                </a:lnTo>
                <a:lnTo>
                  <a:pt x="1229" y="1220"/>
                </a:lnTo>
                <a:lnTo>
                  <a:pt x="1243" y="1206"/>
                </a:lnTo>
                <a:lnTo>
                  <a:pt x="1260" y="1190"/>
                </a:lnTo>
                <a:lnTo>
                  <a:pt x="1323" y="1137"/>
                </a:lnTo>
                <a:lnTo>
                  <a:pt x="1392" y="1073"/>
                </a:lnTo>
                <a:lnTo>
                  <a:pt x="1461" y="999"/>
                </a:lnTo>
                <a:lnTo>
                  <a:pt x="1524" y="915"/>
                </a:lnTo>
                <a:lnTo>
                  <a:pt x="1582" y="819"/>
                </a:lnTo>
                <a:lnTo>
                  <a:pt x="1626" y="713"/>
                </a:lnTo>
                <a:lnTo>
                  <a:pt x="1654" y="593"/>
                </a:lnTo>
                <a:lnTo>
                  <a:pt x="1662" y="461"/>
                </a:lnTo>
                <a:lnTo>
                  <a:pt x="1648" y="397"/>
                </a:lnTo>
                <a:lnTo>
                  <a:pt x="1621" y="337"/>
                </a:lnTo>
                <a:lnTo>
                  <a:pt x="1585" y="283"/>
                </a:lnTo>
                <a:lnTo>
                  <a:pt x="1538" y="233"/>
                </a:lnTo>
                <a:lnTo>
                  <a:pt x="1486" y="189"/>
                </a:lnTo>
                <a:lnTo>
                  <a:pt x="1422" y="149"/>
                </a:lnTo>
                <a:lnTo>
                  <a:pt x="1356" y="116"/>
                </a:lnTo>
                <a:lnTo>
                  <a:pt x="1282" y="86"/>
                </a:lnTo>
                <a:lnTo>
                  <a:pt x="1204" y="60"/>
                </a:lnTo>
                <a:lnTo>
                  <a:pt x="1122" y="40"/>
                </a:lnTo>
                <a:lnTo>
                  <a:pt x="1039" y="24"/>
                </a:lnTo>
                <a:lnTo>
                  <a:pt x="954" y="12"/>
                </a:lnTo>
                <a:lnTo>
                  <a:pt x="868" y="4"/>
                </a:lnTo>
                <a:lnTo>
                  <a:pt x="783" y="0"/>
                </a:lnTo>
                <a:lnTo>
                  <a:pt x="700" y="0"/>
                </a:lnTo>
                <a:lnTo>
                  <a:pt x="620" y="4"/>
                </a:lnTo>
                <a:close/>
              </a:path>
            </a:pathLst>
          </a:custGeom>
          <a:solidFill>
            <a:srgbClr val="ffd1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675240" y="868320"/>
            <a:ext cx="2458800" cy="2806920"/>
          </a:xfrm>
          <a:custGeom>
            <a:avLst/>
            <a:gdLst/>
            <a:ahLst/>
            <a:rect l="l" t="t" r="r" b="b"/>
            <a:pathLst>
              <a:path w="1549" h="1768">
                <a:moveTo>
                  <a:pt x="595" y="4"/>
                </a:moveTo>
                <a:lnTo>
                  <a:pt x="496" y="24"/>
                </a:lnTo>
                <a:lnTo>
                  <a:pt x="408" y="50"/>
                </a:lnTo>
                <a:lnTo>
                  <a:pt x="322" y="80"/>
                </a:lnTo>
                <a:lnTo>
                  <a:pt x="248" y="114"/>
                </a:lnTo>
                <a:lnTo>
                  <a:pt x="182" y="153"/>
                </a:lnTo>
                <a:lnTo>
                  <a:pt x="127" y="195"/>
                </a:lnTo>
                <a:lnTo>
                  <a:pt x="80" y="243"/>
                </a:lnTo>
                <a:lnTo>
                  <a:pt x="41" y="295"/>
                </a:lnTo>
                <a:lnTo>
                  <a:pt x="16" y="349"/>
                </a:lnTo>
                <a:lnTo>
                  <a:pt x="2" y="409"/>
                </a:lnTo>
                <a:lnTo>
                  <a:pt x="0" y="471"/>
                </a:lnTo>
                <a:lnTo>
                  <a:pt x="8" y="537"/>
                </a:lnTo>
                <a:lnTo>
                  <a:pt x="30" y="605"/>
                </a:lnTo>
                <a:lnTo>
                  <a:pt x="66" y="677"/>
                </a:lnTo>
                <a:lnTo>
                  <a:pt x="118" y="751"/>
                </a:lnTo>
                <a:lnTo>
                  <a:pt x="182" y="829"/>
                </a:lnTo>
                <a:lnTo>
                  <a:pt x="201" y="873"/>
                </a:lnTo>
                <a:lnTo>
                  <a:pt x="220" y="915"/>
                </a:lnTo>
                <a:lnTo>
                  <a:pt x="240" y="959"/>
                </a:lnTo>
                <a:lnTo>
                  <a:pt x="262" y="1003"/>
                </a:lnTo>
                <a:lnTo>
                  <a:pt x="281" y="1045"/>
                </a:lnTo>
                <a:lnTo>
                  <a:pt x="300" y="1089"/>
                </a:lnTo>
                <a:lnTo>
                  <a:pt x="320" y="1132"/>
                </a:lnTo>
                <a:lnTo>
                  <a:pt x="339" y="1176"/>
                </a:lnTo>
                <a:lnTo>
                  <a:pt x="344" y="1208"/>
                </a:lnTo>
                <a:lnTo>
                  <a:pt x="353" y="1238"/>
                </a:lnTo>
                <a:lnTo>
                  <a:pt x="358" y="1270"/>
                </a:lnTo>
                <a:lnTo>
                  <a:pt x="364" y="1300"/>
                </a:lnTo>
                <a:lnTo>
                  <a:pt x="358" y="1384"/>
                </a:lnTo>
                <a:lnTo>
                  <a:pt x="350" y="1468"/>
                </a:lnTo>
                <a:lnTo>
                  <a:pt x="344" y="1554"/>
                </a:lnTo>
                <a:lnTo>
                  <a:pt x="336" y="1638"/>
                </a:lnTo>
                <a:lnTo>
                  <a:pt x="355" y="1660"/>
                </a:lnTo>
                <a:lnTo>
                  <a:pt x="377" y="1684"/>
                </a:lnTo>
                <a:lnTo>
                  <a:pt x="397" y="1708"/>
                </a:lnTo>
                <a:lnTo>
                  <a:pt x="416" y="1730"/>
                </a:lnTo>
                <a:lnTo>
                  <a:pt x="466" y="1734"/>
                </a:lnTo>
                <a:lnTo>
                  <a:pt x="518" y="1740"/>
                </a:lnTo>
                <a:lnTo>
                  <a:pt x="568" y="1744"/>
                </a:lnTo>
                <a:lnTo>
                  <a:pt x="620" y="1748"/>
                </a:lnTo>
                <a:lnTo>
                  <a:pt x="672" y="1754"/>
                </a:lnTo>
                <a:lnTo>
                  <a:pt x="722" y="1758"/>
                </a:lnTo>
                <a:lnTo>
                  <a:pt x="774" y="1764"/>
                </a:lnTo>
                <a:lnTo>
                  <a:pt x="824" y="1768"/>
                </a:lnTo>
                <a:lnTo>
                  <a:pt x="835" y="1760"/>
                </a:lnTo>
                <a:lnTo>
                  <a:pt x="846" y="1752"/>
                </a:lnTo>
                <a:lnTo>
                  <a:pt x="857" y="1744"/>
                </a:lnTo>
                <a:lnTo>
                  <a:pt x="871" y="1736"/>
                </a:lnTo>
                <a:lnTo>
                  <a:pt x="882" y="1728"/>
                </a:lnTo>
                <a:lnTo>
                  <a:pt x="893" y="1720"/>
                </a:lnTo>
                <a:lnTo>
                  <a:pt x="904" y="1712"/>
                </a:lnTo>
                <a:lnTo>
                  <a:pt x="915" y="1704"/>
                </a:lnTo>
                <a:lnTo>
                  <a:pt x="932" y="1632"/>
                </a:lnTo>
                <a:lnTo>
                  <a:pt x="948" y="1560"/>
                </a:lnTo>
                <a:lnTo>
                  <a:pt x="965" y="1490"/>
                </a:lnTo>
                <a:lnTo>
                  <a:pt x="981" y="1418"/>
                </a:lnTo>
                <a:lnTo>
                  <a:pt x="998" y="1386"/>
                </a:lnTo>
                <a:lnTo>
                  <a:pt x="1017" y="1354"/>
                </a:lnTo>
                <a:lnTo>
                  <a:pt x="1034" y="1324"/>
                </a:lnTo>
                <a:lnTo>
                  <a:pt x="1050" y="1292"/>
                </a:lnTo>
                <a:lnTo>
                  <a:pt x="1067" y="1276"/>
                </a:lnTo>
                <a:lnTo>
                  <a:pt x="1081" y="1260"/>
                </a:lnTo>
                <a:lnTo>
                  <a:pt x="1097" y="1246"/>
                </a:lnTo>
                <a:lnTo>
                  <a:pt x="1111" y="1230"/>
                </a:lnTo>
                <a:lnTo>
                  <a:pt x="1125" y="1214"/>
                </a:lnTo>
                <a:lnTo>
                  <a:pt x="1138" y="1200"/>
                </a:lnTo>
                <a:lnTo>
                  <a:pt x="1155" y="1184"/>
                </a:lnTo>
                <a:lnTo>
                  <a:pt x="1169" y="1168"/>
                </a:lnTo>
                <a:lnTo>
                  <a:pt x="1227" y="1115"/>
                </a:lnTo>
                <a:lnTo>
                  <a:pt x="1290" y="1053"/>
                </a:lnTo>
                <a:lnTo>
                  <a:pt x="1354" y="979"/>
                </a:lnTo>
                <a:lnTo>
                  <a:pt x="1414" y="895"/>
                </a:lnTo>
                <a:lnTo>
                  <a:pt x="1467" y="799"/>
                </a:lnTo>
                <a:lnTo>
                  <a:pt x="1508" y="693"/>
                </a:lnTo>
                <a:lnTo>
                  <a:pt x="1538" y="575"/>
                </a:lnTo>
                <a:lnTo>
                  <a:pt x="1549" y="445"/>
                </a:lnTo>
                <a:lnTo>
                  <a:pt x="1541" y="385"/>
                </a:lnTo>
                <a:lnTo>
                  <a:pt x="1519" y="329"/>
                </a:lnTo>
                <a:lnTo>
                  <a:pt x="1489" y="279"/>
                </a:lnTo>
                <a:lnTo>
                  <a:pt x="1450" y="231"/>
                </a:lnTo>
                <a:lnTo>
                  <a:pt x="1400" y="189"/>
                </a:lnTo>
                <a:lnTo>
                  <a:pt x="1345" y="151"/>
                </a:lnTo>
                <a:lnTo>
                  <a:pt x="1285" y="120"/>
                </a:lnTo>
                <a:lnTo>
                  <a:pt x="1218" y="90"/>
                </a:lnTo>
                <a:lnTo>
                  <a:pt x="1144" y="64"/>
                </a:lnTo>
                <a:lnTo>
                  <a:pt x="1070" y="44"/>
                </a:lnTo>
                <a:lnTo>
                  <a:pt x="992" y="28"/>
                </a:lnTo>
                <a:lnTo>
                  <a:pt x="912" y="14"/>
                </a:lnTo>
                <a:lnTo>
                  <a:pt x="832" y="6"/>
                </a:lnTo>
                <a:lnTo>
                  <a:pt x="752" y="2"/>
                </a:lnTo>
                <a:lnTo>
                  <a:pt x="672" y="0"/>
                </a:lnTo>
                <a:lnTo>
                  <a:pt x="595" y="4"/>
                </a:lnTo>
                <a:close/>
              </a:path>
            </a:pathLst>
          </a:custGeom>
          <a:solidFill>
            <a:srgbClr val="ffd6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3757680" y="903240"/>
            <a:ext cx="2281320" cy="2768760"/>
          </a:xfrm>
          <a:custGeom>
            <a:avLst/>
            <a:gdLst/>
            <a:ahLst/>
            <a:rect l="l" t="t" r="r" b="b"/>
            <a:pathLst>
              <a:path w="1437" h="1744">
                <a:moveTo>
                  <a:pt x="571" y="2"/>
                </a:moveTo>
                <a:lnTo>
                  <a:pt x="474" y="22"/>
                </a:lnTo>
                <a:lnTo>
                  <a:pt x="383" y="46"/>
                </a:lnTo>
                <a:lnTo>
                  <a:pt x="303" y="74"/>
                </a:lnTo>
                <a:lnTo>
                  <a:pt x="232" y="107"/>
                </a:lnTo>
                <a:lnTo>
                  <a:pt x="168" y="145"/>
                </a:lnTo>
                <a:lnTo>
                  <a:pt x="113" y="185"/>
                </a:lnTo>
                <a:lnTo>
                  <a:pt x="69" y="231"/>
                </a:lnTo>
                <a:lnTo>
                  <a:pt x="36" y="279"/>
                </a:lnTo>
                <a:lnTo>
                  <a:pt x="14" y="331"/>
                </a:lnTo>
                <a:lnTo>
                  <a:pt x="3" y="387"/>
                </a:lnTo>
                <a:lnTo>
                  <a:pt x="0" y="445"/>
                </a:lnTo>
                <a:lnTo>
                  <a:pt x="14" y="505"/>
                </a:lnTo>
                <a:lnTo>
                  <a:pt x="36" y="569"/>
                </a:lnTo>
                <a:lnTo>
                  <a:pt x="72" y="635"/>
                </a:lnTo>
                <a:lnTo>
                  <a:pt x="121" y="701"/>
                </a:lnTo>
                <a:lnTo>
                  <a:pt x="185" y="771"/>
                </a:lnTo>
                <a:lnTo>
                  <a:pt x="201" y="819"/>
                </a:lnTo>
                <a:lnTo>
                  <a:pt x="218" y="869"/>
                </a:lnTo>
                <a:lnTo>
                  <a:pt x="234" y="917"/>
                </a:lnTo>
                <a:lnTo>
                  <a:pt x="251" y="967"/>
                </a:lnTo>
                <a:lnTo>
                  <a:pt x="268" y="1017"/>
                </a:lnTo>
                <a:lnTo>
                  <a:pt x="284" y="1065"/>
                </a:lnTo>
                <a:lnTo>
                  <a:pt x="301" y="1114"/>
                </a:lnTo>
                <a:lnTo>
                  <a:pt x="317" y="1162"/>
                </a:lnTo>
                <a:lnTo>
                  <a:pt x="323" y="1192"/>
                </a:lnTo>
                <a:lnTo>
                  <a:pt x="328" y="1222"/>
                </a:lnTo>
                <a:lnTo>
                  <a:pt x="334" y="1254"/>
                </a:lnTo>
                <a:lnTo>
                  <a:pt x="339" y="1284"/>
                </a:lnTo>
                <a:lnTo>
                  <a:pt x="331" y="1368"/>
                </a:lnTo>
                <a:lnTo>
                  <a:pt x="325" y="1450"/>
                </a:lnTo>
                <a:lnTo>
                  <a:pt x="317" y="1534"/>
                </a:lnTo>
                <a:lnTo>
                  <a:pt x="309" y="1618"/>
                </a:lnTo>
                <a:lnTo>
                  <a:pt x="328" y="1640"/>
                </a:lnTo>
                <a:lnTo>
                  <a:pt x="345" y="1664"/>
                </a:lnTo>
                <a:lnTo>
                  <a:pt x="361" y="1686"/>
                </a:lnTo>
                <a:lnTo>
                  <a:pt x="381" y="1710"/>
                </a:lnTo>
                <a:lnTo>
                  <a:pt x="427" y="1714"/>
                </a:lnTo>
                <a:lnTo>
                  <a:pt x="474" y="1718"/>
                </a:lnTo>
                <a:lnTo>
                  <a:pt x="521" y="1722"/>
                </a:lnTo>
                <a:lnTo>
                  <a:pt x="568" y="1726"/>
                </a:lnTo>
                <a:lnTo>
                  <a:pt x="615" y="1730"/>
                </a:lnTo>
                <a:lnTo>
                  <a:pt x="662" y="1736"/>
                </a:lnTo>
                <a:lnTo>
                  <a:pt x="709" y="1740"/>
                </a:lnTo>
                <a:lnTo>
                  <a:pt x="756" y="1744"/>
                </a:lnTo>
                <a:lnTo>
                  <a:pt x="767" y="1736"/>
                </a:lnTo>
                <a:lnTo>
                  <a:pt x="778" y="1728"/>
                </a:lnTo>
                <a:lnTo>
                  <a:pt x="786" y="1720"/>
                </a:lnTo>
                <a:lnTo>
                  <a:pt x="797" y="1712"/>
                </a:lnTo>
                <a:lnTo>
                  <a:pt x="808" y="1704"/>
                </a:lnTo>
                <a:lnTo>
                  <a:pt x="819" y="1696"/>
                </a:lnTo>
                <a:lnTo>
                  <a:pt x="827" y="1688"/>
                </a:lnTo>
                <a:lnTo>
                  <a:pt x="838" y="1680"/>
                </a:lnTo>
                <a:lnTo>
                  <a:pt x="855" y="1610"/>
                </a:lnTo>
                <a:lnTo>
                  <a:pt x="871" y="1538"/>
                </a:lnTo>
                <a:lnTo>
                  <a:pt x="888" y="1466"/>
                </a:lnTo>
                <a:lnTo>
                  <a:pt x="904" y="1396"/>
                </a:lnTo>
                <a:lnTo>
                  <a:pt x="921" y="1364"/>
                </a:lnTo>
                <a:lnTo>
                  <a:pt x="938" y="1332"/>
                </a:lnTo>
                <a:lnTo>
                  <a:pt x="954" y="1302"/>
                </a:lnTo>
                <a:lnTo>
                  <a:pt x="971" y="1270"/>
                </a:lnTo>
                <a:lnTo>
                  <a:pt x="984" y="1254"/>
                </a:lnTo>
                <a:lnTo>
                  <a:pt x="998" y="1240"/>
                </a:lnTo>
                <a:lnTo>
                  <a:pt x="1012" y="1224"/>
                </a:lnTo>
                <a:lnTo>
                  <a:pt x="1026" y="1208"/>
                </a:lnTo>
                <a:lnTo>
                  <a:pt x="1037" y="1194"/>
                </a:lnTo>
                <a:lnTo>
                  <a:pt x="1051" y="1178"/>
                </a:lnTo>
                <a:lnTo>
                  <a:pt x="1064" y="1164"/>
                </a:lnTo>
                <a:lnTo>
                  <a:pt x="1078" y="1148"/>
                </a:lnTo>
                <a:lnTo>
                  <a:pt x="1133" y="1094"/>
                </a:lnTo>
                <a:lnTo>
                  <a:pt x="1191" y="1033"/>
                </a:lnTo>
                <a:lnTo>
                  <a:pt x="1249" y="961"/>
                </a:lnTo>
                <a:lnTo>
                  <a:pt x="1304" y="877"/>
                </a:lnTo>
                <a:lnTo>
                  <a:pt x="1354" y="783"/>
                </a:lnTo>
                <a:lnTo>
                  <a:pt x="1395" y="677"/>
                </a:lnTo>
                <a:lnTo>
                  <a:pt x="1423" y="559"/>
                </a:lnTo>
                <a:lnTo>
                  <a:pt x="1437" y="429"/>
                </a:lnTo>
                <a:lnTo>
                  <a:pt x="1434" y="373"/>
                </a:lnTo>
                <a:lnTo>
                  <a:pt x="1420" y="321"/>
                </a:lnTo>
                <a:lnTo>
                  <a:pt x="1398" y="273"/>
                </a:lnTo>
                <a:lnTo>
                  <a:pt x="1362" y="229"/>
                </a:lnTo>
                <a:lnTo>
                  <a:pt x="1321" y="189"/>
                </a:lnTo>
                <a:lnTo>
                  <a:pt x="1271" y="153"/>
                </a:lnTo>
                <a:lnTo>
                  <a:pt x="1216" y="121"/>
                </a:lnTo>
                <a:lnTo>
                  <a:pt x="1155" y="92"/>
                </a:lnTo>
                <a:lnTo>
                  <a:pt x="1089" y="68"/>
                </a:lnTo>
                <a:lnTo>
                  <a:pt x="1018" y="46"/>
                </a:lnTo>
                <a:lnTo>
                  <a:pt x="946" y="28"/>
                </a:lnTo>
                <a:lnTo>
                  <a:pt x="871" y="16"/>
                </a:lnTo>
                <a:lnTo>
                  <a:pt x="794" y="6"/>
                </a:lnTo>
                <a:lnTo>
                  <a:pt x="720" y="0"/>
                </a:lnTo>
                <a:lnTo>
                  <a:pt x="645" y="0"/>
                </a:lnTo>
                <a:lnTo>
                  <a:pt x="571" y="2"/>
                </a:lnTo>
                <a:close/>
              </a:path>
            </a:pathLst>
          </a:custGeom>
          <a:solidFill>
            <a:srgbClr val="ffdb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3840120" y="938160"/>
            <a:ext cx="2109960" cy="2730600"/>
          </a:xfrm>
          <a:custGeom>
            <a:avLst/>
            <a:gdLst/>
            <a:ahLst/>
            <a:rect l="l" t="t" r="r" b="b"/>
            <a:pathLst>
              <a:path w="1329" h="1720">
                <a:moveTo>
                  <a:pt x="549" y="2"/>
                </a:moveTo>
                <a:lnTo>
                  <a:pt x="453" y="20"/>
                </a:lnTo>
                <a:lnTo>
                  <a:pt x="364" y="42"/>
                </a:lnTo>
                <a:lnTo>
                  <a:pt x="284" y="70"/>
                </a:lnTo>
                <a:lnTo>
                  <a:pt x="216" y="101"/>
                </a:lnTo>
                <a:lnTo>
                  <a:pt x="155" y="137"/>
                </a:lnTo>
                <a:lnTo>
                  <a:pt x="102" y="175"/>
                </a:lnTo>
                <a:lnTo>
                  <a:pt x="61" y="219"/>
                </a:lnTo>
                <a:lnTo>
                  <a:pt x="31" y="265"/>
                </a:lnTo>
                <a:lnTo>
                  <a:pt x="12" y="315"/>
                </a:lnTo>
                <a:lnTo>
                  <a:pt x="0" y="365"/>
                </a:lnTo>
                <a:lnTo>
                  <a:pt x="3" y="419"/>
                </a:lnTo>
                <a:lnTo>
                  <a:pt x="17" y="475"/>
                </a:lnTo>
                <a:lnTo>
                  <a:pt x="42" y="533"/>
                </a:lnTo>
                <a:lnTo>
                  <a:pt x="78" y="593"/>
                </a:lnTo>
                <a:lnTo>
                  <a:pt x="127" y="653"/>
                </a:lnTo>
                <a:lnTo>
                  <a:pt x="191" y="715"/>
                </a:lnTo>
                <a:lnTo>
                  <a:pt x="205" y="769"/>
                </a:lnTo>
                <a:lnTo>
                  <a:pt x="216" y="823"/>
                </a:lnTo>
                <a:lnTo>
                  <a:pt x="229" y="877"/>
                </a:lnTo>
                <a:lnTo>
                  <a:pt x="243" y="931"/>
                </a:lnTo>
                <a:lnTo>
                  <a:pt x="254" y="985"/>
                </a:lnTo>
                <a:lnTo>
                  <a:pt x="268" y="1039"/>
                </a:lnTo>
                <a:lnTo>
                  <a:pt x="279" y="1092"/>
                </a:lnTo>
                <a:lnTo>
                  <a:pt x="293" y="1146"/>
                </a:lnTo>
                <a:lnTo>
                  <a:pt x="298" y="1176"/>
                </a:lnTo>
                <a:lnTo>
                  <a:pt x="304" y="1206"/>
                </a:lnTo>
                <a:lnTo>
                  <a:pt x="307" y="1236"/>
                </a:lnTo>
                <a:lnTo>
                  <a:pt x="312" y="1266"/>
                </a:lnTo>
                <a:lnTo>
                  <a:pt x="304" y="1350"/>
                </a:lnTo>
                <a:lnTo>
                  <a:pt x="296" y="1432"/>
                </a:lnTo>
                <a:lnTo>
                  <a:pt x="287" y="1514"/>
                </a:lnTo>
                <a:lnTo>
                  <a:pt x="282" y="1596"/>
                </a:lnTo>
                <a:lnTo>
                  <a:pt x="296" y="1620"/>
                </a:lnTo>
                <a:lnTo>
                  <a:pt x="312" y="1642"/>
                </a:lnTo>
                <a:lnTo>
                  <a:pt x="329" y="1666"/>
                </a:lnTo>
                <a:lnTo>
                  <a:pt x="345" y="1688"/>
                </a:lnTo>
                <a:lnTo>
                  <a:pt x="386" y="1692"/>
                </a:lnTo>
                <a:lnTo>
                  <a:pt x="431" y="1696"/>
                </a:lnTo>
                <a:lnTo>
                  <a:pt x="472" y="1700"/>
                </a:lnTo>
                <a:lnTo>
                  <a:pt x="516" y="1704"/>
                </a:lnTo>
                <a:lnTo>
                  <a:pt x="557" y="1708"/>
                </a:lnTo>
                <a:lnTo>
                  <a:pt x="602" y="1712"/>
                </a:lnTo>
                <a:lnTo>
                  <a:pt x="643" y="1716"/>
                </a:lnTo>
                <a:lnTo>
                  <a:pt x="687" y="1720"/>
                </a:lnTo>
                <a:lnTo>
                  <a:pt x="706" y="1704"/>
                </a:lnTo>
                <a:lnTo>
                  <a:pt x="726" y="1688"/>
                </a:lnTo>
                <a:lnTo>
                  <a:pt x="745" y="1672"/>
                </a:lnTo>
                <a:lnTo>
                  <a:pt x="764" y="1656"/>
                </a:lnTo>
                <a:lnTo>
                  <a:pt x="778" y="1586"/>
                </a:lnTo>
                <a:lnTo>
                  <a:pt x="795" y="1514"/>
                </a:lnTo>
                <a:lnTo>
                  <a:pt x="811" y="1444"/>
                </a:lnTo>
                <a:lnTo>
                  <a:pt x="828" y="1374"/>
                </a:lnTo>
                <a:lnTo>
                  <a:pt x="841" y="1342"/>
                </a:lnTo>
                <a:lnTo>
                  <a:pt x="858" y="1312"/>
                </a:lnTo>
                <a:lnTo>
                  <a:pt x="875" y="1282"/>
                </a:lnTo>
                <a:lnTo>
                  <a:pt x="888" y="1250"/>
                </a:lnTo>
                <a:lnTo>
                  <a:pt x="902" y="1234"/>
                </a:lnTo>
                <a:lnTo>
                  <a:pt x="913" y="1218"/>
                </a:lnTo>
                <a:lnTo>
                  <a:pt x="927" y="1204"/>
                </a:lnTo>
                <a:lnTo>
                  <a:pt x="941" y="1188"/>
                </a:lnTo>
                <a:lnTo>
                  <a:pt x="952" y="1174"/>
                </a:lnTo>
                <a:lnTo>
                  <a:pt x="966" y="1158"/>
                </a:lnTo>
                <a:lnTo>
                  <a:pt x="977" y="1144"/>
                </a:lnTo>
                <a:lnTo>
                  <a:pt x="990" y="1128"/>
                </a:lnTo>
                <a:lnTo>
                  <a:pt x="1040" y="1074"/>
                </a:lnTo>
                <a:lnTo>
                  <a:pt x="1092" y="1013"/>
                </a:lnTo>
                <a:lnTo>
                  <a:pt x="1145" y="941"/>
                </a:lnTo>
                <a:lnTo>
                  <a:pt x="1194" y="859"/>
                </a:lnTo>
                <a:lnTo>
                  <a:pt x="1241" y="765"/>
                </a:lnTo>
                <a:lnTo>
                  <a:pt x="1280" y="661"/>
                </a:lnTo>
                <a:lnTo>
                  <a:pt x="1310" y="543"/>
                </a:lnTo>
                <a:lnTo>
                  <a:pt x="1327" y="415"/>
                </a:lnTo>
                <a:lnTo>
                  <a:pt x="1329" y="363"/>
                </a:lnTo>
                <a:lnTo>
                  <a:pt x="1321" y="315"/>
                </a:lnTo>
                <a:lnTo>
                  <a:pt x="1305" y="271"/>
                </a:lnTo>
                <a:lnTo>
                  <a:pt x="1277" y="229"/>
                </a:lnTo>
                <a:lnTo>
                  <a:pt x="1241" y="189"/>
                </a:lnTo>
                <a:lnTo>
                  <a:pt x="1197" y="155"/>
                </a:lnTo>
                <a:lnTo>
                  <a:pt x="1147" y="123"/>
                </a:lnTo>
                <a:lnTo>
                  <a:pt x="1092" y="95"/>
                </a:lnTo>
                <a:lnTo>
                  <a:pt x="1032" y="70"/>
                </a:lnTo>
                <a:lnTo>
                  <a:pt x="968" y="50"/>
                </a:lnTo>
                <a:lnTo>
                  <a:pt x="899" y="32"/>
                </a:lnTo>
                <a:lnTo>
                  <a:pt x="830" y="18"/>
                </a:lnTo>
                <a:lnTo>
                  <a:pt x="759" y="8"/>
                </a:lnTo>
                <a:lnTo>
                  <a:pt x="687" y="2"/>
                </a:lnTo>
                <a:lnTo>
                  <a:pt x="618" y="0"/>
                </a:lnTo>
                <a:lnTo>
                  <a:pt x="549" y="2"/>
                </a:lnTo>
                <a:close/>
              </a:path>
            </a:pathLst>
          </a:custGeom>
          <a:solidFill>
            <a:srgbClr val="ffe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3924360" y="976320"/>
            <a:ext cx="1942920" cy="2689200"/>
          </a:xfrm>
          <a:custGeom>
            <a:avLst/>
            <a:gdLst/>
            <a:ahLst/>
            <a:rect l="l" t="t" r="r" b="b"/>
            <a:pathLst>
              <a:path w="1224" h="1694">
                <a:moveTo>
                  <a:pt x="527" y="0"/>
                </a:moveTo>
                <a:lnTo>
                  <a:pt x="430" y="16"/>
                </a:lnTo>
                <a:lnTo>
                  <a:pt x="345" y="38"/>
                </a:lnTo>
                <a:lnTo>
                  <a:pt x="265" y="63"/>
                </a:lnTo>
                <a:lnTo>
                  <a:pt x="198" y="93"/>
                </a:lnTo>
                <a:lnTo>
                  <a:pt x="140" y="127"/>
                </a:lnTo>
                <a:lnTo>
                  <a:pt x="91" y="165"/>
                </a:lnTo>
                <a:lnTo>
                  <a:pt x="52" y="205"/>
                </a:lnTo>
                <a:lnTo>
                  <a:pt x="25" y="249"/>
                </a:lnTo>
                <a:lnTo>
                  <a:pt x="8" y="293"/>
                </a:lnTo>
                <a:lnTo>
                  <a:pt x="0" y="341"/>
                </a:lnTo>
                <a:lnTo>
                  <a:pt x="5" y="391"/>
                </a:lnTo>
                <a:lnTo>
                  <a:pt x="19" y="443"/>
                </a:lnTo>
                <a:lnTo>
                  <a:pt x="47" y="495"/>
                </a:lnTo>
                <a:lnTo>
                  <a:pt x="83" y="547"/>
                </a:lnTo>
                <a:lnTo>
                  <a:pt x="132" y="601"/>
                </a:lnTo>
                <a:lnTo>
                  <a:pt x="193" y="655"/>
                </a:lnTo>
                <a:lnTo>
                  <a:pt x="212" y="773"/>
                </a:lnTo>
                <a:lnTo>
                  <a:pt x="231" y="893"/>
                </a:lnTo>
                <a:lnTo>
                  <a:pt x="251" y="1011"/>
                </a:lnTo>
                <a:lnTo>
                  <a:pt x="270" y="1130"/>
                </a:lnTo>
                <a:lnTo>
                  <a:pt x="273" y="1160"/>
                </a:lnTo>
                <a:lnTo>
                  <a:pt x="278" y="1188"/>
                </a:lnTo>
                <a:lnTo>
                  <a:pt x="281" y="1218"/>
                </a:lnTo>
                <a:lnTo>
                  <a:pt x="284" y="1248"/>
                </a:lnTo>
                <a:lnTo>
                  <a:pt x="276" y="1330"/>
                </a:lnTo>
                <a:lnTo>
                  <a:pt x="267" y="1412"/>
                </a:lnTo>
                <a:lnTo>
                  <a:pt x="259" y="1494"/>
                </a:lnTo>
                <a:lnTo>
                  <a:pt x="251" y="1576"/>
                </a:lnTo>
                <a:lnTo>
                  <a:pt x="265" y="1598"/>
                </a:lnTo>
                <a:lnTo>
                  <a:pt x="281" y="1620"/>
                </a:lnTo>
                <a:lnTo>
                  <a:pt x="295" y="1644"/>
                </a:lnTo>
                <a:lnTo>
                  <a:pt x="309" y="1666"/>
                </a:lnTo>
                <a:lnTo>
                  <a:pt x="347" y="1670"/>
                </a:lnTo>
                <a:lnTo>
                  <a:pt x="386" y="1672"/>
                </a:lnTo>
                <a:lnTo>
                  <a:pt x="424" y="1676"/>
                </a:lnTo>
                <a:lnTo>
                  <a:pt x="463" y="1680"/>
                </a:lnTo>
                <a:lnTo>
                  <a:pt x="499" y="1682"/>
                </a:lnTo>
                <a:lnTo>
                  <a:pt x="538" y="1686"/>
                </a:lnTo>
                <a:lnTo>
                  <a:pt x="576" y="1690"/>
                </a:lnTo>
                <a:lnTo>
                  <a:pt x="615" y="1694"/>
                </a:lnTo>
                <a:lnTo>
                  <a:pt x="634" y="1678"/>
                </a:lnTo>
                <a:lnTo>
                  <a:pt x="651" y="1662"/>
                </a:lnTo>
                <a:lnTo>
                  <a:pt x="670" y="1646"/>
                </a:lnTo>
                <a:lnTo>
                  <a:pt x="686" y="1630"/>
                </a:lnTo>
                <a:lnTo>
                  <a:pt x="703" y="1560"/>
                </a:lnTo>
                <a:lnTo>
                  <a:pt x="720" y="1490"/>
                </a:lnTo>
                <a:lnTo>
                  <a:pt x="733" y="1422"/>
                </a:lnTo>
                <a:lnTo>
                  <a:pt x="750" y="1352"/>
                </a:lnTo>
                <a:lnTo>
                  <a:pt x="764" y="1320"/>
                </a:lnTo>
                <a:lnTo>
                  <a:pt x="780" y="1288"/>
                </a:lnTo>
                <a:lnTo>
                  <a:pt x="794" y="1258"/>
                </a:lnTo>
                <a:lnTo>
                  <a:pt x="808" y="1226"/>
                </a:lnTo>
                <a:lnTo>
                  <a:pt x="819" y="1210"/>
                </a:lnTo>
                <a:lnTo>
                  <a:pt x="830" y="1196"/>
                </a:lnTo>
                <a:lnTo>
                  <a:pt x="841" y="1180"/>
                </a:lnTo>
                <a:lnTo>
                  <a:pt x="855" y="1166"/>
                </a:lnTo>
                <a:lnTo>
                  <a:pt x="866" y="1150"/>
                </a:lnTo>
                <a:lnTo>
                  <a:pt x="877" y="1136"/>
                </a:lnTo>
                <a:lnTo>
                  <a:pt x="890" y="1120"/>
                </a:lnTo>
                <a:lnTo>
                  <a:pt x="901" y="1104"/>
                </a:lnTo>
                <a:lnTo>
                  <a:pt x="946" y="1050"/>
                </a:lnTo>
                <a:lnTo>
                  <a:pt x="992" y="989"/>
                </a:lnTo>
                <a:lnTo>
                  <a:pt x="1039" y="919"/>
                </a:lnTo>
                <a:lnTo>
                  <a:pt x="1086" y="837"/>
                </a:lnTo>
                <a:lnTo>
                  <a:pt x="1128" y="745"/>
                </a:lnTo>
                <a:lnTo>
                  <a:pt x="1163" y="641"/>
                </a:lnTo>
                <a:lnTo>
                  <a:pt x="1194" y="525"/>
                </a:lnTo>
                <a:lnTo>
                  <a:pt x="1213" y="397"/>
                </a:lnTo>
                <a:lnTo>
                  <a:pt x="1224" y="351"/>
                </a:lnTo>
                <a:lnTo>
                  <a:pt x="1221" y="307"/>
                </a:lnTo>
                <a:lnTo>
                  <a:pt x="1210" y="265"/>
                </a:lnTo>
                <a:lnTo>
                  <a:pt x="1188" y="225"/>
                </a:lnTo>
                <a:lnTo>
                  <a:pt x="1161" y="189"/>
                </a:lnTo>
                <a:lnTo>
                  <a:pt x="1122" y="155"/>
                </a:lnTo>
                <a:lnTo>
                  <a:pt x="1078" y="125"/>
                </a:lnTo>
                <a:lnTo>
                  <a:pt x="1028" y="97"/>
                </a:lnTo>
                <a:lnTo>
                  <a:pt x="973" y="73"/>
                </a:lnTo>
                <a:lnTo>
                  <a:pt x="915" y="52"/>
                </a:lnTo>
                <a:lnTo>
                  <a:pt x="852" y="34"/>
                </a:lnTo>
                <a:lnTo>
                  <a:pt x="788" y="20"/>
                </a:lnTo>
                <a:lnTo>
                  <a:pt x="722" y="10"/>
                </a:lnTo>
                <a:lnTo>
                  <a:pt x="656" y="2"/>
                </a:lnTo>
                <a:lnTo>
                  <a:pt x="590" y="0"/>
                </a:lnTo>
                <a:lnTo>
                  <a:pt x="527" y="0"/>
                </a:lnTo>
                <a:close/>
              </a:path>
            </a:pathLst>
          </a:custGeom>
          <a:solidFill>
            <a:srgbClr val="ffe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4006800" y="1011240"/>
            <a:ext cx="1781280" cy="2651040"/>
          </a:xfrm>
          <a:custGeom>
            <a:avLst/>
            <a:gdLst/>
            <a:ahLst/>
            <a:rect l="l" t="t" r="r" b="b"/>
            <a:pathLst>
              <a:path w="1122" h="1670">
                <a:moveTo>
                  <a:pt x="505" y="0"/>
                </a:moveTo>
                <a:lnTo>
                  <a:pt x="408" y="16"/>
                </a:lnTo>
                <a:lnTo>
                  <a:pt x="323" y="35"/>
                </a:lnTo>
                <a:lnTo>
                  <a:pt x="248" y="59"/>
                </a:lnTo>
                <a:lnTo>
                  <a:pt x="182" y="87"/>
                </a:lnTo>
                <a:lnTo>
                  <a:pt x="124" y="119"/>
                </a:lnTo>
                <a:lnTo>
                  <a:pt x="80" y="155"/>
                </a:lnTo>
                <a:lnTo>
                  <a:pt x="44" y="193"/>
                </a:lnTo>
                <a:lnTo>
                  <a:pt x="20" y="233"/>
                </a:lnTo>
                <a:lnTo>
                  <a:pt x="6" y="277"/>
                </a:lnTo>
                <a:lnTo>
                  <a:pt x="0" y="321"/>
                </a:lnTo>
                <a:lnTo>
                  <a:pt x="9" y="365"/>
                </a:lnTo>
                <a:lnTo>
                  <a:pt x="25" y="411"/>
                </a:lnTo>
                <a:lnTo>
                  <a:pt x="53" y="459"/>
                </a:lnTo>
                <a:lnTo>
                  <a:pt x="91" y="505"/>
                </a:lnTo>
                <a:lnTo>
                  <a:pt x="138" y="551"/>
                </a:lnTo>
                <a:lnTo>
                  <a:pt x="199" y="597"/>
                </a:lnTo>
                <a:lnTo>
                  <a:pt x="213" y="727"/>
                </a:lnTo>
                <a:lnTo>
                  <a:pt x="224" y="855"/>
                </a:lnTo>
                <a:lnTo>
                  <a:pt x="237" y="985"/>
                </a:lnTo>
                <a:lnTo>
                  <a:pt x="248" y="1114"/>
                </a:lnTo>
                <a:lnTo>
                  <a:pt x="251" y="1144"/>
                </a:lnTo>
                <a:lnTo>
                  <a:pt x="254" y="1172"/>
                </a:lnTo>
                <a:lnTo>
                  <a:pt x="257" y="1202"/>
                </a:lnTo>
                <a:lnTo>
                  <a:pt x="259" y="1232"/>
                </a:lnTo>
                <a:lnTo>
                  <a:pt x="248" y="1314"/>
                </a:lnTo>
                <a:lnTo>
                  <a:pt x="240" y="1394"/>
                </a:lnTo>
                <a:lnTo>
                  <a:pt x="232" y="1476"/>
                </a:lnTo>
                <a:lnTo>
                  <a:pt x="224" y="1556"/>
                </a:lnTo>
                <a:lnTo>
                  <a:pt x="237" y="1578"/>
                </a:lnTo>
                <a:lnTo>
                  <a:pt x="248" y="1600"/>
                </a:lnTo>
                <a:lnTo>
                  <a:pt x="262" y="1622"/>
                </a:lnTo>
                <a:lnTo>
                  <a:pt x="273" y="1644"/>
                </a:lnTo>
                <a:lnTo>
                  <a:pt x="306" y="1648"/>
                </a:lnTo>
                <a:lnTo>
                  <a:pt x="342" y="1652"/>
                </a:lnTo>
                <a:lnTo>
                  <a:pt x="375" y="1654"/>
                </a:lnTo>
                <a:lnTo>
                  <a:pt x="411" y="1658"/>
                </a:lnTo>
                <a:lnTo>
                  <a:pt x="444" y="1660"/>
                </a:lnTo>
                <a:lnTo>
                  <a:pt x="477" y="1664"/>
                </a:lnTo>
                <a:lnTo>
                  <a:pt x="513" y="1666"/>
                </a:lnTo>
                <a:lnTo>
                  <a:pt x="546" y="1670"/>
                </a:lnTo>
                <a:lnTo>
                  <a:pt x="563" y="1654"/>
                </a:lnTo>
                <a:lnTo>
                  <a:pt x="579" y="1638"/>
                </a:lnTo>
                <a:lnTo>
                  <a:pt x="596" y="1622"/>
                </a:lnTo>
                <a:lnTo>
                  <a:pt x="612" y="1606"/>
                </a:lnTo>
                <a:lnTo>
                  <a:pt x="626" y="1536"/>
                </a:lnTo>
                <a:lnTo>
                  <a:pt x="643" y="1468"/>
                </a:lnTo>
                <a:lnTo>
                  <a:pt x="656" y="1398"/>
                </a:lnTo>
                <a:lnTo>
                  <a:pt x="670" y="1330"/>
                </a:lnTo>
                <a:lnTo>
                  <a:pt x="684" y="1298"/>
                </a:lnTo>
                <a:lnTo>
                  <a:pt x="698" y="1268"/>
                </a:lnTo>
                <a:lnTo>
                  <a:pt x="712" y="1236"/>
                </a:lnTo>
                <a:lnTo>
                  <a:pt x="725" y="1206"/>
                </a:lnTo>
                <a:lnTo>
                  <a:pt x="736" y="1190"/>
                </a:lnTo>
                <a:lnTo>
                  <a:pt x="747" y="1174"/>
                </a:lnTo>
                <a:lnTo>
                  <a:pt x="759" y="1160"/>
                </a:lnTo>
                <a:lnTo>
                  <a:pt x="770" y="1144"/>
                </a:lnTo>
                <a:lnTo>
                  <a:pt x="778" y="1130"/>
                </a:lnTo>
                <a:lnTo>
                  <a:pt x="789" y="1114"/>
                </a:lnTo>
                <a:lnTo>
                  <a:pt x="800" y="1100"/>
                </a:lnTo>
                <a:lnTo>
                  <a:pt x="811" y="1084"/>
                </a:lnTo>
                <a:lnTo>
                  <a:pt x="849" y="1032"/>
                </a:lnTo>
                <a:lnTo>
                  <a:pt x="891" y="971"/>
                </a:lnTo>
                <a:lnTo>
                  <a:pt x="935" y="899"/>
                </a:lnTo>
                <a:lnTo>
                  <a:pt x="976" y="817"/>
                </a:lnTo>
                <a:lnTo>
                  <a:pt x="1015" y="727"/>
                </a:lnTo>
                <a:lnTo>
                  <a:pt x="1051" y="623"/>
                </a:lnTo>
                <a:lnTo>
                  <a:pt x="1081" y="509"/>
                </a:lnTo>
                <a:lnTo>
                  <a:pt x="1103" y="383"/>
                </a:lnTo>
                <a:lnTo>
                  <a:pt x="1120" y="341"/>
                </a:lnTo>
                <a:lnTo>
                  <a:pt x="1122" y="299"/>
                </a:lnTo>
                <a:lnTo>
                  <a:pt x="1117" y="261"/>
                </a:lnTo>
                <a:lnTo>
                  <a:pt x="1103" y="223"/>
                </a:lnTo>
                <a:lnTo>
                  <a:pt x="1078" y="189"/>
                </a:lnTo>
                <a:lnTo>
                  <a:pt x="1048" y="157"/>
                </a:lnTo>
                <a:lnTo>
                  <a:pt x="1009" y="127"/>
                </a:lnTo>
                <a:lnTo>
                  <a:pt x="965" y="99"/>
                </a:lnTo>
                <a:lnTo>
                  <a:pt x="918" y="75"/>
                </a:lnTo>
                <a:lnTo>
                  <a:pt x="863" y="53"/>
                </a:lnTo>
                <a:lnTo>
                  <a:pt x="808" y="35"/>
                </a:lnTo>
                <a:lnTo>
                  <a:pt x="747" y="22"/>
                </a:lnTo>
                <a:lnTo>
                  <a:pt x="687" y="10"/>
                </a:lnTo>
                <a:lnTo>
                  <a:pt x="626" y="4"/>
                </a:lnTo>
                <a:lnTo>
                  <a:pt x="565" y="0"/>
                </a:lnTo>
                <a:lnTo>
                  <a:pt x="505" y="0"/>
                </a:lnTo>
                <a:close/>
              </a:path>
            </a:pathLst>
          </a:custGeom>
          <a:solidFill>
            <a:srgbClr val="ffe8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091040" y="1042920"/>
            <a:ext cx="1627200" cy="2616120"/>
          </a:xfrm>
          <a:custGeom>
            <a:avLst/>
            <a:gdLst/>
            <a:ahLst/>
            <a:rect l="l" t="t" r="r" b="b"/>
            <a:pathLst>
              <a:path w="1025" h="1648">
                <a:moveTo>
                  <a:pt x="479" y="0"/>
                </a:moveTo>
                <a:lnTo>
                  <a:pt x="386" y="13"/>
                </a:lnTo>
                <a:lnTo>
                  <a:pt x="300" y="33"/>
                </a:lnTo>
                <a:lnTo>
                  <a:pt x="226" y="55"/>
                </a:lnTo>
                <a:lnTo>
                  <a:pt x="162" y="83"/>
                </a:lnTo>
                <a:lnTo>
                  <a:pt x="110" y="113"/>
                </a:lnTo>
                <a:lnTo>
                  <a:pt x="69" y="147"/>
                </a:lnTo>
                <a:lnTo>
                  <a:pt x="35" y="183"/>
                </a:lnTo>
                <a:lnTo>
                  <a:pt x="13" y="221"/>
                </a:lnTo>
                <a:lnTo>
                  <a:pt x="2" y="259"/>
                </a:lnTo>
                <a:lnTo>
                  <a:pt x="0" y="301"/>
                </a:lnTo>
                <a:lnTo>
                  <a:pt x="8" y="341"/>
                </a:lnTo>
                <a:lnTo>
                  <a:pt x="27" y="383"/>
                </a:lnTo>
                <a:lnTo>
                  <a:pt x="55" y="423"/>
                </a:lnTo>
                <a:lnTo>
                  <a:pt x="93" y="465"/>
                </a:lnTo>
                <a:lnTo>
                  <a:pt x="143" y="503"/>
                </a:lnTo>
                <a:lnTo>
                  <a:pt x="201" y="541"/>
                </a:lnTo>
                <a:lnTo>
                  <a:pt x="206" y="681"/>
                </a:lnTo>
                <a:lnTo>
                  <a:pt x="212" y="821"/>
                </a:lnTo>
                <a:lnTo>
                  <a:pt x="217" y="961"/>
                </a:lnTo>
                <a:lnTo>
                  <a:pt x="223" y="1100"/>
                </a:lnTo>
                <a:lnTo>
                  <a:pt x="226" y="1130"/>
                </a:lnTo>
                <a:lnTo>
                  <a:pt x="228" y="1158"/>
                </a:lnTo>
                <a:lnTo>
                  <a:pt x="228" y="1188"/>
                </a:lnTo>
                <a:lnTo>
                  <a:pt x="231" y="1218"/>
                </a:lnTo>
                <a:lnTo>
                  <a:pt x="220" y="1298"/>
                </a:lnTo>
                <a:lnTo>
                  <a:pt x="212" y="1378"/>
                </a:lnTo>
                <a:lnTo>
                  <a:pt x="204" y="1460"/>
                </a:lnTo>
                <a:lnTo>
                  <a:pt x="193" y="1540"/>
                </a:lnTo>
                <a:lnTo>
                  <a:pt x="204" y="1562"/>
                </a:lnTo>
                <a:lnTo>
                  <a:pt x="215" y="1582"/>
                </a:lnTo>
                <a:lnTo>
                  <a:pt x="223" y="1604"/>
                </a:lnTo>
                <a:lnTo>
                  <a:pt x="234" y="1626"/>
                </a:lnTo>
                <a:lnTo>
                  <a:pt x="264" y="1628"/>
                </a:lnTo>
                <a:lnTo>
                  <a:pt x="295" y="1632"/>
                </a:lnTo>
                <a:lnTo>
                  <a:pt x="325" y="1634"/>
                </a:lnTo>
                <a:lnTo>
                  <a:pt x="355" y="1636"/>
                </a:lnTo>
                <a:lnTo>
                  <a:pt x="386" y="1640"/>
                </a:lnTo>
                <a:lnTo>
                  <a:pt x="416" y="1642"/>
                </a:lnTo>
                <a:lnTo>
                  <a:pt x="446" y="1646"/>
                </a:lnTo>
                <a:lnTo>
                  <a:pt x="477" y="1648"/>
                </a:lnTo>
                <a:lnTo>
                  <a:pt x="490" y="1632"/>
                </a:lnTo>
                <a:lnTo>
                  <a:pt x="507" y="1616"/>
                </a:lnTo>
                <a:lnTo>
                  <a:pt x="521" y="1600"/>
                </a:lnTo>
                <a:lnTo>
                  <a:pt x="535" y="1584"/>
                </a:lnTo>
                <a:lnTo>
                  <a:pt x="548" y="1516"/>
                </a:lnTo>
                <a:lnTo>
                  <a:pt x="565" y="1446"/>
                </a:lnTo>
                <a:lnTo>
                  <a:pt x="579" y="1378"/>
                </a:lnTo>
                <a:lnTo>
                  <a:pt x="592" y="1310"/>
                </a:lnTo>
                <a:lnTo>
                  <a:pt x="606" y="1278"/>
                </a:lnTo>
                <a:lnTo>
                  <a:pt x="617" y="1248"/>
                </a:lnTo>
                <a:lnTo>
                  <a:pt x="631" y="1218"/>
                </a:lnTo>
                <a:lnTo>
                  <a:pt x="642" y="1186"/>
                </a:lnTo>
                <a:lnTo>
                  <a:pt x="661" y="1156"/>
                </a:lnTo>
                <a:lnTo>
                  <a:pt x="683" y="1126"/>
                </a:lnTo>
                <a:lnTo>
                  <a:pt x="703" y="1096"/>
                </a:lnTo>
                <a:lnTo>
                  <a:pt x="722" y="1066"/>
                </a:lnTo>
                <a:lnTo>
                  <a:pt x="755" y="1014"/>
                </a:lnTo>
                <a:lnTo>
                  <a:pt x="791" y="953"/>
                </a:lnTo>
                <a:lnTo>
                  <a:pt x="830" y="881"/>
                </a:lnTo>
                <a:lnTo>
                  <a:pt x="865" y="801"/>
                </a:lnTo>
                <a:lnTo>
                  <a:pt x="901" y="711"/>
                </a:lnTo>
                <a:lnTo>
                  <a:pt x="934" y="609"/>
                </a:lnTo>
                <a:lnTo>
                  <a:pt x="965" y="495"/>
                </a:lnTo>
                <a:lnTo>
                  <a:pt x="989" y="369"/>
                </a:lnTo>
                <a:lnTo>
                  <a:pt x="1012" y="331"/>
                </a:lnTo>
                <a:lnTo>
                  <a:pt x="1023" y="295"/>
                </a:lnTo>
                <a:lnTo>
                  <a:pt x="1025" y="259"/>
                </a:lnTo>
                <a:lnTo>
                  <a:pt x="1014" y="223"/>
                </a:lnTo>
                <a:lnTo>
                  <a:pt x="998" y="191"/>
                </a:lnTo>
                <a:lnTo>
                  <a:pt x="973" y="161"/>
                </a:lnTo>
                <a:lnTo>
                  <a:pt x="940" y="131"/>
                </a:lnTo>
                <a:lnTo>
                  <a:pt x="904" y="105"/>
                </a:lnTo>
                <a:lnTo>
                  <a:pt x="860" y="81"/>
                </a:lnTo>
                <a:lnTo>
                  <a:pt x="810" y="59"/>
                </a:lnTo>
                <a:lnTo>
                  <a:pt x="761" y="41"/>
                </a:lnTo>
                <a:lnTo>
                  <a:pt x="706" y="25"/>
                </a:lnTo>
                <a:lnTo>
                  <a:pt x="650" y="13"/>
                </a:lnTo>
                <a:lnTo>
                  <a:pt x="592" y="6"/>
                </a:lnTo>
                <a:lnTo>
                  <a:pt x="535" y="0"/>
                </a:lnTo>
                <a:lnTo>
                  <a:pt x="479" y="0"/>
                </a:lnTo>
                <a:close/>
              </a:path>
            </a:pathLst>
          </a:custGeom>
          <a:solidFill>
            <a:srgbClr val="ffed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173480" y="1076400"/>
            <a:ext cx="1479600" cy="2579760"/>
          </a:xfrm>
          <a:custGeom>
            <a:avLst/>
            <a:gdLst/>
            <a:ahLst/>
            <a:rect l="l" t="t" r="r" b="b"/>
            <a:pathLst>
              <a:path w="932" h="1625">
                <a:moveTo>
                  <a:pt x="458" y="0"/>
                </a:moveTo>
                <a:lnTo>
                  <a:pt x="364" y="14"/>
                </a:lnTo>
                <a:lnTo>
                  <a:pt x="281" y="30"/>
                </a:lnTo>
                <a:lnTo>
                  <a:pt x="210" y="52"/>
                </a:lnTo>
                <a:lnTo>
                  <a:pt x="146" y="78"/>
                </a:lnTo>
                <a:lnTo>
                  <a:pt x="97" y="106"/>
                </a:lnTo>
                <a:lnTo>
                  <a:pt x="58" y="138"/>
                </a:lnTo>
                <a:lnTo>
                  <a:pt x="28" y="172"/>
                </a:lnTo>
                <a:lnTo>
                  <a:pt x="8" y="206"/>
                </a:lnTo>
                <a:lnTo>
                  <a:pt x="0" y="242"/>
                </a:lnTo>
                <a:lnTo>
                  <a:pt x="0" y="280"/>
                </a:lnTo>
                <a:lnTo>
                  <a:pt x="11" y="316"/>
                </a:lnTo>
                <a:lnTo>
                  <a:pt x="30" y="352"/>
                </a:lnTo>
                <a:lnTo>
                  <a:pt x="61" y="388"/>
                </a:lnTo>
                <a:lnTo>
                  <a:pt x="102" y="422"/>
                </a:lnTo>
                <a:lnTo>
                  <a:pt x="149" y="454"/>
                </a:lnTo>
                <a:lnTo>
                  <a:pt x="207" y="484"/>
                </a:lnTo>
                <a:lnTo>
                  <a:pt x="204" y="636"/>
                </a:lnTo>
                <a:lnTo>
                  <a:pt x="204" y="786"/>
                </a:lnTo>
                <a:lnTo>
                  <a:pt x="204" y="936"/>
                </a:lnTo>
                <a:lnTo>
                  <a:pt x="201" y="1087"/>
                </a:lnTo>
                <a:lnTo>
                  <a:pt x="201" y="1115"/>
                </a:lnTo>
                <a:lnTo>
                  <a:pt x="204" y="1145"/>
                </a:lnTo>
                <a:lnTo>
                  <a:pt x="204" y="1173"/>
                </a:lnTo>
                <a:lnTo>
                  <a:pt x="204" y="1203"/>
                </a:lnTo>
                <a:lnTo>
                  <a:pt x="196" y="1283"/>
                </a:lnTo>
                <a:lnTo>
                  <a:pt x="185" y="1361"/>
                </a:lnTo>
                <a:lnTo>
                  <a:pt x="176" y="1441"/>
                </a:lnTo>
                <a:lnTo>
                  <a:pt x="165" y="1521"/>
                </a:lnTo>
                <a:lnTo>
                  <a:pt x="174" y="1541"/>
                </a:lnTo>
                <a:lnTo>
                  <a:pt x="182" y="1563"/>
                </a:lnTo>
                <a:lnTo>
                  <a:pt x="190" y="1583"/>
                </a:lnTo>
                <a:lnTo>
                  <a:pt x="199" y="1605"/>
                </a:lnTo>
                <a:lnTo>
                  <a:pt x="223" y="1607"/>
                </a:lnTo>
                <a:lnTo>
                  <a:pt x="251" y="1611"/>
                </a:lnTo>
                <a:lnTo>
                  <a:pt x="276" y="1613"/>
                </a:lnTo>
                <a:lnTo>
                  <a:pt x="303" y="1615"/>
                </a:lnTo>
                <a:lnTo>
                  <a:pt x="331" y="1619"/>
                </a:lnTo>
                <a:lnTo>
                  <a:pt x="356" y="1621"/>
                </a:lnTo>
                <a:lnTo>
                  <a:pt x="383" y="1623"/>
                </a:lnTo>
                <a:lnTo>
                  <a:pt x="408" y="1625"/>
                </a:lnTo>
                <a:lnTo>
                  <a:pt x="422" y="1609"/>
                </a:lnTo>
                <a:lnTo>
                  <a:pt x="436" y="1593"/>
                </a:lnTo>
                <a:lnTo>
                  <a:pt x="447" y="1577"/>
                </a:lnTo>
                <a:lnTo>
                  <a:pt x="460" y="1561"/>
                </a:lnTo>
                <a:lnTo>
                  <a:pt x="474" y="1493"/>
                </a:lnTo>
                <a:lnTo>
                  <a:pt x="488" y="1425"/>
                </a:lnTo>
                <a:lnTo>
                  <a:pt x="502" y="1357"/>
                </a:lnTo>
                <a:lnTo>
                  <a:pt x="516" y="1289"/>
                </a:lnTo>
                <a:lnTo>
                  <a:pt x="527" y="1259"/>
                </a:lnTo>
                <a:lnTo>
                  <a:pt x="540" y="1227"/>
                </a:lnTo>
                <a:lnTo>
                  <a:pt x="551" y="1197"/>
                </a:lnTo>
                <a:lnTo>
                  <a:pt x="563" y="1167"/>
                </a:lnTo>
                <a:lnTo>
                  <a:pt x="579" y="1137"/>
                </a:lnTo>
                <a:lnTo>
                  <a:pt x="598" y="1105"/>
                </a:lnTo>
                <a:lnTo>
                  <a:pt x="615" y="1075"/>
                </a:lnTo>
                <a:lnTo>
                  <a:pt x="631" y="1045"/>
                </a:lnTo>
                <a:lnTo>
                  <a:pt x="662" y="993"/>
                </a:lnTo>
                <a:lnTo>
                  <a:pt x="692" y="932"/>
                </a:lnTo>
                <a:lnTo>
                  <a:pt x="722" y="862"/>
                </a:lnTo>
                <a:lnTo>
                  <a:pt x="756" y="784"/>
                </a:lnTo>
                <a:lnTo>
                  <a:pt x="789" y="694"/>
                </a:lnTo>
                <a:lnTo>
                  <a:pt x="822" y="594"/>
                </a:lnTo>
                <a:lnTo>
                  <a:pt x="852" y="480"/>
                </a:lnTo>
                <a:lnTo>
                  <a:pt x="880" y="356"/>
                </a:lnTo>
                <a:lnTo>
                  <a:pt x="907" y="322"/>
                </a:lnTo>
                <a:lnTo>
                  <a:pt x="926" y="290"/>
                </a:lnTo>
                <a:lnTo>
                  <a:pt x="932" y="256"/>
                </a:lnTo>
                <a:lnTo>
                  <a:pt x="929" y="224"/>
                </a:lnTo>
                <a:lnTo>
                  <a:pt x="918" y="194"/>
                </a:lnTo>
                <a:lnTo>
                  <a:pt x="899" y="164"/>
                </a:lnTo>
                <a:lnTo>
                  <a:pt x="874" y="136"/>
                </a:lnTo>
                <a:lnTo>
                  <a:pt x="841" y="110"/>
                </a:lnTo>
                <a:lnTo>
                  <a:pt x="802" y="86"/>
                </a:lnTo>
                <a:lnTo>
                  <a:pt x="761" y="64"/>
                </a:lnTo>
                <a:lnTo>
                  <a:pt x="717" y="44"/>
                </a:lnTo>
                <a:lnTo>
                  <a:pt x="667" y="28"/>
                </a:lnTo>
                <a:lnTo>
                  <a:pt x="615" y="16"/>
                </a:lnTo>
                <a:lnTo>
                  <a:pt x="563" y="6"/>
                </a:lnTo>
                <a:lnTo>
                  <a:pt x="510" y="2"/>
                </a:lnTo>
                <a:lnTo>
                  <a:pt x="458" y="0"/>
                </a:lnTo>
                <a:close/>
              </a:path>
            </a:pathLst>
          </a:custGeom>
          <a:solidFill>
            <a:srgbClr val="fff2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253040" y="1111320"/>
            <a:ext cx="1338120" cy="2541600"/>
          </a:xfrm>
          <a:custGeom>
            <a:avLst/>
            <a:gdLst/>
            <a:ahLst/>
            <a:rect l="l" t="t" r="r" b="b"/>
            <a:pathLst>
              <a:path w="843" h="1601">
                <a:moveTo>
                  <a:pt x="438" y="0"/>
                </a:moveTo>
                <a:lnTo>
                  <a:pt x="344" y="12"/>
                </a:lnTo>
                <a:lnTo>
                  <a:pt x="262" y="28"/>
                </a:lnTo>
                <a:lnTo>
                  <a:pt x="193" y="48"/>
                </a:lnTo>
                <a:lnTo>
                  <a:pt x="132" y="72"/>
                </a:lnTo>
                <a:lnTo>
                  <a:pt x="85" y="100"/>
                </a:lnTo>
                <a:lnTo>
                  <a:pt x="49" y="128"/>
                </a:lnTo>
                <a:lnTo>
                  <a:pt x="22" y="160"/>
                </a:lnTo>
                <a:lnTo>
                  <a:pt x="5" y="192"/>
                </a:lnTo>
                <a:lnTo>
                  <a:pt x="0" y="224"/>
                </a:lnTo>
                <a:lnTo>
                  <a:pt x="2" y="258"/>
                </a:lnTo>
                <a:lnTo>
                  <a:pt x="16" y="290"/>
                </a:lnTo>
                <a:lnTo>
                  <a:pt x="38" y="322"/>
                </a:lnTo>
                <a:lnTo>
                  <a:pt x="69" y="352"/>
                </a:lnTo>
                <a:lnTo>
                  <a:pt x="107" y="380"/>
                </a:lnTo>
                <a:lnTo>
                  <a:pt x="157" y="404"/>
                </a:lnTo>
                <a:lnTo>
                  <a:pt x="212" y="426"/>
                </a:lnTo>
                <a:lnTo>
                  <a:pt x="204" y="588"/>
                </a:lnTo>
                <a:lnTo>
                  <a:pt x="195" y="750"/>
                </a:lnTo>
                <a:lnTo>
                  <a:pt x="187" y="912"/>
                </a:lnTo>
                <a:lnTo>
                  <a:pt x="182" y="1071"/>
                </a:lnTo>
                <a:lnTo>
                  <a:pt x="182" y="1099"/>
                </a:lnTo>
                <a:lnTo>
                  <a:pt x="182" y="1127"/>
                </a:lnTo>
                <a:lnTo>
                  <a:pt x="182" y="1157"/>
                </a:lnTo>
                <a:lnTo>
                  <a:pt x="182" y="1185"/>
                </a:lnTo>
                <a:lnTo>
                  <a:pt x="171" y="1265"/>
                </a:lnTo>
                <a:lnTo>
                  <a:pt x="160" y="1343"/>
                </a:lnTo>
                <a:lnTo>
                  <a:pt x="149" y="1423"/>
                </a:lnTo>
                <a:lnTo>
                  <a:pt x="138" y="1503"/>
                </a:lnTo>
                <a:lnTo>
                  <a:pt x="146" y="1523"/>
                </a:lnTo>
                <a:lnTo>
                  <a:pt x="151" y="1543"/>
                </a:lnTo>
                <a:lnTo>
                  <a:pt x="160" y="1565"/>
                </a:lnTo>
                <a:lnTo>
                  <a:pt x="165" y="1585"/>
                </a:lnTo>
                <a:lnTo>
                  <a:pt x="187" y="1587"/>
                </a:lnTo>
                <a:lnTo>
                  <a:pt x="209" y="1589"/>
                </a:lnTo>
                <a:lnTo>
                  <a:pt x="231" y="1591"/>
                </a:lnTo>
                <a:lnTo>
                  <a:pt x="253" y="1593"/>
                </a:lnTo>
                <a:lnTo>
                  <a:pt x="275" y="1595"/>
                </a:lnTo>
                <a:lnTo>
                  <a:pt x="297" y="1597"/>
                </a:lnTo>
                <a:lnTo>
                  <a:pt x="320" y="1599"/>
                </a:lnTo>
                <a:lnTo>
                  <a:pt x="342" y="1601"/>
                </a:lnTo>
                <a:lnTo>
                  <a:pt x="353" y="1585"/>
                </a:lnTo>
                <a:lnTo>
                  <a:pt x="364" y="1569"/>
                </a:lnTo>
                <a:lnTo>
                  <a:pt x="375" y="1553"/>
                </a:lnTo>
                <a:lnTo>
                  <a:pt x="386" y="1537"/>
                </a:lnTo>
                <a:lnTo>
                  <a:pt x="399" y="1469"/>
                </a:lnTo>
                <a:lnTo>
                  <a:pt x="413" y="1401"/>
                </a:lnTo>
                <a:lnTo>
                  <a:pt x="427" y="1335"/>
                </a:lnTo>
                <a:lnTo>
                  <a:pt x="441" y="1267"/>
                </a:lnTo>
                <a:lnTo>
                  <a:pt x="452" y="1237"/>
                </a:lnTo>
                <a:lnTo>
                  <a:pt x="463" y="1205"/>
                </a:lnTo>
                <a:lnTo>
                  <a:pt x="471" y="1175"/>
                </a:lnTo>
                <a:lnTo>
                  <a:pt x="482" y="1145"/>
                </a:lnTo>
                <a:lnTo>
                  <a:pt x="499" y="1115"/>
                </a:lnTo>
                <a:lnTo>
                  <a:pt x="515" y="1085"/>
                </a:lnTo>
                <a:lnTo>
                  <a:pt x="529" y="1055"/>
                </a:lnTo>
                <a:lnTo>
                  <a:pt x="546" y="1025"/>
                </a:lnTo>
                <a:lnTo>
                  <a:pt x="570" y="973"/>
                </a:lnTo>
                <a:lnTo>
                  <a:pt x="595" y="912"/>
                </a:lnTo>
                <a:lnTo>
                  <a:pt x="620" y="844"/>
                </a:lnTo>
                <a:lnTo>
                  <a:pt x="650" y="764"/>
                </a:lnTo>
                <a:lnTo>
                  <a:pt x="678" y="676"/>
                </a:lnTo>
                <a:lnTo>
                  <a:pt x="708" y="576"/>
                </a:lnTo>
                <a:lnTo>
                  <a:pt x="739" y="464"/>
                </a:lnTo>
                <a:lnTo>
                  <a:pt x="769" y="340"/>
                </a:lnTo>
                <a:lnTo>
                  <a:pt x="805" y="312"/>
                </a:lnTo>
                <a:lnTo>
                  <a:pt x="827" y="282"/>
                </a:lnTo>
                <a:lnTo>
                  <a:pt x="841" y="252"/>
                </a:lnTo>
                <a:lnTo>
                  <a:pt x="843" y="222"/>
                </a:lnTo>
                <a:lnTo>
                  <a:pt x="838" y="194"/>
                </a:lnTo>
                <a:lnTo>
                  <a:pt x="827" y="166"/>
                </a:lnTo>
                <a:lnTo>
                  <a:pt x="808" y="138"/>
                </a:lnTo>
                <a:lnTo>
                  <a:pt x="780" y="112"/>
                </a:lnTo>
                <a:lnTo>
                  <a:pt x="750" y="88"/>
                </a:lnTo>
                <a:lnTo>
                  <a:pt x="711" y="66"/>
                </a:lnTo>
                <a:lnTo>
                  <a:pt x="672" y="48"/>
                </a:lnTo>
                <a:lnTo>
                  <a:pt x="628" y="30"/>
                </a:lnTo>
                <a:lnTo>
                  <a:pt x="581" y="18"/>
                </a:lnTo>
                <a:lnTo>
                  <a:pt x="535" y="8"/>
                </a:lnTo>
                <a:lnTo>
                  <a:pt x="488" y="2"/>
                </a:lnTo>
                <a:lnTo>
                  <a:pt x="438" y="0"/>
                </a:lnTo>
                <a:close/>
              </a:path>
            </a:pathLst>
          </a:custGeom>
          <a:solidFill>
            <a:srgbClr val="fff4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4330800" y="1143000"/>
            <a:ext cx="1212840" cy="2506680"/>
          </a:xfrm>
          <a:custGeom>
            <a:avLst/>
            <a:gdLst/>
            <a:ahLst/>
            <a:rect l="l" t="t" r="r" b="b"/>
            <a:pathLst>
              <a:path w="764" h="1579">
                <a:moveTo>
                  <a:pt x="419" y="0"/>
                </a:moveTo>
                <a:lnTo>
                  <a:pt x="326" y="10"/>
                </a:lnTo>
                <a:lnTo>
                  <a:pt x="246" y="26"/>
                </a:lnTo>
                <a:lnTo>
                  <a:pt x="177" y="46"/>
                </a:lnTo>
                <a:lnTo>
                  <a:pt x="119" y="68"/>
                </a:lnTo>
                <a:lnTo>
                  <a:pt x="75" y="92"/>
                </a:lnTo>
                <a:lnTo>
                  <a:pt x="42" y="120"/>
                </a:lnTo>
                <a:lnTo>
                  <a:pt x="17" y="148"/>
                </a:lnTo>
                <a:lnTo>
                  <a:pt x="3" y="178"/>
                </a:lnTo>
                <a:lnTo>
                  <a:pt x="0" y="208"/>
                </a:lnTo>
                <a:lnTo>
                  <a:pt x="6" y="238"/>
                </a:lnTo>
                <a:lnTo>
                  <a:pt x="22" y="266"/>
                </a:lnTo>
                <a:lnTo>
                  <a:pt x="44" y="294"/>
                </a:lnTo>
                <a:lnTo>
                  <a:pt x="77" y="318"/>
                </a:lnTo>
                <a:lnTo>
                  <a:pt x="119" y="340"/>
                </a:lnTo>
                <a:lnTo>
                  <a:pt x="166" y="358"/>
                </a:lnTo>
                <a:lnTo>
                  <a:pt x="221" y="372"/>
                </a:lnTo>
                <a:lnTo>
                  <a:pt x="207" y="544"/>
                </a:lnTo>
                <a:lnTo>
                  <a:pt x="191" y="716"/>
                </a:lnTo>
                <a:lnTo>
                  <a:pt x="174" y="888"/>
                </a:lnTo>
                <a:lnTo>
                  <a:pt x="160" y="1059"/>
                </a:lnTo>
                <a:lnTo>
                  <a:pt x="160" y="1087"/>
                </a:lnTo>
                <a:lnTo>
                  <a:pt x="160" y="1115"/>
                </a:lnTo>
                <a:lnTo>
                  <a:pt x="157" y="1143"/>
                </a:lnTo>
                <a:lnTo>
                  <a:pt x="157" y="1171"/>
                </a:lnTo>
                <a:lnTo>
                  <a:pt x="146" y="1249"/>
                </a:lnTo>
                <a:lnTo>
                  <a:pt x="135" y="1327"/>
                </a:lnTo>
                <a:lnTo>
                  <a:pt x="124" y="1407"/>
                </a:lnTo>
                <a:lnTo>
                  <a:pt x="113" y="1485"/>
                </a:lnTo>
                <a:lnTo>
                  <a:pt x="119" y="1505"/>
                </a:lnTo>
                <a:lnTo>
                  <a:pt x="124" y="1525"/>
                </a:lnTo>
                <a:lnTo>
                  <a:pt x="127" y="1547"/>
                </a:lnTo>
                <a:lnTo>
                  <a:pt x="133" y="1567"/>
                </a:lnTo>
                <a:lnTo>
                  <a:pt x="149" y="1569"/>
                </a:lnTo>
                <a:lnTo>
                  <a:pt x="168" y="1569"/>
                </a:lnTo>
                <a:lnTo>
                  <a:pt x="185" y="1571"/>
                </a:lnTo>
                <a:lnTo>
                  <a:pt x="204" y="1573"/>
                </a:lnTo>
                <a:lnTo>
                  <a:pt x="221" y="1575"/>
                </a:lnTo>
                <a:lnTo>
                  <a:pt x="240" y="1575"/>
                </a:lnTo>
                <a:lnTo>
                  <a:pt x="257" y="1577"/>
                </a:lnTo>
                <a:lnTo>
                  <a:pt x="276" y="1579"/>
                </a:lnTo>
                <a:lnTo>
                  <a:pt x="284" y="1563"/>
                </a:lnTo>
                <a:lnTo>
                  <a:pt x="295" y="1547"/>
                </a:lnTo>
                <a:lnTo>
                  <a:pt x="304" y="1531"/>
                </a:lnTo>
                <a:lnTo>
                  <a:pt x="315" y="1515"/>
                </a:lnTo>
                <a:lnTo>
                  <a:pt x="328" y="1447"/>
                </a:lnTo>
                <a:lnTo>
                  <a:pt x="342" y="1381"/>
                </a:lnTo>
                <a:lnTo>
                  <a:pt x="353" y="1315"/>
                </a:lnTo>
                <a:lnTo>
                  <a:pt x="367" y="1247"/>
                </a:lnTo>
                <a:lnTo>
                  <a:pt x="378" y="1217"/>
                </a:lnTo>
                <a:lnTo>
                  <a:pt x="386" y="1187"/>
                </a:lnTo>
                <a:lnTo>
                  <a:pt x="395" y="1157"/>
                </a:lnTo>
                <a:lnTo>
                  <a:pt x="406" y="1127"/>
                </a:lnTo>
                <a:lnTo>
                  <a:pt x="419" y="1097"/>
                </a:lnTo>
                <a:lnTo>
                  <a:pt x="433" y="1067"/>
                </a:lnTo>
                <a:lnTo>
                  <a:pt x="447" y="1037"/>
                </a:lnTo>
                <a:lnTo>
                  <a:pt x="461" y="1007"/>
                </a:lnTo>
                <a:lnTo>
                  <a:pt x="480" y="955"/>
                </a:lnTo>
                <a:lnTo>
                  <a:pt x="499" y="896"/>
                </a:lnTo>
                <a:lnTo>
                  <a:pt x="521" y="826"/>
                </a:lnTo>
                <a:lnTo>
                  <a:pt x="543" y="748"/>
                </a:lnTo>
                <a:lnTo>
                  <a:pt x="568" y="660"/>
                </a:lnTo>
                <a:lnTo>
                  <a:pt x="599" y="562"/>
                </a:lnTo>
                <a:lnTo>
                  <a:pt x="629" y="450"/>
                </a:lnTo>
                <a:lnTo>
                  <a:pt x="662" y="328"/>
                </a:lnTo>
                <a:lnTo>
                  <a:pt x="703" y="304"/>
                </a:lnTo>
                <a:lnTo>
                  <a:pt x="734" y="278"/>
                </a:lnTo>
                <a:lnTo>
                  <a:pt x="753" y="250"/>
                </a:lnTo>
                <a:lnTo>
                  <a:pt x="761" y="224"/>
                </a:lnTo>
                <a:lnTo>
                  <a:pt x="764" y="196"/>
                </a:lnTo>
                <a:lnTo>
                  <a:pt x="756" y="170"/>
                </a:lnTo>
                <a:lnTo>
                  <a:pt x="742" y="142"/>
                </a:lnTo>
                <a:lnTo>
                  <a:pt x="723" y="118"/>
                </a:lnTo>
                <a:lnTo>
                  <a:pt x="695" y="94"/>
                </a:lnTo>
                <a:lnTo>
                  <a:pt x="665" y="72"/>
                </a:lnTo>
                <a:lnTo>
                  <a:pt x="629" y="52"/>
                </a:lnTo>
                <a:lnTo>
                  <a:pt x="590" y="34"/>
                </a:lnTo>
                <a:lnTo>
                  <a:pt x="549" y="20"/>
                </a:lnTo>
                <a:lnTo>
                  <a:pt x="508" y="10"/>
                </a:lnTo>
                <a:lnTo>
                  <a:pt x="464" y="2"/>
                </a:lnTo>
                <a:lnTo>
                  <a:pt x="419" y="0"/>
                </a:lnTo>
                <a:close/>
              </a:path>
            </a:pathLst>
          </a:custGeom>
          <a:solidFill>
            <a:srgbClr val="fff9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410000" y="1177920"/>
            <a:ext cx="1085760" cy="2468520"/>
          </a:xfrm>
          <a:custGeom>
            <a:avLst/>
            <a:gdLst/>
            <a:ahLst/>
            <a:rect l="l" t="t" r="r" b="b"/>
            <a:pathLst>
              <a:path w="684" h="1555">
                <a:moveTo>
                  <a:pt x="397" y="0"/>
                </a:moveTo>
                <a:lnTo>
                  <a:pt x="303" y="10"/>
                </a:lnTo>
                <a:lnTo>
                  <a:pt x="226" y="24"/>
                </a:lnTo>
                <a:lnTo>
                  <a:pt x="160" y="42"/>
                </a:lnTo>
                <a:lnTo>
                  <a:pt x="105" y="62"/>
                </a:lnTo>
                <a:lnTo>
                  <a:pt x="63" y="86"/>
                </a:lnTo>
                <a:lnTo>
                  <a:pt x="30" y="112"/>
                </a:lnTo>
                <a:lnTo>
                  <a:pt x="11" y="138"/>
                </a:lnTo>
                <a:lnTo>
                  <a:pt x="0" y="164"/>
                </a:lnTo>
                <a:lnTo>
                  <a:pt x="0" y="192"/>
                </a:lnTo>
                <a:lnTo>
                  <a:pt x="8" y="216"/>
                </a:lnTo>
                <a:lnTo>
                  <a:pt x="25" y="240"/>
                </a:lnTo>
                <a:lnTo>
                  <a:pt x="52" y="262"/>
                </a:lnTo>
                <a:lnTo>
                  <a:pt x="85" y="282"/>
                </a:lnTo>
                <a:lnTo>
                  <a:pt x="124" y="296"/>
                </a:lnTo>
                <a:lnTo>
                  <a:pt x="174" y="308"/>
                </a:lnTo>
                <a:lnTo>
                  <a:pt x="226" y="314"/>
                </a:lnTo>
                <a:lnTo>
                  <a:pt x="141" y="1043"/>
                </a:lnTo>
                <a:lnTo>
                  <a:pt x="132" y="1155"/>
                </a:lnTo>
                <a:lnTo>
                  <a:pt x="88" y="1465"/>
                </a:lnTo>
                <a:lnTo>
                  <a:pt x="99" y="1545"/>
                </a:lnTo>
                <a:lnTo>
                  <a:pt x="207" y="1555"/>
                </a:lnTo>
                <a:lnTo>
                  <a:pt x="240" y="1491"/>
                </a:lnTo>
                <a:lnTo>
                  <a:pt x="292" y="1225"/>
                </a:lnTo>
                <a:lnTo>
                  <a:pt x="325" y="1105"/>
                </a:lnTo>
                <a:lnTo>
                  <a:pt x="372" y="985"/>
                </a:lnTo>
                <a:lnTo>
                  <a:pt x="386" y="933"/>
                </a:lnTo>
                <a:lnTo>
                  <a:pt x="400" y="874"/>
                </a:lnTo>
                <a:lnTo>
                  <a:pt x="416" y="806"/>
                </a:lnTo>
                <a:lnTo>
                  <a:pt x="436" y="728"/>
                </a:lnTo>
                <a:lnTo>
                  <a:pt x="458" y="642"/>
                </a:lnTo>
                <a:lnTo>
                  <a:pt x="485" y="544"/>
                </a:lnTo>
                <a:lnTo>
                  <a:pt x="516" y="434"/>
                </a:lnTo>
                <a:lnTo>
                  <a:pt x="551" y="312"/>
                </a:lnTo>
                <a:lnTo>
                  <a:pt x="634" y="270"/>
                </a:lnTo>
                <a:lnTo>
                  <a:pt x="675" y="222"/>
                </a:lnTo>
                <a:lnTo>
                  <a:pt x="684" y="172"/>
                </a:lnTo>
                <a:lnTo>
                  <a:pt x="662" y="122"/>
                </a:lnTo>
                <a:lnTo>
                  <a:pt x="615" y="76"/>
                </a:lnTo>
                <a:lnTo>
                  <a:pt x="551" y="38"/>
                </a:lnTo>
                <a:lnTo>
                  <a:pt x="477" y="12"/>
                </a:lnTo>
                <a:lnTo>
                  <a:pt x="39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316320" y="706320"/>
            <a:ext cx="1312920" cy="1322640"/>
          </a:xfrm>
          <a:custGeom>
            <a:avLst/>
            <a:gdLst/>
            <a:ahLst/>
            <a:rect l="l" t="t" r="r" b="b"/>
            <a:pathLst>
              <a:path w="827" h="833">
                <a:moveTo>
                  <a:pt x="637" y="0"/>
                </a:moveTo>
                <a:lnTo>
                  <a:pt x="562" y="20"/>
                </a:lnTo>
                <a:lnTo>
                  <a:pt x="490" y="44"/>
                </a:lnTo>
                <a:lnTo>
                  <a:pt x="419" y="76"/>
                </a:lnTo>
                <a:lnTo>
                  <a:pt x="350" y="110"/>
                </a:lnTo>
                <a:lnTo>
                  <a:pt x="284" y="152"/>
                </a:lnTo>
                <a:lnTo>
                  <a:pt x="223" y="196"/>
                </a:lnTo>
                <a:lnTo>
                  <a:pt x="165" y="245"/>
                </a:lnTo>
                <a:lnTo>
                  <a:pt x="115" y="299"/>
                </a:lnTo>
                <a:lnTo>
                  <a:pt x="74" y="355"/>
                </a:lnTo>
                <a:lnTo>
                  <a:pt x="41" y="415"/>
                </a:lnTo>
                <a:lnTo>
                  <a:pt x="16" y="479"/>
                </a:lnTo>
                <a:lnTo>
                  <a:pt x="2" y="545"/>
                </a:lnTo>
                <a:lnTo>
                  <a:pt x="0" y="615"/>
                </a:lnTo>
                <a:lnTo>
                  <a:pt x="11" y="685"/>
                </a:lnTo>
                <a:lnTo>
                  <a:pt x="33" y="759"/>
                </a:lnTo>
                <a:lnTo>
                  <a:pt x="71" y="833"/>
                </a:lnTo>
                <a:lnTo>
                  <a:pt x="85" y="771"/>
                </a:lnTo>
                <a:lnTo>
                  <a:pt x="102" y="707"/>
                </a:lnTo>
                <a:lnTo>
                  <a:pt x="124" y="645"/>
                </a:lnTo>
                <a:lnTo>
                  <a:pt x="151" y="585"/>
                </a:lnTo>
                <a:lnTo>
                  <a:pt x="182" y="525"/>
                </a:lnTo>
                <a:lnTo>
                  <a:pt x="217" y="465"/>
                </a:lnTo>
                <a:lnTo>
                  <a:pt x="256" y="409"/>
                </a:lnTo>
                <a:lnTo>
                  <a:pt x="300" y="353"/>
                </a:lnTo>
                <a:lnTo>
                  <a:pt x="350" y="301"/>
                </a:lnTo>
                <a:lnTo>
                  <a:pt x="402" y="249"/>
                </a:lnTo>
                <a:lnTo>
                  <a:pt x="460" y="202"/>
                </a:lnTo>
                <a:lnTo>
                  <a:pt x="523" y="158"/>
                </a:lnTo>
                <a:lnTo>
                  <a:pt x="592" y="116"/>
                </a:lnTo>
                <a:lnTo>
                  <a:pt x="664" y="78"/>
                </a:lnTo>
                <a:lnTo>
                  <a:pt x="744" y="44"/>
                </a:lnTo>
                <a:lnTo>
                  <a:pt x="827" y="14"/>
                </a:lnTo>
                <a:lnTo>
                  <a:pt x="637" y="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328920" y="719280"/>
            <a:ext cx="1282680" cy="1290600"/>
          </a:xfrm>
          <a:custGeom>
            <a:avLst/>
            <a:gdLst/>
            <a:ahLst/>
            <a:rect l="l" t="t" r="r" b="b"/>
            <a:pathLst>
              <a:path w="808" h="813">
                <a:moveTo>
                  <a:pt x="620" y="0"/>
                </a:moveTo>
                <a:lnTo>
                  <a:pt x="549" y="20"/>
                </a:lnTo>
                <a:lnTo>
                  <a:pt x="480" y="44"/>
                </a:lnTo>
                <a:lnTo>
                  <a:pt x="408" y="76"/>
                </a:lnTo>
                <a:lnTo>
                  <a:pt x="342" y="110"/>
                </a:lnTo>
                <a:lnTo>
                  <a:pt x="278" y="148"/>
                </a:lnTo>
                <a:lnTo>
                  <a:pt x="218" y="192"/>
                </a:lnTo>
                <a:lnTo>
                  <a:pt x="163" y="239"/>
                </a:lnTo>
                <a:lnTo>
                  <a:pt x="116" y="291"/>
                </a:lnTo>
                <a:lnTo>
                  <a:pt x="74" y="345"/>
                </a:lnTo>
                <a:lnTo>
                  <a:pt x="41" y="403"/>
                </a:lnTo>
                <a:lnTo>
                  <a:pt x="16" y="465"/>
                </a:lnTo>
                <a:lnTo>
                  <a:pt x="3" y="529"/>
                </a:lnTo>
                <a:lnTo>
                  <a:pt x="0" y="597"/>
                </a:lnTo>
                <a:lnTo>
                  <a:pt x="8" y="667"/>
                </a:lnTo>
                <a:lnTo>
                  <a:pt x="30" y="739"/>
                </a:lnTo>
                <a:lnTo>
                  <a:pt x="66" y="813"/>
                </a:lnTo>
                <a:lnTo>
                  <a:pt x="80" y="751"/>
                </a:lnTo>
                <a:lnTo>
                  <a:pt x="96" y="687"/>
                </a:lnTo>
                <a:lnTo>
                  <a:pt x="118" y="627"/>
                </a:lnTo>
                <a:lnTo>
                  <a:pt x="143" y="567"/>
                </a:lnTo>
                <a:lnTo>
                  <a:pt x="174" y="507"/>
                </a:lnTo>
                <a:lnTo>
                  <a:pt x="207" y="449"/>
                </a:lnTo>
                <a:lnTo>
                  <a:pt x="245" y="393"/>
                </a:lnTo>
                <a:lnTo>
                  <a:pt x="289" y="339"/>
                </a:lnTo>
                <a:lnTo>
                  <a:pt x="336" y="287"/>
                </a:lnTo>
                <a:lnTo>
                  <a:pt x="389" y="239"/>
                </a:lnTo>
                <a:lnTo>
                  <a:pt x="444" y="192"/>
                </a:lnTo>
                <a:lnTo>
                  <a:pt x="507" y="150"/>
                </a:lnTo>
                <a:lnTo>
                  <a:pt x="573" y="108"/>
                </a:lnTo>
                <a:lnTo>
                  <a:pt x="648" y="72"/>
                </a:lnTo>
                <a:lnTo>
                  <a:pt x="725" y="38"/>
                </a:lnTo>
                <a:lnTo>
                  <a:pt x="808" y="8"/>
                </a:lnTo>
                <a:lnTo>
                  <a:pt x="783" y="8"/>
                </a:lnTo>
                <a:lnTo>
                  <a:pt x="761" y="6"/>
                </a:lnTo>
                <a:lnTo>
                  <a:pt x="736" y="6"/>
                </a:lnTo>
                <a:lnTo>
                  <a:pt x="714" y="4"/>
                </a:lnTo>
                <a:lnTo>
                  <a:pt x="692" y="2"/>
                </a:lnTo>
                <a:lnTo>
                  <a:pt x="667" y="2"/>
                </a:lnTo>
                <a:lnTo>
                  <a:pt x="645" y="0"/>
                </a:lnTo>
                <a:lnTo>
                  <a:pt x="620" y="0"/>
                </a:lnTo>
                <a:close/>
              </a:path>
            </a:pathLst>
          </a:custGeom>
          <a:solidFill>
            <a:srgbClr val="ffcc0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336840" y="728640"/>
            <a:ext cx="1260720" cy="1262160"/>
          </a:xfrm>
          <a:custGeom>
            <a:avLst/>
            <a:gdLst/>
            <a:ahLst/>
            <a:rect l="l" t="t" r="r" b="b"/>
            <a:pathLst>
              <a:path w="794" h="795">
                <a:moveTo>
                  <a:pt x="607" y="0"/>
                </a:moveTo>
                <a:lnTo>
                  <a:pt x="538" y="20"/>
                </a:lnTo>
                <a:lnTo>
                  <a:pt x="469" y="46"/>
                </a:lnTo>
                <a:lnTo>
                  <a:pt x="403" y="76"/>
                </a:lnTo>
                <a:lnTo>
                  <a:pt x="337" y="110"/>
                </a:lnTo>
                <a:lnTo>
                  <a:pt x="273" y="148"/>
                </a:lnTo>
                <a:lnTo>
                  <a:pt x="215" y="190"/>
                </a:lnTo>
                <a:lnTo>
                  <a:pt x="163" y="235"/>
                </a:lnTo>
                <a:lnTo>
                  <a:pt x="116" y="285"/>
                </a:lnTo>
                <a:lnTo>
                  <a:pt x="75" y="337"/>
                </a:lnTo>
                <a:lnTo>
                  <a:pt x="45" y="395"/>
                </a:lnTo>
                <a:lnTo>
                  <a:pt x="20" y="455"/>
                </a:lnTo>
                <a:lnTo>
                  <a:pt x="6" y="517"/>
                </a:lnTo>
                <a:lnTo>
                  <a:pt x="0" y="583"/>
                </a:lnTo>
                <a:lnTo>
                  <a:pt x="9" y="651"/>
                </a:lnTo>
                <a:lnTo>
                  <a:pt x="31" y="721"/>
                </a:lnTo>
                <a:lnTo>
                  <a:pt x="64" y="795"/>
                </a:lnTo>
                <a:lnTo>
                  <a:pt x="78" y="731"/>
                </a:lnTo>
                <a:lnTo>
                  <a:pt x="94" y="669"/>
                </a:lnTo>
                <a:lnTo>
                  <a:pt x="113" y="609"/>
                </a:lnTo>
                <a:lnTo>
                  <a:pt x="138" y="549"/>
                </a:lnTo>
                <a:lnTo>
                  <a:pt x="166" y="491"/>
                </a:lnTo>
                <a:lnTo>
                  <a:pt x="199" y="433"/>
                </a:lnTo>
                <a:lnTo>
                  <a:pt x="238" y="379"/>
                </a:lnTo>
                <a:lnTo>
                  <a:pt x="279" y="327"/>
                </a:lnTo>
                <a:lnTo>
                  <a:pt x="326" y="277"/>
                </a:lnTo>
                <a:lnTo>
                  <a:pt x="375" y="229"/>
                </a:lnTo>
                <a:lnTo>
                  <a:pt x="433" y="184"/>
                </a:lnTo>
                <a:lnTo>
                  <a:pt x="494" y="142"/>
                </a:lnTo>
                <a:lnTo>
                  <a:pt x="560" y="102"/>
                </a:lnTo>
                <a:lnTo>
                  <a:pt x="635" y="66"/>
                </a:lnTo>
                <a:lnTo>
                  <a:pt x="712" y="34"/>
                </a:lnTo>
                <a:lnTo>
                  <a:pt x="794" y="6"/>
                </a:lnTo>
                <a:lnTo>
                  <a:pt x="770" y="6"/>
                </a:lnTo>
                <a:lnTo>
                  <a:pt x="748" y="4"/>
                </a:lnTo>
                <a:lnTo>
                  <a:pt x="723" y="4"/>
                </a:lnTo>
                <a:lnTo>
                  <a:pt x="701" y="2"/>
                </a:lnTo>
                <a:lnTo>
                  <a:pt x="676" y="2"/>
                </a:lnTo>
                <a:lnTo>
                  <a:pt x="654" y="2"/>
                </a:lnTo>
                <a:lnTo>
                  <a:pt x="629" y="0"/>
                </a:lnTo>
                <a:lnTo>
                  <a:pt x="607" y="0"/>
                </a:lnTo>
                <a:close/>
              </a:path>
            </a:pathLst>
          </a:custGeom>
          <a:solidFill>
            <a:srgbClr val="ffd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3351240" y="735120"/>
            <a:ext cx="1228680" cy="1239840"/>
          </a:xfrm>
          <a:custGeom>
            <a:avLst/>
            <a:gdLst/>
            <a:ahLst/>
            <a:rect l="l" t="t" r="r" b="b"/>
            <a:pathLst>
              <a:path w="774" h="781">
                <a:moveTo>
                  <a:pt x="590" y="0"/>
                </a:moveTo>
                <a:lnTo>
                  <a:pt x="524" y="22"/>
                </a:lnTo>
                <a:lnTo>
                  <a:pt x="457" y="48"/>
                </a:lnTo>
                <a:lnTo>
                  <a:pt x="391" y="78"/>
                </a:lnTo>
                <a:lnTo>
                  <a:pt x="328" y="110"/>
                </a:lnTo>
                <a:lnTo>
                  <a:pt x="267" y="148"/>
                </a:lnTo>
                <a:lnTo>
                  <a:pt x="212" y="190"/>
                </a:lnTo>
                <a:lnTo>
                  <a:pt x="160" y="233"/>
                </a:lnTo>
                <a:lnTo>
                  <a:pt x="113" y="281"/>
                </a:lnTo>
                <a:lnTo>
                  <a:pt x="74" y="333"/>
                </a:lnTo>
                <a:lnTo>
                  <a:pt x="41" y="387"/>
                </a:lnTo>
                <a:lnTo>
                  <a:pt x="19" y="445"/>
                </a:lnTo>
                <a:lnTo>
                  <a:pt x="5" y="507"/>
                </a:lnTo>
                <a:lnTo>
                  <a:pt x="0" y="571"/>
                </a:lnTo>
                <a:lnTo>
                  <a:pt x="8" y="639"/>
                </a:lnTo>
                <a:lnTo>
                  <a:pt x="24" y="709"/>
                </a:lnTo>
                <a:lnTo>
                  <a:pt x="58" y="781"/>
                </a:lnTo>
                <a:lnTo>
                  <a:pt x="71" y="717"/>
                </a:lnTo>
                <a:lnTo>
                  <a:pt x="85" y="655"/>
                </a:lnTo>
                <a:lnTo>
                  <a:pt x="104" y="595"/>
                </a:lnTo>
                <a:lnTo>
                  <a:pt x="129" y="535"/>
                </a:lnTo>
                <a:lnTo>
                  <a:pt x="157" y="477"/>
                </a:lnTo>
                <a:lnTo>
                  <a:pt x="187" y="421"/>
                </a:lnTo>
                <a:lnTo>
                  <a:pt x="226" y="367"/>
                </a:lnTo>
                <a:lnTo>
                  <a:pt x="264" y="315"/>
                </a:lnTo>
                <a:lnTo>
                  <a:pt x="311" y="267"/>
                </a:lnTo>
                <a:lnTo>
                  <a:pt x="361" y="219"/>
                </a:lnTo>
                <a:lnTo>
                  <a:pt x="416" y="176"/>
                </a:lnTo>
                <a:lnTo>
                  <a:pt x="477" y="136"/>
                </a:lnTo>
                <a:lnTo>
                  <a:pt x="543" y="98"/>
                </a:lnTo>
                <a:lnTo>
                  <a:pt x="615" y="64"/>
                </a:lnTo>
                <a:lnTo>
                  <a:pt x="692" y="32"/>
                </a:lnTo>
                <a:lnTo>
                  <a:pt x="774" y="4"/>
                </a:lnTo>
                <a:lnTo>
                  <a:pt x="750" y="4"/>
                </a:lnTo>
                <a:lnTo>
                  <a:pt x="728" y="2"/>
                </a:lnTo>
                <a:lnTo>
                  <a:pt x="703" y="2"/>
                </a:lnTo>
                <a:lnTo>
                  <a:pt x="681" y="2"/>
                </a:lnTo>
                <a:lnTo>
                  <a:pt x="659" y="2"/>
                </a:lnTo>
                <a:lnTo>
                  <a:pt x="637" y="2"/>
                </a:lnTo>
                <a:lnTo>
                  <a:pt x="612" y="0"/>
                </a:lnTo>
                <a:lnTo>
                  <a:pt x="590" y="0"/>
                </a:lnTo>
                <a:close/>
              </a:path>
            </a:pathLst>
          </a:custGeom>
          <a:solidFill>
            <a:srgbClr val="ffd6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359160" y="744480"/>
            <a:ext cx="1203480" cy="1211400"/>
          </a:xfrm>
          <a:custGeom>
            <a:avLst/>
            <a:gdLst/>
            <a:ahLst/>
            <a:rect l="l" t="t" r="r" b="b"/>
            <a:pathLst>
              <a:path w="758" h="763">
                <a:moveTo>
                  <a:pt x="576" y="0"/>
                </a:moveTo>
                <a:lnTo>
                  <a:pt x="513" y="22"/>
                </a:lnTo>
                <a:lnTo>
                  <a:pt x="447" y="48"/>
                </a:lnTo>
                <a:lnTo>
                  <a:pt x="383" y="78"/>
                </a:lnTo>
                <a:lnTo>
                  <a:pt x="323" y="110"/>
                </a:lnTo>
                <a:lnTo>
                  <a:pt x="265" y="146"/>
                </a:lnTo>
                <a:lnTo>
                  <a:pt x="210" y="186"/>
                </a:lnTo>
                <a:lnTo>
                  <a:pt x="160" y="227"/>
                </a:lnTo>
                <a:lnTo>
                  <a:pt x="113" y="275"/>
                </a:lnTo>
                <a:lnTo>
                  <a:pt x="75" y="325"/>
                </a:lnTo>
                <a:lnTo>
                  <a:pt x="44" y="377"/>
                </a:lnTo>
                <a:lnTo>
                  <a:pt x="19" y="433"/>
                </a:lnTo>
                <a:lnTo>
                  <a:pt x="6" y="493"/>
                </a:lnTo>
                <a:lnTo>
                  <a:pt x="0" y="557"/>
                </a:lnTo>
                <a:lnTo>
                  <a:pt x="6" y="623"/>
                </a:lnTo>
                <a:lnTo>
                  <a:pt x="22" y="691"/>
                </a:lnTo>
                <a:lnTo>
                  <a:pt x="53" y="763"/>
                </a:lnTo>
                <a:lnTo>
                  <a:pt x="66" y="699"/>
                </a:lnTo>
                <a:lnTo>
                  <a:pt x="80" y="637"/>
                </a:lnTo>
                <a:lnTo>
                  <a:pt x="99" y="577"/>
                </a:lnTo>
                <a:lnTo>
                  <a:pt x="124" y="517"/>
                </a:lnTo>
                <a:lnTo>
                  <a:pt x="149" y="461"/>
                </a:lnTo>
                <a:lnTo>
                  <a:pt x="182" y="405"/>
                </a:lnTo>
                <a:lnTo>
                  <a:pt x="215" y="353"/>
                </a:lnTo>
                <a:lnTo>
                  <a:pt x="257" y="303"/>
                </a:lnTo>
                <a:lnTo>
                  <a:pt x="301" y="255"/>
                </a:lnTo>
                <a:lnTo>
                  <a:pt x="348" y="209"/>
                </a:lnTo>
                <a:lnTo>
                  <a:pt x="403" y="168"/>
                </a:lnTo>
                <a:lnTo>
                  <a:pt x="463" y="128"/>
                </a:lnTo>
                <a:lnTo>
                  <a:pt x="527" y="90"/>
                </a:lnTo>
                <a:lnTo>
                  <a:pt x="599" y="58"/>
                </a:lnTo>
                <a:lnTo>
                  <a:pt x="676" y="26"/>
                </a:lnTo>
                <a:lnTo>
                  <a:pt x="758" y="0"/>
                </a:lnTo>
                <a:lnTo>
                  <a:pt x="736" y="0"/>
                </a:lnTo>
                <a:lnTo>
                  <a:pt x="714" y="0"/>
                </a:lnTo>
                <a:lnTo>
                  <a:pt x="689" y="0"/>
                </a:lnTo>
                <a:lnTo>
                  <a:pt x="667" y="0"/>
                </a:lnTo>
                <a:lnTo>
                  <a:pt x="645" y="0"/>
                </a:lnTo>
                <a:lnTo>
                  <a:pt x="623" y="0"/>
                </a:lnTo>
                <a:lnTo>
                  <a:pt x="599" y="0"/>
                </a:lnTo>
                <a:lnTo>
                  <a:pt x="576" y="0"/>
                </a:lnTo>
                <a:close/>
              </a:path>
            </a:pathLst>
          </a:custGeom>
          <a:solidFill>
            <a:srgbClr val="ffd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368520" y="750960"/>
            <a:ext cx="1176480" cy="1185840"/>
          </a:xfrm>
          <a:custGeom>
            <a:avLst/>
            <a:gdLst/>
            <a:ahLst/>
            <a:rect l="l" t="t" r="r" b="b"/>
            <a:pathLst>
              <a:path w="741" h="747">
                <a:moveTo>
                  <a:pt x="559" y="0"/>
                </a:moveTo>
                <a:lnTo>
                  <a:pt x="499" y="24"/>
                </a:lnTo>
                <a:lnTo>
                  <a:pt x="435" y="50"/>
                </a:lnTo>
                <a:lnTo>
                  <a:pt x="375" y="78"/>
                </a:lnTo>
                <a:lnTo>
                  <a:pt x="317" y="112"/>
                </a:lnTo>
                <a:lnTo>
                  <a:pt x="262" y="146"/>
                </a:lnTo>
                <a:lnTo>
                  <a:pt x="206" y="186"/>
                </a:lnTo>
                <a:lnTo>
                  <a:pt x="157" y="227"/>
                </a:lnTo>
                <a:lnTo>
                  <a:pt x="115" y="271"/>
                </a:lnTo>
                <a:lnTo>
                  <a:pt x="77" y="319"/>
                </a:lnTo>
                <a:lnTo>
                  <a:pt x="44" y="371"/>
                </a:lnTo>
                <a:lnTo>
                  <a:pt x="22" y="425"/>
                </a:lnTo>
                <a:lnTo>
                  <a:pt x="5" y="483"/>
                </a:lnTo>
                <a:lnTo>
                  <a:pt x="0" y="543"/>
                </a:lnTo>
                <a:lnTo>
                  <a:pt x="5" y="609"/>
                </a:lnTo>
                <a:lnTo>
                  <a:pt x="22" y="675"/>
                </a:lnTo>
                <a:lnTo>
                  <a:pt x="49" y="747"/>
                </a:lnTo>
                <a:lnTo>
                  <a:pt x="63" y="683"/>
                </a:lnTo>
                <a:lnTo>
                  <a:pt x="77" y="621"/>
                </a:lnTo>
                <a:lnTo>
                  <a:pt x="96" y="561"/>
                </a:lnTo>
                <a:lnTo>
                  <a:pt x="118" y="503"/>
                </a:lnTo>
                <a:lnTo>
                  <a:pt x="143" y="445"/>
                </a:lnTo>
                <a:lnTo>
                  <a:pt x="173" y="393"/>
                </a:lnTo>
                <a:lnTo>
                  <a:pt x="206" y="341"/>
                </a:lnTo>
                <a:lnTo>
                  <a:pt x="245" y="291"/>
                </a:lnTo>
                <a:lnTo>
                  <a:pt x="289" y="245"/>
                </a:lnTo>
                <a:lnTo>
                  <a:pt x="336" y="201"/>
                </a:lnTo>
                <a:lnTo>
                  <a:pt x="388" y="160"/>
                </a:lnTo>
                <a:lnTo>
                  <a:pt x="446" y="122"/>
                </a:lnTo>
                <a:lnTo>
                  <a:pt x="513" y="86"/>
                </a:lnTo>
                <a:lnTo>
                  <a:pt x="581" y="54"/>
                </a:lnTo>
                <a:lnTo>
                  <a:pt x="659" y="26"/>
                </a:lnTo>
                <a:lnTo>
                  <a:pt x="741" y="0"/>
                </a:lnTo>
                <a:lnTo>
                  <a:pt x="719" y="0"/>
                </a:lnTo>
                <a:lnTo>
                  <a:pt x="697" y="0"/>
                </a:lnTo>
                <a:lnTo>
                  <a:pt x="672" y="0"/>
                </a:lnTo>
                <a:lnTo>
                  <a:pt x="650" y="0"/>
                </a:lnTo>
                <a:lnTo>
                  <a:pt x="628" y="0"/>
                </a:lnTo>
                <a:lnTo>
                  <a:pt x="606" y="0"/>
                </a:lnTo>
                <a:lnTo>
                  <a:pt x="581" y="0"/>
                </a:lnTo>
                <a:lnTo>
                  <a:pt x="559" y="0"/>
                </a:lnTo>
                <a:close/>
              </a:path>
            </a:pathLst>
          </a:custGeom>
          <a:solidFill>
            <a:srgbClr val="ffd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381480" y="754200"/>
            <a:ext cx="1146240" cy="1163520"/>
          </a:xfrm>
          <a:custGeom>
            <a:avLst/>
            <a:gdLst/>
            <a:ahLst/>
            <a:rect l="l" t="t" r="r" b="b"/>
            <a:pathLst>
              <a:path w="722" h="733">
                <a:moveTo>
                  <a:pt x="543" y="4"/>
                </a:moveTo>
                <a:lnTo>
                  <a:pt x="482" y="28"/>
                </a:lnTo>
                <a:lnTo>
                  <a:pt x="425" y="54"/>
                </a:lnTo>
                <a:lnTo>
                  <a:pt x="367" y="84"/>
                </a:lnTo>
                <a:lnTo>
                  <a:pt x="309" y="114"/>
                </a:lnTo>
                <a:lnTo>
                  <a:pt x="254" y="150"/>
                </a:lnTo>
                <a:lnTo>
                  <a:pt x="201" y="186"/>
                </a:lnTo>
                <a:lnTo>
                  <a:pt x="154" y="225"/>
                </a:lnTo>
                <a:lnTo>
                  <a:pt x="113" y="269"/>
                </a:lnTo>
                <a:lnTo>
                  <a:pt x="74" y="315"/>
                </a:lnTo>
                <a:lnTo>
                  <a:pt x="44" y="365"/>
                </a:lnTo>
                <a:lnTo>
                  <a:pt x="22" y="417"/>
                </a:lnTo>
                <a:lnTo>
                  <a:pt x="5" y="473"/>
                </a:lnTo>
                <a:lnTo>
                  <a:pt x="0" y="533"/>
                </a:lnTo>
                <a:lnTo>
                  <a:pt x="3" y="597"/>
                </a:lnTo>
                <a:lnTo>
                  <a:pt x="19" y="663"/>
                </a:lnTo>
                <a:lnTo>
                  <a:pt x="44" y="733"/>
                </a:lnTo>
                <a:lnTo>
                  <a:pt x="58" y="669"/>
                </a:lnTo>
                <a:lnTo>
                  <a:pt x="72" y="607"/>
                </a:lnTo>
                <a:lnTo>
                  <a:pt x="91" y="545"/>
                </a:lnTo>
                <a:lnTo>
                  <a:pt x="110" y="489"/>
                </a:lnTo>
                <a:lnTo>
                  <a:pt x="135" y="433"/>
                </a:lnTo>
                <a:lnTo>
                  <a:pt x="165" y="379"/>
                </a:lnTo>
                <a:lnTo>
                  <a:pt x="198" y="329"/>
                </a:lnTo>
                <a:lnTo>
                  <a:pt x="234" y="281"/>
                </a:lnTo>
                <a:lnTo>
                  <a:pt x="276" y="235"/>
                </a:lnTo>
                <a:lnTo>
                  <a:pt x="323" y="193"/>
                </a:lnTo>
                <a:lnTo>
                  <a:pt x="375" y="154"/>
                </a:lnTo>
                <a:lnTo>
                  <a:pt x="433" y="118"/>
                </a:lnTo>
                <a:lnTo>
                  <a:pt x="496" y="84"/>
                </a:lnTo>
                <a:lnTo>
                  <a:pt x="565" y="52"/>
                </a:lnTo>
                <a:lnTo>
                  <a:pt x="640" y="24"/>
                </a:lnTo>
                <a:lnTo>
                  <a:pt x="722" y="0"/>
                </a:lnTo>
                <a:lnTo>
                  <a:pt x="700" y="0"/>
                </a:lnTo>
                <a:lnTo>
                  <a:pt x="678" y="2"/>
                </a:lnTo>
                <a:lnTo>
                  <a:pt x="656" y="2"/>
                </a:lnTo>
                <a:lnTo>
                  <a:pt x="634" y="2"/>
                </a:lnTo>
                <a:lnTo>
                  <a:pt x="609" y="2"/>
                </a:lnTo>
                <a:lnTo>
                  <a:pt x="587" y="2"/>
                </a:lnTo>
                <a:lnTo>
                  <a:pt x="565" y="4"/>
                </a:lnTo>
                <a:lnTo>
                  <a:pt x="543" y="4"/>
                </a:lnTo>
                <a:close/>
              </a:path>
            </a:pathLst>
          </a:custGeom>
          <a:solidFill>
            <a:srgbClr val="ffe2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389400" y="757080"/>
            <a:ext cx="1120680" cy="1138320"/>
          </a:xfrm>
          <a:custGeom>
            <a:avLst/>
            <a:gdLst/>
            <a:ahLst/>
            <a:rect l="l" t="t" r="r" b="b"/>
            <a:pathLst>
              <a:path w="706" h="717">
                <a:moveTo>
                  <a:pt x="530" y="8"/>
                </a:moveTo>
                <a:lnTo>
                  <a:pt x="472" y="32"/>
                </a:lnTo>
                <a:lnTo>
                  <a:pt x="417" y="58"/>
                </a:lnTo>
                <a:lnTo>
                  <a:pt x="359" y="88"/>
                </a:lnTo>
                <a:lnTo>
                  <a:pt x="304" y="118"/>
                </a:lnTo>
                <a:lnTo>
                  <a:pt x="251" y="152"/>
                </a:lnTo>
                <a:lnTo>
                  <a:pt x="202" y="186"/>
                </a:lnTo>
                <a:lnTo>
                  <a:pt x="155" y="225"/>
                </a:lnTo>
                <a:lnTo>
                  <a:pt x="114" y="265"/>
                </a:lnTo>
                <a:lnTo>
                  <a:pt x="78" y="311"/>
                </a:lnTo>
                <a:lnTo>
                  <a:pt x="47" y="359"/>
                </a:lnTo>
                <a:lnTo>
                  <a:pt x="23" y="409"/>
                </a:lnTo>
                <a:lnTo>
                  <a:pt x="9" y="463"/>
                </a:lnTo>
                <a:lnTo>
                  <a:pt x="0" y="521"/>
                </a:lnTo>
                <a:lnTo>
                  <a:pt x="3" y="583"/>
                </a:lnTo>
                <a:lnTo>
                  <a:pt x="17" y="647"/>
                </a:lnTo>
                <a:lnTo>
                  <a:pt x="42" y="717"/>
                </a:lnTo>
                <a:lnTo>
                  <a:pt x="56" y="653"/>
                </a:lnTo>
                <a:lnTo>
                  <a:pt x="69" y="591"/>
                </a:lnTo>
                <a:lnTo>
                  <a:pt x="86" y="531"/>
                </a:lnTo>
                <a:lnTo>
                  <a:pt x="108" y="475"/>
                </a:lnTo>
                <a:lnTo>
                  <a:pt x="130" y="421"/>
                </a:lnTo>
                <a:lnTo>
                  <a:pt x="158" y="369"/>
                </a:lnTo>
                <a:lnTo>
                  <a:pt x="191" y="319"/>
                </a:lnTo>
                <a:lnTo>
                  <a:pt x="227" y="273"/>
                </a:lnTo>
                <a:lnTo>
                  <a:pt x="265" y="229"/>
                </a:lnTo>
                <a:lnTo>
                  <a:pt x="312" y="188"/>
                </a:lnTo>
                <a:lnTo>
                  <a:pt x="362" y="150"/>
                </a:lnTo>
                <a:lnTo>
                  <a:pt x="417" y="114"/>
                </a:lnTo>
                <a:lnTo>
                  <a:pt x="480" y="80"/>
                </a:lnTo>
                <a:lnTo>
                  <a:pt x="549" y="52"/>
                </a:lnTo>
                <a:lnTo>
                  <a:pt x="624" y="24"/>
                </a:lnTo>
                <a:lnTo>
                  <a:pt x="706" y="0"/>
                </a:lnTo>
                <a:lnTo>
                  <a:pt x="684" y="0"/>
                </a:lnTo>
                <a:lnTo>
                  <a:pt x="662" y="2"/>
                </a:lnTo>
                <a:lnTo>
                  <a:pt x="640" y="2"/>
                </a:lnTo>
                <a:lnTo>
                  <a:pt x="618" y="4"/>
                </a:lnTo>
                <a:lnTo>
                  <a:pt x="596" y="6"/>
                </a:lnTo>
                <a:lnTo>
                  <a:pt x="574" y="6"/>
                </a:lnTo>
                <a:lnTo>
                  <a:pt x="552" y="8"/>
                </a:lnTo>
                <a:lnTo>
                  <a:pt x="530" y="8"/>
                </a:lnTo>
                <a:close/>
              </a:path>
            </a:pathLst>
          </a:custGeom>
          <a:solidFill>
            <a:srgbClr val="ffe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398760" y="763560"/>
            <a:ext cx="1094040" cy="1116000"/>
          </a:xfrm>
          <a:custGeom>
            <a:avLst/>
            <a:gdLst/>
            <a:ahLst/>
            <a:rect l="l" t="t" r="r" b="b"/>
            <a:pathLst>
              <a:path w="689" h="703">
                <a:moveTo>
                  <a:pt x="516" y="8"/>
                </a:moveTo>
                <a:lnTo>
                  <a:pt x="460" y="34"/>
                </a:lnTo>
                <a:lnTo>
                  <a:pt x="405" y="60"/>
                </a:lnTo>
                <a:lnTo>
                  <a:pt x="353" y="88"/>
                </a:lnTo>
                <a:lnTo>
                  <a:pt x="298" y="120"/>
                </a:lnTo>
                <a:lnTo>
                  <a:pt x="248" y="152"/>
                </a:lnTo>
                <a:lnTo>
                  <a:pt x="199" y="186"/>
                </a:lnTo>
                <a:lnTo>
                  <a:pt x="154" y="223"/>
                </a:lnTo>
                <a:lnTo>
                  <a:pt x="113" y="263"/>
                </a:lnTo>
                <a:lnTo>
                  <a:pt x="77" y="305"/>
                </a:lnTo>
                <a:lnTo>
                  <a:pt x="47" y="351"/>
                </a:lnTo>
                <a:lnTo>
                  <a:pt x="25" y="401"/>
                </a:lnTo>
                <a:lnTo>
                  <a:pt x="8" y="453"/>
                </a:lnTo>
                <a:lnTo>
                  <a:pt x="0" y="509"/>
                </a:lnTo>
                <a:lnTo>
                  <a:pt x="3" y="569"/>
                </a:lnTo>
                <a:lnTo>
                  <a:pt x="14" y="635"/>
                </a:lnTo>
                <a:lnTo>
                  <a:pt x="36" y="703"/>
                </a:lnTo>
                <a:lnTo>
                  <a:pt x="50" y="639"/>
                </a:lnTo>
                <a:lnTo>
                  <a:pt x="63" y="577"/>
                </a:lnTo>
                <a:lnTo>
                  <a:pt x="80" y="517"/>
                </a:lnTo>
                <a:lnTo>
                  <a:pt x="99" y="461"/>
                </a:lnTo>
                <a:lnTo>
                  <a:pt x="124" y="407"/>
                </a:lnTo>
                <a:lnTo>
                  <a:pt x="149" y="355"/>
                </a:lnTo>
                <a:lnTo>
                  <a:pt x="179" y="307"/>
                </a:lnTo>
                <a:lnTo>
                  <a:pt x="215" y="261"/>
                </a:lnTo>
                <a:lnTo>
                  <a:pt x="254" y="219"/>
                </a:lnTo>
                <a:lnTo>
                  <a:pt x="298" y="180"/>
                </a:lnTo>
                <a:lnTo>
                  <a:pt x="347" y="142"/>
                </a:lnTo>
                <a:lnTo>
                  <a:pt x="403" y="108"/>
                </a:lnTo>
                <a:lnTo>
                  <a:pt x="463" y="78"/>
                </a:lnTo>
                <a:lnTo>
                  <a:pt x="532" y="48"/>
                </a:lnTo>
                <a:lnTo>
                  <a:pt x="607" y="22"/>
                </a:lnTo>
                <a:lnTo>
                  <a:pt x="689" y="0"/>
                </a:lnTo>
                <a:lnTo>
                  <a:pt x="667" y="0"/>
                </a:lnTo>
                <a:lnTo>
                  <a:pt x="645" y="2"/>
                </a:lnTo>
                <a:lnTo>
                  <a:pt x="623" y="2"/>
                </a:lnTo>
                <a:lnTo>
                  <a:pt x="604" y="4"/>
                </a:lnTo>
                <a:lnTo>
                  <a:pt x="582" y="6"/>
                </a:lnTo>
                <a:lnTo>
                  <a:pt x="560" y="6"/>
                </a:lnTo>
                <a:lnTo>
                  <a:pt x="538" y="8"/>
                </a:lnTo>
                <a:lnTo>
                  <a:pt x="516" y="8"/>
                </a:lnTo>
                <a:close/>
              </a:path>
            </a:pathLst>
          </a:custGeom>
          <a:solidFill>
            <a:srgbClr val="ffed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3411360" y="766800"/>
            <a:ext cx="1063800" cy="1093680"/>
          </a:xfrm>
          <a:custGeom>
            <a:avLst/>
            <a:gdLst/>
            <a:ahLst/>
            <a:rect l="l" t="t" r="r" b="b"/>
            <a:pathLst>
              <a:path w="670" h="689">
                <a:moveTo>
                  <a:pt x="499" y="12"/>
                </a:moveTo>
                <a:lnTo>
                  <a:pt x="447" y="38"/>
                </a:lnTo>
                <a:lnTo>
                  <a:pt x="395" y="66"/>
                </a:lnTo>
                <a:lnTo>
                  <a:pt x="342" y="94"/>
                </a:lnTo>
                <a:lnTo>
                  <a:pt x="290" y="124"/>
                </a:lnTo>
                <a:lnTo>
                  <a:pt x="240" y="154"/>
                </a:lnTo>
                <a:lnTo>
                  <a:pt x="193" y="187"/>
                </a:lnTo>
                <a:lnTo>
                  <a:pt x="149" y="223"/>
                </a:lnTo>
                <a:lnTo>
                  <a:pt x="111" y="261"/>
                </a:lnTo>
                <a:lnTo>
                  <a:pt x="75" y="301"/>
                </a:lnTo>
                <a:lnTo>
                  <a:pt x="47" y="345"/>
                </a:lnTo>
                <a:lnTo>
                  <a:pt x="25" y="393"/>
                </a:lnTo>
                <a:lnTo>
                  <a:pt x="9" y="443"/>
                </a:lnTo>
                <a:lnTo>
                  <a:pt x="0" y="499"/>
                </a:lnTo>
                <a:lnTo>
                  <a:pt x="0" y="557"/>
                </a:lnTo>
                <a:lnTo>
                  <a:pt x="11" y="621"/>
                </a:lnTo>
                <a:lnTo>
                  <a:pt x="31" y="689"/>
                </a:lnTo>
                <a:lnTo>
                  <a:pt x="44" y="625"/>
                </a:lnTo>
                <a:lnTo>
                  <a:pt x="58" y="563"/>
                </a:lnTo>
                <a:lnTo>
                  <a:pt x="75" y="503"/>
                </a:lnTo>
                <a:lnTo>
                  <a:pt x="94" y="447"/>
                </a:lnTo>
                <a:lnTo>
                  <a:pt x="116" y="395"/>
                </a:lnTo>
                <a:lnTo>
                  <a:pt x="141" y="345"/>
                </a:lnTo>
                <a:lnTo>
                  <a:pt x="168" y="297"/>
                </a:lnTo>
                <a:lnTo>
                  <a:pt x="202" y="253"/>
                </a:lnTo>
                <a:lnTo>
                  <a:pt x="240" y="211"/>
                </a:lnTo>
                <a:lnTo>
                  <a:pt x="284" y="174"/>
                </a:lnTo>
                <a:lnTo>
                  <a:pt x="331" y="138"/>
                </a:lnTo>
                <a:lnTo>
                  <a:pt x="386" y="104"/>
                </a:lnTo>
                <a:lnTo>
                  <a:pt x="447" y="74"/>
                </a:lnTo>
                <a:lnTo>
                  <a:pt x="513" y="46"/>
                </a:lnTo>
                <a:lnTo>
                  <a:pt x="588" y="22"/>
                </a:lnTo>
                <a:lnTo>
                  <a:pt x="670" y="0"/>
                </a:lnTo>
                <a:lnTo>
                  <a:pt x="648" y="2"/>
                </a:lnTo>
                <a:lnTo>
                  <a:pt x="629" y="2"/>
                </a:lnTo>
                <a:lnTo>
                  <a:pt x="607" y="4"/>
                </a:lnTo>
                <a:lnTo>
                  <a:pt x="585" y="6"/>
                </a:lnTo>
                <a:lnTo>
                  <a:pt x="566" y="8"/>
                </a:lnTo>
                <a:lnTo>
                  <a:pt x="543" y="8"/>
                </a:lnTo>
                <a:lnTo>
                  <a:pt x="521" y="10"/>
                </a:lnTo>
                <a:lnTo>
                  <a:pt x="499" y="12"/>
                </a:lnTo>
                <a:close/>
              </a:path>
            </a:pathLst>
          </a:custGeom>
          <a:solidFill>
            <a:srgbClr val="fff2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421080" y="770040"/>
            <a:ext cx="1036800" cy="1071360"/>
          </a:xfrm>
          <a:custGeom>
            <a:avLst/>
            <a:gdLst/>
            <a:ahLst/>
            <a:rect l="l" t="t" r="r" b="b"/>
            <a:pathLst>
              <a:path w="653" h="675">
                <a:moveTo>
                  <a:pt x="485" y="16"/>
                </a:moveTo>
                <a:lnTo>
                  <a:pt x="435" y="42"/>
                </a:lnTo>
                <a:lnTo>
                  <a:pt x="386" y="70"/>
                </a:lnTo>
                <a:lnTo>
                  <a:pt x="336" y="98"/>
                </a:lnTo>
                <a:lnTo>
                  <a:pt x="287" y="126"/>
                </a:lnTo>
                <a:lnTo>
                  <a:pt x="237" y="158"/>
                </a:lnTo>
                <a:lnTo>
                  <a:pt x="193" y="189"/>
                </a:lnTo>
                <a:lnTo>
                  <a:pt x="149" y="223"/>
                </a:lnTo>
                <a:lnTo>
                  <a:pt x="113" y="259"/>
                </a:lnTo>
                <a:lnTo>
                  <a:pt x="77" y="297"/>
                </a:lnTo>
                <a:lnTo>
                  <a:pt x="49" y="341"/>
                </a:lnTo>
                <a:lnTo>
                  <a:pt x="25" y="385"/>
                </a:lnTo>
                <a:lnTo>
                  <a:pt x="11" y="435"/>
                </a:lnTo>
                <a:lnTo>
                  <a:pt x="0" y="489"/>
                </a:lnTo>
                <a:lnTo>
                  <a:pt x="0" y="545"/>
                </a:lnTo>
                <a:lnTo>
                  <a:pt x="8" y="607"/>
                </a:lnTo>
                <a:lnTo>
                  <a:pt x="27" y="675"/>
                </a:lnTo>
                <a:lnTo>
                  <a:pt x="41" y="609"/>
                </a:lnTo>
                <a:lnTo>
                  <a:pt x="55" y="549"/>
                </a:lnTo>
                <a:lnTo>
                  <a:pt x="69" y="489"/>
                </a:lnTo>
                <a:lnTo>
                  <a:pt x="88" y="435"/>
                </a:lnTo>
                <a:lnTo>
                  <a:pt x="107" y="381"/>
                </a:lnTo>
                <a:lnTo>
                  <a:pt x="132" y="333"/>
                </a:lnTo>
                <a:lnTo>
                  <a:pt x="160" y="287"/>
                </a:lnTo>
                <a:lnTo>
                  <a:pt x="193" y="243"/>
                </a:lnTo>
                <a:lnTo>
                  <a:pt x="229" y="203"/>
                </a:lnTo>
                <a:lnTo>
                  <a:pt x="270" y="166"/>
                </a:lnTo>
                <a:lnTo>
                  <a:pt x="317" y="132"/>
                </a:lnTo>
                <a:lnTo>
                  <a:pt x="372" y="100"/>
                </a:lnTo>
                <a:lnTo>
                  <a:pt x="430" y="72"/>
                </a:lnTo>
                <a:lnTo>
                  <a:pt x="499" y="44"/>
                </a:lnTo>
                <a:lnTo>
                  <a:pt x="571" y="22"/>
                </a:lnTo>
                <a:lnTo>
                  <a:pt x="653" y="0"/>
                </a:lnTo>
                <a:lnTo>
                  <a:pt x="631" y="2"/>
                </a:lnTo>
                <a:lnTo>
                  <a:pt x="612" y="4"/>
                </a:lnTo>
                <a:lnTo>
                  <a:pt x="590" y="6"/>
                </a:lnTo>
                <a:lnTo>
                  <a:pt x="571" y="8"/>
                </a:lnTo>
                <a:lnTo>
                  <a:pt x="548" y="10"/>
                </a:lnTo>
                <a:lnTo>
                  <a:pt x="529" y="12"/>
                </a:lnTo>
                <a:lnTo>
                  <a:pt x="507" y="14"/>
                </a:lnTo>
                <a:lnTo>
                  <a:pt x="485" y="16"/>
                </a:lnTo>
                <a:close/>
              </a:path>
            </a:pathLst>
          </a:custGeom>
          <a:solidFill>
            <a:srgbClr val="fff4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3429000" y="776160"/>
            <a:ext cx="1015920" cy="1046160"/>
          </a:xfrm>
          <a:custGeom>
            <a:avLst/>
            <a:gdLst/>
            <a:ahLst/>
            <a:rect l="l" t="t" r="r" b="b"/>
            <a:pathLst>
              <a:path w="640" h="659">
                <a:moveTo>
                  <a:pt x="472" y="16"/>
                </a:moveTo>
                <a:lnTo>
                  <a:pt x="425" y="44"/>
                </a:lnTo>
                <a:lnTo>
                  <a:pt x="375" y="72"/>
                </a:lnTo>
                <a:lnTo>
                  <a:pt x="328" y="100"/>
                </a:lnTo>
                <a:lnTo>
                  <a:pt x="282" y="128"/>
                </a:lnTo>
                <a:lnTo>
                  <a:pt x="235" y="158"/>
                </a:lnTo>
                <a:lnTo>
                  <a:pt x="191" y="187"/>
                </a:lnTo>
                <a:lnTo>
                  <a:pt x="149" y="221"/>
                </a:lnTo>
                <a:lnTo>
                  <a:pt x="113" y="255"/>
                </a:lnTo>
                <a:lnTo>
                  <a:pt x="77" y="293"/>
                </a:lnTo>
                <a:lnTo>
                  <a:pt x="50" y="333"/>
                </a:lnTo>
                <a:lnTo>
                  <a:pt x="28" y="377"/>
                </a:lnTo>
                <a:lnTo>
                  <a:pt x="11" y="425"/>
                </a:lnTo>
                <a:lnTo>
                  <a:pt x="3" y="475"/>
                </a:lnTo>
                <a:lnTo>
                  <a:pt x="0" y="531"/>
                </a:lnTo>
                <a:lnTo>
                  <a:pt x="9" y="593"/>
                </a:lnTo>
                <a:lnTo>
                  <a:pt x="25" y="659"/>
                </a:lnTo>
                <a:lnTo>
                  <a:pt x="36" y="593"/>
                </a:lnTo>
                <a:lnTo>
                  <a:pt x="50" y="531"/>
                </a:lnTo>
                <a:lnTo>
                  <a:pt x="64" y="473"/>
                </a:lnTo>
                <a:lnTo>
                  <a:pt x="83" y="419"/>
                </a:lnTo>
                <a:lnTo>
                  <a:pt x="102" y="367"/>
                </a:lnTo>
                <a:lnTo>
                  <a:pt x="124" y="319"/>
                </a:lnTo>
                <a:lnTo>
                  <a:pt x="152" y="275"/>
                </a:lnTo>
                <a:lnTo>
                  <a:pt x="182" y="233"/>
                </a:lnTo>
                <a:lnTo>
                  <a:pt x="218" y="193"/>
                </a:lnTo>
                <a:lnTo>
                  <a:pt x="259" y="158"/>
                </a:lnTo>
                <a:lnTo>
                  <a:pt x="306" y="126"/>
                </a:lnTo>
                <a:lnTo>
                  <a:pt x="359" y="94"/>
                </a:lnTo>
                <a:lnTo>
                  <a:pt x="417" y="68"/>
                </a:lnTo>
                <a:lnTo>
                  <a:pt x="483" y="42"/>
                </a:lnTo>
                <a:lnTo>
                  <a:pt x="557" y="20"/>
                </a:lnTo>
                <a:lnTo>
                  <a:pt x="640" y="0"/>
                </a:lnTo>
                <a:lnTo>
                  <a:pt x="618" y="2"/>
                </a:lnTo>
                <a:lnTo>
                  <a:pt x="596" y="4"/>
                </a:lnTo>
                <a:lnTo>
                  <a:pt x="577" y="6"/>
                </a:lnTo>
                <a:lnTo>
                  <a:pt x="555" y="8"/>
                </a:lnTo>
                <a:lnTo>
                  <a:pt x="535" y="10"/>
                </a:lnTo>
                <a:lnTo>
                  <a:pt x="513" y="12"/>
                </a:lnTo>
                <a:lnTo>
                  <a:pt x="494" y="14"/>
                </a:lnTo>
                <a:lnTo>
                  <a:pt x="472" y="16"/>
                </a:lnTo>
                <a:close/>
              </a:path>
            </a:pathLst>
          </a:custGeom>
          <a:solidFill>
            <a:srgbClr val="fff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438360" y="779400"/>
            <a:ext cx="989280" cy="1023840"/>
          </a:xfrm>
          <a:custGeom>
            <a:avLst/>
            <a:gdLst/>
            <a:ahLst/>
            <a:rect l="l" t="t" r="r" b="b"/>
            <a:pathLst>
              <a:path w="623" h="645">
                <a:moveTo>
                  <a:pt x="458" y="20"/>
                </a:moveTo>
                <a:lnTo>
                  <a:pt x="413" y="48"/>
                </a:lnTo>
                <a:lnTo>
                  <a:pt x="367" y="76"/>
                </a:lnTo>
                <a:lnTo>
                  <a:pt x="320" y="104"/>
                </a:lnTo>
                <a:lnTo>
                  <a:pt x="276" y="132"/>
                </a:lnTo>
                <a:lnTo>
                  <a:pt x="231" y="160"/>
                </a:lnTo>
                <a:lnTo>
                  <a:pt x="187" y="189"/>
                </a:lnTo>
                <a:lnTo>
                  <a:pt x="149" y="219"/>
                </a:lnTo>
                <a:lnTo>
                  <a:pt x="113" y="253"/>
                </a:lnTo>
                <a:lnTo>
                  <a:pt x="80" y="289"/>
                </a:lnTo>
                <a:lnTo>
                  <a:pt x="52" y="327"/>
                </a:lnTo>
                <a:lnTo>
                  <a:pt x="30" y="369"/>
                </a:lnTo>
                <a:lnTo>
                  <a:pt x="14" y="415"/>
                </a:lnTo>
                <a:lnTo>
                  <a:pt x="3" y="465"/>
                </a:lnTo>
                <a:lnTo>
                  <a:pt x="0" y="519"/>
                </a:lnTo>
                <a:lnTo>
                  <a:pt x="5" y="579"/>
                </a:lnTo>
                <a:lnTo>
                  <a:pt x="19" y="645"/>
                </a:lnTo>
                <a:lnTo>
                  <a:pt x="30" y="579"/>
                </a:lnTo>
                <a:lnTo>
                  <a:pt x="44" y="517"/>
                </a:lnTo>
                <a:lnTo>
                  <a:pt x="58" y="459"/>
                </a:lnTo>
                <a:lnTo>
                  <a:pt x="74" y="405"/>
                </a:lnTo>
                <a:lnTo>
                  <a:pt x="94" y="355"/>
                </a:lnTo>
                <a:lnTo>
                  <a:pt x="116" y="307"/>
                </a:lnTo>
                <a:lnTo>
                  <a:pt x="143" y="263"/>
                </a:lnTo>
                <a:lnTo>
                  <a:pt x="174" y="223"/>
                </a:lnTo>
                <a:lnTo>
                  <a:pt x="207" y="185"/>
                </a:lnTo>
                <a:lnTo>
                  <a:pt x="245" y="152"/>
                </a:lnTo>
                <a:lnTo>
                  <a:pt x="292" y="120"/>
                </a:lnTo>
                <a:lnTo>
                  <a:pt x="344" y="90"/>
                </a:lnTo>
                <a:lnTo>
                  <a:pt x="402" y="64"/>
                </a:lnTo>
                <a:lnTo>
                  <a:pt x="469" y="40"/>
                </a:lnTo>
                <a:lnTo>
                  <a:pt x="540" y="20"/>
                </a:lnTo>
                <a:lnTo>
                  <a:pt x="623" y="0"/>
                </a:lnTo>
                <a:lnTo>
                  <a:pt x="458" y="20"/>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715000" y="1606680"/>
            <a:ext cx="735120" cy="1135080"/>
          </a:xfrm>
          <a:custGeom>
            <a:avLst/>
            <a:gdLst/>
            <a:ahLst/>
            <a:rect l="l" t="t" r="r" b="b"/>
            <a:pathLst>
              <a:path w="463" h="715">
                <a:moveTo>
                  <a:pt x="460" y="120"/>
                </a:moveTo>
                <a:lnTo>
                  <a:pt x="463" y="154"/>
                </a:lnTo>
                <a:lnTo>
                  <a:pt x="463" y="188"/>
                </a:lnTo>
                <a:lnTo>
                  <a:pt x="460" y="222"/>
                </a:lnTo>
                <a:lnTo>
                  <a:pt x="457" y="256"/>
                </a:lnTo>
                <a:lnTo>
                  <a:pt x="449" y="292"/>
                </a:lnTo>
                <a:lnTo>
                  <a:pt x="438" y="328"/>
                </a:lnTo>
                <a:lnTo>
                  <a:pt x="421" y="366"/>
                </a:lnTo>
                <a:lnTo>
                  <a:pt x="402" y="402"/>
                </a:lnTo>
                <a:lnTo>
                  <a:pt x="377" y="440"/>
                </a:lnTo>
                <a:lnTo>
                  <a:pt x="344" y="478"/>
                </a:lnTo>
                <a:lnTo>
                  <a:pt x="308" y="518"/>
                </a:lnTo>
                <a:lnTo>
                  <a:pt x="262" y="556"/>
                </a:lnTo>
                <a:lnTo>
                  <a:pt x="209" y="596"/>
                </a:lnTo>
                <a:lnTo>
                  <a:pt x="148" y="636"/>
                </a:lnTo>
                <a:lnTo>
                  <a:pt x="80" y="675"/>
                </a:lnTo>
                <a:lnTo>
                  <a:pt x="0" y="715"/>
                </a:lnTo>
                <a:lnTo>
                  <a:pt x="63" y="640"/>
                </a:lnTo>
                <a:lnTo>
                  <a:pt x="124" y="554"/>
                </a:lnTo>
                <a:lnTo>
                  <a:pt x="184" y="460"/>
                </a:lnTo>
                <a:lnTo>
                  <a:pt x="242" y="362"/>
                </a:lnTo>
                <a:lnTo>
                  <a:pt x="297" y="264"/>
                </a:lnTo>
                <a:lnTo>
                  <a:pt x="344" y="170"/>
                </a:lnTo>
                <a:lnTo>
                  <a:pt x="388" y="80"/>
                </a:lnTo>
                <a:lnTo>
                  <a:pt x="421" y="0"/>
                </a:lnTo>
                <a:lnTo>
                  <a:pt x="460" y="120"/>
                </a:lnTo>
                <a:close/>
              </a:path>
            </a:pathLst>
          </a:custGeom>
          <a:solidFill>
            <a:srgbClr val="ffc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735520" y="1631880"/>
            <a:ext cx="709560" cy="1093680"/>
          </a:xfrm>
          <a:custGeom>
            <a:avLst/>
            <a:gdLst/>
            <a:ahLst/>
            <a:rect l="l" t="t" r="r" b="b"/>
            <a:pathLst>
              <a:path w="447" h="689">
                <a:moveTo>
                  <a:pt x="444" y="112"/>
                </a:moveTo>
                <a:lnTo>
                  <a:pt x="447" y="144"/>
                </a:lnTo>
                <a:lnTo>
                  <a:pt x="447" y="178"/>
                </a:lnTo>
                <a:lnTo>
                  <a:pt x="444" y="210"/>
                </a:lnTo>
                <a:lnTo>
                  <a:pt x="439" y="244"/>
                </a:lnTo>
                <a:lnTo>
                  <a:pt x="431" y="280"/>
                </a:lnTo>
                <a:lnTo>
                  <a:pt x="419" y="314"/>
                </a:lnTo>
                <a:lnTo>
                  <a:pt x="406" y="350"/>
                </a:lnTo>
                <a:lnTo>
                  <a:pt x="386" y="386"/>
                </a:lnTo>
                <a:lnTo>
                  <a:pt x="362" y="424"/>
                </a:lnTo>
                <a:lnTo>
                  <a:pt x="331" y="460"/>
                </a:lnTo>
                <a:lnTo>
                  <a:pt x="293" y="498"/>
                </a:lnTo>
                <a:lnTo>
                  <a:pt x="251" y="536"/>
                </a:lnTo>
                <a:lnTo>
                  <a:pt x="199" y="574"/>
                </a:lnTo>
                <a:lnTo>
                  <a:pt x="141" y="612"/>
                </a:lnTo>
                <a:lnTo>
                  <a:pt x="75" y="651"/>
                </a:lnTo>
                <a:lnTo>
                  <a:pt x="0" y="689"/>
                </a:lnTo>
                <a:lnTo>
                  <a:pt x="61" y="616"/>
                </a:lnTo>
                <a:lnTo>
                  <a:pt x="122" y="532"/>
                </a:lnTo>
                <a:lnTo>
                  <a:pt x="180" y="442"/>
                </a:lnTo>
                <a:lnTo>
                  <a:pt x="235" y="350"/>
                </a:lnTo>
                <a:lnTo>
                  <a:pt x="284" y="256"/>
                </a:lnTo>
                <a:lnTo>
                  <a:pt x="331" y="164"/>
                </a:lnTo>
                <a:lnTo>
                  <a:pt x="373" y="78"/>
                </a:lnTo>
                <a:lnTo>
                  <a:pt x="406" y="0"/>
                </a:lnTo>
                <a:lnTo>
                  <a:pt x="417" y="28"/>
                </a:lnTo>
                <a:lnTo>
                  <a:pt x="425" y="56"/>
                </a:lnTo>
                <a:lnTo>
                  <a:pt x="433" y="84"/>
                </a:lnTo>
                <a:lnTo>
                  <a:pt x="444" y="112"/>
                </a:lnTo>
                <a:close/>
              </a:path>
            </a:pathLst>
          </a:custGeom>
          <a:solidFill>
            <a:srgbClr val="ffcc0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5762520" y="1654200"/>
            <a:ext cx="669960" cy="1052640"/>
          </a:xfrm>
          <a:custGeom>
            <a:avLst/>
            <a:gdLst/>
            <a:ahLst/>
            <a:rect l="l" t="t" r="r" b="b"/>
            <a:pathLst>
              <a:path w="422" h="663">
                <a:moveTo>
                  <a:pt x="422" y="108"/>
                </a:moveTo>
                <a:lnTo>
                  <a:pt x="422" y="170"/>
                </a:lnTo>
                <a:lnTo>
                  <a:pt x="416" y="236"/>
                </a:lnTo>
                <a:lnTo>
                  <a:pt x="397" y="304"/>
                </a:lnTo>
                <a:lnTo>
                  <a:pt x="364" y="374"/>
                </a:lnTo>
                <a:lnTo>
                  <a:pt x="311" y="446"/>
                </a:lnTo>
                <a:lnTo>
                  <a:pt x="237" y="518"/>
                </a:lnTo>
                <a:lnTo>
                  <a:pt x="132" y="590"/>
                </a:lnTo>
                <a:lnTo>
                  <a:pt x="0" y="663"/>
                </a:lnTo>
                <a:lnTo>
                  <a:pt x="58" y="592"/>
                </a:lnTo>
                <a:lnTo>
                  <a:pt x="113" y="512"/>
                </a:lnTo>
                <a:lnTo>
                  <a:pt x="168" y="426"/>
                </a:lnTo>
                <a:lnTo>
                  <a:pt x="223" y="338"/>
                </a:lnTo>
                <a:lnTo>
                  <a:pt x="270" y="248"/>
                </a:lnTo>
                <a:lnTo>
                  <a:pt x="314" y="160"/>
                </a:lnTo>
                <a:lnTo>
                  <a:pt x="353" y="76"/>
                </a:lnTo>
                <a:lnTo>
                  <a:pt x="386" y="0"/>
                </a:lnTo>
                <a:lnTo>
                  <a:pt x="397" y="26"/>
                </a:lnTo>
                <a:lnTo>
                  <a:pt x="405" y="54"/>
                </a:lnTo>
                <a:lnTo>
                  <a:pt x="414" y="80"/>
                </a:lnTo>
                <a:lnTo>
                  <a:pt x="422" y="108"/>
                </a:lnTo>
                <a:close/>
              </a:path>
            </a:pathLst>
          </a:custGeom>
          <a:solidFill>
            <a:srgbClr val="ffd11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5784840" y="1679400"/>
            <a:ext cx="642960" cy="1005120"/>
          </a:xfrm>
          <a:custGeom>
            <a:avLst/>
            <a:gdLst/>
            <a:ahLst/>
            <a:rect l="l" t="t" r="r" b="b"/>
            <a:pathLst>
              <a:path w="405" h="633">
                <a:moveTo>
                  <a:pt x="405" y="100"/>
                </a:moveTo>
                <a:lnTo>
                  <a:pt x="405" y="160"/>
                </a:lnTo>
                <a:lnTo>
                  <a:pt x="397" y="224"/>
                </a:lnTo>
                <a:lnTo>
                  <a:pt x="377" y="290"/>
                </a:lnTo>
                <a:lnTo>
                  <a:pt x="344" y="358"/>
                </a:lnTo>
                <a:lnTo>
                  <a:pt x="295" y="426"/>
                </a:lnTo>
                <a:lnTo>
                  <a:pt x="223" y="496"/>
                </a:lnTo>
                <a:lnTo>
                  <a:pt x="127" y="564"/>
                </a:lnTo>
                <a:lnTo>
                  <a:pt x="0" y="633"/>
                </a:lnTo>
                <a:lnTo>
                  <a:pt x="55" y="566"/>
                </a:lnTo>
                <a:lnTo>
                  <a:pt x="110" y="490"/>
                </a:lnTo>
                <a:lnTo>
                  <a:pt x="162" y="408"/>
                </a:lnTo>
                <a:lnTo>
                  <a:pt x="215" y="324"/>
                </a:lnTo>
                <a:lnTo>
                  <a:pt x="262" y="240"/>
                </a:lnTo>
                <a:lnTo>
                  <a:pt x="303" y="156"/>
                </a:lnTo>
                <a:lnTo>
                  <a:pt x="339" y="76"/>
                </a:lnTo>
                <a:lnTo>
                  <a:pt x="369" y="0"/>
                </a:lnTo>
                <a:lnTo>
                  <a:pt x="380" y="26"/>
                </a:lnTo>
                <a:lnTo>
                  <a:pt x="388" y="50"/>
                </a:lnTo>
                <a:lnTo>
                  <a:pt x="397" y="74"/>
                </a:lnTo>
                <a:lnTo>
                  <a:pt x="405" y="100"/>
                </a:lnTo>
                <a:close/>
              </a:path>
            </a:pathLst>
          </a:custGeom>
          <a:solidFill>
            <a:srgbClr val="ffd6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805360" y="1701720"/>
            <a:ext cx="617760" cy="966960"/>
          </a:xfrm>
          <a:custGeom>
            <a:avLst/>
            <a:gdLst/>
            <a:ahLst/>
            <a:rect l="l" t="t" r="r" b="b"/>
            <a:pathLst>
              <a:path w="389" h="609">
                <a:moveTo>
                  <a:pt x="389" y="94"/>
                </a:moveTo>
                <a:lnTo>
                  <a:pt x="387" y="152"/>
                </a:lnTo>
                <a:lnTo>
                  <a:pt x="378" y="214"/>
                </a:lnTo>
                <a:lnTo>
                  <a:pt x="359" y="278"/>
                </a:lnTo>
                <a:lnTo>
                  <a:pt x="329" y="342"/>
                </a:lnTo>
                <a:lnTo>
                  <a:pt x="279" y="410"/>
                </a:lnTo>
                <a:lnTo>
                  <a:pt x="210" y="476"/>
                </a:lnTo>
                <a:lnTo>
                  <a:pt x="119" y="544"/>
                </a:lnTo>
                <a:lnTo>
                  <a:pt x="0" y="609"/>
                </a:lnTo>
                <a:lnTo>
                  <a:pt x="53" y="542"/>
                </a:lnTo>
                <a:lnTo>
                  <a:pt x="105" y="470"/>
                </a:lnTo>
                <a:lnTo>
                  <a:pt x="158" y="392"/>
                </a:lnTo>
                <a:lnTo>
                  <a:pt x="205" y="312"/>
                </a:lnTo>
                <a:lnTo>
                  <a:pt x="251" y="232"/>
                </a:lnTo>
                <a:lnTo>
                  <a:pt x="290" y="152"/>
                </a:lnTo>
                <a:lnTo>
                  <a:pt x="326" y="74"/>
                </a:lnTo>
                <a:lnTo>
                  <a:pt x="356" y="0"/>
                </a:lnTo>
                <a:lnTo>
                  <a:pt x="364" y="24"/>
                </a:lnTo>
                <a:lnTo>
                  <a:pt x="373" y="48"/>
                </a:lnTo>
                <a:lnTo>
                  <a:pt x="381" y="72"/>
                </a:lnTo>
                <a:lnTo>
                  <a:pt x="389" y="94"/>
                </a:lnTo>
                <a:close/>
              </a:path>
            </a:pathLst>
          </a:custGeom>
          <a:solidFill>
            <a:srgbClr val="ffd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827680" y="1727280"/>
            <a:ext cx="592200" cy="925560"/>
          </a:xfrm>
          <a:custGeom>
            <a:avLst/>
            <a:gdLst/>
            <a:ahLst/>
            <a:rect l="l" t="t" r="r" b="b"/>
            <a:pathLst>
              <a:path w="373" h="583">
                <a:moveTo>
                  <a:pt x="373" y="88"/>
                </a:moveTo>
                <a:lnTo>
                  <a:pt x="367" y="144"/>
                </a:lnTo>
                <a:lnTo>
                  <a:pt x="359" y="204"/>
                </a:lnTo>
                <a:lnTo>
                  <a:pt x="339" y="264"/>
                </a:lnTo>
                <a:lnTo>
                  <a:pt x="306" y="328"/>
                </a:lnTo>
                <a:lnTo>
                  <a:pt x="262" y="392"/>
                </a:lnTo>
                <a:lnTo>
                  <a:pt x="196" y="456"/>
                </a:lnTo>
                <a:lnTo>
                  <a:pt x="111" y="520"/>
                </a:lnTo>
                <a:lnTo>
                  <a:pt x="0" y="583"/>
                </a:lnTo>
                <a:lnTo>
                  <a:pt x="50" y="518"/>
                </a:lnTo>
                <a:lnTo>
                  <a:pt x="100" y="448"/>
                </a:lnTo>
                <a:lnTo>
                  <a:pt x="149" y="376"/>
                </a:lnTo>
                <a:lnTo>
                  <a:pt x="196" y="300"/>
                </a:lnTo>
                <a:lnTo>
                  <a:pt x="237" y="222"/>
                </a:lnTo>
                <a:lnTo>
                  <a:pt x="276" y="146"/>
                </a:lnTo>
                <a:lnTo>
                  <a:pt x="312" y="72"/>
                </a:lnTo>
                <a:lnTo>
                  <a:pt x="339" y="0"/>
                </a:lnTo>
                <a:lnTo>
                  <a:pt x="348" y="22"/>
                </a:lnTo>
                <a:lnTo>
                  <a:pt x="356" y="44"/>
                </a:lnTo>
                <a:lnTo>
                  <a:pt x="364" y="66"/>
                </a:lnTo>
                <a:lnTo>
                  <a:pt x="373" y="88"/>
                </a:lnTo>
                <a:close/>
              </a:path>
            </a:pathLst>
          </a:custGeom>
          <a:solidFill>
            <a:srgbClr val="ffd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850000" y="1749600"/>
            <a:ext cx="565200" cy="885600"/>
          </a:xfrm>
          <a:custGeom>
            <a:avLst/>
            <a:gdLst/>
            <a:ahLst/>
            <a:rect l="l" t="t" r="r" b="b"/>
            <a:pathLst>
              <a:path w="356" h="558">
                <a:moveTo>
                  <a:pt x="356" y="82"/>
                </a:moveTo>
                <a:lnTo>
                  <a:pt x="350" y="136"/>
                </a:lnTo>
                <a:lnTo>
                  <a:pt x="339" y="194"/>
                </a:lnTo>
                <a:lnTo>
                  <a:pt x="320" y="252"/>
                </a:lnTo>
                <a:lnTo>
                  <a:pt x="290" y="314"/>
                </a:lnTo>
                <a:lnTo>
                  <a:pt x="245" y="374"/>
                </a:lnTo>
                <a:lnTo>
                  <a:pt x="185" y="436"/>
                </a:lnTo>
                <a:lnTo>
                  <a:pt x="105" y="498"/>
                </a:lnTo>
                <a:lnTo>
                  <a:pt x="0" y="558"/>
                </a:lnTo>
                <a:lnTo>
                  <a:pt x="47" y="496"/>
                </a:lnTo>
                <a:lnTo>
                  <a:pt x="94" y="428"/>
                </a:lnTo>
                <a:lnTo>
                  <a:pt x="141" y="360"/>
                </a:lnTo>
                <a:lnTo>
                  <a:pt x="185" y="288"/>
                </a:lnTo>
                <a:lnTo>
                  <a:pt x="226" y="216"/>
                </a:lnTo>
                <a:lnTo>
                  <a:pt x="262" y="142"/>
                </a:lnTo>
                <a:lnTo>
                  <a:pt x="295" y="70"/>
                </a:lnTo>
                <a:lnTo>
                  <a:pt x="323" y="0"/>
                </a:lnTo>
                <a:lnTo>
                  <a:pt x="331" y="20"/>
                </a:lnTo>
                <a:lnTo>
                  <a:pt x="339" y="42"/>
                </a:lnTo>
                <a:lnTo>
                  <a:pt x="347" y="62"/>
                </a:lnTo>
                <a:lnTo>
                  <a:pt x="356" y="82"/>
                </a:lnTo>
                <a:close/>
              </a:path>
            </a:pathLst>
          </a:custGeom>
          <a:solidFill>
            <a:srgbClr val="ffe2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5872320" y="1774800"/>
            <a:ext cx="533160" cy="841320"/>
          </a:xfrm>
          <a:custGeom>
            <a:avLst/>
            <a:gdLst/>
            <a:ahLst/>
            <a:rect l="l" t="t" r="r" b="b"/>
            <a:pathLst>
              <a:path w="336" h="530">
                <a:moveTo>
                  <a:pt x="336" y="74"/>
                </a:moveTo>
                <a:lnTo>
                  <a:pt x="331" y="126"/>
                </a:lnTo>
                <a:lnTo>
                  <a:pt x="317" y="180"/>
                </a:lnTo>
                <a:lnTo>
                  <a:pt x="300" y="238"/>
                </a:lnTo>
                <a:lnTo>
                  <a:pt x="270" y="296"/>
                </a:lnTo>
                <a:lnTo>
                  <a:pt x="229" y="356"/>
                </a:lnTo>
                <a:lnTo>
                  <a:pt x="171" y="416"/>
                </a:lnTo>
                <a:lnTo>
                  <a:pt x="96" y="474"/>
                </a:lnTo>
                <a:lnTo>
                  <a:pt x="0" y="530"/>
                </a:lnTo>
                <a:lnTo>
                  <a:pt x="47" y="470"/>
                </a:lnTo>
                <a:lnTo>
                  <a:pt x="91" y="406"/>
                </a:lnTo>
                <a:lnTo>
                  <a:pt x="135" y="340"/>
                </a:lnTo>
                <a:lnTo>
                  <a:pt x="176" y="274"/>
                </a:lnTo>
                <a:lnTo>
                  <a:pt x="215" y="206"/>
                </a:lnTo>
                <a:lnTo>
                  <a:pt x="251" y="138"/>
                </a:lnTo>
                <a:lnTo>
                  <a:pt x="281" y="68"/>
                </a:lnTo>
                <a:lnTo>
                  <a:pt x="306" y="0"/>
                </a:lnTo>
                <a:lnTo>
                  <a:pt x="314" y="18"/>
                </a:lnTo>
                <a:lnTo>
                  <a:pt x="322" y="36"/>
                </a:lnTo>
                <a:lnTo>
                  <a:pt x="331" y="56"/>
                </a:lnTo>
                <a:lnTo>
                  <a:pt x="336" y="74"/>
                </a:lnTo>
                <a:close/>
              </a:path>
            </a:pathLst>
          </a:custGeom>
          <a:solidFill>
            <a:srgbClr val="ffe8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5894280" y="1797120"/>
            <a:ext cx="506520" cy="799920"/>
          </a:xfrm>
          <a:custGeom>
            <a:avLst/>
            <a:gdLst/>
            <a:ahLst/>
            <a:rect l="l" t="t" r="r" b="b"/>
            <a:pathLst>
              <a:path w="319" h="504">
                <a:moveTo>
                  <a:pt x="319" y="70"/>
                </a:moveTo>
                <a:lnTo>
                  <a:pt x="311" y="120"/>
                </a:lnTo>
                <a:lnTo>
                  <a:pt x="297" y="172"/>
                </a:lnTo>
                <a:lnTo>
                  <a:pt x="281" y="228"/>
                </a:lnTo>
                <a:lnTo>
                  <a:pt x="251" y="284"/>
                </a:lnTo>
                <a:lnTo>
                  <a:pt x="212" y="340"/>
                </a:lnTo>
                <a:lnTo>
                  <a:pt x="160" y="396"/>
                </a:lnTo>
                <a:lnTo>
                  <a:pt x="88" y="450"/>
                </a:lnTo>
                <a:lnTo>
                  <a:pt x="0" y="504"/>
                </a:lnTo>
                <a:lnTo>
                  <a:pt x="44" y="446"/>
                </a:lnTo>
                <a:lnTo>
                  <a:pt x="85" y="386"/>
                </a:lnTo>
                <a:lnTo>
                  <a:pt x="126" y="326"/>
                </a:lnTo>
                <a:lnTo>
                  <a:pt x="165" y="262"/>
                </a:lnTo>
                <a:lnTo>
                  <a:pt x="204" y="198"/>
                </a:lnTo>
                <a:lnTo>
                  <a:pt x="237" y="134"/>
                </a:lnTo>
                <a:lnTo>
                  <a:pt x="264" y="68"/>
                </a:lnTo>
                <a:lnTo>
                  <a:pt x="289" y="0"/>
                </a:lnTo>
                <a:lnTo>
                  <a:pt x="297" y="18"/>
                </a:lnTo>
                <a:lnTo>
                  <a:pt x="306" y="34"/>
                </a:lnTo>
                <a:lnTo>
                  <a:pt x="314" y="52"/>
                </a:lnTo>
                <a:lnTo>
                  <a:pt x="319" y="70"/>
                </a:lnTo>
                <a:close/>
              </a:path>
            </a:pathLst>
          </a:custGeom>
          <a:solidFill>
            <a:srgbClr val="ffed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915160" y="1822320"/>
            <a:ext cx="482400" cy="758880"/>
          </a:xfrm>
          <a:custGeom>
            <a:avLst/>
            <a:gdLst/>
            <a:ahLst/>
            <a:rect l="l" t="t" r="r" b="b"/>
            <a:pathLst>
              <a:path w="304" h="478">
                <a:moveTo>
                  <a:pt x="304" y="62"/>
                </a:moveTo>
                <a:lnTo>
                  <a:pt x="293" y="110"/>
                </a:lnTo>
                <a:lnTo>
                  <a:pt x="279" y="160"/>
                </a:lnTo>
                <a:lnTo>
                  <a:pt x="260" y="212"/>
                </a:lnTo>
                <a:lnTo>
                  <a:pt x="235" y="266"/>
                </a:lnTo>
                <a:lnTo>
                  <a:pt x="196" y="322"/>
                </a:lnTo>
                <a:lnTo>
                  <a:pt x="147" y="376"/>
                </a:lnTo>
                <a:lnTo>
                  <a:pt x="83" y="428"/>
                </a:lnTo>
                <a:lnTo>
                  <a:pt x="0" y="478"/>
                </a:lnTo>
                <a:lnTo>
                  <a:pt x="42" y="422"/>
                </a:lnTo>
                <a:lnTo>
                  <a:pt x="83" y="366"/>
                </a:lnTo>
                <a:lnTo>
                  <a:pt x="122" y="308"/>
                </a:lnTo>
                <a:lnTo>
                  <a:pt x="158" y="250"/>
                </a:lnTo>
                <a:lnTo>
                  <a:pt x="191" y="190"/>
                </a:lnTo>
                <a:lnTo>
                  <a:pt x="224" y="128"/>
                </a:lnTo>
                <a:lnTo>
                  <a:pt x="251" y="66"/>
                </a:lnTo>
                <a:lnTo>
                  <a:pt x="273" y="0"/>
                </a:lnTo>
                <a:lnTo>
                  <a:pt x="282" y="16"/>
                </a:lnTo>
                <a:lnTo>
                  <a:pt x="290" y="30"/>
                </a:lnTo>
                <a:lnTo>
                  <a:pt x="298" y="46"/>
                </a:lnTo>
                <a:lnTo>
                  <a:pt x="304" y="62"/>
                </a:lnTo>
                <a:close/>
              </a:path>
            </a:pathLst>
          </a:custGeom>
          <a:solidFill>
            <a:srgbClr val="fff2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937120" y="1844640"/>
            <a:ext cx="455760" cy="717480"/>
          </a:xfrm>
          <a:custGeom>
            <a:avLst/>
            <a:gdLst/>
            <a:ahLst/>
            <a:rect l="l" t="t" r="r" b="b"/>
            <a:pathLst>
              <a:path w="287" h="452">
                <a:moveTo>
                  <a:pt x="287" y="56"/>
                </a:moveTo>
                <a:lnTo>
                  <a:pt x="276" y="102"/>
                </a:lnTo>
                <a:lnTo>
                  <a:pt x="262" y="150"/>
                </a:lnTo>
                <a:lnTo>
                  <a:pt x="243" y="202"/>
                </a:lnTo>
                <a:lnTo>
                  <a:pt x="215" y="254"/>
                </a:lnTo>
                <a:lnTo>
                  <a:pt x="179" y="306"/>
                </a:lnTo>
                <a:lnTo>
                  <a:pt x="135" y="356"/>
                </a:lnTo>
                <a:lnTo>
                  <a:pt x="75" y="406"/>
                </a:lnTo>
                <a:lnTo>
                  <a:pt x="0" y="452"/>
                </a:lnTo>
                <a:lnTo>
                  <a:pt x="39" y="398"/>
                </a:lnTo>
                <a:lnTo>
                  <a:pt x="75" y="346"/>
                </a:lnTo>
                <a:lnTo>
                  <a:pt x="113" y="292"/>
                </a:lnTo>
                <a:lnTo>
                  <a:pt x="146" y="238"/>
                </a:lnTo>
                <a:lnTo>
                  <a:pt x="179" y="182"/>
                </a:lnTo>
                <a:lnTo>
                  <a:pt x="210" y="124"/>
                </a:lnTo>
                <a:lnTo>
                  <a:pt x="237" y="64"/>
                </a:lnTo>
                <a:lnTo>
                  <a:pt x="259" y="0"/>
                </a:lnTo>
                <a:lnTo>
                  <a:pt x="265" y="14"/>
                </a:lnTo>
                <a:lnTo>
                  <a:pt x="273" y="28"/>
                </a:lnTo>
                <a:lnTo>
                  <a:pt x="279" y="42"/>
                </a:lnTo>
                <a:lnTo>
                  <a:pt x="287" y="56"/>
                </a:lnTo>
                <a:close/>
              </a:path>
            </a:pathLst>
          </a:custGeom>
          <a:solidFill>
            <a:srgbClr val="fff4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5959440" y="1870200"/>
            <a:ext cx="428760" cy="672840"/>
          </a:xfrm>
          <a:custGeom>
            <a:avLst/>
            <a:gdLst/>
            <a:ahLst/>
            <a:rect l="l" t="t" r="r" b="b"/>
            <a:pathLst>
              <a:path w="270" h="424">
                <a:moveTo>
                  <a:pt x="270" y="50"/>
                </a:moveTo>
                <a:lnTo>
                  <a:pt x="256" y="94"/>
                </a:lnTo>
                <a:lnTo>
                  <a:pt x="243" y="140"/>
                </a:lnTo>
                <a:lnTo>
                  <a:pt x="221" y="188"/>
                </a:lnTo>
                <a:lnTo>
                  <a:pt x="196" y="238"/>
                </a:lnTo>
                <a:lnTo>
                  <a:pt x="163" y="288"/>
                </a:lnTo>
                <a:lnTo>
                  <a:pt x="121" y="336"/>
                </a:lnTo>
                <a:lnTo>
                  <a:pt x="66" y="382"/>
                </a:lnTo>
                <a:lnTo>
                  <a:pt x="0" y="424"/>
                </a:lnTo>
                <a:lnTo>
                  <a:pt x="36" y="372"/>
                </a:lnTo>
                <a:lnTo>
                  <a:pt x="72" y="322"/>
                </a:lnTo>
                <a:lnTo>
                  <a:pt x="105" y="274"/>
                </a:lnTo>
                <a:lnTo>
                  <a:pt x="138" y="224"/>
                </a:lnTo>
                <a:lnTo>
                  <a:pt x="168" y="172"/>
                </a:lnTo>
                <a:lnTo>
                  <a:pt x="196" y="120"/>
                </a:lnTo>
                <a:lnTo>
                  <a:pt x="221" y="62"/>
                </a:lnTo>
                <a:lnTo>
                  <a:pt x="243" y="0"/>
                </a:lnTo>
                <a:lnTo>
                  <a:pt x="248" y="12"/>
                </a:lnTo>
                <a:lnTo>
                  <a:pt x="256" y="24"/>
                </a:lnTo>
                <a:lnTo>
                  <a:pt x="262" y="36"/>
                </a:lnTo>
                <a:lnTo>
                  <a:pt x="270" y="50"/>
                </a:lnTo>
                <a:close/>
              </a:path>
            </a:pathLst>
          </a:custGeom>
          <a:solidFill>
            <a:srgbClr val="fff9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5981760" y="1892160"/>
            <a:ext cx="398520" cy="631800"/>
          </a:xfrm>
          <a:custGeom>
            <a:avLst/>
            <a:gdLst/>
            <a:ahLst/>
            <a:rect l="l" t="t" r="r" b="b"/>
            <a:pathLst>
              <a:path w="251" h="398">
                <a:moveTo>
                  <a:pt x="251" y="44"/>
                </a:moveTo>
                <a:lnTo>
                  <a:pt x="237" y="86"/>
                </a:lnTo>
                <a:lnTo>
                  <a:pt x="220" y="130"/>
                </a:lnTo>
                <a:lnTo>
                  <a:pt x="201" y="176"/>
                </a:lnTo>
                <a:lnTo>
                  <a:pt x="176" y="224"/>
                </a:lnTo>
                <a:lnTo>
                  <a:pt x="146" y="270"/>
                </a:lnTo>
                <a:lnTo>
                  <a:pt x="107" y="316"/>
                </a:lnTo>
                <a:lnTo>
                  <a:pt x="58" y="358"/>
                </a:lnTo>
                <a:lnTo>
                  <a:pt x="0" y="398"/>
                </a:lnTo>
                <a:lnTo>
                  <a:pt x="33" y="348"/>
                </a:lnTo>
                <a:lnTo>
                  <a:pt x="66" y="302"/>
                </a:lnTo>
                <a:lnTo>
                  <a:pt x="99" y="258"/>
                </a:lnTo>
                <a:lnTo>
                  <a:pt x="129" y="212"/>
                </a:lnTo>
                <a:lnTo>
                  <a:pt x="157" y="166"/>
                </a:lnTo>
                <a:lnTo>
                  <a:pt x="182" y="116"/>
                </a:lnTo>
                <a:lnTo>
                  <a:pt x="207" y="60"/>
                </a:lnTo>
                <a:lnTo>
                  <a:pt x="226" y="0"/>
                </a:lnTo>
                <a:lnTo>
                  <a:pt x="251" y="44"/>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4365720" y="1940040"/>
            <a:ext cx="639720" cy="1709640"/>
          </a:xfrm>
          <a:custGeom>
            <a:avLst/>
            <a:gdLst/>
            <a:ahLst/>
            <a:rect l="l" t="t" r="r" b="b"/>
            <a:pathLst>
              <a:path w="403" h="1077">
                <a:moveTo>
                  <a:pt x="306" y="214"/>
                </a:moveTo>
                <a:lnTo>
                  <a:pt x="323" y="8"/>
                </a:lnTo>
                <a:lnTo>
                  <a:pt x="403" y="0"/>
                </a:lnTo>
                <a:lnTo>
                  <a:pt x="389" y="88"/>
                </a:lnTo>
                <a:lnTo>
                  <a:pt x="171" y="1077"/>
                </a:lnTo>
                <a:lnTo>
                  <a:pt x="0" y="1061"/>
                </a:lnTo>
                <a:lnTo>
                  <a:pt x="6" y="1057"/>
                </a:lnTo>
                <a:lnTo>
                  <a:pt x="22" y="1043"/>
                </a:lnTo>
                <a:lnTo>
                  <a:pt x="47" y="1023"/>
                </a:lnTo>
                <a:lnTo>
                  <a:pt x="75" y="999"/>
                </a:lnTo>
                <a:lnTo>
                  <a:pt x="105" y="971"/>
                </a:lnTo>
                <a:lnTo>
                  <a:pt x="130" y="943"/>
                </a:lnTo>
                <a:lnTo>
                  <a:pt x="149" y="915"/>
                </a:lnTo>
                <a:lnTo>
                  <a:pt x="158" y="889"/>
                </a:lnTo>
                <a:lnTo>
                  <a:pt x="174" y="795"/>
                </a:lnTo>
                <a:lnTo>
                  <a:pt x="191" y="691"/>
                </a:lnTo>
                <a:lnTo>
                  <a:pt x="213" y="581"/>
                </a:lnTo>
                <a:lnTo>
                  <a:pt x="232" y="473"/>
                </a:lnTo>
                <a:lnTo>
                  <a:pt x="251" y="376"/>
                </a:lnTo>
                <a:lnTo>
                  <a:pt x="273" y="294"/>
                </a:lnTo>
                <a:lnTo>
                  <a:pt x="290" y="238"/>
                </a:lnTo>
                <a:lnTo>
                  <a:pt x="306" y="214"/>
                </a:lnTo>
                <a:close/>
              </a:path>
            </a:pathLst>
          </a:custGeom>
          <a:solidFill>
            <a:srgbClr val="ffe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4721400" y="1949400"/>
            <a:ext cx="384120" cy="1725840"/>
          </a:xfrm>
          <a:custGeom>
            <a:avLst/>
            <a:gdLst/>
            <a:ahLst/>
            <a:rect l="l" t="t" r="r" b="b"/>
            <a:pathLst>
              <a:path w="242" h="1087">
                <a:moveTo>
                  <a:pt x="168" y="214"/>
                </a:moveTo>
                <a:lnTo>
                  <a:pt x="193" y="10"/>
                </a:lnTo>
                <a:lnTo>
                  <a:pt x="242" y="0"/>
                </a:lnTo>
                <a:lnTo>
                  <a:pt x="229" y="86"/>
                </a:lnTo>
                <a:lnTo>
                  <a:pt x="82" y="959"/>
                </a:lnTo>
                <a:lnTo>
                  <a:pt x="154" y="1087"/>
                </a:lnTo>
                <a:lnTo>
                  <a:pt x="0" y="1073"/>
                </a:lnTo>
                <a:lnTo>
                  <a:pt x="5" y="1037"/>
                </a:lnTo>
                <a:lnTo>
                  <a:pt x="22" y="941"/>
                </a:lnTo>
                <a:lnTo>
                  <a:pt x="44" y="807"/>
                </a:lnTo>
                <a:lnTo>
                  <a:pt x="71" y="651"/>
                </a:lnTo>
                <a:lnTo>
                  <a:pt x="102" y="495"/>
                </a:lnTo>
                <a:lnTo>
                  <a:pt x="129" y="358"/>
                </a:lnTo>
                <a:lnTo>
                  <a:pt x="151" y="258"/>
                </a:lnTo>
                <a:lnTo>
                  <a:pt x="168" y="214"/>
                </a:lnTo>
                <a:close/>
              </a:path>
            </a:pathLst>
          </a:custGeom>
          <a:solidFill>
            <a:srgbClr val="ffe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3876840" y="3602160"/>
            <a:ext cx="1422360" cy="725400"/>
          </a:xfrm>
          <a:custGeom>
            <a:avLst/>
            <a:gdLst/>
            <a:ahLst/>
            <a:rect l="l" t="t" r="r" b="b"/>
            <a:pathLst>
              <a:path w="896" h="457">
                <a:moveTo>
                  <a:pt x="8" y="0"/>
                </a:moveTo>
                <a:lnTo>
                  <a:pt x="896" y="84"/>
                </a:lnTo>
                <a:lnTo>
                  <a:pt x="865" y="110"/>
                </a:lnTo>
                <a:lnTo>
                  <a:pt x="846" y="166"/>
                </a:lnTo>
                <a:lnTo>
                  <a:pt x="799" y="178"/>
                </a:lnTo>
                <a:lnTo>
                  <a:pt x="794" y="202"/>
                </a:lnTo>
                <a:lnTo>
                  <a:pt x="843" y="206"/>
                </a:lnTo>
                <a:lnTo>
                  <a:pt x="832" y="246"/>
                </a:lnTo>
                <a:lnTo>
                  <a:pt x="794" y="250"/>
                </a:lnTo>
                <a:lnTo>
                  <a:pt x="821" y="278"/>
                </a:lnTo>
                <a:lnTo>
                  <a:pt x="818" y="306"/>
                </a:lnTo>
                <a:lnTo>
                  <a:pt x="788" y="322"/>
                </a:lnTo>
                <a:lnTo>
                  <a:pt x="818" y="346"/>
                </a:lnTo>
                <a:lnTo>
                  <a:pt x="805" y="372"/>
                </a:lnTo>
                <a:lnTo>
                  <a:pt x="783" y="391"/>
                </a:lnTo>
                <a:lnTo>
                  <a:pt x="758" y="423"/>
                </a:lnTo>
                <a:lnTo>
                  <a:pt x="716" y="447"/>
                </a:lnTo>
                <a:lnTo>
                  <a:pt x="692" y="451"/>
                </a:lnTo>
                <a:lnTo>
                  <a:pt x="661" y="455"/>
                </a:lnTo>
                <a:lnTo>
                  <a:pt x="623" y="455"/>
                </a:lnTo>
                <a:lnTo>
                  <a:pt x="581" y="457"/>
                </a:lnTo>
                <a:lnTo>
                  <a:pt x="537" y="455"/>
                </a:lnTo>
                <a:lnTo>
                  <a:pt x="490" y="453"/>
                </a:lnTo>
                <a:lnTo>
                  <a:pt x="441" y="449"/>
                </a:lnTo>
                <a:lnTo>
                  <a:pt x="391" y="445"/>
                </a:lnTo>
                <a:lnTo>
                  <a:pt x="339" y="441"/>
                </a:lnTo>
                <a:lnTo>
                  <a:pt x="289" y="435"/>
                </a:lnTo>
                <a:lnTo>
                  <a:pt x="242" y="427"/>
                </a:lnTo>
                <a:lnTo>
                  <a:pt x="198" y="421"/>
                </a:lnTo>
                <a:lnTo>
                  <a:pt x="157" y="413"/>
                </a:lnTo>
                <a:lnTo>
                  <a:pt x="121" y="405"/>
                </a:lnTo>
                <a:lnTo>
                  <a:pt x="91" y="395"/>
                </a:lnTo>
                <a:lnTo>
                  <a:pt x="66" y="388"/>
                </a:lnTo>
                <a:lnTo>
                  <a:pt x="55" y="370"/>
                </a:lnTo>
                <a:lnTo>
                  <a:pt x="46" y="348"/>
                </a:lnTo>
                <a:lnTo>
                  <a:pt x="41" y="328"/>
                </a:lnTo>
                <a:lnTo>
                  <a:pt x="41" y="310"/>
                </a:lnTo>
                <a:lnTo>
                  <a:pt x="13" y="294"/>
                </a:lnTo>
                <a:lnTo>
                  <a:pt x="8" y="268"/>
                </a:lnTo>
                <a:lnTo>
                  <a:pt x="60" y="252"/>
                </a:lnTo>
                <a:lnTo>
                  <a:pt x="0" y="248"/>
                </a:lnTo>
                <a:lnTo>
                  <a:pt x="8" y="208"/>
                </a:lnTo>
                <a:lnTo>
                  <a:pt x="55" y="200"/>
                </a:lnTo>
                <a:lnTo>
                  <a:pt x="16" y="172"/>
                </a:lnTo>
                <a:lnTo>
                  <a:pt x="11" y="148"/>
                </a:lnTo>
                <a:lnTo>
                  <a:pt x="66" y="136"/>
                </a:lnTo>
                <a:lnTo>
                  <a:pt x="66" y="112"/>
                </a:lnTo>
                <a:lnTo>
                  <a:pt x="22" y="94"/>
                </a:lnTo>
                <a:lnTo>
                  <a:pt x="30" y="44"/>
                </a:lnTo>
                <a:lnTo>
                  <a:pt x="8" y="0"/>
                </a:lnTo>
                <a:close/>
              </a:path>
            </a:pathLst>
          </a:custGeom>
          <a:solidFill>
            <a:srgbClr val="333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914640" y="3611520"/>
            <a:ext cx="1339920" cy="712800"/>
          </a:xfrm>
          <a:custGeom>
            <a:avLst/>
            <a:gdLst/>
            <a:ahLst/>
            <a:rect l="l" t="t" r="r" b="b"/>
            <a:pathLst>
              <a:path w="844" h="449">
                <a:moveTo>
                  <a:pt x="11" y="0"/>
                </a:moveTo>
                <a:lnTo>
                  <a:pt x="64" y="4"/>
                </a:lnTo>
                <a:lnTo>
                  <a:pt x="116" y="10"/>
                </a:lnTo>
                <a:lnTo>
                  <a:pt x="169" y="14"/>
                </a:lnTo>
                <a:lnTo>
                  <a:pt x="221" y="20"/>
                </a:lnTo>
                <a:lnTo>
                  <a:pt x="271" y="24"/>
                </a:lnTo>
                <a:lnTo>
                  <a:pt x="323" y="30"/>
                </a:lnTo>
                <a:lnTo>
                  <a:pt x="375" y="34"/>
                </a:lnTo>
                <a:lnTo>
                  <a:pt x="428" y="38"/>
                </a:lnTo>
                <a:lnTo>
                  <a:pt x="480" y="44"/>
                </a:lnTo>
                <a:lnTo>
                  <a:pt x="533" y="48"/>
                </a:lnTo>
                <a:lnTo>
                  <a:pt x="585" y="54"/>
                </a:lnTo>
                <a:lnTo>
                  <a:pt x="635" y="58"/>
                </a:lnTo>
                <a:lnTo>
                  <a:pt x="687" y="64"/>
                </a:lnTo>
                <a:lnTo>
                  <a:pt x="739" y="68"/>
                </a:lnTo>
                <a:lnTo>
                  <a:pt x="792" y="74"/>
                </a:lnTo>
                <a:lnTo>
                  <a:pt x="844" y="78"/>
                </a:lnTo>
                <a:lnTo>
                  <a:pt x="836" y="84"/>
                </a:lnTo>
                <a:lnTo>
                  <a:pt x="828" y="90"/>
                </a:lnTo>
                <a:lnTo>
                  <a:pt x="819" y="96"/>
                </a:lnTo>
                <a:lnTo>
                  <a:pt x="814" y="104"/>
                </a:lnTo>
                <a:lnTo>
                  <a:pt x="808" y="118"/>
                </a:lnTo>
                <a:lnTo>
                  <a:pt x="805" y="132"/>
                </a:lnTo>
                <a:lnTo>
                  <a:pt x="800" y="146"/>
                </a:lnTo>
                <a:lnTo>
                  <a:pt x="794" y="160"/>
                </a:lnTo>
                <a:lnTo>
                  <a:pt x="783" y="162"/>
                </a:lnTo>
                <a:lnTo>
                  <a:pt x="772" y="164"/>
                </a:lnTo>
                <a:lnTo>
                  <a:pt x="761" y="166"/>
                </a:lnTo>
                <a:lnTo>
                  <a:pt x="750" y="168"/>
                </a:lnTo>
                <a:lnTo>
                  <a:pt x="750" y="176"/>
                </a:lnTo>
                <a:lnTo>
                  <a:pt x="750" y="182"/>
                </a:lnTo>
                <a:lnTo>
                  <a:pt x="748" y="188"/>
                </a:lnTo>
                <a:lnTo>
                  <a:pt x="748" y="194"/>
                </a:lnTo>
                <a:lnTo>
                  <a:pt x="759" y="196"/>
                </a:lnTo>
                <a:lnTo>
                  <a:pt x="770" y="196"/>
                </a:lnTo>
                <a:lnTo>
                  <a:pt x="781" y="198"/>
                </a:lnTo>
                <a:lnTo>
                  <a:pt x="792" y="200"/>
                </a:lnTo>
                <a:lnTo>
                  <a:pt x="789" y="210"/>
                </a:lnTo>
                <a:lnTo>
                  <a:pt x="786" y="220"/>
                </a:lnTo>
                <a:lnTo>
                  <a:pt x="783" y="230"/>
                </a:lnTo>
                <a:lnTo>
                  <a:pt x="781" y="240"/>
                </a:lnTo>
                <a:lnTo>
                  <a:pt x="772" y="240"/>
                </a:lnTo>
                <a:lnTo>
                  <a:pt x="764" y="242"/>
                </a:lnTo>
                <a:lnTo>
                  <a:pt x="756" y="242"/>
                </a:lnTo>
                <a:lnTo>
                  <a:pt x="748" y="244"/>
                </a:lnTo>
                <a:lnTo>
                  <a:pt x="753" y="250"/>
                </a:lnTo>
                <a:lnTo>
                  <a:pt x="761" y="256"/>
                </a:lnTo>
                <a:lnTo>
                  <a:pt x="767" y="264"/>
                </a:lnTo>
                <a:lnTo>
                  <a:pt x="772" y="270"/>
                </a:lnTo>
                <a:lnTo>
                  <a:pt x="770" y="278"/>
                </a:lnTo>
                <a:lnTo>
                  <a:pt x="770" y="284"/>
                </a:lnTo>
                <a:lnTo>
                  <a:pt x="770" y="292"/>
                </a:lnTo>
                <a:lnTo>
                  <a:pt x="767" y="300"/>
                </a:lnTo>
                <a:lnTo>
                  <a:pt x="761" y="304"/>
                </a:lnTo>
                <a:lnTo>
                  <a:pt x="753" y="306"/>
                </a:lnTo>
                <a:lnTo>
                  <a:pt x="745" y="310"/>
                </a:lnTo>
                <a:lnTo>
                  <a:pt x="739" y="314"/>
                </a:lnTo>
                <a:lnTo>
                  <a:pt x="745" y="320"/>
                </a:lnTo>
                <a:lnTo>
                  <a:pt x="753" y="326"/>
                </a:lnTo>
                <a:lnTo>
                  <a:pt x="761" y="332"/>
                </a:lnTo>
                <a:lnTo>
                  <a:pt x="770" y="338"/>
                </a:lnTo>
                <a:lnTo>
                  <a:pt x="767" y="346"/>
                </a:lnTo>
                <a:lnTo>
                  <a:pt x="764" y="352"/>
                </a:lnTo>
                <a:lnTo>
                  <a:pt x="759" y="358"/>
                </a:lnTo>
                <a:lnTo>
                  <a:pt x="756" y="364"/>
                </a:lnTo>
                <a:lnTo>
                  <a:pt x="750" y="368"/>
                </a:lnTo>
                <a:lnTo>
                  <a:pt x="745" y="374"/>
                </a:lnTo>
                <a:lnTo>
                  <a:pt x="739" y="380"/>
                </a:lnTo>
                <a:lnTo>
                  <a:pt x="734" y="383"/>
                </a:lnTo>
                <a:lnTo>
                  <a:pt x="728" y="391"/>
                </a:lnTo>
                <a:lnTo>
                  <a:pt x="723" y="401"/>
                </a:lnTo>
                <a:lnTo>
                  <a:pt x="714" y="409"/>
                </a:lnTo>
                <a:lnTo>
                  <a:pt x="709" y="415"/>
                </a:lnTo>
                <a:lnTo>
                  <a:pt x="701" y="421"/>
                </a:lnTo>
                <a:lnTo>
                  <a:pt x="692" y="427"/>
                </a:lnTo>
                <a:lnTo>
                  <a:pt x="681" y="433"/>
                </a:lnTo>
                <a:lnTo>
                  <a:pt x="673" y="439"/>
                </a:lnTo>
                <a:lnTo>
                  <a:pt x="648" y="443"/>
                </a:lnTo>
                <a:lnTo>
                  <a:pt x="621" y="447"/>
                </a:lnTo>
                <a:lnTo>
                  <a:pt x="585" y="449"/>
                </a:lnTo>
                <a:lnTo>
                  <a:pt x="546" y="449"/>
                </a:lnTo>
                <a:lnTo>
                  <a:pt x="505" y="449"/>
                </a:lnTo>
                <a:lnTo>
                  <a:pt x="461" y="447"/>
                </a:lnTo>
                <a:lnTo>
                  <a:pt x="414" y="443"/>
                </a:lnTo>
                <a:lnTo>
                  <a:pt x="367" y="439"/>
                </a:lnTo>
                <a:lnTo>
                  <a:pt x="317" y="435"/>
                </a:lnTo>
                <a:lnTo>
                  <a:pt x="273" y="429"/>
                </a:lnTo>
                <a:lnTo>
                  <a:pt x="226" y="423"/>
                </a:lnTo>
                <a:lnTo>
                  <a:pt x="185" y="415"/>
                </a:lnTo>
                <a:lnTo>
                  <a:pt x="146" y="409"/>
                </a:lnTo>
                <a:lnTo>
                  <a:pt x="113" y="401"/>
                </a:lnTo>
                <a:lnTo>
                  <a:pt x="83" y="391"/>
                </a:lnTo>
                <a:lnTo>
                  <a:pt x="61" y="383"/>
                </a:lnTo>
                <a:lnTo>
                  <a:pt x="53" y="366"/>
                </a:lnTo>
                <a:lnTo>
                  <a:pt x="44" y="344"/>
                </a:lnTo>
                <a:lnTo>
                  <a:pt x="42" y="324"/>
                </a:lnTo>
                <a:lnTo>
                  <a:pt x="42" y="306"/>
                </a:lnTo>
                <a:lnTo>
                  <a:pt x="33" y="302"/>
                </a:lnTo>
                <a:lnTo>
                  <a:pt x="28" y="298"/>
                </a:lnTo>
                <a:lnTo>
                  <a:pt x="20" y="296"/>
                </a:lnTo>
                <a:lnTo>
                  <a:pt x="14" y="292"/>
                </a:lnTo>
                <a:lnTo>
                  <a:pt x="11" y="284"/>
                </a:lnTo>
                <a:lnTo>
                  <a:pt x="11" y="278"/>
                </a:lnTo>
                <a:lnTo>
                  <a:pt x="11" y="272"/>
                </a:lnTo>
                <a:lnTo>
                  <a:pt x="11" y="264"/>
                </a:lnTo>
                <a:lnTo>
                  <a:pt x="22" y="260"/>
                </a:lnTo>
                <a:lnTo>
                  <a:pt x="36" y="258"/>
                </a:lnTo>
                <a:lnTo>
                  <a:pt x="47" y="254"/>
                </a:lnTo>
                <a:lnTo>
                  <a:pt x="58" y="252"/>
                </a:lnTo>
                <a:lnTo>
                  <a:pt x="44" y="250"/>
                </a:lnTo>
                <a:lnTo>
                  <a:pt x="31" y="248"/>
                </a:lnTo>
                <a:lnTo>
                  <a:pt x="14" y="246"/>
                </a:lnTo>
                <a:lnTo>
                  <a:pt x="0" y="246"/>
                </a:lnTo>
                <a:lnTo>
                  <a:pt x="3" y="236"/>
                </a:lnTo>
                <a:lnTo>
                  <a:pt x="6" y="226"/>
                </a:lnTo>
                <a:lnTo>
                  <a:pt x="6" y="216"/>
                </a:lnTo>
                <a:lnTo>
                  <a:pt x="9" y="206"/>
                </a:lnTo>
                <a:lnTo>
                  <a:pt x="20" y="204"/>
                </a:lnTo>
                <a:lnTo>
                  <a:pt x="33" y="202"/>
                </a:lnTo>
                <a:lnTo>
                  <a:pt x="44" y="200"/>
                </a:lnTo>
                <a:lnTo>
                  <a:pt x="55" y="198"/>
                </a:lnTo>
                <a:lnTo>
                  <a:pt x="44" y="190"/>
                </a:lnTo>
                <a:lnTo>
                  <a:pt x="36" y="184"/>
                </a:lnTo>
                <a:lnTo>
                  <a:pt x="28" y="176"/>
                </a:lnTo>
                <a:lnTo>
                  <a:pt x="17" y="168"/>
                </a:lnTo>
                <a:lnTo>
                  <a:pt x="17" y="164"/>
                </a:lnTo>
                <a:lnTo>
                  <a:pt x="17" y="158"/>
                </a:lnTo>
                <a:lnTo>
                  <a:pt x="14" y="152"/>
                </a:lnTo>
                <a:lnTo>
                  <a:pt x="14" y="146"/>
                </a:lnTo>
                <a:lnTo>
                  <a:pt x="28" y="142"/>
                </a:lnTo>
                <a:lnTo>
                  <a:pt x="42" y="140"/>
                </a:lnTo>
                <a:lnTo>
                  <a:pt x="53" y="136"/>
                </a:lnTo>
                <a:lnTo>
                  <a:pt x="67" y="132"/>
                </a:lnTo>
                <a:lnTo>
                  <a:pt x="67" y="128"/>
                </a:lnTo>
                <a:lnTo>
                  <a:pt x="67" y="122"/>
                </a:lnTo>
                <a:lnTo>
                  <a:pt x="67" y="116"/>
                </a:lnTo>
                <a:lnTo>
                  <a:pt x="67" y="110"/>
                </a:lnTo>
                <a:lnTo>
                  <a:pt x="55" y="106"/>
                </a:lnTo>
                <a:lnTo>
                  <a:pt x="47" y="100"/>
                </a:lnTo>
                <a:lnTo>
                  <a:pt x="36" y="96"/>
                </a:lnTo>
                <a:lnTo>
                  <a:pt x="25" y="92"/>
                </a:lnTo>
                <a:lnTo>
                  <a:pt x="28" y="80"/>
                </a:lnTo>
                <a:lnTo>
                  <a:pt x="31" y="66"/>
                </a:lnTo>
                <a:lnTo>
                  <a:pt x="31" y="54"/>
                </a:lnTo>
                <a:lnTo>
                  <a:pt x="33" y="42"/>
                </a:lnTo>
                <a:lnTo>
                  <a:pt x="28" y="32"/>
                </a:lnTo>
                <a:lnTo>
                  <a:pt x="22" y="20"/>
                </a:lnTo>
                <a:lnTo>
                  <a:pt x="17" y="10"/>
                </a:lnTo>
                <a:lnTo>
                  <a:pt x="11" y="0"/>
                </a:lnTo>
                <a:close/>
              </a:path>
            </a:pathLst>
          </a:custGeom>
          <a:solidFill>
            <a:srgbClr val="3d3f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3959280" y="3618000"/>
            <a:ext cx="1247760" cy="706320"/>
          </a:xfrm>
          <a:custGeom>
            <a:avLst/>
            <a:gdLst/>
            <a:ahLst/>
            <a:rect l="l" t="t" r="r" b="b"/>
            <a:pathLst>
              <a:path w="786" h="445">
                <a:moveTo>
                  <a:pt x="11" y="0"/>
                </a:moveTo>
                <a:lnTo>
                  <a:pt x="61" y="4"/>
                </a:lnTo>
                <a:lnTo>
                  <a:pt x="107" y="8"/>
                </a:lnTo>
                <a:lnTo>
                  <a:pt x="157" y="14"/>
                </a:lnTo>
                <a:lnTo>
                  <a:pt x="204" y="18"/>
                </a:lnTo>
                <a:lnTo>
                  <a:pt x="254" y="22"/>
                </a:lnTo>
                <a:lnTo>
                  <a:pt x="303" y="26"/>
                </a:lnTo>
                <a:lnTo>
                  <a:pt x="350" y="32"/>
                </a:lnTo>
                <a:lnTo>
                  <a:pt x="400" y="36"/>
                </a:lnTo>
                <a:lnTo>
                  <a:pt x="447" y="40"/>
                </a:lnTo>
                <a:lnTo>
                  <a:pt x="496" y="44"/>
                </a:lnTo>
                <a:lnTo>
                  <a:pt x="546" y="50"/>
                </a:lnTo>
                <a:lnTo>
                  <a:pt x="593" y="54"/>
                </a:lnTo>
                <a:lnTo>
                  <a:pt x="642" y="58"/>
                </a:lnTo>
                <a:lnTo>
                  <a:pt x="689" y="62"/>
                </a:lnTo>
                <a:lnTo>
                  <a:pt x="739" y="68"/>
                </a:lnTo>
                <a:lnTo>
                  <a:pt x="786" y="72"/>
                </a:lnTo>
                <a:lnTo>
                  <a:pt x="780" y="80"/>
                </a:lnTo>
                <a:lnTo>
                  <a:pt x="772" y="86"/>
                </a:lnTo>
                <a:lnTo>
                  <a:pt x="764" y="92"/>
                </a:lnTo>
                <a:lnTo>
                  <a:pt x="758" y="100"/>
                </a:lnTo>
                <a:lnTo>
                  <a:pt x="753" y="114"/>
                </a:lnTo>
                <a:lnTo>
                  <a:pt x="750" y="128"/>
                </a:lnTo>
                <a:lnTo>
                  <a:pt x="744" y="142"/>
                </a:lnTo>
                <a:lnTo>
                  <a:pt x="739" y="156"/>
                </a:lnTo>
                <a:lnTo>
                  <a:pt x="731" y="158"/>
                </a:lnTo>
                <a:lnTo>
                  <a:pt x="720" y="160"/>
                </a:lnTo>
                <a:lnTo>
                  <a:pt x="711" y="162"/>
                </a:lnTo>
                <a:lnTo>
                  <a:pt x="700" y="164"/>
                </a:lnTo>
                <a:lnTo>
                  <a:pt x="698" y="172"/>
                </a:lnTo>
                <a:lnTo>
                  <a:pt x="698" y="178"/>
                </a:lnTo>
                <a:lnTo>
                  <a:pt x="698" y="184"/>
                </a:lnTo>
                <a:lnTo>
                  <a:pt x="695" y="190"/>
                </a:lnTo>
                <a:lnTo>
                  <a:pt x="706" y="192"/>
                </a:lnTo>
                <a:lnTo>
                  <a:pt x="717" y="192"/>
                </a:lnTo>
                <a:lnTo>
                  <a:pt x="728" y="194"/>
                </a:lnTo>
                <a:lnTo>
                  <a:pt x="739" y="194"/>
                </a:lnTo>
                <a:lnTo>
                  <a:pt x="736" y="204"/>
                </a:lnTo>
                <a:lnTo>
                  <a:pt x="733" y="214"/>
                </a:lnTo>
                <a:lnTo>
                  <a:pt x="731" y="224"/>
                </a:lnTo>
                <a:lnTo>
                  <a:pt x="728" y="234"/>
                </a:lnTo>
                <a:lnTo>
                  <a:pt x="720" y="236"/>
                </a:lnTo>
                <a:lnTo>
                  <a:pt x="711" y="236"/>
                </a:lnTo>
                <a:lnTo>
                  <a:pt x="703" y="238"/>
                </a:lnTo>
                <a:lnTo>
                  <a:pt x="695" y="238"/>
                </a:lnTo>
                <a:lnTo>
                  <a:pt x="700" y="246"/>
                </a:lnTo>
                <a:lnTo>
                  <a:pt x="706" y="252"/>
                </a:lnTo>
                <a:lnTo>
                  <a:pt x="711" y="258"/>
                </a:lnTo>
                <a:lnTo>
                  <a:pt x="717" y="266"/>
                </a:lnTo>
                <a:lnTo>
                  <a:pt x="717" y="272"/>
                </a:lnTo>
                <a:lnTo>
                  <a:pt x="717" y="280"/>
                </a:lnTo>
                <a:lnTo>
                  <a:pt x="714" y="286"/>
                </a:lnTo>
                <a:lnTo>
                  <a:pt x="714" y="294"/>
                </a:lnTo>
                <a:lnTo>
                  <a:pt x="706" y="298"/>
                </a:lnTo>
                <a:lnTo>
                  <a:pt x="700" y="300"/>
                </a:lnTo>
                <a:lnTo>
                  <a:pt x="692" y="304"/>
                </a:lnTo>
                <a:lnTo>
                  <a:pt x="686" y="308"/>
                </a:lnTo>
                <a:lnTo>
                  <a:pt x="692" y="314"/>
                </a:lnTo>
                <a:lnTo>
                  <a:pt x="700" y="320"/>
                </a:lnTo>
                <a:lnTo>
                  <a:pt x="709" y="326"/>
                </a:lnTo>
                <a:lnTo>
                  <a:pt x="714" y="334"/>
                </a:lnTo>
                <a:lnTo>
                  <a:pt x="711" y="340"/>
                </a:lnTo>
                <a:lnTo>
                  <a:pt x="709" y="346"/>
                </a:lnTo>
                <a:lnTo>
                  <a:pt x="706" y="352"/>
                </a:lnTo>
                <a:lnTo>
                  <a:pt x="703" y="358"/>
                </a:lnTo>
                <a:lnTo>
                  <a:pt x="698" y="364"/>
                </a:lnTo>
                <a:lnTo>
                  <a:pt x="692" y="368"/>
                </a:lnTo>
                <a:lnTo>
                  <a:pt x="686" y="374"/>
                </a:lnTo>
                <a:lnTo>
                  <a:pt x="681" y="378"/>
                </a:lnTo>
                <a:lnTo>
                  <a:pt x="675" y="385"/>
                </a:lnTo>
                <a:lnTo>
                  <a:pt x="670" y="395"/>
                </a:lnTo>
                <a:lnTo>
                  <a:pt x="664" y="403"/>
                </a:lnTo>
                <a:lnTo>
                  <a:pt x="659" y="411"/>
                </a:lnTo>
                <a:lnTo>
                  <a:pt x="651" y="417"/>
                </a:lnTo>
                <a:lnTo>
                  <a:pt x="642" y="423"/>
                </a:lnTo>
                <a:lnTo>
                  <a:pt x="634" y="429"/>
                </a:lnTo>
                <a:lnTo>
                  <a:pt x="623" y="433"/>
                </a:lnTo>
                <a:lnTo>
                  <a:pt x="601" y="437"/>
                </a:lnTo>
                <a:lnTo>
                  <a:pt x="573" y="441"/>
                </a:lnTo>
                <a:lnTo>
                  <a:pt x="543" y="443"/>
                </a:lnTo>
                <a:lnTo>
                  <a:pt x="505" y="445"/>
                </a:lnTo>
                <a:lnTo>
                  <a:pt x="466" y="443"/>
                </a:lnTo>
                <a:lnTo>
                  <a:pt x="425" y="443"/>
                </a:lnTo>
                <a:lnTo>
                  <a:pt x="380" y="439"/>
                </a:lnTo>
                <a:lnTo>
                  <a:pt x="336" y="437"/>
                </a:lnTo>
                <a:lnTo>
                  <a:pt x="292" y="431"/>
                </a:lnTo>
                <a:lnTo>
                  <a:pt x="251" y="427"/>
                </a:lnTo>
                <a:lnTo>
                  <a:pt x="209" y="421"/>
                </a:lnTo>
                <a:lnTo>
                  <a:pt x="168" y="413"/>
                </a:lnTo>
                <a:lnTo>
                  <a:pt x="135" y="407"/>
                </a:lnTo>
                <a:lnTo>
                  <a:pt x="102" y="399"/>
                </a:lnTo>
                <a:lnTo>
                  <a:pt x="77" y="389"/>
                </a:lnTo>
                <a:lnTo>
                  <a:pt x="55" y="381"/>
                </a:lnTo>
                <a:lnTo>
                  <a:pt x="47" y="364"/>
                </a:lnTo>
                <a:lnTo>
                  <a:pt x="39" y="344"/>
                </a:lnTo>
                <a:lnTo>
                  <a:pt x="36" y="324"/>
                </a:lnTo>
                <a:lnTo>
                  <a:pt x="36" y="306"/>
                </a:lnTo>
                <a:lnTo>
                  <a:pt x="30" y="302"/>
                </a:lnTo>
                <a:lnTo>
                  <a:pt x="25" y="298"/>
                </a:lnTo>
                <a:lnTo>
                  <a:pt x="16" y="294"/>
                </a:lnTo>
                <a:lnTo>
                  <a:pt x="11" y="290"/>
                </a:lnTo>
                <a:lnTo>
                  <a:pt x="8" y="284"/>
                </a:lnTo>
                <a:lnTo>
                  <a:pt x="8" y="276"/>
                </a:lnTo>
                <a:lnTo>
                  <a:pt x="8" y="270"/>
                </a:lnTo>
                <a:lnTo>
                  <a:pt x="8" y="264"/>
                </a:lnTo>
                <a:lnTo>
                  <a:pt x="19" y="260"/>
                </a:lnTo>
                <a:lnTo>
                  <a:pt x="30" y="258"/>
                </a:lnTo>
                <a:lnTo>
                  <a:pt x="41" y="254"/>
                </a:lnTo>
                <a:lnTo>
                  <a:pt x="52" y="250"/>
                </a:lnTo>
                <a:lnTo>
                  <a:pt x="39" y="248"/>
                </a:lnTo>
                <a:lnTo>
                  <a:pt x="27" y="248"/>
                </a:lnTo>
                <a:lnTo>
                  <a:pt x="14" y="248"/>
                </a:lnTo>
                <a:lnTo>
                  <a:pt x="0" y="246"/>
                </a:lnTo>
                <a:lnTo>
                  <a:pt x="3" y="236"/>
                </a:lnTo>
                <a:lnTo>
                  <a:pt x="5" y="224"/>
                </a:lnTo>
                <a:lnTo>
                  <a:pt x="5" y="214"/>
                </a:lnTo>
                <a:lnTo>
                  <a:pt x="8" y="204"/>
                </a:lnTo>
                <a:lnTo>
                  <a:pt x="19" y="202"/>
                </a:lnTo>
                <a:lnTo>
                  <a:pt x="30" y="200"/>
                </a:lnTo>
                <a:lnTo>
                  <a:pt x="39" y="200"/>
                </a:lnTo>
                <a:lnTo>
                  <a:pt x="50" y="198"/>
                </a:lnTo>
                <a:lnTo>
                  <a:pt x="41" y="190"/>
                </a:lnTo>
                <a:lnTo>
                  <a:pt x="33" y="184"/>
                </a:lnTo>
                <a:lnTo>
                  <a:pt x="25" y="178"/>
                </a:lnTo>
                <a:lnTo>
                  <a:pt x="16" y="170"/>
                </a:lnTo>
                <a:lnTo>
                  <a:pt x="14" y="164"/>
                </a:lnTo>
                <a:lnTo>
                  <a:pt x="14" y="158"/>
                </a:lnTo>
                <a:lnTo>
                  <a:pt x="14" y="152"/>
                </a:lnTo>
                <a:lnTo>
                  <a:pt x="11" y="146"/>
                </a:lnTo>
                <a:lnTo>
                  <a:pt x="25" y="142"/>
                </a:lnTo>
                <a:lnTo>
                  <a:pt x="36" y="140"/>
                </a:lnTo>
                <a:lnTo>
                  <a:pt x="50" y="136"/>
                </a:lnTo>
                <a:lnTo>
                  <a:pt x="61" y="132"/>
                </a:lnTo>
                <a:lnTo>
                  <a:pt x="61" y="128"/>
                </a:lnTo>
                <a:lnTo>
                  <a:pt x="61" y="122"/>
                </a:lnTo>
                <a:lnTo>
                  <a:pt x="61" y="116"/>
                </a:lnTo>
                <a:lnTo>
                  <a:pt x="61" y="110"/>
                </a:lnTo>
                <a:lnTo>
                  <a:pt x="52" y="106"/>
                </a:lnTo>
                <a:lnTo>
                  <a:pt x="41" y="100"/>
                </a:lnTo>
                <a:lnTo>
                  <a:pt x="33" y="96"/>
                </a:lnTo>
                <a:lnTo>
                  <a:pt x="22" y="92"/>
                </a:lnTo>
                <a:lnTo>
                  <a:pt x="25" y="80"/>
                </a:lnTo>
                <a:lnTo>
                  <a:pt x="27" y="68"/>
                </a:lnTo>
                <a:lnTo>
                  <a:pt x="27" y="56"/>
                </a:lnTo>
                <a:lnTo>
                  <a:pt x="30" y="42"/>
                </a:lnTo>
                <a:lnTo>
                  <a:pt x="25" y="32"/>
                </a:lnTo>
                <a:lnTo>
                  <a:pt x="22" y="20"/>
                </a:lnTo>
                <a:lnTo>
                  <a:pt x="16" y="10"/>
                </a:lnTo>
                <a:lnTo>
                  <a:pt x="11" y="0"/>
                </a:lnTo>
                <a:close/>
              </a:path>
            </a:pathLst>
          </a:custGeom>
          <a:solidFill>
            <a:srgbClr val="4747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998880" y="3627360"/>
            <a:ext cx="1163520" cy="693720"/>
          </a:xfrm>
          <a:custGeom>
            <a:avLst/>
            <a:gdLst/>
            <a:ahLst/>
            <a:rect l="l" t="t" r="r" b="b"/>
            <a:pathLst>
              <a:path w="733" h="437">
                <a:moveTo>
                  <a:pt x="14" y="0"/>
                </a:moveTo>
                <a:lnTo>
                  <a:pt x="58" y="4"/>
                </a:lnTo>
                <a:lnTo>
                  <a:pt x="105" y="8"/>
                </a:lnTo>
                <a:lnTo>
                  <a:pt x="149" y="12"/>
                </a:lnTo>
                <a:lnTo>
                  <a:pt x="193" y="16"/>
                </a:lnTo>
                <a:lnTo>
                  <a:pt x="240" y="20"/>
                </a:lnTo>
                <a:lnTo>
                  <a:pt x="284" y="24"/>
                </a:lnTo>
                <a:lnTo>
                  <a:pt x="328" y="28"/>
                </a:lnTo>
                <a:lnTo>
                  <a:pt x="375" y="32"/>
                </a:lnTo>
                <a:lnTo>
                  <a:pt x="419" y="38"/>
                </a:lnTo>
                <a:lnTo>
                  <a:pt x="463" y="42"/>
                </a:lnTo>
                <a:lnTo>
                  <a:pt x="507" y="46"/>
                </a:lnTo>
                <a:lnTo>
                  <a:pt x="554" y="50"/>
                </a:lnTo>
                <a:lnTo>
                  <a:pt x="598" y="54"/>
                </a:lnTo>
                <a:lnTo>
                  <a:pt x="642" y="58"/>
                </a:lnTo>
                <a:lnTo>
                  <a:pt x="689" y="62"/>
                </a:lnTo>
                <a:lnTo>
                  <a:pt x="733" y="66"/>
                </a:lnTo>
                <a:lnTo>
                  <a:pt x="728" y="74"/>
                </a:lnTo>
                <a:lnTo>
                  <a:pt x="719" y="80"/>
                </a:lnTo>
                <a:lnTo>
                  <a:pt x="711" y="86"/>
                </a:lnTo>
                <a:lnTo>
                  <a:pt x="706" y="92"/>
                </a:lnTo>
                <a:lnTo>
                  <a:pt x="703" y="106"/>
                </a:lnTo>
                <a:lnTo>
                  <a:pt x="697" y="120"/>
                </a:lnTo>
                <a:lnTo>
                  <a:pt x="695" y="136"/>
                </a:lnTo>
                <a:lnTo>
                  <a:pt x="689" y="150"/>
                </a:lnTo>
                <a:lnTo>
                  <a:pt x="678" y="152"/>
                </a:lnTo>
                <a:lnTo>
                  <a:pt x="670" y="154"/>
                </a:lnTo>
                <a:lnTo>
                  <a:pt x="661" y="156"/>
                </a:lnTo>
                <a:lnTo>
                  <a:pt x="650" y="158"/>
                </a:lnTo>
                <a:lnTo>
                  <a:pt x="650" y="166"/>
                </a:lnTo>
                <a:lnTo>
                  <a:pt x="650" y="172"/>
                </a:lnTo>
                <a:lnTo>
                  <a:pt x="648" y="178"/>
                </a:lnTo>
                <a:lnTo>
                  <a:pt x="648" y="184"/>
                </a:lnTo>
                <a:lnTo>
                  <a:pt x="656" y="186"/>
                </a:lnTo>
                <a:lnTo>
                  <a:pt x="667" y="186"/>
                </a:lnTo>
                <a:lnTo>
                  <a:pt x="675" y="186"/>
                </a:lnTo>
                <a:lnTo>
                  <a:pt x="686" y="188"/>
                </a:lnTo>
                <a:lnTo>
                  <a:pt x="684" y="198"/>
                </a:lnTo>
                <a:lnTo>
                  <a:pt x="681" y="208"/>
                </a:lnTo>
                <a:lnTo>
                  <a:pt x="678" y="218"/>
                </a:lnTo>
                <a:lnTo>
                  <a:pt x="675" y="228"/>
                </a:lnTo>
                <a:lnTo>
                  <a:pt x="667" y="228"/>
                </a:lnTo>
                <a:lnTo>
                  <a:pt x="661" y="230"/>
                </a:lnTo>
                <a:lnTo>
                  <a:pt x="653" y="230"/>
                </a:lnTo>
                <a:lnTo>
                  <a:pt x="645" y="232"/>
                </a:lnTo>
                <a:lnTo>
                  <a:pt x="650" y="238"/>
                </a:lnTo>
                <a:lnTo>
                  <a:pt x="656" y="244"/>
                </a:lnTo>
                <a:lnTo>
                  <a:pt x="661" y="252"/>
                </a:lnTo>
                <a:lnTo>
                  <a:pt x="667" y="258"/>
                </a:lnTo>
                <a:lnTo>
                  <a:pt x="664" y="266"/>
                </a:lnTo>
                <a:lnTo>
                  <a:pt x="664" y="272"/>
                </a:lnTo>
                <a:lnTo>
                  <a:pt x="664" y="280"/>
                </a:lnTo>
                <a:lnTo>
                  <a:pt x="661" y="286"/>
                </a:lnTo>
                <a:lnTo>
                  <a:pt x="656" y="290"/>
                </a:lnTo>
                <a:lnTo>
                  <a:pt x="650" y="294"/>
                </a:lnTo>
                <a:lnTo>
                  <a:pt x="642" y="298"/>
                </a:lnTo>
                <a:lnTo>
                  <a:pt x="637" y="302"/>
                </a:lnTo>
                <a:lnTo>
                  <a:pt x="642" y="308"/>
                </a:lnTo>
                <a:lnTo>
                  <a:pt x="650" y="314"/>
                </a:lnTo>
                <a:lnTo>
                  <a:pt x="656" y="320"/>
                </a:lnTo>
                <a:lnTo>
                  <a:pt x="661" y="326"/>
                </a:lnTo>
                <a:lnTo>
                  <a:pt x="659" y="332"/>
                </a:lnTo>
                <a:lnTo>
                  <a:pt x="656" y="338"/>
                </a:lnTo>
                <a:lnTo>
                  <a:pt x="653" y="344"/>
                </a:lnTo>
                <a:lnTo>
                  <a:pt x="650" y="350"/>
                </a:lnTo>
                <a:lnTo>
                  <a:pt x="645" y="356"/>
                </a:lnTo>
                <a:lnTo>
                  <a:pt x="642" y="360"/>
                </a:lnTo>
                <a:lnTo>
                  <a:pt x="637" y="366"/>
                </a:lnTo>
                <a:lnTo>
                  <a:pt x="631" y="372"/>
                </a:lnTo>
                <a:lnTo>
                  <a:pt x="626" y="379"/>
                </a:lnTo>
                <a:lnTo>
                  <a:pt x="620" y="387"/>
                </a:lnTo>
                <a:lnTo>
                  <a:pt x="615" y="397"/>
                </a:lnTo>
                <a:lnTo>
                  <a:pt x="609" y="405"/>
                </a:lnTo>
                <a:lnTo>
                  <a:pt x="604" y="411"/>
                </a:lnTo>
                <a:lnTo>
                  <a:pt x="595" y="415"/>
                </a:lnTo>
                <a:lnTo>
                  <a:pt x="587" y="421"/>
                </a:lnTo>
                <a:lnTo>
                  <a:pt x="579" y="427"/>
                </a:lnTo>
                <a:lnTo>
                  <a:pt x="559" y="431"/>
                </a:lnTo>
                <a:lnTo>
                  <a:pt x="532" y="435"/>
                </a:lnTo>
                <a:lnTo>
                  <a:pt x="502" y="437"/>
                </a:lnTo>
                <a:lnTo>
                  <a:pt x="468" y="437"/>
                </a:lnTo>
                <a:lnTo>
                  <a:pt x="433" y="437"/>
                </a:lnTo>
                <a:lnTo>
                  <a:pt x="391" y="437"/>
                </a:lnTo>
                <a:lnTo>
                  <a:pt x="353" y="433"/>
                </a:lnTo>
                <a:lnTo>
                  <a:pt x="311" y="431"/>
                </a:lnTo>
                <a:lnTo>
                  <a:pt x="270" y="427"/>
                </a:lnTo>
                <a:lnTo>
                  <a:pt x="229" y="421"/>
                </a:lnTo>
                <a:lnTo>
                  <a:pt x="190" y="415"/>
                </a:lnTo>
                <a:lnTo>
                  <a:pt x="154" y="409"/>
                </a:lnTo>
                <a:lnTo>
                  <a:pt x="121" y="401"/>
                </a:lnTo>
                <a:lnTo>
                  <a:pt x="93" y="395"/>
                </a:lnTo>
                <a:lnTo>
                  <a:pt x="69" y="385"/>
                </a:lnTo>
                <a:lnTo>
                  <a:pt x="49" y="377"/>
                </a:lnTo>
                <a:lnTo>
                  <a:pt x="41" y="360"/>
                </a:lnTo>
                <a:lnTo>
                  <a:pt x="36" y="340"/>
                </a:lnTo>
                <a:lnTo>
                  <a:pt x="33" y="322"/>
                </a:lnTo>
                <a:lnTo>
                  <a:pt x="33" y="302"/>
                </a:lnTo>
                <a:lnTo>
                  <a:pt x="27" y="298"/>
                </a:lnTo>
                <a:lnTo>
                  <a:pt x="22" y="294"/>
                </a:lnTo>
                <a:lnTo>
                  <a:pt x="16" y="292"/>
                </a:lnTo>
                <a:lnTo>
                  <a:pt x="11" y="288"/>
                </a:lnTo>
                <a:lnTo>
                  <a:pt x="11" y="280"/>
                </a:lnTo>
                <a:lnTo>
                  <a:pt x="11" y="274"/>
                </a:lnTo>
                <a:lnTo>
                  <a:pt x="8" y="268"/>
                </a:lnTo>
                <a:lnTo>
                  <a:pt x="8" y="262"/>
                </a:lnTo>
                <a:lnTo>
                  <a:pt x="19" y="258"/>
                </a:lnTo>
                <a:lnTo>
                  <a:pt x="30" y="254"/>
                </a:lnTo>
                <a:lnTo>
                  <a:pt x="38" y="252"/>
                </a:lnTo>
                <a:lnTo>
                  <a:pt x="49" y="248"/>
                </a:lnTo>
                <a:lnTo>
                  <a:pt x="38" y="246"/>
                </a:lnTo>
                <a:lnTo>
                  <a:pt x="25" y="244"/>
                </a:lnTo>
                <a:lnTo>
                  <a:pt x="14" y="244"/>
                </a:lnTo>
                <a:lnTo>
                  <a:pt x="0" y="242"/>
                </a:lnTo>
                <a:lnTo>
                  <a:pt x="2" y="232"/>
                </a:lnTo>
                <a:lnTo>
                  <a:pt x="5" y="222"/>
                </a:lnTo>
                <a:lnTo>
                  <a:pt x="5" y="212"/>
                </a:lnTo>
                <a:lnTo>
                  <a:pt x="8" y="202"/>
                </a:lnTo>
                <a:lnTo>
                  <a:pt x="19" y="200"/>
                </a:lnTo>
                <a:lnTo>
                  <a:pt x="30" y="198"/>
                </a:lnTo>
                <a:lnTo>
                  <a:pt x="38" y="196"/>
                </a:lnTo>
                <a:lnTo>
                  <a:pt x="49" y="194"/>
                </a:lnTo>
                <a:lnTo>
                  <a:pt x="41" y="188"/>
                </a:lnTo>
                <a:lnTo>
                  <a:pt x="33" y="180"/>
                </a:lnTo>
                <a:lnTo>
                  <a:pt x="25" y="174"/>
                </a:lnTo>
                <a:lnTo>
                  <a:pt x="16" y="168"/>
                </a:lnTo>
                <a:lnTo>
                  <a:pt x="16" y="162"/>
                </a:lnTo>
                <a:lnTo>
                  <a:pt x="16" y="156"/>
                </a:lnTo>
                <a:lnTo>
                  <a:pt x="14" y="150"/>
                </a:lnTo>
                <a:lnTo>
                  <a:pt x="14" y="144"/>
                </a:lnTo>
                <a:lnTo>
                  <a:pt x="25" y="140"/>
                </a:lnTo>
                <a:lnTo>
                  <a:pt x="38" y="138"/>
                </a:lnTo>
                <a:lnTo>
                  <a:pt x="49" y="134"/>
                </a:lnTo>
                <a:lnTo>
                  <a:pt x="60" y="130"/>
                </a:lnTo>
                <a:lnTo>
                  <a:pt x="60" y="126"/>
                </a:lnTo>
                <a:lnTo>
                  <a:pt x="60" y="120"/>
                </a:lnTo>
                <a:lnTo>
                  <a:pt x="60" y="114"/>
                </a:lnTo>
                <a:lnTo>
                  <a:pt x="60" y="108"/>
                </a:lnTo>
                <a:lnTo>
                  <a:pt x="49" y="104"/>
                </a:lnTo>
                <a:lnTo>
                  <a:pt x="41" y="100"/>
                </a:lnTo>
                <a:lnTo>
                  <a:pt x="33" y="96"/>
                </a:lnTo>
                <a:lnTo>
                  <a:pt x="25" y="92"/>
                </a:lnTo>
                <a:lnTo>
                  <a:pt x="27" y="78"/>
                </a:lnTo>
                <a:lnTo>
                  <a:pt x="30" y="66"/>
                </a:lnTo>
                <a:lnTo>
                  <a:pt x="30" y="52"/>
                </a:lnTo>
                <a:lnTo>
                  <a:pt x="33" y="40"/>
                </a:lnTo>
                <a:lnTo>
                  <a:pt x="27" y="30"/>
                </a:lnTo>
                <a:lnTo>
                  <a:pt x="25" y="20"/>
                </a:lnTo>
                <a:lnTo>
                  <a:pt x="19" y="10"/>
                </a:lnTo>
                <a:lnTo>
                  <a:pt x="14" y="0"/>
                </a:lnTo>
                <a:close/>
              </a:path>
            </a:pathLst>
          </a:custGeom>
          <a:solidFill>
            <a:srgbClr val="4f51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041720" y="3633840"/>
            <a:ext cx="1073160" cy="687240"/>
          </a:xfrm>
          <a:custGeom>
            <a:avLst/>
            <a:gdLst/>
            <a:ahLst/>
            <a:rect l="l" t="t" r="r" b="b"/>
            <a:pathLst>
              <a:path w="676" h="433">
                <a:moveTo>
                  <a:pt x="17" y="0"/>
                </a:moveTo>
                <a:lnTo>
                  <a:pt x="58" y="4"/>
                </a:lnTo>
                <a:lnTo>
                  <a:pt x="100" y="8"/>
                </a:lnTo>
                <a:lnTo>
                  <a:pt x="141" y="12"/>
                </a:lnTo>
                <a:lnTo>
                  <a:pt x="182" y="16"/>
                </a:lnTo>
                <a:lnTo>
                  <a:pt x="224" y="20"/>
                </a:lnTo>
                <a:lnTo>
                  <a:pt x="265" y="24"/>
                </a:lnTo>
                <a:lnTo>
                  <a:pt x="306" y="28"/>
                </a:lnTo>
                <a:lnTo>
                  <a:pt x="348" y="32"/>
                </a:lnTo>
                <a:lnTo>
                  <a:pt x="386" y="36"/>
                </a:lnTo>
                <a:lnTo>
                  <a:pt x="428" y="40"/>
                </a:lnTo>
                <a:lnTo>
                  <a:pt x="469" y="44"/>
                </a:lnTo>
                <a:lnTo>
                  <a:pt x="510" y="46"/>
                </a:lnTo>
                <a:lnTo>
                  <a:pt x="552" y="50"/>
                </a:lnTo>
                <a:lnTo>
                  <a:pt x="593" y="54"/>
                </a:lnTo>
                <a:lnTo>
                  <a:pt x="634" y="58"/>
                </a:lnTo>
                <a:lnTo>
                  <a:pt x="676" y="62"/>
                </a:lnTo>
                <a:lnTo>
                  <a:pt x="670" y="68"/>
                </a:lnTo>
                <a:lnTo>
                  <a:pt x="665" y="74"/>
                </a:lnTo>
                <a:lnTo>
                  <a:pt x="657" y="82"/>
                </a:lnTo>
                <a:lnTo>
                  <a:pt x="651" y="88"/>
                </a:lnTo>
                <a:lnTo>
                  <a:pt x="648" y="102"/>
                </a:lnTo>
                <a:lnTo>
                  <a:pt x="643" y="116"/>
                </a:lnTo>
                <a:lnTo>
                  <a:pt x="640" y="130"/>
                </a:lnTo>
                <a:lnTo>
                  <a:pt x="634" y="144"/>
                </a:lnTo>
                <a:lnTo>
                  <a:pt x="626" y="146"/>
                </a:lnTo>
                <a:lnTo>
                  <a:pt x="618" y="150"/>
                </a:lnTo>
                <a:lnTo>
                  <a:pt x="610" y="152"/>
                </a:lnTo>
                <a:lnTo>
                  <a:pt x="599" y="154"/>
                </a:lnTo>
                <a:lnTo>
                  <a:pt x="599" y="162"/>
                </a:lnTo>
                <a:lnTo>
                  <a:pt x="599" y="168"/>
                </a:lnTo>
                <a:lnTo>
                  <a:pt x="596" y="174"/>
                </a:lnTo>
                <a:lnTo>
                  <a:pt x="596" y="180"/>
                </a:lnTo>
                <a:lnTo>
                  <a:pt x="604" y="180"/>
                </a:lnTo>
                <a:lnTo>
                  <a:pt x="615" y="180"/>
                </a:lnTo>
                <a:lnTo>
                  <a:pt x="623" y="182"/>
                </a:lnTo>
                <a:lnTo>
                  <a:pt x="632" y="182"/>
                </a:lnTo>
                <a:lnTo>
                  <a:pt x="629" y="192"/>
                </a:lnTo>
                <a:lnTo>
                  <a:pt x="626" y="202"/>
                </a:lnTo>
                <a:lnTo>
                  <a:pt x="623" y="212"/>
                </a:lnTo>
                <a:lnTo>
                  <a:pt x="621" y="222"/>
                </a:lnTo>
                <a:lnTo>
                  <a:pt x="615" y="224"/>
                </a:lnTo>
                <a:lnTo>
                  <a:pt x="607" y="224"/>
                </a:lnTo>
                <a:lnTo>
                  <a:pt x="601" y="226"/>
                </a:lnTo>
                <a:lnTo>
                  <a:pt x="593" y="228"/>
                </a:lnTo>
                <a:lnTo>
                  <a:pt x="599" y="234"/>
                </a:lnTo>
                <a:lnTo>
                  <a:pt x="604" y="240"/>
                </a:lnTo>
                <a:lnTo>
                  <a:pt x="607" y="246"/>
                </a:lnTo>
                <a:lnTo>
                  <a:pt x="612" y="252"/>
                </a:lnTo>
                <a:lnTo>
                  <a:pt x="612" y="260"/>
                </a:lnTo>
                <a:lnTo>
                  <a:pt x="612" y="266"/>
                </a:lnTo>
                <a:lnTo>
                  <a:pt x="610" y="274"/>
                </a:lnTo>
                <a:lnTo>
                  <a:pt x="610" y="282"/>
                </a:lnTo>
                <a:lnTo>
                  <a:pt x="604" y="286"/>
                </a:lnTo>
                <a:lnTo>
                  <a:pt x="599" y="288"/>
                </a:lnTo>
                <a:lnTo>
                  <a:pt x="590" y="292"/>
                </a:lnTo>
                <a:lnTo>
                  <a:pt x="585" y="296"/>
                </a:lnTo>
                <a:lnTo>
                  <a:pt x="590" y="302"/>
                </a:lnTo>
                <a:lnTo>
                  <a:pt x="599" y="308"/>
                </a:lnTo>
                <a:lnTo>
                  <a:pt x="604" y="314"/>
                </a:lnTo>
                <a:lnTo>
                  <a:pt x="610" y="318"/>
                </a:lnTo>
                <a:lnTo>
                  <a:pt x="607" y="326"/>
                </a:lnTo>
                <a:lnTo>
                  <a:pt x="604" y="332"/>
                </a:lnTo>
                <a:lnTo>
                  <a:pt x="601" y="338"/>
                </a:lnTo>
                <a:lnTo>
                  <a:pt x="599" y="346"/>
                </a:lnTo>
                <a:lnTo>
                  <a:pt x="593" y="350"/>
                </a:lnTo>
                <a:lnTo>
                  <a:pt x="588" y="356"/>
                </a:lnTo>
                <a:lnTo>
                  <a:pt x="585" y="360"/>
                </a:lnTo>
                <a:lnTo>
                  <a:pt x="579" y="366"/>
                </a:lnTo>
                <a:lnTo>
                  <a:pt x="574" y="373"/>
                </a:lnTo>
                <a:lnTo>
                  <a:pt x="571" y="381"/>
                </a:lnTo>
                <a:lnTo>
                  <a:pt x="566" y="389"/>
                </a:lnTo>
                <a:lnTo>
                  <a:pt x="560" y="397"/>
                </a:lnTo>
                <a:lnTo>
                  <a:pt x="552" y="403"/>
                </a:lnTo>
                <a:lnTo>
                  <a:pt x="546" y="409"/>
                </a:lnTo>
                <a:lnTo>
                  <a:pt x="538" y="415"/>
                </a:lnTo>
                <a:lnTo>
                  <a:pt x="530" y="421"/>
                </a:lnTo>
                <a:lnTo>
                  <a:pt x="510" y="425"/>
                </a:lnTo>
                <a:lnTo>
                  <a:pt x="488" y="429"/>
                </a:lnTo>
                <a:lnTo>
                  <a:pt x="461" y="431"/>
                </a:lnTo>
                <a:lnTo>
                  <a:pt x="428" y="433"/>
                </a:lnTo>
                <a:lnTo>
                  <a:pt x="395" y="433"/>
                </a:lnTo>
                <a:lnTo>
                  <a:pt x="359" y="431"/>
                </a:lnTo>
                <a:lnTo>
                  <a:pt x="323" y="429"/>
                </a:lnTo>
                <a:lnTo>
                  <a:pt x="284" y="427"/>
                </a:lnTo>
                <a:lnTo>
                  <a:pt x="246" y="423"/>
                </a:lnTo>
                <a:lnTo>
                  <a:pt x="210" y="419"/>
                </a:lnTo>
                <a:lnTo>
                  <a:pt x="174" y="413"/>
                </a:lnTo>
                <a:lnTo>
                  <a:pt x="141" y="407"/>
                </a:lnTo>
                <a:lnTo>
                  <a:pt x="108" y="399"/>
                </a:lnTo>
                <a:lnTo>
                  <a:pt x="83" y="393"/>
                </a:lnTo>
                <a:lnTo>
                  <a:pt x="58" y="385"/>
                </a:lnTo>
                <a:lnTo>
                  <a:pt x="42" y="377"/>
                </a:lnTo>
                <a:lnTo>
                  <a:pt x="33" y="360"/>
                </a:lnTo>
                <a:lnTo>
                  <a:pt x="31" y="340"/>
                </a:lnTo>
                <a:lnTo>
                  <a:pt x="28" y="320"/>
                </a:lnTo>
                <a:lnTo>
                  <a:pt x="31" y="302"/>
                </a:lnTo>
                <a:lnTo>
                  <a:pt x="25" y="298"/>
                </a:lnTo>
                <a:lnTo>
                  <a:pt x="20" y="294"/>
                </a:lnTo>
                <a:lnTo>
                  <a:pt x="14" y="290"/>
                </a:lnTo>
                <a:lnTo>
                  <a:pt x="9" y="286"/>
                </a:lnTo>
                <a:lnTo>
                  <a:pt x="9" y="280"/>
                </a:lnTo>
                <a:lnTo>
                  <a:pt x="9" y="274"/>
                </a:lnTo>
                <a:lnTo>
                  <a:pt x="9" y="268"/>
                </a:lnTo>
                <a:lnTo>
                  <a:pt x="6" y="260"/>
                </a:lnTo>
                <a:lnTo>
                  <a:pt x="17" y="256"/>
                </a:lnTo>
                <a:lnTo>
                  <a:pt x="25" y="254"/>
                </a:lnTo>
                <a:lnTo>
                  <a:pt x="36" y="250"/>
                </a:lnTo>
                <a:lnTo>
                  <a:pt x="44" y="246"/>
                </a:lnTo>
                <a:lnTo>
                  <a:pt x="33" y="246"/>
                </a:lnTo>
                <a:lnTo>
                  <a:pt x="22" y="244"/>
                </a:lnTo>
                <a:lnTo>
                  <a:pt x="11" y="244"/>
                </a:lnTo>
                <a:lnTo>
                  <a:pt x="0" y="242"/>
                </a:lnTo>
                <a:lnTo>
                  <a:pt x="3" y="232"/>
                </a:lnTo>
                <a:lnTo>
                  <a:pt x="6" y="220"/>
                </a:lnTo>
                <a:lnTo>
                  <a:pt x="6" y="210"/>
                </a:lnTo>
                <a:lnTo>
                  <a:pt x="9" y="200"/>
                </a:lnTo>
                <a:lnTo>
                  <a:pt x="17" y="198"/>
                </a:lnTo>
                <a:lnTo>
                  <a:pt x="28" y="196"/>
                </a:lnTo>
                <a:lnTo>
                  <a:pt x="36" y="196"/>
                </a:lnTo>
                <a:lnTo>
                  <a:pt x="44" y="194"/>
                </a:lnTo>
                <a:lnTo>
                  <a:pt x="39" y="188"/>
                </a:lnTo>
                <a:lnTo>
                  <a:pt x="31" y="180"/>
                </a:lnTo>
                <a:lnTo>
                  <a:pt x="22" y="174"/>
                </a:lnTo>
                <a:lnTo>
                  <a:pt x="17" y="168"/>
                </a:lnTo>
                <a:lnTo>
                  <a:pt x="14" y="162"/>
                </a:lnTo>
                <a:lnTo>
                  <a:pt x="14" y="156"/>
                </a:lnTo>
                <a:lnTo>
                  <a:pt x="14" y="150"/>
                </a:lnTo>
                <a:lnTo>
                  <a:pt x="14" y="144"/>
                </a:lnTo>
                <a:lnTo>
                  <a:pt x="25" y="140"/>
                </a:lnTo>
                <a:lnTo>
                  <a:pt x="36" y="136"/>
                </a:lnTo>
                <a:lnTo>
                  <a:pt x="44" y="134"/>
                </a:lnTo>
                <a:lnTo>
                  <a:pt x="55" y="130"/>
                </a:lnTo>
                <a:lnTo>
                  <a:pt x="55" y="126"/>
                </a:lnTo>
                <a:lnTo>
                  <a:pt x="55" y="120"/>
                </a:lnTo>
                <a:lnTo>
                  <a:pt x="55" y="114"/>
                </a:lnTo>
                <a:lnTo>
                  <a:pt x="55" y="108"/>
                </a:lnTo>
                <a:lnTo>
                  <a:pt x="47" y="104"/>
                </a:lnTo>
                <a:lnTo>
                  <a:pt x="39" y="100"/>
                </a:lnTo>
                <a:lnTo>
                  <a:pt x="31" y="96"/>
                </a:lnTo>
                <a:lnTo>
                  <a:pt x="22" y="92"/>
                </a:lnTo>
                <a:lnTo>
                  <a:pt x="25" y="78"/>
                </a:lnTo>
                <a:lnTo>
                  <a:pt x="28" y="66"/>
                </a:lnTo>
                <a:lnTo>
                  <a:pt x="31" y="54"/>
                </a:lnTo>
                <a:lnTo>
                  <a:pt x="33" y="42"/>
                </a:lnTo>
                <a:lnTo>
                  <a:pt x="31" y="32"/>
                </a:lnTo>
                <a:lnTo>
                  <a:pt x="25" y="20"/>
                </a:lnTo>
                <a:lnTo>
                  <a:pt x="22" y="10"/>
                </a:lnTo>
                <a:lnTo>
                  <a:pt x="17" y="0"/>
                </a:lnTo>
                <a:close/>
              </a:path>
            </a:pathLst>
          </a:custGeom>
          <a:solidFill>
            <a:srgbClr val="595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4081320" y="3643200"/>
            <a:ext cx="989280" cy="677880"/>
          </a:xfrm>
          <a:custGeom>
            <a:avLst/>
            <a:gdLst/>
            <a:ahLst/>
            <a:rect l="l" t="t" r="r" b="b"/>
            <a:pathLst>
              <a:path w="623" h="427">
                <a:moveTo>
                  <a:pt x="19" y="0"/>
                </a:moveTo>
                <a:lnTo>
                  <a:pt x="58" y="4"/>
                </a:lnTo>
                <a:lnTo>
                  <a:pt x="94" y="6"/>
                </a:lnTo>
                <a:lnTo>
                  <a:pt x="132" y="10"/>
                </a:lnTo>
                <a:lnTo>
                  <a:pt x="171" y="14"/>
                </a:lnTo>
                <a:lnTo>
                  <a:pt x="207" y="18"/>
                </a:lnTo>
                <a:lnTo>
                  <a:pt x="246" y="20"/>
                </a:lnTo>
                <a:lnTo>
                  <a:pt x="284" y="24"/>
                </a:lnTo>
                <a:lnTo>
                  <a:pt x="323" y="28"/>
                </a:lnTo>
                <a:lnTo>
                  <a:pt x="359" y="32"/>
                </a:lnTo>
                <a:lnTo>
                  <a:pt x="397" y="36"/>
                </a:lnTo>
                <a:lnTo>
                  <a:pt x="436" y="38"/>
                </a:lnTo>
                <a:lnTo>
                  <a:pt x="472" y="42"/>
                </a:lnTo>
                <a:lnTo>
                  <a:pt x="510" y="46"/>
                </a:lnTo>
                <a:lnTo>
                  <a:pt x="549" y="50"/>
                </a:lnTo>
                <a:lnTo>
                  <a:pt x="585" y="52"/>
                </a:lnTo>
                <a:lnTo>
                  <a:pt x="623" y="56"/>
                </a:lnTo>
                <a:lnTo>
                  <a:pt x="618" y="62"/>
                </a:lnTo>
                <a:lnTo>
                  <a:pt x="612" y="68"/>
                </a:lnTo>
                <a:lnTo>
                  <a:pt x="604" y="76"/>
                </a:lnTo>
                <a:lnTo>
                  <a:pt x="598" y="82"/>
                </a:lnTo>
                <a:lnTo>
                  <a:pt x="596" y="96"/>
                </a:lnTo>
                <a:lnTo>
                  <a:pt x="593" y="110"/>
                </a:lnTo>
                <a:lnTo>
                  <a:pt x="587" y="124"/>
                </a:lnTo>
                <a:lnTo>
                  <a:pt x="585" y="138"/>
                </a:lnTo>
                <a:lnTo>
                  <a:pt x="576" y="140"/>
                </a:lnTo>
                <a:lnTo>
                  <a:pt x="568" y="144"/>
                </a:lnTo>
                <a:lnTo>
                  <a:pt x="560" y="146"/>
                </a:lnTo>
                <a:lnTo>
                  <a:pt x="552" y="148"/>
                </a:lnTo>
                <a:lnTo>
                  <a:pt x="549" y="154"/>
                </a:lnTo>
                <a:lnTo>
                  <a:pt x="549" y="160"/>
                </a:lnTo>
                <a:lnTo>
                  <a:pt x="549" y="166"/>
                </a:lnTo>
                <a:lnTo>
                  <a:pt x="546" y="172"/>
                </a:lnTo>
                <a:lnTo>
                  <a:pt x="554" y="174"/>
                </a:lnTo>
                <a:lnTo>
                  <a:pt x="563" y="174"/>
                </a:lnTo>
                <a:lnTo>
                  <a:pt x="571" y="174"/>
                </a:lnTo>
                <a:lnTo>
                  <a:pt x="579" y="176"/>
                </a:lnTo>
                <a:lnTo>
                  <a:pt x="576" y="186"/>
                </a:lnTo>
                <a:lnTo>
                  <a:pt x="576" y="196"/>
                </a:lnTo>
                <a:lnTo>
                  <a:pt x="574" y="206"/>
                </a:lnTo>
                <a:lnTo>
                  <a:pt x="571" y="216"/>
                </a:lnTo>
                <a:lnTo>
                  <a:pt x="565" y="216"/>
                </a:lnTo>
                <a:lnTo>
                  <a:pt x="560" y="218"/>
                </a:lnTo>
                <a:lnTo>
                  <a:pt x="552" y="218"/>
                </a:lnTo>
                <a:lnTo>
                  <a:pt x="546" y="220"/>
                </a:lnTo>
                <a:lnTo>
                  <a:pt x="552" y="226"/>
                </a:lnTo>
                <a:lnTo>
                  <a:pt x="554" y="232"/>
                </a:lnTo>
                <a:lnTo>
                  <a:pt x="560" y="240"/>
                </a:lnTo>
                <a:lnTo>
                  <a:pt x="563" y="246"/>
                </a:lnTo>
                <a:lnTo>
                  <a:pt x="560" y="254"/>
                </a:lnTo>
                <a:lnTo>
                  <a:pt x="560" y="260"/>
                </a:lnTo>
                <a:lnTo>
                  <a:pt x="560" y="266"/>
                </a:lnTo>
                <a:lnTo>
                  <a:pt x="557" y="274"/>
                </a:lnTo>
                <a:lnTo>
                  <a:pt x="552" y="278"/>
                </a:lnTo>
                <a:lnTo>
                  <a:pt x="546" y="280"/>
                </a:lnTo>
                <a:lnTo>
                  <a:pt x="541" y="284"/>
                </a:lnTo>
                <a:lnTo>
                  <a:pt x="535" y="288"/>
                </a:lnTo>
                <a:lnTo>
                  <a:pt x="541" y="294"/>
                </a:lnTo>
                <a:lnTo>
                  <a:pt x="546" y="300"/>
                </a:lnTo>
                <a:lnTo>
                  <a:pt x="552" y="306"/>
                </a:lnTo>
                <a:lnTo>
                  <a:pt x="557" y="310"/>
                </a:lnTo>
                <a:lnTo>
                  <a:pt x="554" y="318"/>
                </a:lnTo>
                <a:lnTo>
                  <a:pt x="552" y="324"/>
                </a:lnTo>
                <a:lnTo>
                  <a:pt x="549" y="330"/>
                </a:lnTo>
                <a:lnTo>
                  <a:pt x="546" y="338"/>
                </a:lnTo>
                <a:lnTo>
                  <a:pt x="543" y="342"/>
                </a:lnTo>
                <a:lnTo>
                  <a:pt x="538" y="348"/>
                </a:lnTo>
                <a:lnTo>
                  <a:pt x="535" y="352"/>
                </a:lnTo>
                <a:lnTo>
                  <a:pt x="530" y="358"/>
                </a:lnTo>
                <a:lnTo>
                  <a:pt x="527" y="365"/>
                </a:lnTo>
                <a:lnTo>
                  <a:pt x="521" y="375"/>
                </a:lnTo>
                <a:lnTo>
                  <a:pt x="518" y="383"/>
                </a:lnTo>
                <a:lnTo>
                  <a:pt x="513" y="391"/>
                </a:lnTo>
                <a:lnTo>
                  <a:pt x="505" y="397"/>
                </a:lnTo>
                <a:lnTo>
                  <a:pt x="499" y="401"/>
                </a:lnTo>
                <a:lnTo>
                  <a:pt x="491" y="407"/>
                </a:lnTo>
                <a:lnTo>
                  <a:pt x="485" y="413"/>
                </a:lnTo>
                <a:lnTo>
                  <a:pt x="469" y="419"/>
                </a:lnTo>
                <a:lnTo>
                  <a:pt x="447" y="423"/>
                </a:lnTo>
                <a:lnTo>
                  <a:pt x="419" y="425"/>
                </a:lnTo>
                <a:lnTo>
                  <a:pt x="392" y="427"/>
                </a:lnTo>
                <a:lnTo>
                  <a:pt x="361" y="427"/>
                </a:lnTo>
                <a:lnTo>
                  <a:pt x="328" y="427"/>
                </a:lnTo>
                <a:lnTo>
                  <a:pt x="292" y="425"/>
                </a:lnTo>
                <a:lnTo>
                  <a:pt x="257" y="421"/>
                </a:lnTo>
                <a:lnTo>
                  <a:pt x="223" y="417"/>
                </a:lnTo>
                <a:lnTo>
                  <a:pt x="188" y="413"/>
                </a:lnTo>
                <a:lnTo>
                  <a:pt x="155" y="409"/>
                </a:lnTo>
                <a:lnTo>
                  <a:pt x="124" y="403"/>
                </a:lnTo>
                <a:lnTo>
                  <a:pt x="97" y="395"/>
                </a:lnTo>
                <a:lnTo>
                  <a:pt x="72" y="389"/>
                </a:lnTo>
                <a:lnTo>
                  <a:pt x="53" y="381"/>
                </a:lnTo>
                <a:lnTo>
                  <a:pt x="36" y="373"/>
                </a:lnTo>
                <a:lnTo>
                  <a:pt x="30" y="356"/>
                </a:lnTo>
                <a:lnTo>
                  <a:pt x="28" y="336"/>
                </a:lnTo>
                <a:lnTo>
                  <a:pt x="25" y="316"/>
                </a:lnTo>
                <a:lnTo>
                  <a:pt x="28" y="298"/>
                </a:lnTo>
                <a:lnTo>
                  <a:pt x="22" y="294"/>
                </a:lnTo>
                <a:lnTo>
                  <a:pt x="19" y="290"/>
                </a:lnTo>
                <a:lnTo>
                  <a:pt x="14" y="288"/>
                </a:lnTo>
                <a:lnTo>
                  <a:pt x="8" y="284"/>
                </a:lnTo>
                <a:lnTo>
                  <a:pt x="8" y="278"/>
                </a:lnTo>
                <a:lnTo>
                  <a:pt x="8" y="270"/>
                </a:lnTo>
                <a:lnTo>
                  <a:pt x="8" y="264"/>
                </a:lnTo>
                <a:lnTo>
                  <a:pt x="8" y="258"/>
                </a:lnTo>
                <a:lnTo>
                  <a:pt x="17" y="254"/>
                </a:lnTo>
                <a:lnTo>
                  <a:pt x="25" y="250"/>
                </a:lnTo>
                <a:lnTo>
                  <a:pt x="33" y="248"/>
                </a:lnTo>
                <a:lnTo>
                  <a:pt x="44" y="244"/>
                </a:lnTo>
                <a:lnTo>
                  <a:pt x="33" y="242"/>
                </a:lnTo>
                <a:lnTo>
                  <a:pt x="22" y="242"/>
                </a:lnTo>
                <a:lnTo>
                  <a:pt x="11" y="242"/>
                </a:lnTo>
                <a:lnTo>
                  <a:pt x="0" y="240"/>
                </a:lnTo>
                <a:lnTo>
                  <a:pt x="3" y="230"/>
                </a:lnTo>
                <a:lnTo>
                  <a:pt x="6" y="218"/>
                </a:lnTo>
                <a:lnTo>
                  <a:pt x="6" y="208"/>
                </a:lnTo>
                <a:lnTo>
                  <a:pt x="8" y="198"/>
                </a:lnTo>
                <a:lnTo>
                  <a:pt x="17" y="196"/>
                </a:lnTo>
                <a:lnTo>
                  <a:pt x="25" y="194"/>
                </a:lnTo>
                <a:lnTo>
                  <a:pt x="33" y="194"/>
                </a:lnTo>
                <a:lnTo>
                  <a:pt x="44" y="192"/>
                </a:lnTo>
                <a:lnTo>
                  <a:pt x="36" y="184"/>
                </a:lnTo>
                <a:lnTo>
                  <a:pt x="30" y="178"/>
                </a:lnTo>
                <a:lnTo>
                  <a:pt x="22" y="172"/>
                </a:lnTo>
                <a:lnTo>
                  <a:pt x="17" y="166"/>
                </a:lnTo>
                <a:lnTo>
                  <a:pt x="17" y="160"/>
                </a:lnTo>
                <a:lnTo>
                  <a:pt x="17" y="154"/>
                </a:lnTo>
                <a:lnTo>
                  <a:pt x="17" y="148"/>
                </a:lnTo>
                <a:lnTo>
                  <a:pt x="14" y="142"/>
                </a:lnTo>
                <a:lnTo>
                  <a:pt x="25" y="138"/>
                </a:lnTo>
                <a:lnTo>
                  <a:pt x="33" y="134"/>
                </a:lnTo>
                <a:lnTo>
                  <a:pt x="44" y="132"/>
                </a:lnTo>
                <a:lnTo>
                  <a:pt x="53" y="128"/>
                </a:lnTo>
                <a:lnTo>
                  <a:pt x="55" y="122"/>
                </a:lnTo>
                <a:lnTo>
                  <a:pt x="55" y="116"/>
                </a:lnTo>
                <a:lnTo>
                  <a:pt x="55" y="112"/>
                </a:lnTo>
                <a:lnTo>
                  <a:pt x="55" y="106"/>
                </a:lnTo>
                <a:lnTo>
                  <a:pt x="47" y="102"/>
                </a:lnTo>
                <a:lnTo>
                  <a:pt x="41" y="98"/>
                </a:lnTo>
                <a:lnTo>
                  <a:pt x="33" y="94"/>
                </a:lnTo>
                <a:lnTo>
                  <a:pt x="25" y="90"/>
                </a:lnTo>
                <a:lnTo>
                  <a:pt x="28" y="78"/>
                </a:lnTo>
                <a:lnTo>
                  <a:pt x="30" y="64"/>
                </a:lnTo>
                <a:lnTo>
                  <a:pt x="30" y="52"/>
                </a:lnTo>
                <a:lnTo>
                  <a:pt x="33" y="40"/>
                </a:lnTo>
                <a:lnTo>
                  <a:pt x="30" y="30"/>
                </a:lnTo>
                <a:lnTo>
                  <a:pt x="28" y="20"/>
                </a:lnTo>
                <a:lnTo>
                  <a:pt x="22" y="10"/>
                </a:lnTo>
                <a:lnTo>
                  <a:pt x="19" y="0"/>
                </a:lnTo>
                <a:close/>
              </a:path>
            </a:pathLst>
          </a:custGeom>
          <a:solidFill>
            <a:srgbClr val="636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4125960" y="3649680"/>
            <a:ext cx="896760" cy="668160"/>
          </a:xfrm>
          <a:custGeom>
            <a:avLst/>
            <a:gdLst/>
            <a:ahLst/>
            <a:rect l="l" t="t" r="r" b="b"/>
            <a:pathLst>
              <a:path w="565" h="421">
                <a:moveTo>
                  <a:pt x="19" y="0"/>
                </a:moveTo>
                <a:lnTo>
                  <a:pt x="52" y="4"/>
                </a:lnTo>
                <a:lnTo>
                  <a:pt x="88" y="6"/>
                </a:lnTo>
                <a:lnTo>
                  <a:pt x="121" y="10"/>
                </a:lnTo>
                <a:lnTo>
                  <a:pt x="157" y="14"/>
                </a:lnTo>
                <a:lnTo>
                  <a:pt x="190" y="16"/>
                </a:lnTo>
                <a:lnTo>
                  <a:pt x="223" y="20"/>
                </a:lnTo>
                <a:lnTo>
                  <a:pt x="259" y="22"/>
                </a:lnTo>
                <a:lnTo>
                  <a:pt x="292" y="26"/>
                </a:lnTo>
                <a:lnTo>
                  <a:pt x="325" y="30"/>
                </a:lnTo>
                <a:lnTo>
                  <a:pt x="361" y="32"/>
                </a:lnTo>
                <a:lnTo>
                  <a:pt x="394" y="36"/>
                </a:lnTo>
                <a:lnTo>
                  <a:pt x="430" y="38"/>
                </a:lnTo>
                <a:lnTo>
                  <a:pt x="463" y="42"/>
                </a:lnTo>
                <a:lnTo>
                  <a:pt x="496" y="46"/>
                </a:lnTo>
                <a:lnTo>
                  <a:pt x="532" y="48"/>
                </a:lnTo>
                <a:lnTo>
                  <a:pt x="565" y="52"/>
                </a:lnTo>
                <a:lnTo>
                  <a:pt x="559" y="58"/>
                </a:lnTo>
                <a:lnTo>
                  <a:pt x="557" y="64"/>
                </a:lnTo>
                <a:lnTo>
                  <a:pt x="551" y="70"/>
                </a:lnTo>
                <a:lnTo>
                  <a:pt x="546" y="78"/>
                </a:lnTo>
                <a:lnTo>
                  <a:pt x="543" y="92"/>
                </a:lnTo>
                <a:lnTo>
                  <a:pt x="537" y="106"/>
                </a:lnTo>
                <a:lnTo>
                  <a:pt x="535" y="120"/>
                </a:lnTo>
                <a:lnTo>
                  <a:pt x="529" y="134"/>
                </a:lnTo>
                <a:lnTo>
                  <a:pt x="521" y="136"/>
                </a:lnTo>
                <a:lnTo>
                  <a:pt x="515" y="138"/>
                </a:lnTo>
                <a:lnTo>
                  <a:pt x="507" y="140"/>
                </a:lnTo>
                <a:lnTo>
                  <a:pt x="499" y="142"/>
                </a:lnTo>
                <a:lnTo>
                  <a:pt x="499" y="150"/>
                </a:lnTo>
                <a:lnTo>
                  <a:pt x="499" y="156"/>
                </a:lnTo>
                <a:lnTo>
                  <a:pt x="496" y="162"/>
                </a:lnTo>
                <a:lnTo>
                  <a:pt x="496" y="168"/>
                </a:lnTo>
                <a:lnTo>
                  <a:pt x="502" y="170"/>
                </a:lnTo>
                <a:lnTo>
                  <a:pt x="510" y="170"/>
                </a:lnTo>
                <a:lnTo>
                  <a:pt x="518" y="170"/>
                </a:lnTo>
                <a:lnTo>
                  <a:pt x="526" y="170"/>
                </a:lnTo>
                <a:lnTo>
                  <a:pt x="524" y="180"/>
                </a:lnTo>
                <a:lnTo>
                  <a:pt x="521" y="190"/>
                </a:lnTo>
                <a:lnTo>
                  <a:pt x="518" y="200"/>
                </a:lnTo>
                <a:lnTo>
                  <a:pt x="515" y="210"/>
                </a:lnTo>
                <a:lnTo>
                  <a:pt x="510" y="212"/>
                </a:lnTo>
                <a:lnTo>
                  <a:pt x="504" y="212"/>
                </a:lnTo>
                <a:lnTo>
                  <a:pt x="499" y="214"/>
                </a:lnTo>
                <a:lnTo>
                  <a:pt x="493" y="216"/>
                </a:lnTo>
                <a:lnTo>
                  <a:pt x="496" y="222"/>
                </a:lnTo>
                <a:lnTo>
                  <a:pt x="502" y="228"/>
                </a:lnTo>
                <a:lnTo>
                  <a:pt x="504" y="234"/>
                </a:lnTo>
                <a:lnTo>
                  <a:pt x="507" y="240"/>
                </a:lnTo>
                <a:lnTo>
                  <a:pt x="507" y="248"/>
                </a:lnTo>
                <a:lnTo>
                  <a:pt x="507" y="254"/>
                </a:lnTo>
                <a:lnTo>
                  <a:pt x="504" y="262"/>
                </a:lnTo>
                <a:lnTo>
                  <a:pt x="504" y="268"/>
                </a:lnTo>
                <a:lnTo>
                  <a:pt x="499" y="272"/>
                </a:lnTo>
                <a:lnTo>
                  <a:pt x="493" y="276"/>
                </a:lnTo>
                <a:lnTo>
                  <a:pt x="488" y="280"/>
                </a:lnTo>
                <a:lnTo>
                  <a:pt x="482" y="284"/>
                </a:lnTo>
                <a:lnTo>
                  <a:pt x="488" y="290"/>
                </a:lnTo>
                <a:lnTo>
                  <a:pt x="493" y="294"/>
                </a:lnTo>
                <a:lnTo>
                  <a:pt x="496" y="300"/>
                </a:lnTo>
                <a:lnTo>
                  <a:pt x="502" y="306"/>
                </a:lnTo>
                <a:lnTo>
                  <a:pt x="499" y="312"/>
                </a:lnTo>
                <a:lnTo>
                  <a:pt x="499" y="318"/>
                </a:lnTo>
                <a:lnTo>
                  <a:pt x="496" y="326"/>
                </a:lnTo>
                <a:lnTo>
                  <a:pt x="493" y="332"/>
                </a:lnTo>
                <a:lnTo>
                  <a:pt x="490" y="336"/>
                </a:lnTo>
                <a:lnTo>
                  <a:pt x="485" y="342"/>
                </a:lnTo>
                <a:lnTo>
                  <a:pt x="482" y="348"/>
                </a:lnTo>
                <a:lnTo>
                  <a:pt x="477" y="352"/>
                </a:lnTo>
                <a:lnTo>
                  <a:pt x="474" y="359"/>
                </a:lnTo>
                <a:lnTo>
                  <a:pt x="468" y="369"/>
                </a:lnTo>
                <a:lnTo>
                  <a:pt x="466" y="377"/>
                </a:lnTo>
                <a:lnTo>
                  <a:pt x="460" y="387"/>
                </a:lnTo>
                <a:lnTo>
                  <a:pt x="455" y="391"/>
                </a:lnTo>
                <a:lnTo>
                  <a:pt x="449" y="397"/>
                </a:lnTo>
                <a:lnTo>
                  <a:pt x="441" y="403"/>
                </a:lnTo>
                <a:lnTo>
                  <a:pt x="435" y="409"/>
                </a:lnTo>
                <a:lnTo>
                  <a:pt x="400" y="417"/>
                </a:lnTo>
                <a:lnTo>
                  <a:pt x="350" y="421"/>
                </a:lnTo>
                <a:lnTo>
                  <a:pt x="292" y="421"/>
                </a:lnTo>
                <a:lnTo>
                  <a:pt x="229" y="417"/>
                </a:lnTo>
                <a:lnTo>
                  <a:pt x="168" y="411"/>
                </a:lnTo>
                <a:lnTo>
                  <a:pt x="110" y="399"/>
                </a:lnTo>
                <a:lnTo>
                  <a:pt x="60" y="387"/>
                </a:lnTo>
                <a:lnTo>
                  <a:pt x="27" y="371"/>
                </a:lnTo>
                <a:lnTo>
                  <a:pt x="25" y="354"/>
                </a:lnTo>
                <a:lnTo>
                  <a:pt x="22" y="334"/>
                </a:lnTo>
                <a:lnTo>
                  <a:pt x="22" y="316"/>
                </a:lnTo>
                <a:lnTo>
                  <a:pt x="22" y="296"/>
                </a:lnTo>
                <a:lnTo>
                  <a:pt x="19" y="292"/>
                </a:lnTo>
                <a:lnTo>
                  <a:pt x="13" y="290"/>
                </a:lnTo>
                <a:lnTo>
                  <a:pt x="11" y="286"/>
                </a:lnTo>
                <a:lnTo>
                  <a:pt x="5" y="282"/>
                </a:lnTo>
                <a:lnTo>
                  <a:pt x="5" y="276"/>
                </a:lnTo>
                <a:lnTo>
                  <a:pt x="5" y="270"/>
                </a:lnTo>
                <a:lnTo>
                  <a:pt x="5" y="264"/>
                </a:lnTo>
                <a:lnTo>
                  <a:pt x="5" y="256"/>
                </a:lnTo>
                <a:lnTo>
                  <a:pt x="13" y="252"/>
                </a:lnTo>
                <a:lnTo>
                  <a:pt x="22" y="250"/>
                </a:lnTo>
                <a:lnTo>
                  <a:pt x="30" y="246"/>
                </a:lnTo>
                <a:lnTo>
                  <a:pt x="38" y="242"/>
                </a:lnTo>
                <a:lnTo>
                  <a:pt x="27" y="242"/>
                </a:lnTo>
                <a:lnTo>
                  <a:pt x="19" y="240"/>
                </a:lnTo>
                <a:lnTo>
                  <a:pt x="8" y="240"/>
                </a:lnTo>
                <a:lnTo>
                  <a:pt x="0" y="240"/>
                </a:lnTo>
                <a:lnTo>
                  <a:pt x="2" y="230"/>
                </a:lnTo>
                <a:lnTo>
                  <a:pt x="5" y="218"/>
                </a:lnTo>
                <a:lnTo>
                  <a:pt x="5" y="206"/>
                </a:lnTo>
                <a:lnTo>
                  <a:pt x="8" y="196"/>
                </a:lnTo>
                <a:lnTo>
                  <a:pt x="13" y="194"/>
                </a:lnTo>
                <a:lnTo>
                  <a:pt x="22" y="192"/>
                </a:lnTo>
                <a:lnTo>
                  <a:pt x="30" y="192"/>
                </a:lnTo>
                <a:lnTo>
                  <a:pt x="38" y="190"/>
                </a:lnTo>
                <a:lnTo>
                  <a:pt x="33" y="184"/>
                </a:lnTo>
                <a:lnTo>
                  <a:pt x="27" y="178"/>
                </a:lnTo>
                <a:lnTo>
                  <a:pt x="22" y="172"/>
                </a:lnTo>
                <a:lnTo>
                  <a:pt x="16" y="166"/>
                </a:lnTo>
                <a:lnTo>
                  <a:pt x="13" y="160"/>
                </a:lnTo>
                <a:lnTo>
                  <a:pt x="13" y="154"/>
                </a:lnTo>
                <a:lnTo>
                  <a:pt x="13" y="148"/>
                </a:lnTo>
                <a:lnTo>
                  <a:pt x="13" y="142"/>
                </a:lnTo>
                <a:lnTo>
                  <a:pt x="22" y="138"/>
                </a:lnTo>
                <a:lnTo>
                  <a:pt x="33" y="134"/>
                </a:lnTo>
                <a:lnTo>
                  <a:pt x="41" y="132"/>
                </a:lnTo>
                <a:lnTo>
                  <a:pt x="49" y="128"/>
                </a:lnTo>
                <a:lnTo>
                  <a:pt x="49" y="122"/>
                </a:lnTo>
                <a:lnTo>
                  <a:pt x="49" y="116"/>
                </a:lnTo>
                <a:lnTo>
                  <a:pt x="49" y="112"/>
                </a:lnTo>
                <a:lnTo>
                  <a:pt x="49" y="106"/>
                </a:lnTo>
                <a:lnTo>
                  <a:pt x="44" y="102"/>
                </a:lnTo>
                <a:lnTo>
                  <a:pt x="38" y="98"/>
                </a:lnTo>
                <a:lnTo>
                  <a:pt x="30" y="94"/>
                </a:lnTo>
                <a:lnTo>
                  <a:pt x="25" y="90"/>
                </a:lnTo>
                <a:lnTo>
                  <a:pt x="27" y="78"/>
                </a:lnTo>
                <a:lnTo>
                  <a:pt x="30" y="64"/>
                </a:lnTo>
                <a:lnTo>
                  <a:pt x="30" y="52"/>
                </a:lnTo>
                <a:lnTo>
                  <a:pt x="33" y="40"/>
                </a:lnTo>
                <a:lnTo>
                  <a:pt x="30" y="30"/>
                </a:lnTo>
                <a:lnTo>
                  <a:pt x="27" y="20"/>
                </a:lnTo>
                <a:lnTo>
                  <a:pt x="22" y="10"/>
                </a:lnTo>
                <a:lnTo>
                  <a:pt x="19" y="0"/>
                </a:lnTo>
                <a:close/>
              </a:path>
            </a:pathLst>
          </a:custGeom>
          <a:solidFill>
            <a:srgbClr val="6d6d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4165560" y="3659040"/>
            <a:ext cx="812880" cy="658800"/>
          </a:xfrm>
          <a:custGeom>
            <a:avLst/>
            <a:gdLst/>
            <a:ahLst/>
            <a:rect l="l" t="t" r="r" b="b"/>
            <a:pathLst>
              <a:path w="512" h="415">
                <a:moveTo>
                  <a:pt x="24" y="0"/>
                </a:moveTo>
                <a:lnTo>
                  <a:pt x="55" y="2"/>
                </a:lnTo>
                <a:lnTo>
                  <a:pt x="85" y="6"/>
                </a:lnTo>
                <a:lnTo>
                  <a:pt x="115" y="8"/>
                </a:lnTo>
                <a:lnTo>
                  <a:pt x="146" y="10"/>
                </a:lnTo>
                <a:lnTo>
                  <a:pt x="176" y="14"/>
                </a:lnTo>
                <a:lnTo>
                  <a:pt x="206" y="16"/>
                </a:lnTo>
                <a:lnTo>
                  <a:pt x="237" y="20"/>
                </a:lnTo>
                <a:lnTo>
                  <a:pt x="270" y="22"/>
                </a:lnTo>
                <a:lnTo>
                  <a:pt x="300" y="26"/>
                </a:lnTo>
                <a:lnTo>
                  <a:pt x="330" y="28"/>
                </a:lnTo>
                <a:lnTo>
                  <a:pt x="361" y="32"/>
                </a:lnTo>
                <a:lnTo>
                  <a:pt x="391" y="34"/>
                </a:lnTo>
                <a:lnTo>
                  <a:pt x="421" y="38"/>
                </a:lnTo>
                <a:lnTo>
                  <a:pt x="452" y="40"/>
                </a:lnTo>
                <a:lnTo>
                  <a:pt x="482" y="44"/>
                </a:lnTo>
                <a:lnTo>
                  <a:pt x="512" y="46"/>
                </a:lnTo>
                <a:lnTo>
                  <a:pt x="507" y="52"/>
                </a:lnTo>
                <a:lnTo>
                  <a:pt x="501" y="58"/>
                </a:lnTo>
                <a:lnTo>
                  <a:pt x="499" y="64"/>
                </a:lnTo>
                <a:lnTo>
                  <a:pt x="493" y="72"/>
                </a:lnTo>
                <a:lnTo>
                  <a:pt x="490" y="86"/>
                </a:lnTo>
                <a:lnTo>
                  <a:pt x="485" y="98"/>
                </a:lnTo>
                <a:lnTo>
                  <a:pt x="482" y="112"/>
                </a:lnTo>
                <a:lnTo>
                  <a:pt x="477" y="126"/>
                </a:lnTo>
                <a:lnTo>
                  <a:pt x="471" y="128"/>
                </a:lnTo>
                <a:lnTo>
                  <a:pt x="465" y="130"/>
                </a:lnTo>
                <a:lnTo>
                  <a:pt x="457" y="134"/>
                </a:lnTo>
                <a:lnTo>
                  <a:pt x="452" y="136"/>
                </a:lnTo>
                <a:lnTo>
                  <a:pt x="449" y="144"/>
                </a:lnTo>
                <a:lnTo>
                  <a:pt x="449" y="150"/>
                </a:lnTo>
                <a:lnTo>
                  <a:pt x="449" y="156"/>
                </a:lnTo>
                <a:lnTo>
                  <a:pt x="446" y="162"/>
                </a:lnTo>
                <a:lnTo>
                  <a:pt x="452" y="162"/>
                </a:lnTo>
                <a:lnTo>
                  <a:pt x="460" y="162"/>
                </a:lnTo>
                <a:lnTo>
                  <a:pt x="468" y="164"/>
                </a:lnTo>
                <a:lnTo>
                  <a:pt x="474" y="164"/>
                </a:lnTo>
                <a:lnTo>
                  <a:pt x="471" y="174"/>
                </a:lnTo>
                <a:lnTo>
                  <a:pt x="471" y="184"/>
                </a:lnTo>
                <a:lnTo>
                  <a:pt x="468" y="194"/>
                </a:lnTo>
                <a:lnTo>
                  <a:pt x="465" y="204"/>
                </a:lnTo>
                <a:lnTo>
                  <a:pt x="460" y="204"/>
                </a:lnTo>
                <a:lnTo>
                  <a:pt x="454" y="206"/>
                </a:lnTo>
                <a:lnTo>
                  <a:pt x="449" y="206"/>
                </a:lnTo>
                <a:lnTo>
                  <a:pt x="443" y="208"/>
                </a:lnTo>
                <a:lnTo>
                  <a:pt x="446" y="214"/>
                </a:lnTo>
                <a:lnTo>
                  <a:pt x="452" y="220"/>
                </a:lnTo>
                <a:lnTo>
                  <a:pt x="454" y="228"/>
                </a:lnTo>
                <a:lnTo>
                  <a:pt x="457" y="234"/>
                </a:lnTo>
                <a:lnTo>
                  <a:pt x="454" y="240"/>
                </a:lnTo>
                <a:lnTo>
                  <a:pt x="454" y="248"/>
                </a:lnTo>
                <a:lnTo>
                  <a:pt x="454" y="254"/>
                </a:lnTo>
                <a:lnTo>
                  <a:pt x="452" y="262"/>
                </a:lnTo>
                <a:lnTo>
                  <a:pt x="449" y="266"/>
                </a:lnTo>
                <a:lnTo>
                  <a:pt x="443" y="268"/>
                </a:lnTo>
                <a:lnTo>
                  <a:pt x="441" y="272"/>
                </a:lnTo>
                <a:lnTo>
                  <a:pt x="435" y="276"/>
                </a:lnTo>
                <a:lnTo>
                  <a:pt x="441" y="282"/>
                </a:lnTo>
                <a:lnTo>
                  <a:pt x="443" y="288"/>
                </a:lnTo>
                <a:lnTo>
                  <a:pt x="449" y="294"/>
                </a:lnTo>
                <a:lnTo>
                  <a:pt x="452" y="298"/>
                </a:lnTo>
                <a:lnTo>
                  <a:pt x="449" y="306"/>
                </a:lnTo>
                <a:lnTo>
                  <a:pt x="446" y="312"/>
                </a:lnTo>
                <a:lnTo>
                  <a:pt x="443" y="318"/>
                </a:lnTo>
                <a:lnTo>
                  <a:pt x="441" y="324"/>
                </a:lnTo>
                <a:lnTo>
                  <a:pt x="438" y="328"/>
                </a:lnTo>
                <a:lnTo>
                  <a:pt x="435" y="334"/>
                </a:lnTo>
                <a:lnTo>
                  <a:pt x="430" y="340"/>
                </a:lnTo>
                <a:lnTo>
                  <a:pt x="427" y="344"/>
                </a:lnTo>
                <a:lnTo>
                  <a:pt x="424" y="352"/>
                </a:lnTo>
                <a:lnTo>
                  <a:pt x="421" y="361"/>
                </a:lnTo>
                <a:lnTo>
                  <a:pt x="416" y="369"/>
                </a:lnTo>
                <a:lnTo>
                  <a:pt x="413" y="379"/>
                </a:lnTo>
                <a:lnTo>
                  <a:pt x="408" y="385"/>
                </a:lnTo>
                <a:lnTo>
                  <a:pt x="402" y="389"/>
                </a:lnTo>
                <a:lnTo>
                  <a:pt x="397" y="395"/>
                </a:lnTo>
                <a:lnTo>
                  <a:pt x="391" y="401"/>
                </a:lnTo>
                <a:lnTo>
                  <a:pt x="358" y="411"/>
                </a:lnTo>
                <a:lnTo>
                  <a:pt x="314" y="415"/>
                </a:lnTo>
                <a:lnTo>
                  <a:pt x="261" y="415"/>
                </a:lnTo>
                <a:lnTo>
                  <a:pt x="204" y="413"/>
                </a:lnTo>
                <a:lnTo>
                  <a:pt x="148" y="405"/>
                </a:lnTo>
                <a:lnTo>
                  <a:pt x="96" y="395"/>
                </a:lnTo>
                <a:lnTo>
                  <a:pt x="52" y="383"/>
                </a:lnTo>
                <a:lnTo>
                  <a:pt x="24" y="367"/>
                </a:lnTo>
                <a:lnTo>
                  <a:pt x="22" y="350"/>
                </a:lnTo>
                <a:lnTo>
                  <a:pt x="19" y="330"/>
                </a:lnTo>
                <a:lnTo>
                  <a:pt x="19" y="312"/>
                </a:lnTo>
                <a:lnTo>
                  <a:pt x="22" y="294"/>
                </a:lnTo>
                <a:lnTo>
                  <a:pt x="19" y="290"/>
                </a:lnTo>
                <a:lnTo>
                  <a:pt x="13" y="286"/>
                </a:lnTo>
                <a:lnTo>
                  <a:pt x="11" y="284"/>
                </a:lnTo>
                <a:lnTo>
                  <a:pt x="5" y="280"/>
                </a:lnTo>
                <a:lnTo>
                  <a:pt x="5" y="274"/>
                </a:lnTo>
                <a:lnTo>
                  <a:pt x="5" y="266"/>
                </a:lnTo>
                <a:lnTo>
                  <a:pt x="5" y="260"/>
                </a:lnTo>
                <a:lnTo>
                  <a:pt x="5" y="254"/>
                </a:lnTo>
                <a:lnTo>
                  <a:pt x="13" y="250"/>
                </a:lnTo>
                <a:lnTo>
                  <a:pt x="22" y="246"/>
                </a:lnTo>
                <a:lnTo>
                  <a:pt x="27" y="244"/>
                </a:lnTo>
                <a:lnTo>
                  <a:pt x="35" y="240"/>
                </a:lnTo>
                <a:lnTo>
                  <a:pt x="27" y="238"/>
                </a:lnTo>
                <a:lnTo>
                  <a:pt x="19" y="238"/>
                </a:lnTo>
                <a:lnTo>
                  <a:pt x="11" y="238"/>
                </a:lnTo>
                <a:lnTo>
                  <a:pt x="0" y="236"/>
                </a:lnTo>
                <a:lnTo>
                  <a:pt x="2" y="226"/>
                </a:lnTo>
                <a:lnTo>
                  <a:pt x="5" y="214"/>
                </a:lnTo>
                <a:lnTo>
                  <a:pt x="5" y="204"/>
                </a:lnTo>
                <a:lnTo>
                  <a:pt x="8" y="194"/>
                </a:lnTo>
                <a:lnTo>
                  <a:pt x="16" y="192"/>
                </a:lnTo>
                <a:lnTo>
                  <a:pt x="22" y="190"/>
                </a:lnTo>
                <a:lnTo>
                  <a:pt x="30" y="190"/>
                </a:lnTo>
                <a:lnTo>
                  <a:pt x="35" y="188"/>
                </a:lnTo>
                <a:lnTo>
                  <a:pt x="30" y="182"/>
                </a:lnTo>
                <a:lnTo>
                  <a:pt x="27" y="176"/>
                </a:lnTo>
                <a:lnTo>
                  <a:pt x="22" y="170"/>
                </a:lnTo>
                <a:lnTo>
                  <a:pt x="16" y="162"/>
                </a:lnTo>
                <a:lnTo>
                  <a:pt x="16" y="158"/>
                </a:lnTo>
                <a:lnTo>
                  <a:pt x="16" y="152"/>
                </a:lnTo>
                <a:lnTo>
                  <a:pt x="16" y="146"/>
                </a:lnTo>
                <a:lnTo>
                  <a:pt x="16" y="138"/>
                </a:lnTo>
                <a:lnTo>
                  <a:pt x="22" y="136"/>
                </a:lnTo>
                <a:lnTo>
                  <a:pt x="30" y="132"/>
                </a:lnTo>
                <a:lnTo>
                  <a:pt x="38" y="130"/>
                </a:lnTo>
                <a:lnTo>
                  <a:pt x="46" y="126"/>
                </a:lnTo>
                <a:lnTo>
                  <a:pt x="46" y="120"/>
                </a:lnTo>
                <a:lnTo>
                  <a:pt x="49" y="114"/>
                </a:lnTo>
                <a:lnTo>
                  <a:pt x="49" y="110"/>
                </a:lnTo>
                <a:lnTo>
                  <a:pt x="49" y="104"/>
                </a:lnTo>
                <a:lnTo>
                  <a:pt x="44" y="100"/>
                </a:lnTo>
                <a:lnTo>
                  <a:pt x="38" y="96"/>
                </a:lnTo>
                <a:lnTo>
                  <a:pt x="30" y="92"/>
                </a:lnTo>
                <a:lnTo>
                  <a:pt x="24" y="88"/>
                </a:lnTo>
                <a:lnTo>
                  <a:pt x="27" y="76"/>
                </a:lnTo>
                <a:lnTo>
                  <a:pt x="30" y="64"/>
                </a:lnTo>
                <a:lnTo>
                  <a:pt x="30" y="52"/>
                </a:lnTo>
                <a:lnTo>
                  <a:pt x="33" y="38"/>
                </a:lnTo>
                <a:lnTo>
                  <a:pt x="30" y="28"/>
                </a:lnTo>
                <a:lnTo>
                  <a:pt x="30" y="18"/>
                </a:lnTo>
                <a:lnTo>
                  <a:pt x="27" y="10"/>
                </a:lnTo>
                <a:lnTo>
                  <a:pt x="24" y="0"/>
                </a:lnTo>
                <a:close/>
              </a:path>
            </a:pathLst>
          </a:custGeom>
          <a:solidFill>
            <a:srgbClr val="7777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4208400" y="3665520"/>
            <a:ext cx="722520" cy="652320"/>
          </a:xfrm>
          <a:custGeom>
            <a:avLst/>
            <a:gdLst/>
            <a:ahLst/>
            <a:rect l="l" t="t" r="r" b="b"/>
            <a:pathLst>
              <a:path w="455" h="411">
                <a:moveTo>
                  <a:pt x="25" y="0"/>
                </a:moveTo>
                <a:lnTo>
                  <a:pt x="80" y="6"/>
                </a:lnTo>
                <a:lnTo>
                  <a:pt x="132" y="10"/>
                </a:lnTo>
                <a:lnTo>
                  <a:pt x="188" y="16"/>
                </a:lnTo>
                <a:lnTo>
                  <a:pt x="240" y="20"/>
                </a:lnTo>
                <a:lnTo>
                  <a:pt x="295" y="26"/>
                </a:lnTo>
                <a:lnTo>
                  <a:pt x="348" y="30"/>
                </a:lnTo>
                <a:lnTo>
                  <a:pt x="403" y="36"/>
                </a:lnTo>
                <a:lnTo>
                  <a:pt x="455" y="40"/>
                </a:lnTo>
                <a:lnTo>
                  <a:pt x="452" y="46"/>
                </a:lnTo>
                <a:lnTo>
                  <a:pt x="447" y="54"/>
                </a:lnTo>
                <a:lnTo>
                  <a:pt x="444" y="60"/>
                </a:lnTo>
                <a:lnTo>
                  <a:pt x="438" y="68"/>
                </a:lnTo>
                <a:lnTo>
                  <a:pt x="436" y="82"/>
                </a:lnTo>
                <a:lnTo>
                  <a:pt x="430" y="94"/>
                </a:lnTo>
                <a:lnTo>
                  <a:pt x="427" y="108"/>
                </a:lnTo>
                <a:lnTo>
                  <a:pt x="425" y="122"/>
                </a:lnTo>
                <a:lnTo>
                  <a:pt x="419" y="124"/>
                </a:lnTo>
                <a:lnTo>
                  <a:pt x="414" y="126"/>
                </a:lnTo>
                <a:lnTo>
                  <a:pt x="405" y="130"/>
                </a:lnTo>
                <a:lnTo>
                  <a:pt x="400" y="132"/>
                </a:lnTo>
                <a:lnTo>
                  <a:pt x="400" y="140"/>
                </a:lnTo>
                <a:lnTo>
                  <a:pt x="400" y="146"/>
                </a:lnTo>
                <a:lnTo>
                  <a:pt x="397" y="152"/>
                </a:lnTo>
                <a:lnTo>
                  <a:pt x="397" y="158"/>
                </a:lnTo>
                <a:lnTo>
                  <a:pt x="403" y="158"/>
                </a:lnTo>
                <a:lnTo>
                  <a:pt x="408" y="158"/>
                </a:lnTo>
                <a:lnTo>
                  <a:pt x="414" y="158"/>
                </a:lnTo>
                <a:lnTo>
                  <a:pt x="419" y="160"/>
                </a:lnTo>
                <a:lnTo>
                  <a:pt x="416" y="170"/>
                </a:lnTo>
                <a:lnTo>
                  <a:pt x="416" y="178"/>
                </a:lnTo>
                <a:lnTo>
                  <a:pt x="414" y="188"/>
                </a:lnTo>
                <a:lnTo>
                  <a:pt x="411" y="198"/>
                </a:lnTo>
                <a:lnTo>
                  <a:pt x="405" y="200"/>
                </a:lnTo>
                <a:lnTo>
                  <a:pt x="403" y="200"/>
                </a:lnTo>
                <a:lnTo>
                  <a:pt x="397" y="202"/>
                </a:lnTo>
                <a:lnTo>
                  <a:pt x="392" y="204"/>
                </a:lnTo>
                <a:lnTo>
                  <a:pt x="394" y="210"/>
                </a:lnTo>
                <a:lnTo>
                  <a:pt x="397" y="216"/>
                </a:lnTo>
                <a:lnTo>
                  <a:pt x="400" y="222"/>
                </a:lnTo>
                <a:lnTo>
                  <a:pt x="403" y="228"/>
                </a:lnTo>
                <a:lnTo>
                  <a:pt x="403" y="236"/>
                </a:lnTo>
                <a:lnTo>
                  <a:pt x="403" y="242"/>
                </a:lnTo>
                <a:lnTo>
                  <a:pt x="400" y="248"/>
                </a:lnTo>
                <a:lnTo>
                  <a:pt x="400" y="256"/>
                </a:lnTo>
                <a:lnTo>
                  <a:pt x="397" y="260"/>
                </a:lnTo>
                <a:lnTo>
                  <a:pt x="392" y="262"/>
                </a:lnTo>
                <a:lnTo>
                  <a:pt x="389" y="266"/>
                </a:lnTo>
                <a:lnTo>
                  <a:pt x="383" y="270"/>
                </a:lnTo>
                <a:lnTo>
                  <a:pt x="386" y="276"/>
                </a:lnTo>
                <a:lnTo>
                  <a:pt x="389" y="282"/>
                </a:lnTo>
                <a:lnTo>
                  <a:pt x="394" y="288"/>
                </a:lnTo>
                <a:lnTo>
                  <a:pt x="397" y="294"/>
                </a:lnTo>
                <a:lnTo>
                  <a:pt x="394" y="300"/>
                </a:lnTo>
                <a:lnTo>
                  <a:pt x="394" y="306"/>
                </a:lnTo>
                <a:lnTo>
                  <a:pt x="392" y="312"/>
                </a:lnTo>
                <a:lnTo>
                  <a:pt x="389" y="318"/>
                </a:lnTo>
                <a:lnTo>
                  <a:pt x="386" y="322"/>
                </a:lnTo>
                <a:lnTo>
                  <a:pt x="383" y="328"/>
                </a:lnTo>
                <a:lnTo>
                  <a:pt x="378" y="334"/>
                </a:lnTo>
                <a:lnTo>
                  <a:pt x="375" y="338"/>
                </a:lnTo>
                <a:lnTo>
                  <a:pt x="372" y="348"/>
                </a:lnTo>
                <a:lnTo>
                  <a:pt x="370" y="355"/>
                </a:lnTo>
                <a:lnTo>
                  <a:pt x="364" y="365"/>
                </a:lnTo>
                <a:lnTo>
                  <a:pt x="361" y="375"/>
                </a:lnTo>
                <a:lnTo>
                  <a:pt x="356" y="379"/>
                </a:lnTo>
                <a:lnTo>
                  <a:pt x="353" y="385"/>
                </a:lnTo>
                <a:lnTo>
                  <a:pt x="348" y="391"/>
                </a:lnTo>
                <a:lnTo>
                  <a:pt x="342" y="397"/>
                </a:lnTo>
                <a:lnTo>
                  <a:pt x="314" y="407"/>
                </a:lnTo>
                <a:lnTo>
                  <a:pt x="273" y="411"/>
                </a:lnTo>
                <a:lnTo>
                  <a:pt x="226" y="411"/>
                </a:lnTo>
                <a:lnTo>
                  <a:pt x="177" y="409"/>
                </a:lnTo>
                <a:lnTo>
                  <a:pt x="127" y="403"/>
                </a:lnTo>
                <a:lnTo>
                  <a:pt x="80" y="393"/>
                </a:lnTo>
                <a:lnTo>
                  <a:pt x="41" y="381"/>
                </a:lnTo>
                <a:lnTo>
                  <a:pt x="17" y="367"/>
                </a:lnTo>
                <a:lnTo>
                  <a:pt x="14" y="348"/>
                </a:lnTo>
                <a:lnTo>
                  <a:pt x="14" y="330"/>
                </a:lnTo>
                <a:lnTo>
                  <a:pt x="14" y="312"/>
                </a:lnTo>
                <a:lnTo>
                  <a:pt x="17" y="292"/>
                </a:lnTo>
                <a:lnTo>
                  <a:pt x="14" y="288"/>
                </a:lnTo>
                <a:lnTo>
                  <a:pt x="11" y="286"/>
                </a:lnTo>
                <a:lnTo>
                  <a:pt x="6" y="282"/>
                </a:lnTo>
                <a:lnTo>
                  <a:pt x="3" y="280"/>
                </a:lnTo>
                <a:lnTo>
                  <a:pt x="3" y="272"/>
                </a:lnTo>
                <a:lnTo>
                  <a:pt x="3" y="266"/>
                </a:lnTo>
                <a:lnTo>
                  <a:pt x="3" y="260"/>
                </a:lnTo>
                <a:lnTo>
                  <a:pt x="3" y="254"/>
                </a:lnTo>
                <a:lnTo>
                  <a:pt x="11" y="250"/>
                </a:lnTo>
                <a:lnTo>
                  <a:pt x="17" y="246"/>
                </a:lnTo>
                <a:lnTo>
                  <a:pt x="25" y="242"/>
                </a:lnTo>
                <a:lnTo>
                  <a:pt x="30" y="238"/>
                </a:lnTo>
                <a:lnTo>
                  <a:pt x="22" y="238"/>
                </a:lnTo>
                <a:lnTo>
                  <a:pt x="17" y="236"/>
                </a:lnTo>
                <a:lnTo>
                  <a:pt x="8" y="236"/>
                </a:lnTo>
                <a:lnTo>
                  <a:pt x="0" y="236"/>
                </a:lnTo>
                <a:lnTo>
                  <a:pt x="3" y="226"/>
                </a:lnTo>
                <a:lnTo>
                  <a:pt x="6" y="214"/>
                </a:lnTo>
                <a:lnTo>
                  <a:pt x="6" y="204"/>
                </a:lnTo>
                <a:lnTo>
                  <a:pt x="8" y="192"/>
                </a:lnTo>
                <a:lnTo>
                  <a:pt x="14" y="192"/>
                </a:lnTo>
                <a:lnTo>
                  <a:pt x="22" y="190"/>
                </a:lnTo>
                <a:lnTo>
                  <a:pt x="28" y="190"/>
                </a:lnTo>
                <a:lnTo>
                  <a:pt x="33" y="188"/>
                </a:lnTo>
                <a:lnTo>
                  <a:pt x="28" y="182"/>
                </a:lnTo>
                <a:lnTo>
                  <a:pt x="25" y="176"/>
                </a:lnTo>
                <a:lnTo>
                  <a:pt x="19" y="170"/>
                </a:lnTo>
                <a:lnTo>
                  <a:pt x="14" y="162"/>
                </a:lnTo>
                <a:lnTo>
                  <a:pt x="14" y="158"/>
                </a:lnTo>
                <a:lnTo>
                  <a:pt x="14" y="152"/>
                </a:lnTo>
                <a:lnTo>
                  <a:pt x="14" y="146"/>
                </a:lnTo>
                <a:lnTo>
                  <a:pt x="14" y="140"/>
                </a:lnTo>
                <a:lnTo>
                  <a:pt x="22" y="136"/>
                </a:lnTo>
                <a:lnTo>
                  <a:pt x="30" y="132"/>
                </a:lnTo>
                <a:lnTo>
                  <a:pt x="36" y="128"/>
                </a:lnTo>
                <a:lnTo>
                  <a:pt x="44" y="126"/>
                </a:lnTo>
                <a:lnTo>
                  <a:pt x="44" y="120"/>
                </a:lnTo>
                <a:lnTo>
                  <a:pt x="44" y="114"/>
                </a:lnTo>
                <a:lnTo>
                  <a:pt x="44" y="110"/>
                </a:lnTo>
                <a:lnTo>
                  <a:pt x="44" y="104"/>
                </a:lnTo>
                <a:lnTo>
                  <a:pt x="39" y="100"/>
                </a:lnTo>
                <a:lnTo>
                  <a:pt x="36" y="96"/>
                </a:lnTo>
                <a:lnTo>
                  <a:pt x="30" y="92"/>
                </a:lnTo>
                <a:lnTo>
                  <a:pt x="25" y="88"/>
                </a:lnTo>
                <a:lnTo>
                  <a:pt x="28" y="76"/>
                </a:lnTo>
                <a:lnTo>
                  <a:pt x="30" y="64"/>
                </a:lnTo>
                <a:lnTo>
                  <a:pt x="30" y="52"/>
                </a:lnTo>
                <a:lnTo>
                  <a:pt x="33" y="40"/>
                </a:lnTo>
                <a:lnTo>
                  <a:pt x="30" y="30"/>
                </a:lnTo>
                <a:lnTo>
                  <a:pt x="30" y="20"/>
                </a:lnTo>
                <a:lnTo>
                  <a:pt x="28" y="10"/>
                </a:lnTo>
                <a:lnTo>
                  <a:pt x="25" y="0"/>
                </a:lnTo>
                <a:close/>
              </a:path>
            </a:pathLst>
          </a:custGeom>
          <a:solidFill>
            <a:srgbClr val="82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4253040" y="3675240"/>
            <a:ext cx="633240" cy="642600"/>
          </a:xfrm>
          <a:custGeom>
            <a:avLst/>
            <a:gdLst/>
            <a:ahLst/>
            <a:rect l="l" t="t" r="r" b="b"/>
            <a:pathLst>
              <a:path w="399" h="405">
                <a:moveTo>
                  <a:pt x="24" y="0"/>
                </a:moveTo>
                <a:lnTo>
                  <a:pt x="71" y="4"/>
                </a:lnTo>
                <a:lnTo>
                  <a:pt x="118" y="8"/>
                </a:lnTo>
                <a:lnTo>
                  <a:pt x="165" y="12"/>
                </a:lnTo>
                <a:lnTo>
                  <a:pt x="212" y="16"/>
                </a:lnTo>
                <a:lnTo>
                  <a:pt x="259" y="22"/>
                </a:lnTo>
                <a:lnTo>
                  <a:pt x="306" y="26"/>
                </a:lnTo>
                <a:lnTo>
                  <a:pt x="353" y="30"/>
                </a:lnTo>
                <a:lnTo>
                  <a:pt x="399" y="34"/>
                </a:lnTo>
                <a:lnTo>
                  <a:pt x="397" y="40"/>
                </a:lnTo>
                <a:lnTo>
                  <a:pt x="391" y="46"/>
                </a:lnTo>
                <a:lnTo>
                  <a:pt x="388" y="54"/>
                </a:lnTo>
                <a:lnTo>
                  <a:pt x="383" y="60"/>
                </a:lnTo>
                <a:lnTo>
                  <a:pt x="380" y="74"/>
                </a:lnTo>
                <a:lnTo>
                  <a:pt x="377" y="88"/>
                </a:lnTo>
                <a:lnTo>
                  <a:pt x="372" y="102"/>
                </a:lnTo>
                <a:lnTo>
                  <a:pt x="369" y="116"/>
                </a:lnTo>
                <a:lnTo>
                  <a:pt x="364" y="118"/>
                </a:lnTo>
                <a:lnTo>
                  <a:pt x="361" y="120"/>
                </a:lnTo>
                <a:lnTo>
                  <a:pt x="355" y="124"/>
                </a:lnTo>
                <a:lnTo>
                  <a:pt x="350" y="126"/>
                </a:lnTo>
                <a:lnTo>
                  <a:pt x="347" y="132"/>
                </a:lnTo>
                <a:lnTo>
                  <a:pt x="347" y="138"/>
                </a:lnTo>
                <a:lnTo>
                  <a:pt x="347" y="144"/>
                </a:lnTo>
                <a:lnTo>
                  <a:pt x="344" y="150"/>
                </a:lnTo>
                <a:lnTo>
                  <a:pt x="350" y="152"/>
                </a:lnTo>
                <a:lnTo>
                  <a:pt x="355" y="152"/>
                </a:lnTo>
                <a:lnTo>
                  <a:pt x="361" y="152"/>
                </a:lnTo>
                <a:lnTo>
                  <a:pt x="366" y="152"/>
                </a:lnTo>
                <a:lnTo>
                  <a:pt x="364" y="162"/>
                </a:lnTo>
                <a:lnTo>
                  <a:pt x="361" y="172"/>
                </a:lnTo>
                <a:lnTo>
                  <a:pt x="358" y="180"/>
                </a:lnTo>
                <a:lnTo>
                  <a:pt x="355" y="190"/>
                </a:lnTo>
                <a:lnTo>
                  <a:pt x="353" y="192"/>
                </a:lnTo>
                <a:lnTo>
                  <a:pt x="347" y="192"/>
                </a:lnTo>
                <a:lnTo>
                  <a:pt x="344" y="194"/>
                </a:lnTo>
                <a:lnTo>
                  <a:pt x="339" y="196"/>
                </a:lnTo>
                <a:lnTo>
                  <a:pt x="342" y="202"/>
                </a:lnTo>
                <a:lnTo>
                  <a:pt x="344" y="208"/>
                </a:lnTo>
                <a:lnTo>
                  <a:pt x="347" y="214"/>
                </a:lnTo>
                <a:lnTo>
                  <a:pt x="350" y="220"/>
                </a:lnTo>
                <a:lnTo>
                  <a:pt x="347" y="228"/>
                </a:lnTo>
                <a:lnTo>
                  <a:pt x="347" y="234"/>
                </a:lnTo>
                <a:lnTo>
                  <a:pt x="347" y="242"/>
                </a:lnTo>
                <a:lnTo>
                  <a:pt x="344" y="248"/>
                </a:lnTo>
                <a:lnTo>
                  <a:pt x="342" y="252"/>
                </a:lnTo>
                <a:lnTo>
                  <a:pt x="339" y="256"/>
                </a:lnTo>
                <a:lnTo>
                  <a:pt x="333" y="260"/>
                </a:lnTo>
                <a:lnTo>
                  <a:pt x="331" y="264"/>
                </a:lnTo>
                <a:lnTo>
                  <a:pt x="333" y="268"/>
                </a:lnTo>
                <a:lnTo>
                  <a:pt x="336" y="274"/>
                </a:lnTo>
                <a:lnTo>
                  <a:pt x="339" y="280"/>
                </a:lnTo>
                <a:lnTo>
                  <a:pt x="342" y="286"/>
                </a:lnTo>
                <a:lnTo>
                  <a:pt x="339" y="292"/>
                </a:lnTo>
                <a:lnTo>
                  <a:pt x="339" y="298"/>
                </a:lnTo>
                <a:lnTo>
                  <a:pt x="336" y="304"/>
                </a:lnTo>
                <a:lnTo>
                  <a:pt x="333" y="310"/>
                </a:lnTo>
                <a:lnTo>
                  <a:pt x="331" y="316"/>
                </a:lnTo>
                <a:lnTo>
                  <a:pt x="328" y="320"/>
                </a:lnTo>
                <a:lnTo>
                  <a:pt x="325" y="326"/>
                </a:lnTo>
                <a:lnTo>
                  <a:pt x="322" y="330"/>
                </a:lnTo>
                <a:lnTo>
                  <a:pt x="320" y="340"/>
                </a:lnTo>
                <a:lnTo>
                  <a:pt x="317" y="349"/>
                </a:lnTo>
                <a:lnTo>
                  <a:pt x="314" y="357"/>
                </a:lnTo>
                <a:lnTo>
                  <a:pt x="311" y="367"/>
                </a:lnTo>
                <a:lnTo>
                  <a:pt x="308" y="373"/>
                </a:lnTo>
                <a:lnTo>
                  <a:pt x="303" y="377"/>
                </a:lnTo>
                <a:lnTo>
                  <a:pt x="300" y="383"/>
                </a:lnTo>
                <a:lnTo>
                  <a:pt x="295" y="389"/>
                </a:lnTo>
                <a:lnTo>
                  <a:pt x="270" y="399"/>
                </a:lnTo>
                <a:lnTo>
                  <a:pt x="234" y="405"/>
                </a:lnTo>
                <a:lnTo>
                  <a:pt x="193" y="405"/>
                </a:lnTo>
                <a:lnTo>
                  <a:pt x="149" y="403"/>
                </a:lnTo>
                <a:lnTo>
                  <a:pt x="102" y="397"/>
                </a:lnTo>
                <a:lnTo>
                  <a:pt x="63" y="389"/>
                </a:lnTo>
                <a:lnTo>
                  <a:pt x="30" y="377"/>
                </a:lnTo>
                <a:lnTo>
                  <a:pt x="8" y="363"/>
                </a:lnTo>
                <a:lnTo>
                  <a:pt x="8" y="345"/>
                </a:lnTo>
                <a:lnTo>
                  <a:pt x="8" y="326"/>
                </a:lnTo>
                <a:lnTo>
                  <a:pt x="8" y="308"/>
                </a:lnTo>
                <a:lnTo>
                  <a:pt x="11" y="290"/>
                </a:lnTo>
                <a:lnTo>
                  <a:pt x="8" y="286"/>
                </a:lnTo>
                <a:lnTo>
                  <a:pt x="5" y="282"/>
                </a:lnTo>
                <a:lnTo>
                  <a:pt x="2" y="280"/>
                </a:lnTo>
                <a:lnTo>
                  <a:pt x="0" y="276"/>
                </a:lnTo>
                <a:lnTo>
                  <a:pt x="0" y="270"/>
                </a:lnTo>
                <a:lnTo>
                  <a:pt x="0" y="264"/>
                </a:lnTo>
                <a:lnTo>
                  <a:pt x="0" y="258"/>
                </a:lnTo>
                <a:lnTo>
                  <a:pt x="2" y="250"/>
                </a:lnTo>
                <a:lnTo>
                  <a:pt x="8" y="246"/>
                </a:lnTo>
                <a:lnTo>
                  <a:pt x="13" y="242"/>
                </a:lnTo>
                <a:lnTo>
                  <a:pt x="19" y="240"/>
                </a:lnTo>
                <a:lnTo>
                  <a:pt x="24" y="236"/>
                </a:lnTo>
                <a:lnTo>
                  <a:pt x="19" y="236"/>
                </a:lnTo>
                <a:lnTo>
                  <a:pt x="13" y="234"/>
                </a:lnTo>
                <a:lnTo>
                  <a:pt x="5" y="234"/>
                </a:lnTo>
                <a:lnTo>
                  <a:pt x="0" y="234"/>
                </a:lnTo>
                <a:lnTo>
                  <a:pt x="0" y="222"/>
                </a:lnTo>
                <a:lnTo>
                  <a:pt x="2" y="212"/>
                </a:lnTo>
                <a:lnTo>
                  <a:pt x="2" y="200"/>
                </a:lnTo>
                <a:lnTo>
                  <a:pt x="5" y="190"/>
                </a:lnTo>
                <a:lnTo>
                  <a:pt x="11" y="188"/>
                </a:lnTo>
                <a:lnTo>
                  <a:pt x="16" y="188"/>
                </a:lnTo>
                <a:lnTo>
                  <a:pt x="22" y="186"/>
                </a:lnTo>
                <a:lnTo>
                  <a:pt x="27" y="186"/>
                </a:lnTo>
                <a:lnTo>
                  <a:pt x="24" y="180"/>
                </a:lnTo>
                <a:lnTo>
                  <a:pt x="22" y="172"/>
                </a:lnTo>
                <a:lnTo>
                  <a:pt x="16" y="166"/>
                </a:lnTo>
                <a:lnTo>
                  <a:pt x="13" y="160"/>
                </a:lnTo>
                <a:lnTo>
                  <a:pt x="13" y="156"/>
                </a:lnTo>
                <a:lnTo>
                  <a:pt x="13" y="150"/>
                </a:lnTo>
                <a:lnTo>
                  <a:pt x="13" y="144"/>
                </a:lnTo>
                <a:lnTo>
                  <a:pt x="13" y="138"/>
                </a:lnTo>
                <a:lnTo>
                  <a:pt x="19" y="134"/>
                </a:lnTo>
                <a:lnTo>
                  <a:pt x="27" y="130"/>
                </a:lnTo>
                <a:lnTo>
                  <a:pt x="33" y="126"/>
                </a:lnTo>
                <a:lnTo>
                  <a:pt x="38" y="122"/>
                </a:lnTo>
                <a:lnTo>
                  <a:pt x="38" y="118"/>
                </a:lnTo>
                <a:lnTo>
                  <a:pt x="41" y="112"/>
                </a:lnTo>
                <a:lnTo>
                  <a:pt x="41" y="108"/>
                </a:lnTo>
                <a:lnTo>
                  <a:pt x="41" y="102"/>
                </a:lnTo>
                <a:lnTo>
                  <a:pt x="36" y="98"/>
                </a:lnTo>
                <a:lnTo>
                  <a:pt x="33" y="94"/>
                </a:lnTo>
                <a:lnTo>
                  <a:pt x="27" y="90"/>
                </a:lnTo>
                <a:lnTo>
                  <a:pt x="22" y="86"/>
                </a:lnTo>
                <a:lnTo>
                  <a:pt x="24" y="74"/>
                </a:lnTo>
                <a:lnTo>
                  <a:pt x="27" y="62"/>
                </a:lnTo>
                <a:lnTo>
                  <a:pt x="27" y="50"/>
                </a:lnTo>
                <a:lnTo>
                  <a:pt x="30" y="38"/>
                </a:lnTo>
                <a:lnTo>
                  <a:pt x="30" y="28"/>
                </a:lnTo>
                <a:lnTo>
                  <a:pt x="27" y="18"/>
                </a:lnTo>
                <a:lnTo>
                  <a:pt x="27" y="10"/>
                </a:lnTo>
                <a:lnTo>
                  <a:pt x="24" y="0"/>
                </a:lnTo>
                <a:close/>
              </a:path>
            </a:pathLst>
          </a:custGeom>
          <a:solidFill>
            <a:srgbClr val="898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290840" y="3681360"/>
            <a:ext cx="547920" cy="636480"/>
          </a:xfrm>
          <a:custGeom>
            <a:avLst/>
            <a:gdLst/>
            <a:ahLst/>
            <a:rect l="l" t="t" r="r" b="b"/>
            <a:pathLst>
              <a:path w="345" h="401">
                <a:moveTo>
                  <a:pt x="28" y="0"/>
                </a:moveTo>
                <a:lnTo>
                  <a:pt x="69" y="4"/>
                </a:lnTo>
                <a:lnTo>
                  <a:pt x="108" y="8"/>
                </a:lnTo>
                <a:lnTo>
                  <a:pt x="149" y="12"/>
                </a:lnTo>
                <a:lnTo>
                  <a:pt x="188" y="14"/>
                </a:lnTo>
                <a:lnTo>
                  <a:pt x="227" y="18"/>
                </a:lnTo>
                <a:lnTo>
                  <a:pt x="265" y="22"/>
                </a:lnTo>
                <a:lnTo>
                  <a:pt x="307" y="26"/>
                </a:lnTo>
                <a:lnTo>
                  <a:pt x="345" y="30"/>
                </a:lnTo>
                <a:lnTo>
                  <a:pt x="342" y="36"/>
                </a:lnTo>
                <a:lnTo>
                  <a:pt x="340" y="42"/>
                </a:lnTo>
                <a:lnTo>
                  <a:pt x="334" y="50"/>
                </a:lnTo>
                <a:lnTo>
                  <a:pt x="331" y="56"/>
                </a:lnTo>
                <a:lnTo>
                  <a:pt x="329" y="70"/>
                </a:lnTo>
                <a:lnTo>
                  <a:pt x="326" y="82"/>
                </a:lnTo>
                <a:lnTo>
                  <a:pt x="323" y="96"/>
                </a:lnTo>
                <a:lnTo>
                  <a:pt x="320" y="110"/>
                </a:lnTo>
                <a:lnTo>
                  <a:pt x="315" y="112"/>
                </a:lnTo>
                <a:lnTo>
                  <a:pt x="309" y="116"/>
                </a:lnTo>
                <a:lnTo>
                  <a:pt x="307" y="118"/>
                </a:lnTo>
                <a:lnTo>
                  <a:pt x="301" y="122"/>
                </a:lnTo>
                <a:lnTo>
                  <a:pt x="298" y="128"/>
                </a:lnTo>
                <a:lnTo>
                  <a:pt x="298" y="134"/>
                </a:lnTo>
                <a:lnTo>
                  <a:pt x="298" y="140"/>
                </a:lnTo>
                <a:lnTo>
                  <a:pt x="298" y="146"/>
                </a:lnTo>
                <a:lnTo>
                  <a:pt x="304" y="146"/>
                </a:lnTo>
                <a:lnTo>
                  <a:pt x="307" y="146"/>
                </a:lnTo>
                <a:lnTo>
                  <a:pt x="312" y="148"/>
                </a:lnTo>
                <a:lnTo>
                  <a:pt x="315" y="148"/>
                </a:lnTo>
                <a:lnTo>
                  <a:pt x="312" y="158"/>
                </a:lnTo>
                <a:lnTo>
                  <a:pt x="312" y="166"/>
                </a:lnTo>
                <a:lnTo>
                  <a:pt x="309" y="176"/>
                </a:lnTo>
                <a:lnTo>
                  <a:pt x="307" y="186"/>
                </a:lnTo>
                <a:lnTo>
                  <a:pt x="304" y="188"/>
                </a:lnTo>
                <a:lnTo>
                  <a:pt x="298" y="188"/>
                </a:lnTo>
                <a:lnTo>
                  <a:pt x="296" y="190"/>
                </a:lnTo>
                <a:lnTo>
                  <a:pt x="293" y="192"/>
                </a:lnTo>
                <a:lnTo>
                  <a:pt x="296" y="198"/>
                </a:lnTo>
                <a:lnTo>
                  <a:pt x="296" y="204"/>
                </a:lnTo>
                <a:lnTo>
                  <a:pt x="296" y="210"/>
                </a:lnTo>
                <a:lnTo>
                  <a:pt x="298" y="216"/>
                </a:lnTo>
                <a:lnTo>
                  <a:pt x="298" y="222"/>
                </a:lnTo>
                <a:lnTo>
                  <a:pt x="298" y="230"/>
                </a:lnTo>
                <a:lnTo>
                  <a:pt x="296" y="236"/>
                </a:lnTo>
                <a:lnTo>
                  <a:pt x="296" y="244"/>
                </a:lnTo>
                <a:lnTo>
                  <a:pt x="293" y="248"/>
                </a:lnTo>
                <a:lnTo>
                  <a:pt x="290" y="250"/>
                </a:lnTo>
                <a:lnTo>
                  <a:pt x="284" y="254"/>
                </a:lnTo>
                <a:lnTo>
                  <a:pt x="282" y="258"/>
                </a:lnTo>
                <a:lnTo>
                  <a:pt x="284" y="264"/>
                </a:lnTo>
                <a:lnTo>
                  <a:pt x="287" y="268"/>
                </a:lnTo>
                <a:lnTo>
                  <a:pt x="287" y="274"/>
                </a:lnTo>
                <a:lnTo>
                  <a:pt x="290" y="280"/>
                </a:lnTo>
                <a:lnTo>
                  <a:pt x="290" y="286"/>
                </a:lnTo>
                <a:lnTo>
                  <a:pt x="287" y="292"/>
                </a:lnTo>
                <a:lnTo>
                  <a:pt x="287" y="298"/>
                </a:lnTo>
                <a:lnTo>
                  <a:pt x="284" y="304"/>
                </a:lnTo>
                <a:lnTo>
                  <a:pt x="282" y="310"/>
                </a:lnTo>
                <a:lnTo>
                  <a:pt x="279" y="314"/>
                </a:lnTo>
                <a:lnTo>
                  <a:pt x="276" y="320"/>
                </a:lnTo>
                <a:lnTo>
                  <a:pt x="273" y="324"/>
                </a:lnTo>
                <a:lnTo>
                  <a:pt x="271" y="334"/>
                </a:lnTo>
                <a:lnTo>
                  <a:pt x="271" y="343"/>
                </a:lnTo>
                <a:lnTo>
                  <a:pt x="268" y="351"/>
                </a:lnTo>
                <a:lnTo>
                  <a:pt x="265" y="361"/>
                </a:lnTo>
                <a:lnTo>
                  <a:pt x="262" y="367"/>
                </a:lnTo>
                <a:lnTo>
                  <a:pt x="257" y="371"/>
                </a:lnTo>
                <a:lnTo>
                  <a:pt x="254" y="377"/>
                </a:lnTo>
                <a:lnTo>
                  <a:pt x="249" y="383"/>
                </a:lnTo>
                <a:lnTo>
                  <a:pt x="227" y="393"/>
                </a:lnTo>
                <a:lnTo>
                  <a:pt x="196" y="399"/>
                </a:lnTo>
                <a:lnTo>
                  <a:pt x="160" y="401"/>
                </a:lnTo>
                <a:lnTo>
                  <a:pt x="122" y="399"/>
                </a:lnTo>
                <a:lnTo>
                  <a:pt x="86" y="395"/>
                </a:lnTo>
                <a:lnTo>
                  <a:pt x="50" y="387"/>
                </a:lnTo>
                <a:lnTo>
                  <a:pt x="23" y="375"/>
                </a:lnTo>
                <a:lnTo>
                  <a:pt x="3" y="361"/>
                </a:lnTo>
                <a:lnTo>
                  <a:pt x="3" y="343"/>
                </a:lnTo>
                <a:lnTo>
                  <a:pt x="6" y="324"/>
                </a:lnTo>
                <a:lnTo>
                  <a:pt x="9" y="306"/>
                </a:lnTo>
                <a:lnTo>
                  <a:pt x="12" y="286"/>
                </a:lnTo>
                <a:lnTo>
                  <a:pt x="9" y="284"/>
                </a:lnTo>
                <a:lnTo>
                  <a:pt x="6" y="282"/>
                </a:lnTo>
                <a:lnTo>
                  <a:pt x="3" y="278"/>
                </a:lnTo>
                <a:lnTo>
                  <a:pt x="0" y="276"/>
                </a:lnTo>
                <a:lnTo>
                  <a:pt x="0" y="268"/>
                </a:lnTo>
                <a:lnTo>
                  <a:pt x="3" y="262"/>
                </a:lnTo>
                <a:lnTo>
                  <a:pt x="3" y="256"/>
                </a:lnTo>
                <a:lnTo>
                  <a:pt x="3" y="250"/>
                </a:lnTo>
                <a:lnTo>
                  <a:pt x="9" y="246"/>
                </a:lnTo>
                <a:lnTo>
                  <a:pt x="14" y="242"/>
                </a:lnTo>
                <a:lnTo>
                  <a:pt x="17" y="238"/>
                </a:lnTo>
                <a:lnTo>
                  <a:pt x="23" y="234"/>
                </a:lnTo>
                <a:lnTo>
                  <a:pt x="17" y="234"/>
                </a:lnTo>
                <a:lnTo>
                  <a:pt x="12" y="234"/>
                </a:lnTo>
                <a:lnTo>
                  <a:pt x="6" y="234"/>
                </a:lnTo>
                <a:lnTo>
                  <a:pt x="0" y="232"/>
                </a:lnTo>
                <a:lnTo>
                  <a:pt x="3" y="222"/>
                </a:lnTo>
                <a:lnTo>
                  <a:pt x="6" y="210"/>
                </a:lnTo>
                <a:lnTo>
                  <a:pt x="6" y="198"/>
                </a:lnTo>
                <a:lnTo>
                  <a:pt x="9" y="188"/>
                </a:lnTo>
                <a:lnTo>
                  <a:pt x="14" y="188"/>
                </a:lnTo>
                <a:lnTo>
                  <a:pt x="17" y="186"/>
                </a:lnTo>
                <a:lnTo>
                  <a:pt x="23" y="186"/>
                </a:lnTo>
                <a:lnTo>
                  <a:pt x="28" y="184"/>
                </a:lnTo>
                <a:lnTo>
                  <a:pt x="25" y="178"/>
                </a:lnTo>
                <a:lnTo>
                  <a:pt x="23" y="172"/>
                </a:lnTo>
                <a:lnTo>
                  <a:pt x="17" y="166"/>
                </a:lnTo>
                <a:lnTo>
                  <a:pt x="14" y="160"/>
                </a:lnTo>
                <a:lnTo>
                  <a:pt x="14" y="156"/>
                </a:lnTo>
                <a:lnTo>
                  <a:pt x="14" y="150"/>
                </a:lnTo>
                <a:lnTo>
                  <a:pt x="14" y="144"/>
                </a:lnTo>
                <a:lnTo>
                  <a:pt x="17" y="138"/>
                </a:lnTo>
                <a:lnTo>
                  <a:pt x="23" y="134"/>
                </a:lnTo>
                <a:lnTo>
                  <a:pt x="28" y="130"/>
                </a:lnTo>
                <a:lnTo>
                  <a:pt x="31" y="126"/>
                </a:lnTo>
                <a:lnTo>
                  <a:pt x="36" y="122"/>
                </a:lnTo>
                <a:lnTo>
                  <a:pt x="39" y="118"/>
                </a:lnTo>
                <a:lnTo>
                  <a:pt x="39" y="112"/>
                </a:lnTo>
                <a:lnTo>
                  <a:pt x="39" y="108"/>
                </a:lnTo>
                <a:lnTo>
                  <a:pt x="39" y="102"/>
                </a:lnTo>
                <a:lnTo>
                  <a:pt x="36" y="98"/>
                </a:lnTo>
                <a:lnTo>
                  <a:pt x="34" y="94"/>
                </a:lnTo>
                <a:lnTo>
                  <a:pt x="28" y="92"/>
                </a:lnTo>
                <a:lnTo>
                  <a:pt x="25" y="88"/>
                </a:lnTo>
                <a:lnTo>
                  <a:pt x="28" y="76"/>
                </a:lnTo>
                <a:lnTo>
                  <a:pt x="31" y="62"/>
                </a:lnTo>
                <a:lnTo>
                  <a:pt x="31" y="50"/>
                </a:lnTo>
                <a:lnTo>
                  <a:pt x="34" y="36"/>
                </a:lnTo>
                <a:lnTo>
                  <a:pt x="31" y="28"/>
                </a:lnTo>
                <a:lnTo>
                  <a:pt x="31" y="20"/>
                </a:lnTo>
                <a:lnTo>
                  <a:pt x="31" y="10"/>
                </a:lnTo>
                <a:lnTo>
                  <a:pt x="28" y="0"/>
                </a:lnTo>
                <a:close/>
              </a:path>
            </a:pathLst>
          </a:custGeom>
          <a:solidFill>
            <a:srgbClr val="9393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4327560" y="3691080"/>
            <a:ext cx="468360" cy="626760"/>
          </a:xfrm>
          <a:custGeom>
            <a:avLst/>
            <a:gdLst/>
            <a:ahLst/>
            <a:rect l="l" t="t" r="r" b="b"/>
            <a:pathLst>
              <a:path w="295" h="395">
                <a:moveTo>
                  <a:pt x="35" y="0"/>
                </a:moveTo>
                <a:lnTo>
                  <a:pt x="68" y="2"/>
                </a:lnTo>
                <a:lnTo>
                  <a:pt x="99" y="6"/>
                </a:lnTo>
                <a:lnTo>
                  <a:pt x="132" y="8"/>
                </a:lnTo>
                <a:lnTo>
                  <a:pt x="165" y="12"/>
                </a:lnTo>
                <a:lnTo>
                  <a:pt x="198" y="14"/>
                </a:lnTo>
                <a:lnTo>
                  <a:pt x="231" y="18"/>
                </a:lnTo>
                <a:lnTo>
                  <a:pt x="261" y="20"/>
                </a:lnTo>
                <a:lnTo>
                  <a:pt x="295" y="24"/>
                </a:lnTo>
                <a:lnTo>
                  <a:pt x="292" y="30"/>
                </a:lnTo>
                <a:lnTo>
                  <a:pt x="289" y="36"/>
                </a:lnTo>
                <a:lnTo>
                  <a:pt x="284" y="44"/>
                </a:lnTo>
                <a:lnTo>
                  <a:pt x="281" y="50"/>
                </a:lnTo>
                <a:lnTo>
                  <a:pt x="278" y="64"/>
                </a:lnTo>
                <a:lnTo>
                  <a:pt x="275" y="76"/>
                </a:lnTo>
                <a:lnTo>
                  <a:pt x="273" y="90"/>
                </a:lnTo>
                <a:lnTo>
                  <a:pt x="270" y="104"/>
                </a:lnTo>
                <a:lnTo>
                  <a:pt x="267" y="106"/>
                </a:lnTo>
                <a:lnTo>
                  <a:pt x="261" y="110"/>
                </a:lnTo>
                <a:lnTo>
                  <a:pt x="259" y="112"/>
                </a:lnTo>
                <a:lnTo>
                  <a:pt x="253" y="116"/>
                </a:lnTo>
                <a:lnTo>
                  <a:pt x="253" y="122"/>
                </a:lnTo>
                <a:lnTo>
                  <a:pt x="253" y="128"/>
                </a:lnTo>
                <a:lnTo>
                  <a:pt x="250" y="134"/>
                </a:lnTo>
                <a:lnTo>
                  <a:pt x="250" y="140"/>
                </a:lnTo>
                <a:lnTo>
                  <a:pt x="253" y="140"/>
                </a:lnTo>
                <a:lnTo>
                  <a:pt x="259" y="140"/>
                </a:lnTo>
                <a:lnTo>
                  <a:pt x="261" y="140"/>
                </a:lnTo>
                <a:lnTo>
                  <a:pt x="264" y="140"/>
                </a:lnTo>
                <a:lnTo>
                  <a:pt x="261" y="150"/>
                </a:lnTo>
                <a:lnTo>
                  <a:pt x="261" y="160"/>
                </a:lnTo>
                <a:lnTo>
                  <a:pt x="259" y="168"/>
                </a:lnTo>
                <a:lnTo>
                  <a:pt x="256" y="178"/>
                </a:lnTo>
                <a:lnTo>
                  <a:pt x="253" y="180"/>
                </a:lnTo>
                <a:lnTo>
                  <a:pt x="250" y="182"/>
                </a:lnTo>
                <a:lnTo>
                  <a:pt x="248" y="184"/>
                </a:lnTo>
                <a:lnTo>
                  <a:pt x="245" y="186"/>
                </a:lnTo>
                <a:lnTo>
                  <a:pt x="248" y="190"/>
                </a:lnTo>
                <a:lnTo>
                  <a:pt x="248" y="196"/>
                </a:lnTo>
                <a:lnTo>
                  <a:pt x="248" y="202"/>
                </a:lnTo>
                <a:lnTo>
                  <a:pt x="250" y="208"/>
                </a:lnTo>
                <a:lnTo>
                  <a:pt x="248" y="216"/>
                </a:lnTo>
                <a:lnTo>
                  <a:pt x="248" y="222"/>
                </a:lnTo>
                <a:lnTo>
                  <a:pt x="248" y="228"/>
                </a:lnTo>
                <a:lnTo>
                  <a:pt x="245" y="236"/>
                </a:lnTo>
                <a:lnTo>
                  <a:pt x="242" y="240"/>
                </a:lnTo>
                <a:lnTo>
                  <a:pt x="239" y="242"/>
                </a:lnTo>
                <a:lnTo>
                  <a:pt x="237" y="246"/>
                </a:lnTo>
                <a:lnTo>
                  <a:pt x="234" y="250"/>
                </a:lnTo>
                <a:lnTo>
                  <a:pt x="237" y="256"/>
                </a:lnTo>
                <a:lnTo>
                  <a:pt x="239" y="262"/>
                </a:lnTo>
                <a:lnTo>
                  <a:pt x="239" y="268"/>
                </a:lnTo>
                <a:lnTo>
                  <a:pt x="242" y="272"/>
                </a:lnTo>
                <a:lnTo>
                  <a:pt x="239" y="278"/>
                </a:lnTo>
                <a:lnTo>
                  <a:pt x="239" y="284"/>
                </a:lnTo>
                <a:lnTo>
                  <a:pt x="237" y="290"/>
                </a:lnTo>
                <a:lnTo>
                  <a:pt x="234" y="298"/>
                </a:lnTo>
                <a:lnTo>
                  <a:pt x="231" y="302"/>
                </a:lnTo>
                <a:lnTo>
                  <a:pt x="231" y="308"/>
                </a:lnTo>
                <a:lnTo>
                  <a:pt x="228" y="312"/>
                </a:lnTo>
                <a:lnTo>
                  <a:pt x="226" y="318"/>
                </a:lnTo>
                <a:lnTo>
                  <a:pt x="223" y="328"/>
                </a:lnTo>
                <a:lnTo>
                  <a:pt x="223" y="335"/>
                </a:lnTo>
                <a:lnTo>
                  <a:pt x="220" y="345"/>
                </a:lnTo>
                <a:lnTo>
                  <a:pt x="217" y="355"/>
                </a:lnTo>
                <a:lnTo>
                  <a:pt x="215" y="359"/>
                </a:lnTo>
                <a:lnTo>
                  <a:pt x="212" y="365"/>
                </a:lnTo>
                <a:lnTo>
                  <a:pt x="209" y="371"/>
                </a:lnTo>
                <a:lnTo>
                  <a:pt x="206" y="377"/>
                </a:lnTo>
                <a:lnTo>
                  <a:pt x="187" y="387"/>
                </a:lnTo>
                <a:lnTo>
                  <a:pt x="162" y="393"/>
                </a:lnTo>
                <a:lnTo>
                  <a:pt x="132" y="395"/>
                </a:lnTo>
                <a:lnTo>
                  <a:pt x="99" y="393"/>
                </a:lnTo>
                <a:lnTo>
                  <a:pt x="66" y="389"/>
                </a:lnTo>
                <a:lnTo>
                  <a:pt x="38" y="381"/>
                </a:lnTo>
                <a:lnTo>
                  <a:pt x="16" y="371"/>
                </a:lnTo>
                <a:lnTo>
                  <a:pt x="0" y="357"/>
                </a:lnTo>
                <a:lnTo>
                  <a:pt x="2" y="339"/>
                </a:lnTo>
                <a:lnTo>
                  <a:pt x="5" y="322"/>
                </a:lnTo>
                <a:lnTo>
                  <a:pt x="8" y="302"/>
                </a:lnTo>
                <a:lnTo>
                  <a:pt x="11" y="282"/>
                </a:lnTo>
                <a:lnTo>
                  <a:pt x="8" y="280"/>
                </a:lnTo>
                <a:lnTo>
                  <a:pt x="8" y="278"/>
                </a:lnTo>
                <a:lnTo>
                  <a:pt x="5" y="274"/>
                </a:lnTo>
                <a:lnTo>
                  <a:pt x="2" y="272"/>
                </a:lnTo>
                <a:lnTo>
                  <a:pt x="5" y="266"/>
                </a:lnTo>
                <a:lnTo>
                  <a:pt x="5" y="260"/>
                </a:lnTo>
                <a:lnTo>
                  <a:pt x="5" y="254"/>
                </a:lnTo>
                <a:lnTo>
                  <a:pt x="5" y="248"/>
                </a:lnTo>
                <a:lnTo>
                  <a:pt x="11" y="244"/>
                </a:lnTo>
                <a:lnTo>
                  <a:pt x="13" y="240"/>
                </a:lnTo>
                <a:lnTo>
                  <a:pt x="19" y="236"/>
                </a:lnTo>
                <a:lnTo>
                  <a:pt x="22" y="232"/>
                </a:lnTo>
                <a:lnTo>
                  <a:pt x="19" y="232"/>
                </a:lnTo>
                <a:lnTo>
                  <a:pt x="13" y="230"/>
                </a:lnTo>
                <a:lnTo>
                  <a:pt x="11" y="230"/>
                </a:lnTo>
                <a:lnTo>
                  <a:pt x="5" y="230"/>
                </a:lnTo>
                <a:lnTo>
                  <a:pt x="8" y="220"/>
                </a:lnTo>
                <a:lnTo>
                  <a:pt x="8" y="208"/>
                </a:lnTo>
                <a:lnTo>
                  <a:pt x="8" y="196"/>
                </a:lnTo>
                <a:lnTo>
                  <a:pt x="11" y="186"/>
                </a:lnTo>
                <a:lnTo>
                  <a:pt x="16" y="184"/>
                </a:lnTo>
                <a:lnTo>
                  <a:pt x="19" y="184"/>
                </a:lnTo>
                <a:lnTo>
                  <a:pt x="24" y="184"/>
                </a:lnTo>
                <a:lnTo>
                  <a:pt x="27" y="182"/>
                </a:lnTo>
                <a:lnTo>
                  <a:pt x="24" y="176"/>
                </a:lnTo>
                <a:lnTo>
                  <a:pt x="24" y="170"/>
                </a:lnTo>
                <a:lnTo>
                  <a:pt x="22" y="164"/>
                </a:lnTo>
                <a:lnTo>
                  <a:pt x="19" y="158"/>
                </a:lnTo>
                <a:lnTo>
                  <a:pt x="19" y="152"/>
                </a:lnTo>
                <a:lnTo>
                  <a:pt x="19" y="146"/>
                </a:lnTo>
                <a:lnTo>
                  <a:pt x="19" y="142"/>
                </a:lnTo>
                <a:lnTo>
                  <a:pt x="19" y="136"/>
                </a:lnTo>
                <a:lnTo>
                  <a:pt x="24" y="132"/>
                </a:lnTo>
                <a:lnTo>
                  <a:pt x="30" y="128"/>
                </a:lnTo>
                <a:lnTo>
                  <a:pt x="33" y="124"/>
                </a:lnTo>
                <a:lnTo>
                  <a:pt x="38" y="118"/>
                </a:lnTo>
                <a:lnTo>
                  <a:pt x="38" y="114"/>
                </a:lnTo>
                <a:lnTo>
                  <a:pt x="38" y="108"/>
                </a:lnTo>
                <a:lnTo>
                  <a:pt x="38" y="104"/>
                </a:lnTo>
                <a:lnTo>
                  <a:pt x="41" y="100"/>
                </a:lnTo>
                <a:lnTo>
                  <a:pt x="38" y="96"/>
                </a:lnTo>
                <a:lnTo>
                  <a:pt x="35" y="92"/>
                </a:lnTo>
                <a:lnTo>
                  <a:pt x="30" y="90"/>
                </a:lnTo>
                <a:lnTo>
                  <a:pt x="27" y="86"/>
                </a:lnTo>
                <a:lnTo>
                  <a:pt x="30" y="74"/>
                </a:lnTo>
                <a:lnTo>
                  <a:pt x="33" y="62"/>
                </a:lnTo>
                <a:lnTo>
                  <a:pt x="35" y="50"/>
                </a:lnTo>
                <a:lnTo>
                  <a:pt x="38" y="38"/>
                </a:lnTo>
                <a:lnTo>
                  <a:pt x="35" y="28"/>
                </a:lnTo>
                <a:lnTo>
                  <a:pt x="35" y="18"/>
                </a:lnTo>
                <a:lnTo>
                  <a:pt x="35" y="10"/>
                </a:lnTo>
                <a:lnTo>
                  <a:pt x="35" y="0"/>
                </a:lnTo>
                <a:close/>
              </a:path>
            </a:pathLst>
          </a:custGeom>
          <a:solidFill>
            <a:srgbClr val="9e9b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4362480" y="3697200"/>
            <a:ext cx="384120" cy="620640"/>
          </a:xfrm>
          <a:custGeom>
            <a:avLst/>
            <a:gdLst/>
            <a:ahLst/>
            <a:rect l="l" t="t" r="r" b="b"/>
            <a:pathLst>
              <a:path w="242" h="391">
                <a:moveTo>
                  <a:pt x="41" y="0"/>
                </a:moveTo>
                <a:lnTo>
                  <a:pt x="242" y="20"/>
                </a:lnTo>
                <a:lnTo>
                  <a:pt x="231" y="46"/>
                </a:lnTo>
                <a:lnTo>
                  <a:pt x="220" y="100"/>
                </a:lnTo>
                <a:lnTo>
                  <a:pt x="209" y="112"/>
                </a:lnTo>
                <a:lnTo>
                  <a:pt x="204" y="134"/>
                </a:lnTo>
                <a:lnTo>
                  <a:pt x="215" y="136"/>
                </a:lnTo>
                <a:lnTo>
                  <a:pt x="209" y="174"/>
                </a:lnTo>
                <a:lnTo>
                  <a:pt x="198" y="180"/>
                </a:lnTo>
                <a:lnTo>
                  <a:pt x="201" y="204"/>
                </a:lnTo>
                <a:lnTo>
                  <a:pt x="198" y="230"/>
                </a:lnTo>
                <a:lnTo>
                  <a:pt x="187" y="246"/>
                </a:lnTo>
                <a:lnTo>
                  <a:pt x="193" y="266"/>
                </a:lnTo>
                <a:lnTo>
                  <a:pt x="187" y="292"/>
                </a:lnTo>
                <a:lnTo>
                  <a:pt x="179" y="312"/>
                </a:lnTo>
                <a:lnTo>
                  <a:pt x="173" y="349"/>
                </a:lnTo>
                <a:lnTo>
                  <a:pt x="162" y="371"/>
                </a:lnTo>
                <a:lnTo>
                  <a:pt x="148" y="381"/>
                </a:lnTo>
                <a:lnTo>
                  <a:pt x="126" y="389"/>
                </a:lnTo>
                <a:lnTo>
                  <a:pt x="102" y="391"/>
                </a:lnTo>
                <a:lnTo>
                  <a:pt x="77" y="391"/>
                </a:lnTo>
                <a:lnTo>
                  <a:pt x="52" y="387"/>
                </a:lnTo>
                <a:lnTo>
                  <a:pt x="30" y="379"/>
                </a:lnTo>
                <a:lnTo>
                  <a:pt x="11" y="369"/>
                </a:lnTo>
                <a:lnTo>
                  <a:pt x="0" y="357"/>
                </a:lnTo>
                <a:lnTo>
                  <a:pt x="11" y="284"/>
                </a:lnTo>
                <a:lnTo>
                  <a:pt x="5" y="272"/>
                </a:lnTo>
                <a:lnTo>
                  <a:pt x="8" y="246"/>
                </a:lnTo>
                <a:lnTo>
                  <a:pt x="22" y="232"/>
                </a:lnTo>
                <a:lnTo>
                  <a:pt x="8" y="230"/>
                </a:lnTo>
                <a:lnTo>
                  <a:pt x="16" y="184"/>
                </a:lnTo>
                <a:lnTo>
                  <a:pt x="27" y="182"/>
                </a:lnTo>
                <a:lnTo>
                  <a:pt x="22" y="158"/>
                </a:lnTo>
                <a:lnTo>
                  <a:pt x="24" y="136"/>
                </a:lnTo>
                <a:lnTo>
                  <a:pt x="38" y="120"/>
                </a:lnTo>
                <a:lnTo>
                  <a:pt x="41" y="100"/>
                </a:lnTo>
                <a:lnTo>
                  <a:pt x="33" y="86"/>
                </a:lnTo>
                <a:lnTo>
                  <a:pt x="41" y="38"/>
                </a:lnTo>
                <a:lnTo>
                  <a:pt x="41" y="0"/>
                </a:lnTo>
                <a:close/>
              </a:path>
            </a:pathLst>
          </a:custGeom>
          <a:solidFill>
            <a:srgbClr val="a8a5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3946680" y="3878280"/>
            <a:ext cx="1190520" cy="120600"/>
          </a:xfrm>
          <a:custGeom>
            <a:avLst/>
            <a:gdLst/>
            <a:ahLst/>
            <a:rect l="l" t="t" r="r" b="b"/>
            <a:pathLst>
              <a:path w="750" h="76">
                <a:moveTo>
                  <a:pt x="0" y="0"/>
                </a:moveTo>
                <a:lnTo>
                  <a:pt x="47" y="6"/>
                </a:lnTo>
                <a:lnTo>
                  <a:pt x="93" y="12"/>
                </a:lnTo>
                <a:lnTo>
                  <a:pt x="140" y="18"/>
                </a:lnTo>
                <a:lnTo>
                  <a:pt x="187" y="22"/>
                </a:lnTo>
                <a:lnTo>
                  <a:pt x="234" y="28"/>
                </a:lnTo>
                <a:lnTo>
                  <a:pt x="281" y="32"/>
                </a:lnTo>
                <a:lnTo>
                  <a:pt x="328" y="36"/>
                </a:lnTo>
                <a:lnTo>
                  <a:pt x="375" y="40"/>
                </a:lnTo>
                <a:lnTo>
                  <a:pt x="422" y="44"/>
                </a:lnTo>
                <a:lnTo>
                  <a:pt x="468" y="48"/>
                </a:lnTo>
                <a:lnTo>
                  <a:pt x="515" y="52"/>
                </a:lnTo>
                <a:lnTo>
                  <a:pt x="562" y="54"/>
                </a:lnTo>
                <a:lnTo>
                  <a:pt x="609" y="58"/>
                </a:lnTo>
                <a:lnTo>
                  <a:pt x="656" y="60"/>
                </a:lnTo>
                <a:lnTo>
                  <a:pt x="703" y="62"/>
                </a:lnTo>
                <a:lnTo>
                  <a:pt x="750" y="64"/>
                </a:lnTo>
                <a:lnTo>
                  <a:pt x="714" y="70"/>
                </a:lnTo>
                <a:lnTo>
                  <a:pt x="672" y="74"/>
                </a:lnTo>
                <a:lnTo>
                  <a:pt x="631" y="76"/>
                </a:lnTo>
                <a:lnTo>
                  <a:pt x="587" y="76"/>
                </a:lnTo>
                <a:lnTo>
                  <a:pt x="540" y="74"/>
                </a:lnTo>
                <a:lnTo>
                  <a:pt x="493" y="72"/>
                </a:lnTo>
                <a:lnTo>
                  <a:pt x="446" y="70"/>
                </a:lnTo>
                <a:lnTo>
                  <a:pt x="397" y="66"/>
                </a:lnTo>
                <a:lnTo>
                  <a:pt x="350" y="62"/>
                </a:lnTo>
                <a:lnTo>
                  <a:pt x="300" y="58"/>
                </a:lnTo>
                <a:lnTo>
                  <a:pt x="251" y="52"/>
                </a:lnTo>
                <a:lnTo>
                  <a:pt x="204" y="48"/>
                </a:lnTo>
                <a:lnTo>
                  <a:pt x="160" y="42"/>
                </a:lnTo>
                <a:lnTo>
                  <a:pt x="115" y="38"/>
                </a:lnTo>
                <a:lnTo>
                  <a:pt x="71" y="34"/>
                </a:lnTo>
                <a:lnTo>
                  <a:pt x="33" y="30"/>
                </a:lnTo>
                <a:lnTo>
                  <a:pt x="0" y="0"/>
                </a:lnTo>
                <a:close/>
              </a:path>
            </a:pathLst>
          </a:custGeom>
          <a:solidFill>
            <a:srgbClr val="514f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3963960" y="4008600"/>
            <a:ext cx="1155600" cy="98280"/>
          </a:xfrm>
          <a:custGeom>
            <a:avLst/>
            <a:gdLst/>
            <a:ahLst/>
            <a:rect l="l" t="t" r="r" b="b"/>
            <a:pathLst>
              <a:path w="728" h="62">
                <a:moveTo>
                  <a:pt x="0" y="0"/>
                </a:moveTo>
                <a:lnTo>
                  <a:pt x="47" y="4"/>
                </a:lnTo>
                <a:lnTo>
                  <a:pt x="91" y="10"/>
                </a:lnTo>
                <a:lnTo>
                  <a:pt x="138" y="14"/>
                </a:lnTo>
                <a:lnTo>
                  <a:pt x="182" y="18"/>
                </a:lnTo>
                <a:lnTo>
                  <a:pt x="229" y="22"/>
                </a:lnTo>
                <a:lnTo>
                  <a:pt x="273" y="26"/>
                </a:lnTo>
                <a:lnTo>
                  <a:pt x="320" y="30"/>
                </a:lnTo>
                <a:lnTo>
                  <a:pt x="364" y="34"/>
                </a:lnTo>
                <a:lnTo>
                  <a:pt x="408" y="36"/>
                </a:lnTo>
                <a:lnTo>
                  <a:pt x="455" y="40"/>
                </a:lnTo>
                <a:lnTo>
                  <a:pt x="499" y="42"/>
                </a:lnTo>
                <a:lnTo>
                  <a:pt x="546" y="44"/>
                </a:lnTo>
                <a:lnTo>
                  <a:pt x="590" y="44"/>
                </a:lnTo>
                <a:lnTo>
                  <a:pt x="637" y="44"/>
                </a:lnTo>
                <a:lnTo>
                  <a:pt x="681" y="44"/>
                </a:lnTo>
                <a:lnTo>
                  <a:pt x="728" y="44"/>
                </a:lnTo>
                <a:lnTo>
                  <a:pt x="689" y="52"/>
                </a:lnTo>
                <a:lnTo>
                  <a:pt x="650" y="58"/>
                </a:lnTo>
                <a:lnTo>
                  <a:pt x="606" y="60"/>
                </a:lnTo>
                <a:lnTo>
                  <a:pt x="562" y="62"/>
                </a:lnTo>
                <a:lnTo>
                  <a:pt x="518" y="62"/>
                </a:lnTo>
                <a:lnTo>
                  <a:pt x="471" y="62"/>
                </a:lnTo>
                <a:lnTo>
                  <a:pt x="424" y="60"/>
                </a:lnTo>
                <a:lnTo>
                  <a:pt x="377" y="56"/>
                </a:lnTo>
                <a:lnTo>
                  <a:pt x="328" y="52"/>
                </a:lnTo>
                <a:lnTo>
                  <a:pt x="281" y="46"/>
                </a:lnTo>
                <a:lnTo>
                  <a:pt x="234" y="42"/>
                </a:lnTo>
                <a:lnTo>
                  <a:pt x="187" y="36"/>
                </a:lnTo>
                <a:lnTo>
                  <a:pt x="143" y="32"/>
                </a:lnTo>
                <a:lnTo>
                  <a:pt x="99" y="26"/>
                </a:lnTo>
                <a:lnTo>
                  <a:pt x="55" y="22"/>
                </a:lnTo>
                <a:lnTo>
                  <a:pt x="16" y="18"/>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3949560" y="4116240"/>
            <a:ext cx="1160640" cy="103320"/>
          </a:xfrm>
          <a:custGeom>
            <a:avLst/>
            <a:gdLst/>
            <a:ahLst/>
            <a:rect l="l" t="t" r="r" b="b"/>
            <a:pathLst>
              <a:path w="731" h="65">
                <a:moveTo>
                  <a:pt x="22" y="0"/>
                </a:moveTo>
                <a:lnTo>
                  <a:pt x="67" y="6"/>
                </a:lnTo>
                <a:lnTo>
                  <a:pt x="113" y="10"/>
                </a:lnTo>
                <a:lnTo>
                  <a:pt x="158" y="16"/>
                </a:lnTo>
                <a:lnTo>
                  <a:pt x="202" y="20"/>
                </a:lnTo>
                <a:lnTo>
                  <a:pt x="246" y="26"/>
                </a:lnTo>
                <a:lnTo>
                  <a:pt x="290" y="30"/>
                </a:lnTo>
                <a:lnTo>
                  <a:pt x="331" y="34"/>
                </a:lnTo>
                <a:lnTo>
                  <a:pt x="375" y="36"/>
                </a:lnTo>
                <a:lnTo>
                  <a:pt x="420" y="40"/>
                </a:lnTo>
                <a:lnTo>
                  <a:pt x="464" y="42"/>
                </a:lnTo>
                <a:lnTo>
                  <a:pt x="508" y="44"/>
                </a:lnTo>
                <a:lnTo>
                  <a:pt x="552" y="44"/>
                </a:lnTo>
                <a:lnTo>
                  <a:pt x="596" y="46"/>
                </a:lnTo>
                <a:lnTo>
                  <a:pt x="640" y="44"/>
                </a:lnTo>
                <a:lnTo>
                  <a:pt x="684" y="44"/>
                </a:lnTo>
                <a:lnTo>
                  <a:pt x="731" y="42"/>
                </a:lnTo>
                <a:lnTo>
                  <a:pt x="684" y="65"/>
                </a:lnTo>
                <a:lnTo>
                  <a:pt x="643" y="65"/>
                </a:lnTo>
                <a:lnTo>
                  <a:pt x="599" y="65"/>
                </a:lnTo>
                <a:lnTo>
                  <a:pt x="557" y="64"/>
                </a:lnTo>
                <a:lnTo>
                  <a:pt x="516" y="64"/>
                </a:lnTo>
                <a:lnTo>
                  <a:pt x="472" y="62"/>
                </a:lnTo>
                <a:lnTo>
                  <a:pt x="431" y="58"/>
                </a:lnTo>
                <a:lnTo>
                  <a:pt x="386" y="56"/>
                </a:lnTo>
                <a:lnTo>
                  <a:pt x="342" y="52"/>
                </a:lnTo>
                <a:lnTo>
                  <a:pt x="301" y="48"/>
                </a:lnTo>
                <a:lnTo>
                  <a:pt x="257" y="44"/>
                </a:lnTo>
                <a:lnTo>
                  <a:pt x="215" y="40"/>
                </a:lnTo>
                <a:lnTo>
                  <a:pt x="171" y="36"/>
                </a:lnTo>
                <a:lnTo>
                  <a:pt x="127" y="30"/>
                </a:lnTo>
                <a:lnTo>
                  <a:pt x="86" y="26"/>
                </a:lnTo>
                <a:lnTo>
                  <a:pt x="42" y="22"/>
                </a:lnTo>
                <a:lnTo>
                  <a:pt x="0" y="18"/>
                </a:lnTo>
                <a:lnTo>
                  <a:pt x="22"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984480" y="3656160"/>
            <a:ext cx="1252800" cy="110880"/>
          </a:xfrm>
          <a:custGeom>
            <a:avLst/>
            <a:gdLst/>
            <a:ahLst/>
            <a:rect l="l" t="t" r="r" b="b"/>
            <a:pathLst>
              <a:path w="789" h="70">
                <a:moveTo>
                  <a:pt x="0" y="0"/>
                </a:moveTo>
                <a:lnTo>
                  <a:pt x="364" y="30"/>
                </a:lnTo>
                <a:lnTo>
                  <a:pt x="632" y="50"/>
                </a:lnTo>
                <a:lnTo>
                  <a:pt x="789" y="64"/>
                </a:lnTo>
                <a:lnTo>
                  <a:pt x="720" y="70"/>
                </a:lnTo>
                <a:lnTo>
                  <a:pt x="533" y="52"/>
                </a:lnTo>
                <a:lnTo>
                  <a:pt x="199" y="26"/>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994200" y="3782880"/>
            <a:ext cx="1155600" cy="104760"/>
          </a:xfrm>
          <a:custGeom>
            <a:avLst/>
            <a:gdLst/>
            <a:ahLst/>
            <a:rect l="l" t="t" r="r" b="b"/>
            <a:pathLst>
              <a:path w="728" h="66">
                <a:moveTo>
                  <a:pt x="47" y="0"/>
                </a:moveTo>
                <a:lnTo>
                  <a:pt x="411" y="40"/>
                </a:lnTo>
                <a:lnTo>
                  <a:pt x="728" y="54"/>
                </a:lnTo>
                <a:lnTo>
                  <a:pt x="689" y="66"/>
                </a:lnTo>
                <a:lnTo>
                  <a:pt x="292" y="40"/>
                </a:lnTo>
                <a:lnTo>
                  <a:pt x="0" y="14"/>
                </a:lnTo>
                <a:lnTo>
                  <a:pt x="3" y="0"/>
                </a:lnTo>
                <a:lnTo>
                  <a:pt x="47"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265640" y="3875040"/>
            <a:ext cx="420840" cy="44640"/>
          </a:xfrm>
          <a:custGeom>
            <a:avLst/>
            <a:gdLst/>
            <a:ahLst/>
            <a:rect l="l" t="t" r="r" b="b"/>
            <a:pathLst>
              <a:path w="265" h="28">
                <a:moveTo>
                  <a:pt x="61" y="0"/>
                </a:moveTo>
                <a:lnTo>
                  <a:pt x="171" y="10"/>
                </a:lnTo>
                <a:lnTo>
                  <a:pt x="265" y="18"/>
                </a:lnTo>
                <a:lnTo>
                  <a:pt x="232" y="28"/>
                </a:lnTo>
                <a:lnTo>
                  <a:pt x="146" y="26"/>
                </a:lnTo>
                <a:lnTo>
                  <a:pt x="0" y="12"/>
                </a:lnTo>
                <a:lnTo>
                  <a:pt x="61" y="0"/>
                </a:lnTo>
                <a:close/>
              </a:path>
            </a:pathLst>
          </a:custGeom>
          <a:solidFill>
            <a:srgbClr val="d1e2fc"/>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67" name=""/>
          <p:cNvSpPr/>
          <p:nvPr/>
        </p:nvSpPr>
        <p:spPr>
          <a:xfrm>
            <a:off x="4317840" y="3986280"/>
            <a:ext cx="306720" cy="41040"/>
          </a:xfrm>
          <a:custGeom>
            <a:avLst/>
            <a:gdLst/>
            <a:ahLst/>
            <a:rect l="l" t="t" r="r" b="b"/>
            <a:pathLst>
              <a:path w="193" h="26">
                <a:moveTo>
                  <a:pt x="47" y="0"/>
                </a:moveTo>
                <a:lnTo>
                  <a:pt x="193" y="14"/>
                </a:lnTo>
                <a:lnTo>
                  <a:pt x="154" y="26"/>
                </a:lnTo>
                <a:lnTo>
                  <a:pt x="0" y="10"/>
                </a:lnTo>
                <a:lnTo>
                  <a:pt x="47" y="0"/>
                </a:lnTo>
                <a:close/>
              </a:path>
            </a:pathLst>
          </a:custGeom>
          <a:solidFill>
            <a:srgbClr val="d1e2fc"/>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68" name=""/>
          <p:cNvSpPr/>
          <p:nvPr/>
        </p:nvSpPr>
        <p:spPr>
          <a:xfrm>
            <a:off x="4330800" y="4103640"/>
            <a:ext cx="306360" cy="41400"/>
          </a:xfrm>
          <a:custGeom>
            <a:avLst/>
            <a:gdLst/>
            <a:ahLst/>
            <a:rect l="l" t="t" r="r" b="b"/>
            <a:pathLst>
              <a:path w="193" h="26">
                <a:moveTo>
                  <a:pt x="20" y="0"/>
                </a:moveTo>
                <a:lnTo>
                  <a:pt x="100" y="8"/>
                </a:lnTo>
                <a:lnTo>
                  <a:pt x="193" y="16"/>
                </a:lnTo>
                <a:lnTo>
                  <a:pt x="144" y="26"/>
                </a:lnTo>
                <a:lnTo>
                  <a:pt x="0" y="16"/>
                </a:lnTo>
                <a:lnTo>
                  <a:pt x="20" y="0"/>
                </a:lnTo>
                <a:close/>
              </a:path>
            </a:pathLst>
          </a:custGeom>
          <a:solidFill>
            <a:srgbClr val="d1e2fc"/>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9" name=""/>
          <p:cNvSpPr/>
          <p:nvPr/>
        </p:nvSpPr>
        <p:spPr>
          <a:xfrm>
            <a:off x="4191120" y="4270320"/>
            <a:ext cx="595080" cy="114480"/>
          </a:xfrm>
          <a:custGeom>
            <a:avLst/>
            <a:gdLst/>
            <a:ahLst/>
            <a:rect l="l" t="t" r="r" b="b"/>
            <a:pathLst>
              <a:path w="375" h="72">
                <a:moveTo>
                  <a:pt x="0" y="0"/>
                </a:moveTo>
                <a:lnTo>
                  <a:pt x="143" y="18"/>
                </a:lnTo>
                <a:lnTo>
                  <a:pt x="265" y="28"/>
                </a:lnTo>
                <a:lnTo>
                  <a:pt x="375" y="34"/>
                </a:lnTo>
                <a:lnTo>
                  <a:pt x="284" y="64"/>
                </a:lnTo>
                <a:lnTo>
                  <a:pt x="245" y="72"/>
                </a:lnTo>
                <a:lnTo>
                  <a:pt x="127" y="64"/>
                </a:lnTo>
                <a:lnTo>
                  <a:pt x="50" y="4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4183200" y="4794120"/>
            <a:ext cx="463320" cy="304920"/>
          </a:xfrm>
          <a:custGeom>
            <a:avLst/>
            <a:gdLst/>
            <a:ahLst/>
            <a:rect l="l" t="t" r="r" b="b"/>
            <a:pathLst>
              <a:path w="292" h="192">
                <a:moveTo>
                  <a:pt x="16" y="0"/>
                </a:moveTo>
                <a:lnTo>
                  <a:pt x="292" y="22"/>
                </a:lnTo>
                <a:lnTo>
                  <a:pt x="267" y="164"/>
                </a:lnTo>
                <a:lnTo>
                  <a:pt x="231" y="182"/>
                </a:lnTo>
                <a:lnTo>
                  <a:pt x="143" y="192"/>
                </a:lnTo>
                <a:lnTo>
                  <a:pt x="0" y="162"/>
                </a:lnTo>
                <a:lnTo>
                  <a:pt x="16" y="0"/>
                </a:lnTo>
                <a:close/>
              </a:path>
            </a:pathLst>
          </a:custGeom>
          <a:solidFill>
            <a:srgbClr val="2b3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440240" y="4334040"/>
            <a:ext cx="114120" cy="504720"/>
          </a:xfrm>
          <a:custGeom>
            <a:avLst/>
            <a:gdLst/>
            <a:ahLst/>
            <a:rect l="l" t="t" r="r" b="b"/>
            <a:pathLst>
              <a:path w="72" h="318">
                <a:moveTo>
                  <a:pt x="47" y="0"/>
                </a:moveTo>
                <a:lnTo>
                  <a:pt x="0" y="318"/>
                </a:lnTo>
                <a:lnTo>
                  <a:pt x="28" y="318"/>
                </a:lnTo>
                <a:lnTo>
                  <a:pt x="72" y="6"/>
                </a:lnTo>
                <a:lnTo>
                  <a:pt x="47"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178160" y="4809960"/>
            <a:ext cx="297000" cy="285840"/>
          </a:xfrm>
          <a:custGeom>
            <a:avLst/>
            <a:gdLst/>
            <a:ahLst/>
            <a:rect l="l" t="t" r="r" b="b"/>
            <a:pathLst>
              <a:path w="187" h="180">
                <a:moveTo>
                  <a:pt x="14" y="0"/>
                </a:moveTo>
                <a:lnTo>
                  <a:pt x="0" y="160"/>
                </a:lnTo>
                <a:lnTo>
                  <a:pt x="36" y="172"/>
                </a:lnTo>
                <a:lnTo>
                  <a:pt x="157" y="180"/>
                </a:lnTo>
                <a:lnTo>
                  <a:pt x="187" y="16"/>
                </a:lnTo>
                <a:lnTo>
                  <a:pt x="143" y="12"/>
                </a:lnTo>
                <a:lnTo>
                  <a:pt x="14" y="0"/>
                </a:lnTo>
                <a:close/>
              </a:path>
            </a:pathLst>
          </a:custGeom>
          <a:solidFill>
            <a:srgbClr val="a572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1612800" y="3992400"/>
            <a:ext cx="1900440" cy="1506600"/>
          </a:xfrm>
          <a:custGeom>
            <a:avLst/>
            <a:gdLst/>
            <a:ahLst/>
            <a:rect l="l" t="t" r="r" b="b"/>
            <a:pathLst>
              <a:path w="1197" h="949">
                <a:moveTo>
                  <a:pt x="590" y="6"/>
                </a:moveTo>
                <a:lnTo>
                  <a:pt x="502" y="14"/>
                </a:lnTo>
                <a:lnTo>
                  <a:pt x="422" y="28"/>
                </a:lnTo>
                <a:lnTo>
                  <a:pt x="345" y="48"/>
                </a:lnTo>
                <a:lnTo>
                  <a:pt x="273" y="72"/>
                </a:lnTo>
                <a:lnTo>
                  <a:pt x="212" y="102"/>
                </a:lnTo>
                <a:lnTo>
                  <a:pt x="154" y="136"/>
                </a:lnTo>
                <a:lnTo>
                  <a:pt x="108" y="173"/>
                </a:lnTo>
                <a:lnTo>
                  <a:pt x="66" y="213"/>
                </a:lnTo>
                <a:lnTo>
                  <a:pt x="36" y="257"/>
                </a:lnTo>
                <a:lnTo>
                  <a:pt x="14" y="303"/>
                </a:lnTo>
                <a:lnTo>
                  <a:pt x="0" y="351"/>
                </a:lnTo>
                <a:lnTo>
                  <a:pt x="0" y="401"/>
                </a:lnTo>
                <a:lnTo>
                  <a:pt x="8" y="451"/>
                </a:lnTo>
                <a:lnTo>
                  <a:pt x="28" y="501"/>
                </a:lnTo>
                <a:lnTo>
                  <a:pt x="58" y="553"/>
                </a:lnTo>
                <a:lnTo>
                  <a:pt x="102" y="603"/>
                </a:lnTo>
                <a:lnTo>
                  <a:pt x="353" y="787"/>
                </a:lnTo>
                <a:lnTo>
                  <a:pt x="488" y="939"/>
                </a:lnTo>
                <a:lnTo>
                  <a:pt x="607" y="949"/>
                </a:lnTo>
                <a:lnTo>
                  <a:pt x="739" y="839"/>
                </a:lnTo>
                <a:lnTo>
                  <a:pt x="874" y="755"/>
                </a:lnTo>
                <a:lnTo>
                  <a:pt x="1095" y="623"/>
                </a:lnTo>
                <a:lnTo>
                  <a:pt x="1133" y="555"/>
                </a:lnTo>
                <a:lnTo>
                  <a:pt x="1164" y="493"/>
                </a:lnTo>
                <a:lnTo>
                  <a:pt x="1186" y="433"/>
                </a:lnTo>
                <a:lnTo>
                  <a:pt x="1197" y="377"/>
                </a:lnTo>
                <a:lnTo>
                  <a:pt x="1197" y="325"/>
                </a:lnTo>
                <a:lnTo>
                  <a:pt x="1183" y="277"/>
                </a:lnTo>
                <a:lnTo>
                  <a:pt x="1161" y="233"/>
                </a:lnTo>
                <a:lnTo>
                  <a:pt x="1122" y="195"/>
                </a:lnTo>
                <a:lnTo>
                  <a:pt x="1108" y="183"/>
                </a:lnTo>
                <a:lnTo>
                  <a:pt x="1097" y="171"/>
                </a:lnTo>
                <a:lnTo>
                  <a:pt x="1086" y="161"/>
                </a:lnTo>
                <a:lnTo>
                  <a:pt x="1078" y="149"/>
                </a:lnTo>
                <a:lnTo>
                  <a:pt x="1067" y="140"/>
                </a:lnTo>
                <a:lnTo>
                  <a:pt x="1053" y="130"/>
                </a:lnTo>
                <a:lnTo>
                  <a:pt x="1037" y="120"/>
                </a:lnTo>
                <a:lnTo>
                  <a:pt x="1017" y="112"/>
                </a:lnTo>
                <a:lnTo>
                  <a:pt x="1001" y="104"/>
                </a:lnTo>
                <a:lnTo>
                  <a:pt x="982" y="94"/>
                </a:lnTo>
                <a:lnTo>
                  <a:pt x="960" y="82"/>
                </a:lnTo>
                <a:lnTo>
                  <a:pt x="935" y="68"/>
                </a:lnTo>
                <a:lnTo>
                  <a:pt x="907" y="58"/>
                </a:lnTo>
                <a:lnTo>
                  <a:pt x="882" y="48"/>
                </a:lnTo>
                <a:lnTo>
                  <a:pt x="852" y="40"/>
                </a:lnTo>
                <a:lnTo>
                  <a:pt x="824" y="38"/>
                </a:lnTo>
                <a:lnTo>
                  <a:pt x="802" y="36"/>
                </a:lnTo>
                <a:lnTo>
                  <a:pt x="780" y="30"/>
                </a:lnTo>
                <a:lnTo>
                  <a:pt x="756" y="20"/>
                </a:lnTo>
                <a:lnTo>
                  <a:pt x="728" y="12"/>
                </a:lnTo>
                <a:lnTo>
                  <a:pt x="698" y="4"/>
                </a:lnTo>
                <a:lnTo>
                  <a:pt x="665" y="0"/>
                </a:lnTo>
                <a:lnTo>
                  <a:pt x="629" y="0"/>
                </a:lnTo>
                <a:lnTo>
                  <a:pt x="590" y="6"/>
                </a:lnTo>
                <a:close/>
              </a:path>
            </a:pathLst>
          </a:custGeom>
          <a:solidFill>
            <a:srgbClr val="9626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5924520" y="5124600"/>
            <a:ext cx="1300320" cy="1036440"/>
          </a:xfrm>
          <a:custGeom>
            <a:avLst/>
            <a:gdLst/>
            <a:ahLst/>
            <a:rect l="l" t="t" r="r" b="b"/>
            <a:pathLst>
              <a:path w="819" h="653">
                <a:moveTo>
                  <a:pt x="300" y="18"/>
                </a:moveTo>
                <a:lnTo>
                  <a:pt x="193" y="58"/>
                </a:lnTo>
                <a:lnTo>
                  <a:pt x="107" y="108"/>
                </a:lnTo>
                <a:lnTo>
                  <a:pt x="47" y="168"/>
                </a:lnTo>
                <a:lnTo>
                  <a:pt x="11" y="232"/>
                </a:lnTo>
                <a:lnTo>
                  <a:pt x="0" y="300"/>
                </a:lnTo>
                <a:lnTo>
                  <a:pt x="16" y="366"/>
                </a:lnTo>
                <a:lnTo>
                  <a:pt x="63" y="429"/>
                </a:lnTo>
                <a:lnTo>
                  <a:pt x="141" y="485"/>
                </a:lnTo>
                <a:lnTo>
                  <a:pt x="358" y="571"/>
                </a:lnTo>
                <a:lnTo>
                  <a:pt x="491" y="653"/>
                </a:lnTo>
                <a:lnTo>
                  <a:pt x="573" y="643"/>
                </a:lnTo>
                <a:lnTo>
                  <a:pt x="631" y="551"/>
                </a:lnTo>
                <a:lnTo>
                  <a:pt x="695" y="473"/>
                </a:lnTo>
                <a:lnTo>
                  <a:pt x="808" y="356"/>
                </a:lnTo>
                <a:lnTo>
                  <a:pt x="816" y="304"/>
                </a:lnTo>
                <a:lnTo>
                  <a:pt x="819" y="258"/>
                </a:lnTo>
                <a:lnTo>
                  <a:pt x="816" y="214"/>
                </a:lnTo>
                <a:lnTo>
                  <a:pt x="808" y="176"/>
                </a:lnTo>
                <a:lnTo>
                  <a:pt x="791" y="142"/>
                </a:lnTo>
                <a:lnTo>
                  <a:pt x="772" y="112"/>
                </a:lnTo>
                <a:lnTo>
                  <a:pt x="744" y="86"/>
                </a:lnTo>
                <a:lnTo>
                  <a:pt x="709" y="66"/>
                </a:lnTo>
                <a:lnTo>
                  <a:pt x="695" y="60"/>
                </a:lnTo>
                <a:lnTo>
                  <a:pt x="684" y="54"/>
                </a:lnTo>
                <a:lnTo>
                  <a:pt x="673" y="48"/>
                </a:lnTo>
                <a:lnTo>
                  <a:pt x="664" y="42"/>
                </a:lnTo>
                <a:lnTo>
                  <a:pt x="653" y="38"/>
                </a:lnTo>
                <a:lnTo>
                  <a:pt x="640" y="32"/>
                </a:lnTo>
                <a:lnTo>
                  <a:pt x="629" y="28"/>
                </a:lnTo>
                <a:lnTo>
                  <a:pt x="612" y="26"/>
                </a:lnTo>
                <a:lnTo>
                  <a:pt x="598" y="24"/>
                </a:lnTo>
                <a:lnTo>
                  <a:pt x="584" y="20"/>
                </a:lnTo>
                <a:lnTo>
                  <a:pt x="565" y="14"/>
                </a:lnTo>
                <a:lnTo>
                  <a:pt x="546" y="10"/>
                </a:lnTo>
                <a:lnTo>
                  <a:pt x="527" y="6"/>
                </a:lnTo>
                <a:lnTo>
                  <a:pt x="505" y="4"/>
                </a:lnTo>
                <a:lnTo>
                  <a:pt x="482" y="4"/>
                </a:lnTo>
                <a:lnTo>
                  <a:pt x="463" y="6"/>
                </a:lnTo>
                <a:lnTo>
                  <a:pt x="449" y="8"/>
                </a:lnTo>
                <a:lnTo>
                  <a:pt x="433" y="6"/>
                </a:lnTo>
                <a:lnTo>
                  <a:pt x="414" y="4"/>
                </a:lnTo>
                <a:lnTo>
                  <a:pt x="391" y="2"/>
                </a:lnTo>
                <a:lnTo>
                  <a:pt x="369" y="0"/>
                </a:lnTo>
                <a:lnTo>
                  <a:pt x="347" y="2"/>
                </a:lnTo>
                <a:lnTo>
                  <a:pt x="325" y="8"/>
                </a:lnTo>
                <a:lnTo>
                  <a:pt x="300" y="18"/>
                </a:lnTo>
                <a:close/>
              </a:path>
            </a:pathLst>
          </a:custGeom>
          <a:solidFill>
            <a:srgbClr val="99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2571840" y="4222800"/>
            <a:ext cx="944640" cy="1263600"/>
          </a:xfrm>
          <a:custGeom>
            <a:avLst/>
            <a:gdLst/>
            <a:ahLst/>
            <a:rect l="l" t="t" r="r" b="b"/>
            <a:pathLst>
              <a:path w="595" h="796">
                <a:moveTo>
                  <a:pt x="463" y="500"/>
                </a:moveTo>
                <a:lnTo>
                  <a:pt x="245" y="626"/>
                </a:lnTo>
                <a:lnTo>
                  <a:pt x="102" y="744"/>
                </a:lnTo>
                <a:lnTo>
                  <a:pt x="0" y="796"/>
                </a:lnTo>
                <a:lnTo>
                  <a:pt x="201" y="594"/>
                </a:lnTo>
                <a:lnTo>
                  <a:pt x="300" y="512"/>
                </a:lnTo>
                <a:lnTo>
                  <a:pt x="375" y="442"/>
                </a:lnTo>
                <a:lnTo>
                  <a:pt x="427" y="384"/>
                </a:lnTo>
                <a:lnTo>
                  <a:pt x="460" y="326"/>
                </a:lnTo>
                <a:lnTo>
                  <a:pt x="474" y="266"/>
                </a:lnTo>
                <a:lnTo>
                  <a:pt x="477" y="194"/>
                </a:lnTo>
                <a:lnTo>
                  <a:pt x="469" y="108"/>
                </a:lnTo>
                <a:lnTo>
                  <a:pt x="449" y="0"/>
                </a:lnTo>
                <a:lnTo>
                  <a:pt x="515" y="54"/>
                </a:lnTo>
                <a:lnTo>
                  <a:pt x="562" y="112"/>
                </a:lnTo>
                <a:lnTo>
                  <a:pt x="587" y="174"/>
                </a:lnTo>
                <a:lnTo>
                  <a:pt x="595" y="240"/>
                </a:lnTo>
                <a:lnTo>
                  <a:pt x="587" y="306"/>
                </a:lnTo>
                <a:lnTo>
                  <a:pt x="560" y="372"/>
                </a:lnTo>
                <a:lnTo>
                  <a:pt x="518" y="438"/>
                </a:lnTo>
                <a:lnTo>
                  <a:pt x="463" y="500"/>
                </a:lnTo>
                <a:close/>
              </a:path>
            </a:pathLst>
          </a:custGeom>
          <a:solidFill>
            <a:srgbClr val="ff2b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6826320" y="5191200"/>
            <a:ext cx="406440" cy="944640"/>
          </a:xfrm>
          <a:custGeom>
            <a:avLst/>
            <a:gdLst/>
            <a:ahLst/>
            <a:rect l="l" t="t" r="r" b="b"/>
            <a:pathLst>
              <a:path w="256" h="595">
                <a:moveTo>
                  <a:pt x="226" y="330"/>
                </a:moveTo>
                <a:lnTo>
                  <a:pt x="116" y="447"/>
                </a:lnTo>
                <a:lnTo>
                  <a:pt x="52" y="545"/>
                </a:lnTo>
                <a:lnTo>
                  <a:pt x="0" y="595"/>
                </a:lnTo>
                <a:lnTo>
                  <a:pt x="83" y="431"/>
                </a:lnTo>
                <a:lnTo>
                  <a:pt x="124" y="362"/>
                </a:lnTo>
                <a:lnTo>
                  <a:pt x="154" y="306"/>
                </a:lnTo>
                <a:lnTo>
                  <a:pt x="171" y="260"/>
                </a:lnTo>
                <a:lnTo>
                  <a:pt x="176" y="216"/>
                </a:lnTo>
                <a:lnTo>
                  <a:pt x="168" y="174"/>
                </a:lnTo>
                <a:lnTo>
                  <a:pt x="152" y="126"/>
                </a:lnTo>
                <a:lnTo>
                  <a:pt x="118" y="70"/>
                </a:lnTo>
                <a:lnTo>
                  <a:pt x="77" y="0"/>
                </a:lnTo>
                <a:lnTo>
                  <a:pt x="135" y="26"/>
                </a:lnTo>
                <a:lnTo>
                  <a:pt x="182" y="60"/>
                </a:lnTo>
                <a:lnTo>
                  <a:pt x="218" y="96"/>
                </a:lnTo>
                <a:lnTo>
                  <a:pt x="243" y="138"/>
                </a:lnTo>
                <a:lnTo>
                  <a:pt x="254" y="184"/>
                </a:lnTo>
                <a:lnTo>
                  <a:pt x="256" y="232"/>
                </a:lnTo>
                <a:lnTo>
                  <a:pt x="245" y="280"/>
                </a:lnTo>
                <a:lnTo>
                  <a:pt x="226" y="330"/>
                </a:lnTo>
                <a:close/>
              </a:path>
            </a:pathLst>
          </a:custGeom>
          <a:solidFill>
            <a:srgbClr val="99ff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502000" y="4056120"/>
            <a:ext cx="734760" cy="1414440"/>
          </a:xfrm>
          <a:custGeom>
            <a:avLst/>
            <a:gdLst/>
            <a:ahLst/>
            <a:rect l="l" t="t" r="r" b="b"/>
            <a:pathLst>
              <a:path w="463" h="891">
                <a:moveTo>
                  <a:pt x="289" y="593"/>
                </a:moveTo>
                <a:lnTo>
                  <a:pt x="146" y="743"/>
                </a:lnTo>
                <a:lnTo>
                  <a:pt x="0" y="891"/>
                </a:lnTo>
                <a:lnTo>
                  <a:pt x="187" y="605"/>
                </a:lnTo>
                <a:lnTo>
                  <a:pt x="240" y="517"/>
                </a:lnTo>
                <a:lnTo>
                  <a:pt x="287" y="441"/>
                </a:lnTo>
                <a:lnTo>
                  <a:pt x="320" y="369"/>
                </a:lnTo>
                <a:lnTo>
                  <a:pt x="344" y="301"/>
                </a:lnTo>
                <a:lnTo>
                  <a:pt x="353" y="235"/>
                </a:lnTo>
                <a:lnTo>
                  <a:pt x="342" y="163"/>
                </a:lnTo>
                <a:lnTo>
                  <a:pt x="314" y="88"/>
                </a:lnTo>
                <a:lnTo>
                  <a:pt x="262" y="0"/>
                </a:lnTo>
                <a:lnTo>
                  <a:pt x="364" y="56"/>
                </a:lnTo>
                <a:lnTo>
                  <a:pt x="430" y="119"/>
                </a:lnTo>
                <a:lnTo>
                  <a:pt x="460" y="191"/>
                </a:lnTo>
                <a:lnTo>
                  <a:pt x="463" y="269"/>
                </a:lnTo>
                <a:lnTo>
                  <a:pt x="444" y="351"/>
                </a:lnTo>
                <a:lnTo>
                  <a:pt x="402" y="433"/>
                </a:lnTo>
                <a:lnTo>
                  <a:pt x="350" y="515"/>
                </a:lnTo>
                <a:lnTo>
                  <a:pt x="289" y="593"/>
                </a:lnTo>
                <a:close/>
              </a:path>
            </a:pathLst>
          </a:custGeom>
          <a:solidFill>
            <a:srgbClr val="ff2b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6659640" y="5133960"/>
            <a:ext cx="345960" cy="1001880"/>
          </a:xfrm>
          <a:custGeom>
            <a:avLst/>
            <a:gdLst/>
            <a:ahLst/>
            <a:rect l="l" t="t" r="r" b="b"/>
            <a:pathLst>
              <a:path w="218" h="631">
                <a:moveTo>
                  <a:pt x="188" y="392"/>
                </a:moveTo>
                <a:lnTo>
                  <a:pt x="130" y="511"/>
                </a:lnTo>
                <a:lnTo>
                  <a:pt x="75" y="631"/>
                </a:lnTo>
                <a:lnTo>
                  <a:pt x="119" y="414"/>
                </a:lnTo>
                <a:lnTo>
                  <a:pt x="130" y="348"/>
                </a:lnTo>
                <a:lnTo>
                  <a:pt x="138" y="290"/>
                </a:lnTo>
                <a:lnTo>
                  <a:pt x="144" y="238"/>
                </a:lnTo>
                <a:lnTo>
                  <a:pt x="138" y="190"/>
                </a:lnTo>
                <a:lnTo>
                  <a:pt x="127" y="144"/>
                </a:lnTo>
                <a:lnTo>
                  <a:pt x="99" y="98"/>
                </a:lnTo>
                <a:lnTo>
                  <a:pt x="58" y="50"/>
                </a:lnTo>
                <a:lnTo>
                  <a:pt x="0" y="0"/>
                </a:lnTo>
                <a:lnTo>
                  <a:pt x="83" y="22"/>
                </a:lnTo>
                <a:lnTo>
                  <a:pt x="146" y="56"/>
                </a:lnTo>
                <a:lnTo>
                  <a:pt x="185" y="100"/>
                </a:lnTo>
                <a:lnTo>
                  <a:pt x="210" y="150"/>
                </a:lnTo>
                <a:lnTo>
                  <a:pt x="218" y="208"/>
                </a:lnTo>
                <a:lnTo>
                  <a:pt x="215" y="268"/>
                </a:lnTo>
                <a:lnTo>
                  <a:pt x="204" y="330"/>
                </a:lnTo>
                <a:lnTo>
                  <a:pt x="188" y="392"/>
                </a:lnTo>
                <a:close/>
              </a:path>
            </a:pathLst>
          </a:custGeom>
          <a:solidFill>
            <a:srgbClr val="99ff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523960" y="4002120"/>
            <a:ext cx="411480" cy="1484280"/>
          </a:xfrm>
          <a:custGeom>
            <a:avLst/>
            <a:gdLst/>
            <a:ahLst/>
            <a:rect l="l" t="t" r="r" b="b"/>
            <a:pathLst>
              <a:path w="259" h="935">
                <a:moveTo>
                  <a:pt x="217" y="34"/>
                </a:moveTo>
                <a:lnTo>
                  <a:pt x="242" y="112"/>
                </a:lnTo>
                <a:lnTo>
                  <a:pt x="256" y="179"/>
                </a:lnTo>
                <a:lnTo>
                  <a:pt x="259" y="241"/>
                </a:lnTo>
                <a:lnTo>
                  <a:pt x="250" y="297"/>
                </a:lnTo>
                <a:lnTo>
                  <a:pt x="237" y="355"/>
                </a:lnTo>
                <a:lnTo>
                  <a:pt x="217" y="417"/>
                </a:lnTo>
                <a:lnTo>
                  <a:pt x="190" y="485"/>
                </a:lnTo>
                <a:lnTo>
                  <a:pt x="159" y="563"/>
                </a:lnTo>
                <a:lnTo>
                  <a:pt x="44" y="765"/>
                </a:lnTo>
                <a:lnTo>
                  <a:pt x="0" y="935"/>
                </a:lnTo>
                <a:lnTo>
                  <a:pt x="0" y="777"/>
                </a:lnTo>
                <a:lnTo>
                  <a:pt x="102" y="393"/>
                </a:lnTo>
                <a:lnTo>
                  <a:pt x="118" y="291"/>
                </a:lnTo>
                <a:lnTo>
                  <a:pt x="126" y="195"/>
                </a:lnTo>
                <a:lnTo>
                  <a:pt x="124" y="102"/>
                </a:lnTo>
                <a:lnTo>
                  <a:pt x="102" y="0"/>
                </a:lnTo>
                <a:lnTo>
                  <a:pt x="217" y="34"/>
                </a:lnTo>
                <a:close/>
              </a:path>
            </a:pathLst>
          </a:custGeom>
          <a:solidFill>
            <a:srgbClr val="bc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523960" y="4014720"/>
            <a:ext cx="424080" cy="1420920"/>
          </a:xfrm>
          <a:custGeom>
            <a:avLst/>
            <a:gdLst/>
            <a:ahLst/>
            <a:rect l="l" t="t" r="r" b="b"/>
            <a:pathLst>
              <a:path w="267" h="895">
                <a:moveTo>
                  <a:pt x="231" y="26"/>
                </a:moveTo>
                <a:lnTo>
                  <a:pt x="259" y="116"/>
                </a:lnTo>
                <a:lnTo>
                  <a:pt x="267" y="209"/>
                </a:lnTo>
                <a:lnTo>
                  <a:pt x="256" y="303"/>
                </a:lnTo>
                <a:lnTo>
                  <a:pt x="231" y="397"/>
                </a:lnTo>
                <a:lnTo>
                  <a:pt x="195" y="493"/>
                </a:lnTo>
                <a:lnTo>
                  <a:pt x="151" y="587"/>
                </a:lnTo>
                <a:lnTo>
                  <a:pt x="104" y="679"/>
                </a:lnTo>
                <a:lnTo>
                  <a:pt x="57" y="769"/>
                </a:lnTo>
                <a:lnTo>
                  <a:pt x="0" y="895"/>
                </a:lnTo>
                <a:lnTo>
                  <a:pt x="38" y="781"/>
                </a:lnTo>
                <a:lnTo>
                  <a:pt x="80" y="669"/>
                </a:lnTo>
                <a:lnTo>
                  <a:pt x="118" y="559"/>
                </a:lnTo>
                <a:lnTo>
                  <a:pt x="151" y="447"/>
                </a:lnTo>
                <a:lnTo>
                  <a:pt x="176" y="337"/>
                </a:lnTo>
                <a:lnTo>
                  <a:pt x="184" y="225"/>
                </a:lnTo>
                <a:lnTo>
                  <a:pt x="176" y="114"/>
                </a:lnTo>
                <a:lnTo>
                  <a:pt x="146" y="0"/>
                </a:lnTo>
                <a:lnTo>
                  <a:pt x="231" y="26"/>
                </a:lnTo>
                <a:close/>
              </a:path>
            </a:pathLst>
          </a:custGeom>
          <a:solidFill>
            <a:srgbClr val="ffef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6541920" y="5130720"/>
            <a:ext cx="266760" cy="979560"/>
          </a:xfrm>
          <a:custGeom>
            <a:avLst/>
            <a:gdLst/>
            <a:ahLst/>
            <a:rect l="l" t="t" r="r" b="b"/>
            <a:pathLst>
              <a:path w="168" h="617">
                <a:moveTo>
                  <a:pt x="63" y="4"/>
                </a:moveTo>
                <a:lnTo>
                  <a:pt x="107" y="60"/>
                </a:lnTo>
                <a:lnTo>
                  <a:pt x="138" y="122"/>
                </a:lnTo>
                <a:lnTo>
                  <a:pt x="157" y="186"/>
                </a:lnTo>
                <a:lnTo>
                  <a:pt x="168" y="252"/>
                </a:lnTo>
                <a:lnTo>
                  <a:pt x="168" y="320"/>
                </a:lnTo>
                <a:lnTo>
                  <a:pt x="165" y="390"/>
                </a:lnTo>
                <a:lnTo>
                  <a:pt x="160" y="457"/>
                </a:lnTo>
                <a:lnTo>
                  <a:pt x="154" y="523"/>
                </a:lnTo>
                <a:lnTo>
                  <a:pt x="151" y="617"/>
                </a:lnTo>
                <a:lnTo>
                  <a:pt x="146" y="535"/>
                </a:lnTo>
                <a:lnTo>
                  <a:pt x="143" y="455"/>
                </a:lnTo>
                <a:lnTo>
                  <a:pt x="138" y="376"/>
                </a:lnTo>
                <a:lnTo>
                  <a:pt x="129" y="298"/>
                </a:lnTo>
                <a:lnTo>
                  <a:pt x="113" y="220"/>
                </a:lnTo>
                <a:lnTo>
                  <a:pt x="88" y="146"/>
                </a:lnTo>
                <a:lnTo>
                  <a:pt x="52" y="72"/>
                </a:lnTo>
                <a:lnTo>
                  <a:pt x="0" y="0"/>
                </a:lnTo>
                <a:lnTo>
                  <a:pt x="63" y="4"/>
                </a:lnTo>
                <a:close/>
              </a:path>
            </a:pathLst>
          </a:custGeom>
          <a:solidFill>
            <a:srgbClr val="99ff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2409840" y="4021200"/>
            <a:ext cx="276120" cy="1465200"/>
          </a:xfrm>
          <a:custGeom>
            <a:avLst/>
            <a:gdLst/>
            <a:ahLst/>
            <a:rect l="l" t="t" r="r" b="b"/>
            <a:pathLst>
              <a:path w="174" h="923">
                <a:moveTo>
                  <a:pt x="174" y="0"/>
                </a:moveTo>
                <a:lnTo>
                  <a:pt x="171" y="92"/>
                </a:lnTo>
                <a:lnTo>
                  <a:pt x="165" y="181"/>
                </a:lnTo>
                <a:lnTo>
                  <a:pt x="157" y="269"/>
                </a:lnTo>
                <a:lnTo>
                  <a:pt x="146" y="357"/>
                </a:lnTo>
                <a:lnTo>
                  <a:pt x="129" y="443"/>
                </a:lnTo>
                <a:lnTo>
                  <a:pt x="113" y="531"/>
                </a:lnTo>
                <a:lnTo>
                  <a:pt x="94" y="621"/>
                </a:lnTo>
                <a:lnTo>
                  <a:pt x="72" y="711"/>
                </a:lnTo>
                <a:lnTo>
                  <a:pt x="44" y="923"/>
                </a:lnTo>
                <a:lnTo>
                  <a:pt x="14" y="711"/>
                </a:lnTo>
                <a:lnTo>
                  <a:pt x="8" y="613"/>
                </a:lnTo>
                <a:lnTo>
                  <a:pt x="3" y="521"/>
                </a:lnTo>
                <a:lnTo>
                  <a:pt x="0" y="435"/>
                </a:lnTo>
                <a:lnTo>
                  <a:pt x="3" y="351"/>
                </a:lnTo>
                <a:lnTo>
                  <a:pt x="8" y="269"/>
                </a:lnTo>
                <a:lnTo>
                  <a:pt x="19" y="183"/>
                </a:lnTo>
                <a:lnTo>
                  <a:pt x="41" y="96"/>
                </a:lnTo>
                <a:lnTo>
                  <a:pt x="72" y="0"/>
                </a:lnTo>
                <a:lnTo>
                  <a:pt x="174" y="0"/>
                </a:lnTo>
                <a:close/>
              </a:path>
            </a:pathLst>
          </a:custGeom>
          <a:solidFill>
            <a:srgbClr val="637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2470320" y="4037040"/>
            <a:ext cx="193680" cy="1433520"/>
          </a:xfrm>
          <a:custGeom>
            <a:avLst/>
            <a:gdLst/>
            <a:ahLst/>
            <a:rect l="l" t="t" r="r" b="b"/>
            <a:pathLst>
              <a:path w="122" h="903">
                <a:moveTo>
                  <a:pt x="122" y="0"/>
                </a:moveTo>
                <a:lnTo>
                  <a:pt x="119" y="114"/>
                </a:lnTo>
                <a:lnTo>
                  <a:pt x="108" y="227"/>
                </a:lnTo>
                <a:lnTo>
                  <a:pt x="94" y="339"/>
                </a:lnTo>
                <a:lnTo>
                  <a:pt x="75" y="451"/>
                </a:lnTo>
                <a:lnTo>
                  <a:pt x="58" y="563"/>
                </a:lnTo>
                <a:lnTo>
                  <a:pt x="42" y="675"/>
                </a:lnTo>
                <a:lnTo>
                  <a:pt x="28" y="789"/>
                </a:lnTo>
                <a:lnTo>
                  <a:pt x="20" y="903"/>
                </a:lnTo>
                <a:lnTo>
                  <a:pt x="14" y="799"/>
                </a:lnTo>
                <a:lnTo>
                  <a:pt x="9" y="693"/>
                </a:lnTo>
                <a:lnTo>
                  <a:pt x="3" y="587"/>
                </a:lnTo>
                <a:lnTo>
                  <a:pt x="0" y="479"/>
                </a:lnTo>
                <a:lnTo>
                  <a:pt x="3" y="373"/>
                </a:lnTo>
                <a:lnTo>
                  <a:pt x="17" y="267"/>
                </a:lnTo>
                <a:lnTo>
                  <a:pt x="39" y="163"/>
                </a:lnTo>
                <a:lnTo>
                  <a:pt x="78" y="62"/>
                </a:lnTo>
                <a:lnTo>
                  <a:pt x="122" y="0"/>
                </a:lnTo>
                <a:close/>
              </a:path>
            </a:pathLst>
          </a:custGeom>
          <a:solidFill>
            <a:srgbClr val="51c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467400" y="5159520"/>
            <a:ext cx="311400" cy="976320"/>
          </a:xfrm>
          <a:custGeom>
            <a:avLst/>
            <a:gdLst/>
            <a:ahLst/>
            <a:rect l="l" t="t" r="r" b="b"/>
            <a:pathLst>
              <a:path w="196" h="615">
                <a:moveTo>
                  <a:pt x="11" y="0"/>
                </a:moveTo>
                <a:lnTo>
                  <a:pt x="41" y="76"/>
                </a:lnTo>
                <a:lnTo>
                  <a:pt x="66" y="154"/>
                </a:lnTo>
                <a:lnTo>
                  <a:pt x="85" y="230"/>
                </a:lnTo>
                <a:lnTo>
                  <a:pt x="107" y="308"/>
                </a:lnTo>
                <a:lnTo>
                  <a:pt x="127" y="384"/>
                </a:lnTo>
                <a:lnTo>
                  <a:pt x="146" y="461"/>
                </a:lnTo>
                <a:lnTo>
                  <a:pt x="168" y="537"/>
                </a:lnTo>
                <a:lnTo>
                  <a:pt x="196" y="615"/>
                </a:lnTo>
                <a:lnTo>
                  <a:pt x="163" y="547"/>
                </a:lnTo>
                <a:lnTo>
                  <a:pt x="129" y="477"/>
                </a:lnTo>
                <a:lnTo>
                  <a:pt x="96" y="407"/>
                </a:lnTo>
                <a:lnTo>
                  <a:pt x="66" y="336"/>
                </a:lnTo>
                <a:lnTo>
                  <a:pt x="38" y="266"/>
                </a:lnTo>
                <a:lnTo>
                  <a:pt x="16" y="194"/>
                </a:lnTo>
                <a:lnTo>
                  <a:pt x="3" y="122"/>
                </a:lnTo>
                <a:lnTo>
                  <a:pt x="0" y="50"/>
                </a:lnTo>
                <a:lnTo>
                  <a:pt x="11" y="0"/>
                </a:lnTo>
                <a:close/>
              </a:path>
            </a:pathLst>
          </a:custGeom>
          <a:solidFill>
            <a:srgbClr val="99ff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2111400" y="4008600"/>
            <a:ext cx="380880" cy="1477800"/>
          </a:xfrm>
          <a:custGeom>
            <a:avLst/>
            <a:gdLst/>
            <a:ahLst/>
            <a:rect l="l" t="t" r="r" b="b"/>
            <a:pathLst>
              <a:path w="240" h="931">
                <a:moveTo>
                  <a:pt x="240" y="0"/>
                </a:moveTo>
                <a:lnTo>
                  <a:pt x="207" y="88"/>
                </a:lnTo>
                <a:lnTo>
                  <a:pt x="185" y="177"/>
                </a:lnTo>
                <a:lnTo>
                  <a:pt x="169" y="265"/>
                </a:lnTo>
                <a:lnTo>
                  <a:pt x="158" y="355"/>
                </a:lnTo>
                <a:lnTo>
                  <a:pt x="155" y="445"/>
                </a:lnTo>
                <a:lnTo>
                  <a:pt x="158" y="537"/>
                </a:lnTo>
                <a:lnTo>
                  <a:pt x="163" y="633"/>
                </a:lnTo>
                <a:lnTo>
                  <a:pt x="174" y="729"/>
                </a:lnTo>
                <a:lnTo>
                  <a:pt x="215" y="931"/>
                </a:lnTo>
                <a:lnTo>
                  <a:pt x="130" y="761"/>
                </a:lnTo>
                <a:lnTo>
                  <a:pt x="72" y="635"/>
                </a:lnTo>
                <a:lnTo>
                  <a:pt x="39" y="551"/>
                </a:lnTo>
                <a:lnTo>
                  <a:pt x="17" y="471"/>
                </a:lnTo>
                <a:lnTo>
                  <a:pt x="3" y="397"/>
                </a:lnTo>
                <a:lnTo>
                  <a:pt x="0" y="323"/>
                </a:lnTo>
                <a:lnTo>
                  <a:pt x="9" y="249"/>
                </a:lnTo>
                <a:lnTo>
                  <a:pt x="31" y="175"/>
                </a:lnTo>
                <a:lnTo>
                  <a:pt x="67" y="98"/>
                </a:lnTo>
                <a:lnTo>
                  <a:pt x="116" y="18"/>
                </a:lnTo>
                <a:lnTo>
                  <a:pt x="240" y="0"/>
                </a:lnTo>
                <a:close/>
              </a:path>
            </a:pathLst>
          </a:custGeom>
          <a:solidFill>
            <a:srgbClr val="003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2220840" y="4037040"/>
            <a:ext cx="258840" cy="1366920"/>
          </a:xfrm>
          <a:custGeom>
            <a:avLst/>
            <a:gdLst/>
            <a:ahLst/>
            <a:rect l="l" t="t" r="r" b="b"/>
            <a:pathLst>
              <a:path w="163" h="861">
                <a:moveTo>
                  <a:pt x="163" y="0"/>
                </a:moveTo>
                <a:lnTo>
                  <a:pt x="144" y="86"/>
                </a:lnTo>
                <a:lnTo>
                  <a:pt x="124" y="165"/>
                </a:lnTo>
                <a:lnTo>
                  <a:pt x="111" y="245"/>
                </a:lnTo>
                <a:lnTo>
                  <a:pt x="100" y="323"/>
                </a:lnTo>
                <a:lnTo>
                  <a:pt x="94" y="399"/>
                </a:lnTo>
                <a:lnTo>
                  <a:pt x="91" y="479"/>
                </a:lnTo>
                <a:lnTo>
                  <a:pt x="97" y="561"/>
                </a:lnTo>
                <a:lnTo>
                  <a:pt x="105" y="647"/>
                </a:lnTo>
                <a:lnTo>
                  <a:pt x="119" y="861"/>
                </a:lnTo>
                <a:lnTo>
                  <a:pt x="83" y="753"/>
                </a:lnTo>
                <a:lnTo>
                  <a:pt x="47" y="643"/>
                </a:lnTo>
                <a:lnTo>
                  <a:pt x="20" y="529"/>
                </a:lnTo>
                <a:lnTo>
                  <a:pt x="0" y="415"/>
                </a:lnTo>
                <a:lnTo>
                  <a:pt x="0" y="303"/>
                </a:lnTo>
                <a:lnTo>
                  <a:pt x="22" y="195"/>
                </a:lnTo>
                <a:lnTo>
                  <a:pt x="75" y="94"/>
                </a:lnTo>
                <a:lnTo>
                  <a:pt x="163" y="0"/>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300720" y="5187960"/>
            <a:ext cx="393840" cy="915840"/>
          </a:xfrm>
          <a:custGeom>
            <a:avLst/>
            <a:gdLst/>
            <a:ahLst/>
            <a:rect l="l" t="t" r="r" b="b"/>
            <a:pathLst>
              <a:path w="248" h="577">
                <a:moveTo>
                  <a:pt x="39" y="0"/>
                </a:moveTo>
                <a:lnTo>
                  <a:pt x="50" y="60"/>
                </a:lnTo>
                <a:lnTo>
                  <a:pt x="61" y="116"/>
                </a:lnTo>
                <a:lnTo>
                  <a:pt x="72" y="170"/>
                </a:lnTo>
                <a:lnTo>
                  <a:pt x="88" y="222"/>
                </a:lnTo>
                <a:lnTo>
                  <a:pt x="105" y="276"/>
                </a:lnTo>
                <a:lnTo>
                  <a:pt x="124" y="328"/>
                </a:lnTo>
                <a:lnTo>
                  <a:pt x="149" y="382"/>
                </a:lnTo>
                <a:lnTo>
                  <a:pt x="179" y="437"/>
                </a:lnTo>
                <a:lnTo>
                  <a:pt x="248" y="577"/>
                </a:lnTo>
                <a:lnTo>
                  <a:pt x="196" y="511"/>
                </a:lnTo>
                <a:lnTo>
                  <a:pt x="141" y="443"/>
                </a:lnTo>
                <a:lnTo>
                  <a:pt x="91" y="374"/>
                </a:lnTo>
                <a:lnTo>
                  <a:pt x="47" y="300"/>
                </a:lnTo>
                <a:lnTo>
                  <a:pt x="14" y="226"/>
                </a:lnTo>
                <a:lnTo>
                  <a:pt x="0" y="150"/>
                </a:lnTo>
                <a:lnTo>
                  <a:pt x="6" y="76"/>
                </a:lnTo>
                <a:lnTo>
                  <a:pt x="39" y="0"/>
                </a:lnTo>
                <a:close/>
              </a:path>
            </a:pathLst>
          </a:custGeom>
          <a:solidFill>
            <a:srgbClr val="99ff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1919160" y="4052880"/>
            <a:ext cx="516240" cy="1424160"/>
          </a:xfrm>
          <a:custGeom>
            <a:avLst/>
            <a:gdLst/>
            <a:ahLst/>
            <a:rect l="l" t="t" r="r" b="b"/>
            <a:pathLst>
              <a:path w="325" h="897">
                <a:moveTo>
                  <a:pt x="201" y="0"/>
                </a:moveTo>
                <a:lnTo>
                  <a:pt x="149" y="104"/>
                </a:lnTo>
                <a:lnTo>
                  <a:pt x="110" y="189"/>
                </a:lnTo>
                <a:lnTo>
                  <a:pt x="91" y="263"/>
                </a:lnTo>
                <a:lnTo>
                  <a:pt x="83" y="333"/>
                </a:lnTo>
                <a:lnTo>
                  <a:pt x="91" y="403"/>
                </a:lnTo>
                <a:lnTo>
                  <a:pt x="113" y="481"/>
                </a:lnTo>
                <a:lnTo>
                  <a:pt x="149" y="569"/>
                </a:lnTo>
                <a:lnTo>
                  <a:pt x="196" y="677"/>
                </a:lnTo>
                <a:lnTo>
                  <a:pt x="325" y="897"/>
                </a:lnTo>
                <a:lnTo>
                  <a:pt x="146" y="661"/>
                </a:lnTo>
                <a:lnTo>
                  <a:pt x="91" y="563"/>
                </a:lnTo>
                <a:lnTo>
                  <a:pt x="47" y="473"/>
                </a:lnTo>
                <a:lnTo>
                  <a:pt x="17" y="389"/>
                </a:lnTo>
                <a:lnTo>
                  <a:pt x="0" y="309"/>
                </a:lnTo>
                <a:lnTo>
                  <a:pt x="8" y="231"/>
                </a:lnTo>
                <a:lnTo>
                  <a:pt x="41" y="155"/>
                </a:lnTo>
                <a:lnTo>
                  <a:pt x="105" y="78"/>
                </a:lnTo>
                <a:lnTo>
                  <a:pt x="201" y="0"/>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6108840" y="5232240"/>
            <a:ext cx="625320" cy="916200"/>
          </a:xfrm>
          <a:custGeom>
            <a:avLst/>
            <a:gdLst/>
            <a:ahLst/>
            <a:rect l="l" t="t" r="r" b="b"/>
            <a:pathLst>
              <a:path w="394" h="577">
                <a:moveTo>
                  <a:pt x="63" y="0"/>
                </a:moveTo>
                <a:lnTo>
                  <a:pt x="55" y="78"/>
                </a:lnTo>
                <a:lnTo>
                  <a:pt x="55" y="140"/>
                </a:lnTo>
                <a:lnTo>
                  <a:pt x="60" y="194"/>
                </a:lnTo>
                <a:lnTo>
                  <a:pt x="77" y="240"/>
                </a:lnTo>
                <a:lnTo>
                  <a:pt x="102" y="286"/>
                </a:lnTo>
                <a:lnTo>
                  <a:pt x="138" y="334"/>
                </a:lnTo>
                <a:lnTo>
                  <a:pt x="187" y="387"/>
                </a:lnTo>
                <a:lnTo>
                  <a:pt x="248" y="451"/>
                </a:lnTo>
                <a:lnTo>
                  <a:pt x="394" y="577"/>
                </a:lnTo>
                <a:lnTo>
                  <a:pt x="209" y="447"/>
                </a:lnTo>
                <a:lnTo>
                  <a:pt x="146" y="391"/>
                </a:lnTo>
                <a:lnTo>
                  <a:pt x="91" y="338"/>
                </a:lnTo>
                <a:lnTo>
                  <a:pt x="47" y="288"/>
                </a:lnTo>
                <a:lnTo>
                  <a:pt x="16" y="236"/>
                </a:lnTo>
                <a:lnTo>
                  <a:pt x="0" y="184"/>
                </a:lnTo>
                <a:lnTo>
                  <a:pt x="0" y="128"/>
                </a:lnTo>
                <a:lnTo>
                  <a:pt x="19" y="66"/>
                </a:lnTo>
                <a:lnTo>
                  <a:pt x="63" y="0"/>
                </a:lnTo>
                <a:close/>
              </a:path>
            </a:pathLst>
          </a:custGeom>
          <a:solidFill>
            <a:srgbClr val="99ff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2374920" y="5470560"/>
            <a:ext cx="52200" cy="222120"/>
          </a:xfrm>
          <a:custGeom>
            <a:avLst/>
            <a:gdLst/>
            <a:ahLst/>
            <a:rect l="l" t="t" r="r" b="b"/>
            <a:pathLst>
              <a:path w="33" h="140">
                <a:moveTo>
                  <a:pt x="22" y="8"/>
                </a:moveTo>
                <a:lnTo>
                  <a:pt x="3" y="108"/>
                </a:lnTo>
                <a:lnTo>
                  <a:pt x="0" y="140"/>
                </a:lnTo>
                <a:lnTo>
                  <a:pt x="14" y="104"/>
                </a:lnTo>
                <a:lnTo>
                  <a:pt x="33" y="0"/>
                </a:lnTo>
                <a:lnTo>
                  <a:pt x="22" y="8"/>
                </a:lnTo>
                <a:close/>
              </a:path>
            </a:pathLst>
          </a:custGeom>
          <a:solidFill>
            <a:srgbClr val="33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6716880" y="6145200"/>
            <a:ext cx="34920" cy="158760"/>
          </a:xfrm>
          <a:custGeom>
            <a:avLst/>
            <a:gdLst/>
            <a:ahLst/>
            <a:rect l="l" t="t" r="r" b="b"/>
            <a:pathLst>
              <a:path w="22" h="100">
                <a:moveTo>
                  <a:pt x="0" y="8"/>
                </a:moveTo>
                <a:lnTo>
                  <a:pt x="17" y="76"/>
                </a:lnTo>
                <a:lnTo>
                  <a:pt x="22" y="100"/>
                </a:lnTo>
                <a:lnTo>
                  <a:pt x="22" y="70"/>
                </a:lnTo>
                <a:lnTo>
                  <a:pt x="6" y="0"/>
                </a:lnTo>
                <a:lnTo>
                  <a:pt x="0" y="8"/>
                </a:lnTo>
                <a:close/>
              </a:path>
            </a:pathLst>
          </a:custGeom>
          <a:solidFill>
            <a:srgbClr val="33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427120" y="5473800"/>
            <a:ext cx="57240" cy="225360"/>
          </a:xfrm>
          <a:custGeom>
            <a:avLst/>
            <a:gdLst/>
            <a:ahLst/>
            <a:rect l="l" t="t" r="r" b="b"/>
            <a:pathLst>
              <a:path w="36" h="142">
                <a:moveTo>
                  <a:pt x="22" y="10"/>
                </a:moveTo>
                <a:lnTo>
                  <a:pt x="3" y="110"/>
                </a:lnTo>
                <a:lnTo>
                  <a:pt x="0" y="142"/>
                </a:lnTo>
                <a:lnTo>
                  <a:pt x="14" y="106"/>
                </a:lnTo>
                <a:lnTo>
                  <a:pt x="36" y="0"/>
                </a:lnTo>
                <a:lnTo>
                  <a:pt x="22" y="10"/>
                </a:lnTo>
                <a:close/>
              </a:path>
            </a:pathLst>
          </a:custGeom>
          <a:solidFill>
            <a:srgbClr val="33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756480" y="6141960"/>
            <a:ext cx="34920" cy="155520"/>
          </a:xfrm>
          <a:custGeom>
            <a:avLst/>
            <a:gdLst/>
            <a:ahLst/>
            <a:rect l="l" t="t" r="r" b="b"/>
            <a:pathLst>
              <a:path w="22" h="98">
                <a:moveTo>
                  <a:pt x="0" y="8"/>
                </a:moveTo>
                <a:lnTo>
                  <a:pt x="14" y="76"/>
                </a:lnTo>
                <a:lnTo>
                  <a:pt x="22" y="98"/>
                </a:lnTo>
                <a:lnTo>
                  <a:pt x="22" y="70"/>
                </a:lnTo>
                <a:lnTo>
                  <a:pt x="5" y="0"/>
                </a:lnTo>
                <a:lnTo>
                  <a:pt x="0" y="8"/>
                </a:lnTo>
                <a:close/>
              </a:path>
            </a:pathLst>
          </a:custGeom>
          <a:solidFill>
            <a:srgbClr val="33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2487600" y="5486400"/>
            <a:ext cx="57240" cy="225360"/>
          </a:xfrm>
          <a:custGeom>
            <a:avLst/>
            <a:gdLst/>
            <a:ahLst/>
            <a:rect l="l" t="t" r="r" b="b"/>
            <a:pathLst>
              <a:path w="36" h="142">
                <a:moveTo>
                  <a:pt x="23" y="10"/>
                </a:moveTo>
                <a:lnTo>
                  <a:pt x="3" y="110"/>
                </a:lnTo>
                <a:lnTo>
                  <a:pt x="0" y="142"/>
                </a:lnTo>
                <a:lnTo>
                  <a:pt x="14" y="106"/>
                </a:lnTo>
                <a:lnTo>
                  <a:pt x="36" y="0"/>
                </a:lnTo>
                <a:lnTo>
                  <a:pt x="23" y="10"/>
                </a:lnTo>
                <a:close/>
              </a:path>
            </a:pathLst>
          </a:custGeom>
          <a:solidFill>
            <a:srgbClr val="33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799320" y="6141960"/>
            <a:ext cx="34920" cy="155520"/>
          </a:xfrm>
          <a:custGeom>
            <a:avLst/>
            <a:gdLst/>
            <a:ahLst/>
            <a:rect l="l" t="t" r="r" b="b"/>
            <a:pathLst>
              <a:path w="22" h="98">
                <a:moveTo>
                  <a:pt x="0" y="8"/>
                </a:moveTo>
                <a:lnTo>
                  <a:pt x="14" y="76"/>
                </a:lnTo>
                <a:lnTo>
                  <a:pt x="22" y="98"/>
                </a:lnTo>
                <a:lnTo>
                  <a:pt x="20" y="70"/>
                </a:lnTo>
                <a:lnTo>
                  <a:pt x="6" y="0"/>
                </a:lnTo>
                <a:lnTo>
                  <a:pt x="0" y="8"/>
                </a:lnTo>
                <a:close/>
              </a:path>
            </a:pathLst>
          </a:custGeom>
          <a:solidFill>
            <a:srgbClr val="333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325600" y="5676840"/>
            <a:ext cx="184320" cy="138240"/>
          </a:xfrm>
          <a:custGeom>
            <a:avLst/>
            <a:gdLst/>
            <a:ahLst/>
            <a:rect l="l" t="t" r="r" b="b"/>
            <a:pathLst>
              <a:path w="116" h="87">
                <a:moveTo>
                  <a:pt x="20" y="0"/>
                </a:moveTo>
                <a:lnTo>
                  <a:pt x="0" y="68"/>
                </a:lnTo>
                <a:lnTo>
                  <a:pt x="23" y="87"/>
                </a:lnTo>
                <a:lnTo>
                  <a:pt x="80" y="87"/>
                </a:lnTo>
                <a:lnTo>
                  <a:pt x="108" y="79"/>
                </a:lnTo>
                <a:lnTo>
                  <a:pt x="116" y="4"/>
                </a:lnTo>
                <a:lnTo>
                  <a:pt x="20" y="0"/>
                </a:lnTo>
                <a:close/>
              </a:path>
            </a:pathLst>
          </a:custGeom>
          <a:solidFill>
            <a:srgbClr val="33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738840" y="6275520"/>
            <a:ext cx="127080" cy="110880"/>
          </a:xfrm>
          <a:custGeom>
            <a:avLst/>
            <a:gdLst/>
            <a:ahLst/>
            <a:rect l="l" t="t" r="r" b="b"/>
            <a:pathLst>
              <a:path w="80" h="70">
                <a:moveTo>
                  <a:pt x="0" y="12"/>
                </a:moveTo>
                <a:lnTo>
                  <a:pt x="5" y="60"/>
                </a:lnTo>
                <a:lnTo>
                  <a:pt x="25" y="70"/>
                </a:lnTo>
                <a:lnTo>
                  <a:pt x="63" y="62"/>
                </a:lnTo>
                <a:lnTo>
                  <a:pt x="80" y="52"/>
                </a:lnTo>
                <a:lnTo>
                  <a:pt x="63" y="0"/>
                </a:lnTo>
                <a:lnTo>
                  <a:pt x="0" y="12"/>
                </a:lnTo>
                <a:close/>
              </a:path>
            </a:pathLst>
          </a:custGeom>
          <a:solidFill>
            <a:srgbClr val="33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rot="19851600">
            <a:off x="2209320" y="2743200"/>
            <a:ext cx="1295640" cy="954000"/>
          </a:xfrm>
          <a:prstGeom prst="star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rot="1192200">
            <a:off x="6400440" y="2514240"/>
            <a:ext cx="2496960" cy="2249640"/>
          </a:xfrm>
          <a:prstGeom prst="star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rot="21193800">
            <a:off x="151920" y="2133720"/>
            <a:ext cx="1447920" cy="1182600"/>
          </a:xfrm>
          <a:prstGeom prst="star5">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7924680" y="152280"/>
            <a:ext cx="914400" cy="820800"/>
          </a:xfrm>
          <a:prstGeom prst="star5">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txBox="1"/>
          <p:nvPr/>
        </p:nvSpPr>
        <p:spPr>
          <a:xfrm>
            <a:off x="1143000" y="838080"/>
            <a:ext cx="6400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99"/>
                </a:solidFill>
                <a:effectLst>
                  <a:outerShdw dist="17819" dir="2700000" blurRad="0" rotWithShape="0">
                    <a:srgbClr val="990000"/>
                  </a:outerShdw>
                </a:effectLst>
                <a:latin typeface="Arial"/>
              </a:rPr>
              <a:t>Most Important Point</a:t>
            </a:r>
            <a:endParaRPr b="1" lang="en-US" sz="1800" spc="1" strike="noStrike">
              <a:ln w="0">
                <a:noFill/>
              </a:ln>
              <a:solidFill>
                <a:srgbClr val="333399"/>
              </a:solidFill>
              <a:effectLst>
                <a:outerShdw dist="17819" dir="2700000" blurRad="0" rotWithShape="0">
                  <a:srgbClr val="990000"/>
                </a:outerShdw>
              </a:effectLst>
              <a:latin typeface="Arial"/>
              <a:ea typeface="Arial"/>
            </a:endParaRPr>
          </a:p>
        </p:txBody>
      </p:sp>
      <p:sp>
        <p:nvSpPr>
          <p:cNvPr id="503" name=""/>
          <p:cNvSpPr/>
          <p:nvPr/>
        </p:nvSpPr>
        <p:spPr>
          <a:xfrm rot="2238600">
            <a:off x="914400" y="5409720"/>
            <a:ext cx="914400" cy="820800"/>
          </a:xfrm>
          <a:prstGeom prst="star5">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rot="1718400">
            <a:off x="8077320" y="5486400"/>
            <a:ext cx="533160" cy="457200"/>
          </a:xfrm>
          <a:prstGeom prst="star5">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rot="1718400">
            <a:off x="456840" y="914400"/>
            <a:ext cx="533520" cy="457200"/>
          </a:xfrm>
          <a:prstGeom prst="star5">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EFA8776F-B69E-408B-BA35-0CC29D97A960}" type="slidenum">
              <a:t>6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1286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Four Corners: Question #4</a:t>
            </a:r>
            <a:endParaRPr b="0" lang="en-US" sz="4800" spc="-1" strike="noStrike">
              <a:solidFill>
                <a:srgbClr val="000000"/>
              </a:solidFill>
              <a:latin typeface="Arial"/>
            </a:endParaRPr>
          </a:p>
        </p:txBody>
      </p:sp>
      <p:sp>
        <p:nvSpPr>
          <p:cNvPr id="74" name="PlaceHolder 2"/>
          <p:cNvSpPr>
            <a:spLocks noGrp="1"/>
          </p:cNvSpPr>
          <p:nvPr>
            <p:ph/>
          </p:nvPr>
        </p:nvSpPr>
        <p:spPr>
          <a:xfrm>
            <a:off x="522000" y="1141200"/>
            <a:ext cx="8164440" cy="4986360"/>
          </a:xfrm>
          <a:prstGeom prst="rect">
            <a:avLst/>
          </a:prstGeom>
          <a:noFill/>
          <a:ln w="0">
            <a:noFill/>
          </a:ln>
        </p:spPr>
        <p:txBody>
          <a:bodyPr lIns="90000" rIns="90000" tIns="46800" bIns="46800" anchor="t">
            <a:norm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many years have you</a:t>
            </a:r>
            <a:endParaRPr b="0" lang="en-US" sz="4000" spc="-1" strike="noStrike">
              <a:solidFill>
                <a:srgbClr val="000000"/>
              </a:solidFill>
              <a:latin typeface="Arial"/>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sonally been involved in</a:t>
            </a:r>
            <a:endParaRPr b="0" lang="en-US" sz="4000" spc="-1" strike="noStrike">
              <a:solidFill>
                <a:srgbClr val="000000"/>
              </a:solidFill>
              <a:latin typeface="Arial"/>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ntoring beginning teachers?</a:t>
            </a:r>
            <a:endParaRPr b="0" lang="en-US" sz="4000" spc="-1" strike="noStrike">
              <a:solidFill>
                <a:srgbClr val="000000"/>
              </a:solidFill>
              <a:latin typeface="Arial"/>
            </a:endParaRPr>
          </a:p>
          <a:p>
            <a:pPr lvl="2" marL="1371600" indent="-457200">
              <a:spcBef>
                <a:spcPts val="1599"/>
              </a:spcBef>
              <a:spcAft>
                <a:spcPts val="15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 left:  0 to 1 year</a:t>
            </a:r>
            <a:endParaRPr b="0" lang="en-US" sz="3200" spc="-1" strike="noStrike">
              <a:solidFill>
                <a:srgbClr val="000000"/>
              </a:solidFill>
              <a:latin typeface="Arial"/>
            </a:endParaRPr>
          </a:p>
          <a:p>
            <a:pPr lvl="2" marL="1371600" indent="-457200">
              <a:spcAft>
                <a:spcPts val="15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 right:  2 to 5 years</a:t>
            </a:r>
            <a:endParaRPr b="0" lang="en-US" sz="3200" spc="-1" strike="noStrike">
              <a:solidFill>
                <a:srgbClr val="000000"/>
              </a:solidFill>
              <a:latin typeface="Arial"/>
            </a:endParaRPr>
          </a:p>
          <a:p>
            <a:pPr lvl="2" marL="1371600" indent="-457200">
              <a:spcAft>
                <a:spcPts val="15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nt left:  6 to 10 years</a:t>
            </a:r>
            <a:endParaRPr b="0" lang="en-US" sz="3200" spc="-1" strike="noStrike">
              <a:solidFill>
                <a:srgbClr val="000000"/>
              </a:solidFill>
              <a:latin typeface="Arial"/>
            </a:endParaRPr>
          </a:p>
          <a:p>
            <a:pPr lvl="2" marL="1371600" indent="-457200">
              <a:spcAft>
                <a:spcPts val="15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nt right:  More than 10 year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CB2C0-73C3-4025-BD80-3F3B8D0F23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14444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urpose of Mentor Training</a:t>
            </a:r>
            <a:endParaRPr b="0" lang="en-US" sz="4800" spc="-1" strike="noStrike">
              <a:solidFill>
                <a:srgbClr val="000000"/>
              </a:solidFill>
              <a:latin typeface="Arial"/>
            </a:endParaRPr>
          </a:p>
        </p:txBody>
      </p:sp>
      <p:sp>
        <p:nvSpPr>
          <p:cNvPr id="76" name="PlaceHolder 2"/>
          <p:cNvSpPr>
            <a:spLocks noGrp="1"/>
          </p:cNvSpPr>
          <p:nvPr>
            <p:ph/>
          </p:nvPr>
        </p:nvSpPr>
        <p:spPr>
          <a:xfrm>
            <a:off x="457200" y="1828800"/>
            <a:ext cx="8229600" cy="3581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 provide divisions with</a:t>
            </a:r>
            <a:endParaRPr b="0" lang="en-US" sz="4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range of materials and</a:t>
            </a:r>
            <a:endParaRPr b="0" lang="en-US" sz="4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ources to accomplish</a:t>
            </a:r>
            <a:endParaRPr b="0" lang="en-US" sz="4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objectives of</a:t>
            </a:r>
            <a:endParaRPr b="0" lang="en-US" sz="4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mentoring program. </a:t>
            </a:r>
            <a:endParaRPr b="0" lang="en-US" sz="4400" spc="-1" strike="noStrike">
              <a:solidFill>
                <a:srgbClr val="000000"/>
              </a:solidFill>
              <a:latin typeface="Arial"/>
            </a:endParaRPr>
          </a:p>
        </p:txBody>
      </p:sp>
      <p:sp>
        <p:nvSpPr>
          <p:cNvPr id="4" name="PlaceHolder 3"/>
          <p:cNvSpPr>
            <a:spLocks noGrp="1"/>
          </p:cNvSpPr>
          <p:nvPr>
            <p:ph type="sldNum" idx="1"/>
          </p:nvPr>
        </p:nvSpPr>
        <p:spPr/>
        <p:txBody>
          <a:bodyPr/>
          <a:p>
            <a:fld id="{05C7FC1D-CBBC-4E1F-AF71-6AC519C427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33440" y="727200"/>
            <a:ext cx="8229600" cy="5325840"/>
          </a:xfrm>
          <a:prstGeom prst="rect">
            <a:avLst/>
          </a:prstGeom>
          <a:noFill/>
          <a:ln w="0">
            <a:noFill/>
          </a:ln>
        </p:spPr>
        <p:txBody>
          <a:bodyPr lIns="90000" rIns="90000" tIns="46800" bIns="46800" anchor="t">
            <a:norm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order to accomplish</a:t>
            </a:r>
            <a:endParaRPr b="0" lang="en-US" sz="4000" spc="-1" strike="noStrike">
              <a:solidFill>
                <a:srgbClr val="000000"/>
              </a:solidFill>
              <a:latin typeface="Arial"/>
            </a:endParaRPr>
          </a:p>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se purposes, we will use a “trainer of-trainers” model to:</a:t>
            </a:r>
            <a:endParaRPr b="0" lang="en-US" sz="4000" spc="-1" strike="noStrike">
              <a:solidFill>
                <a:srgbClr val="000000"/>
              </a:solidFill>
              <a:latin typeface="Arial"/>
            </a:endParaRPr>
          </a:p>
          <a:p>
            <a:pPr lvl="1" marL="990720" indent="-533520">
              <a:spcAft>
                <a:spcPts val="15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a suggested sequence of experiences/activities</a:t>
            </a:r>
            <a:endParaRPr b="0" lang="en-US" sz="3200" spc="-1" strike="noStrike">
              <a:solidFill>
                <a:srgbClr val="000000"/>
              </a:solidFill>
              <a:latin typeface="Arial"/>
            </a:endParaRPr>
          </a:p>
          <a:p>
            <a:pPr lvl="1" marL="990720" indent="-533520">
              <a:spcAft>
                <a:spcPts val="15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as a participant</a:t>
            </a:r>
            <a:endParaRPr b="0" lang="en-US" sz="3200" spc="-1" strike="noStrike">
              <a:solidFill>
                <a:srgbClr val="000000"/>
              </a:solidFill>
              <a:latin typeface="Arial"/>
            </a:endParaRPr>
          </a:p>
          <a:p>
            <a:pPr lvl="1" marL="990720" indent="-533520">
              <a:spcAft>
                <a:spcPts val="15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ive the materials necessary to deliver training in local divisions</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7516ED3-7763-4457-8A25-C9D642EFCF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8T14:10:14Z</dcterms:created>
  <dc:creator>Rebecca Waters</dc:creator>
  <dc:description/>
  <dc:language>en-US</dc:language>
  <cp:lastModifiedBy>User</cp:lastModifiedBy>
  <cp:lastPrinted>2007-05-31T18:24:58Z</cp:lastPrinted>
  <dcterms:modified xsi:type="dcterms:W3CDTF">2008-07-11T14:03:30Z</dcterms:modified>
  <cp:revision>259</cp:revision>
  <dc:subject/>
  <dc:title>Virginia  Mentor Institute June, 2006 </dc:title>
</cp:coreProperties>
</file>